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32A-0DE7-4255-9B05-19543AF0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4000" y="396432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B1D-F433-4D55-B8C6-99FCD64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408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08F-84D3-40CD-937B-40790092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552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704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400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552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704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969-9F83-4CAC-9397-EAF548E2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4500-B9D6-4665-B807-6B390B78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F570-7F3B-4D45-B48D-161BE27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5DAF-7A52-4A9C-92BD-95AE7E51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BD88-9A3D-4770-9A46-32BEB579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2D2-6BBF-4AB4-A6D5-1AFB16A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54000" y="274320"/>
            <a:ext cx="722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A092-9B02-4683-8C95-616B4D70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FC42-8378-41A6-980F-5BD7EC9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8A6-A7C5-4E4C-9344-CAA3BC2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408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F47C-A231-4632-87AE-6C94D2CA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31D-FC94-47E9-BF0B-9C90549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4000" y="396432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6312-F930-46D1-929C-525BD50A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408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709A-706E-47C3-A73D-7BD5DAEC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552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3704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400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552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3704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84FB-658A-4021-BF2B-A99D4056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4C90-C66A-407D-90A4-3DA29A71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D654-C9F5-40F6-B0D9-7A1DBC38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C11E-9AF6-4D65-AFF1-5DAD12A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7734-4BDC-41A8-9677-6F79DF2D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D77E-DACB-4400-8F9F-20EFF108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5D6-5455-470F-A566-59C0FEF0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54000" y="274320"/>
            <a:ext cx="722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0CD8-39B8-47C5-80AA-BD50573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593E-6615-4A0D-A884-803645D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5408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0FAB-7584-4CA3-A226-FFEF3DA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EC08-AC13-4392-B965-8CFD7D0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854000" y="396432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2196-9C19-4276-9B9C-4E75C1B3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5408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772F-162D-4414-B0CB-4B81417A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9552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37040" y="160020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85400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9552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37040" y="3964320"/>
            <a:ext cx="232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66F5-5B38-4793-A67E-08F8B889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4A1-95BC-4DA7-837C-1AEFE25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2E0-5AB4-4082-994E-916C52C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54000" y="274320"/>
            <a:ext cx="722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608-80AB-4808-A506-3AE7DBC3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2F7-8AE5-4366-B30A-75F2E2C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4080" y="396432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088-8A2C-4877-A88C-EF5E663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400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4080" y="1600200"/>
            <a:ext cx="352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4000" y="3964320"/>
            <a:ext cx="722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691-A9D8-48E9-9063-21F7801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C15-325D-42BC-A8F5-770A5BAAF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3BA-6B7E-46E9-A9E0-6F56E96773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F4A5-38EF-4A22-912E-BF318D0517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BA39-7DCD-41A6-93D3-2C7125938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44280" y="228600"/>
            <a:ext cx="90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币美元经济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6B6A-E0BB-42AA-8079-ED400A076F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54000" y="274320"/>
            <a:ext cx="72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4000" y="1600200"/>
            <a:ext cx="722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4"/>
          <p:cNvSpPr/>
          <p:nvPr/>
        </p:nvSpPr>
        <p:spPr>
          <a:xfrm>
            <a:off x="2362320" y="2590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56b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6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