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A27-73CB-4B75-994A-CBF55C31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7391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3885840"/>
            <a:ext cx="7391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A20-4370-4515-93EA-16BCC89F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84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38858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82840" y="38858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410-953A-41E1-B69A-7140CA66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94760" y="121896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93880" y="121896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388584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94760" y="388584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93880" y="388584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4C2-59AB-499F-9ABA-FC71BD31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40E3-D197-4659-8E7A-5DE550A7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F99B-B971-4337-B95F-67B8B512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A18C-56CA-4A8C-9530-FF43C429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840" y="12189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18AF-273A-4B27-A694-958205F4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88CE-7F70-4E50-BC31-8A5570FF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304920"/>
            <a:ext cx="7391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4C2A-81AE-4C9E-A88A-CB3A81F6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840" y="12189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38858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9AB5-ABC0-4460-A1C4-C216B929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C01-2FAC-4227-90C2-0A33AB4E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84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840" y="38858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EDB7-0644-4E30-8139-8593C967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84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3885840"/>
            <a:ext cx="7391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4DC1-4A36-4561-A36E-2E1902B5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7391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3885840"/>
            <a:ext cx="7391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B2F3-2AED-4D2B-98A9-05BA50EB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84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38858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840" y="38858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C155-8F57-4FE6-A0EA-BCC84FE4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4760" y="121896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93880" y="121896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388584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94760" y="388584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93880" y="388584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9AC9-2C17-494B-B572-49F7A661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EA5BF-9F32-4E3D-9EA3-6471B564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89E56-5386-4038-A277-015DE38F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92FDF-046A-4E61-8E26-4C3968C4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2840" y="12189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57E50-1EFE-4D26-9CE7-DE8C80D7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8C20B-4971-4679-9C24-3F16E271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51F-B953-43AC-AF77-76E6E051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295280" y="304920"/>
            <a:ext cx="7391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3890-BEB5-4131-BF73-74256E38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82840" y="12189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5280" y="38858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CD84-16ED-4F22-B549-5BFCDDA6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8284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82840" y="38858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9C81-85EE-4CD0-A81C-2F965602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8284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95280" y="3885840"/>
            <a:ext cx="7391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9012B-B386-4E58-B95B-C165088C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7391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295280" y="3885840"/>
            <a:ext cx="7391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9D9AF-8344-4EFE-88B9-B60F0007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8284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95280" y="38858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082840" y="38858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B8CC-5D6A-467A-B54D-2B5E5D5D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94760" y="121896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93880" y="121896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295280" y="388584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794760" y="388584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293880" y="388584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65EC7-A673-4D08-B959-81AF56D6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82840" y="12189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CC7-21EC-4FA7-BA11-6D7D224A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E3E2-CCA6-4782-AB24-D4CEA290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304920"/>
            <a:ext cx="7391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86E-6CD0-439C-BD87-32DEB54D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840" y="12189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38858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E58-37B4-4EB8-8543-717C391F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84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82840" y="38858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D8D-0935-4315-8C7C-BF2F97FD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82840" y="12189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3885840"/>
            <a:ext cx="7391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778-CDB3-4D70-ABC0-69BEA9B3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2320"/>
          <p:cNvGrpSpPr/>
          <p:nvPr/>
        </p:nvGrpSpPr>
        <p:grpSpPr>
          <a:xfrm>
            <a:off x="0" y="0"/>
            <a:ext cx="1181160" cy="6858000"/>
            <a:chOff x="0" y="0"/>
            <a:chExt cx="1181160" cy="6858000"/>
          </a:xfrm>
        </p:grpSpPr>
        <p:sp>
          <p:nvSpPr>
            <p:cNvPr id="1" name="矩形 12321"/>
            <p:cNvSpPr/>
            <p:nvPr/>
          </p:nvSpPr>
          <p:spPr>
            <a:xfrm>
              <a:off x="923760" y="0"/>
              <a:ext cx="25740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图片 12322" descr="Untitled_07p_ttl"/>
            <p:cNvPicPr/>
            <p:nvPr/>
          </p:nvPicPr>
          <p:blipFill>
            <a:blip r:embed="rId2"/>
            <a:srcRect l="0" t="0" r="57001" b="0"/>
            <a:stretch/>
          </p:blipFill>
          <p:spPr>
            <a:xfrm>
              <a:off x="0" y="0"/>
              <a:ext cx="1027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文本框 12323"/>
          <p:cNvSpPr/>
          <p:nvPr/>
        </p:nvSpPr>
        <p:spPr>
          <a:xfrm>
            <a:off x="153360" y="1522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89b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95280" y="12189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2949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9625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47A3-DAC9-4DF5-8F62-A98E8D86B8B6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0573-C1C3-48B8-AD42-2DFE3993C57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6B8C-37BC-4581-9EBB-6382C84A6F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13351"/>
          <p:cNvGrpSpPr/>
          <p:nvPr/>
        </p:nvGrpSpPr>
        <p:grpSpPr>
          <a:xfrm>
            <a:off x="0" y="0"/>
            <a:ext cx="1181160" cy="6858000"/>
            <a:chOff x="0" y="0"/>
            <a:chExt cx="1181160" cy="6858000"/>
          </a:xfrm>
        </p:grpSpPr>
        <p:sp>
          <p:nvSpPr>
            <p:cNvPr id="87" name="矩形 13352"/>
            <p:cNvSpPr/>
            <p:nvPr/>
          </p:nvSpPr>
          <p:spPr>
            <a:xfrm>
              <a:off x="923760" y="0"/>
              <a:ext cx="25740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图片 13353" descr="Untitled_07p_ttl"/>
            <p:cNvPicPr/>
            <p:nvPr/>
          </p:nvPicPr>
          <p:blipFill>
            <a:blip r:embed="rId2"/>
            <a:srcRect l="0" t="0" r="57001" b="0"/>
            <a:stretch/>
          </p:blipFill>
          <p:spPr>
            <a:xfrm>
              <a:off x="0" y="0"/>
              <a:ext cx="102708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" name="对象 13354" descr=""/>
          <p:cNvPicPr/>
          <p:nvPr/>
        </p:nvPicPr>
        <p:blipFill>
          <a:blip r:embed="rId3"/>
          <a:stretch/>
        </p:blipFill>
        <p:spPr>
          <a:xfrm>
            <a:off x="3809880" y="3581280"/>
            <a:ext cx="509760" cy="4572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90" name="文本框 13357"/>
          <p:cNvSpPr/>
          <p:nvPr/>
        </p:nvSpPr>
        <p:spPr>
          <a:xfrm>
            <a:off x="153360" y="1522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3358" descr=""/>
          <p:cNvPicPr/>
          <p:nvPr/>
        </p:nvPicPr>
        <p:blipFill>
          <a:blip r:embed="rId4"/>
          <a:stretch/>
        </p:blipFill>
        <p:spPr>
          <a:xfrm>
            <a:off x="4660920" y="3581280"/>
            <a:ext cx="507960" cy="45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2" name="图片 13359" descr=""/>
          <p:cNvPicPr/>
          <p:nvPr/>
        </p:nvPicPr>
        <p:blipFill>
          <a:blip r:embed="rId5"/>
          <a:stretch/>
        </p:blipFill>
        <p:spPr>
          <a:xfrm>
            <a:off x="5510160" y="3581280"/>
            <a:ext cx="509760" cy="45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93" name="组合 13360"/>
          <p:cNvGrpSpPr/>
          <p:nvPr/>
        </p:nvGrpSpPr>
        <p:grpSpPr>
          <a:xfrm>
            <a:off x="1371600" y="3124080"/>
            <a:ext cx="7086600" cy="1828800"/>
            <a:chOff x="1371600" y="3124080"/>
            <a:chExt cx="7086600" cy="1828800"/>
          </a:xfrm>
        </p:grpSpPr>
        <p:grpSp>
          <p:nvGrpSpPr>
            <p:cNvPr id="94" name=""/>
            <p:cNvGrpSpPr/>
            <p:nvPr/>
          </p:nvGrpSpPr>
          <p:grpSpPr>
            <a:xfrm>
              <a:off x="1371600" y="3124080"/>
              <a:ext cx="7086600" cy="360"/>
              <a:chOff x="1371600" y="3124080"/>
              <a:chExt cx="7086600" cy="360"/>
            </a:xfrm>
          </p:grpSpPr>
          <p:sp>
            <p:nvSpPr>
              <p:cNvPr id="95" name="直接连接符 13361"/>
              <p:cNvSpPr/>
              <p:nvPr/>
            </p:nvSpPr>
            <p:spPr>
              <a:xfrm>
                <a:off x="1371600" y="3124080"/>
                <a:ext cx="70866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1371600" y="3124080"/>
                <a:ext cx="708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895480" y="4800600"/>
              <a:ext cx="3353040" cy="360"/>
              <a:chOff x="2895480" y="4800600"/>
              <a:chExt cx="3353040" cy="360"/>
            </a:xfrm>
          </p:grpSpPr>
          <p:sp>
            <p:nvSpPr>
              <p:cNvPr id="98" name="直接连接符 13362"/>
              <p:cNvSpPr/>
              <p:nvPr/>
            </p:nvSpPr>
            <p:spPr>
              <a:xfrm>
                <a:off x="2895480" y="4800600"/>
                <a:ext cx="33530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2895480" y="4800600"/>
                <a:ext cx="335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048120" y="3124080"/>
              <a:ext cx="360" cy="1828800"/>
              <a:chOff x="3048120" y="3124080"/>
              <a:chExt cx="360" cy="1828800"/>
            </a:xfrm>
          </p:grpSpPr>
          <p:sp>
            <p:nvSpPr>
              <p:cNvPr id="101" name="直接连接符 13363"/>
              <p:cNvSpPr/>
              <p:nvPr/>
            </p:nvSpPr>
            <p:spPr>
              <a:xfrm>
                <a:off x="3048120" y="3124080"/>
                <a:ext cx="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3048120" y="3124080"/>
                <a:ext cx="360" cy="182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89b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295280" y="12189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CC08-68CB-4542-A9F2-6BE881F53A7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2057040"/>
            <a:ext cx="72392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89b8"/>
                </a:solidFill>
                <a:latin typeface="Verdana"/>
              </a:rPr>
              <a:t>简单企业</a:t>
            </a:r>
            <a:r>
              <a:rPr b="1" lang="en-US" sz="4000" spc="-1" strike="noStrike">
                <a:solidFill>
                  <a:srgbClr val="4489b8"/>
                </a:solidFill>
                <a:latin typeface="Verdana"/>
              </a:rPr>
              <a:t>PPT</a:t>
            </a:r>
            <a:r>
              <a:rPr b="1" lang="en-US" sz="4000" spc="-1" strike="noStrike">
                <a:solidFill>
                  <a:srgbClr val="4489b8"/>
                </a:solidFill>
                <a:latin typeface="Verdana"/>
              </a:rPr>
              <a:t>模板</a:t>
            </a:r>
            <a:r>
              <a:rPr b="1" lang="zh-CN" sz="4000" spc="-1" strike="noStrike">
                <a:solidFill>
                  <a:srgbClr val="4489b8"/>
                </a:solidFill>
                <a:latin typeface="Verdana"/>
              </a:rPr>
              <a:t>在线</a:t>
            </a:r>
            <a:r>
              <a:rPr b="1" lang="en-US" sz="4000" spc="-1" strike="noStrike">
                <a:solidFill>
                  <a:srgbClr val="4489b8"/>
                </a:solidFill>
                <a:latin typeface="Verdana"/>
              </a:rPr>
              <a:t>下载</a:t>
            </a:r>
            <a:endParaRPr b="1" lang="en-US" sz="40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145" name="页脚占位符 2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123720" y="434340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6155"/>
          <p:cNvSpPr/>
          <p:nvPr/>
        </p:nvSpPr>
        <p:spPr>
          <a:xfrm>
            <a:off x="1143000" y="60958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89b8"/>
                </a:solidFill>
                <a:latin typeface="Arial"/>
              </a:rPr>
              <a:t>Click to add title</a:t>
            </a: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95280" y="12189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页脚占位符 2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8199"/>
          <p:cNvSpPr/>
          <p:nvPr/>
        </p:nvSpPr>
        <p:spPr>
          <a:xfrm>
            <a:off x="3352680" y="914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4b0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b4b0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5099-7482-4994-A323-40A0B90A34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89b8"/>
                </a:solidFill>
                <a:latin typeface="Arial"/>
              </a:rPr>
              <a:t>Related Documents</a:t>
            </a:r>
            <a:endParaRPr b="1" lang="en-US" sz="3200" spc="-1" strike="noStrike">
              <a:solidFill>
                <a:srgbClr val="4489b8"/>
              </a:solidFill>
              <a:latin typeface="Arial"/>
            </a:endParaRPr>
          </a:p>
        </p:txBody>
      </p:sp>
      <p:pic>
        <p:nvPicPr>
          <p:cNvPr id="157" name="内容占位符 35843" descr=""/>
          <p:cNvPicPr/>
          <p:nvPr/>
        </p:nvPicPr>
        <p:blipFill>
          <a:blip r:embed="rId1"/>
          <a:stretch/>
        </p:blipFill>
        <p:spPr>
          <a:xfrm>
            <a:off x="1295280" y="1670040"/>
            <a:ext cx="7391520" cy="4203720"/>
          </a:xfrm>
          <a:prstGeom prst="rect">
            <a:avLst/>
          </a:prstGeom>
          <a:ln w="0">
            <a:noFill/>
          </a:ln>
        </p:spPr>
      </p:pic>
      <p:sp>
        <p:nvSpPr>
          <p:cNvPr id="158" name="页脚占位符 2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59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