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4280" y="1017360"/>
            <a:ext cx="8524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4280" y="3310920"/>
            <a:ext cx="8524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14280" y="101736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2520" y="101736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14280" y="331092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2520" y="331092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4280" y="1017360"/>
            <a:ext cx="274464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6440" y="1017360"/>
            <a:ext cx="274464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8960" y="1017360"/>
            <a:ext cx="274464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14280" y="3310920"/>
            <a:ext cx="274464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6440" y="3310920"/>
            <a:ext cx="274464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8960" y="3310920"/>
            <a:ext cx="274464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71FB1-5EAD-4D56-A795-D0042A3A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14280" y="1017360"/>
            <a:ext cx="8524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19849-CDC5-4CDC-9531-CD29F7E1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14280" y="1017360"/>
            <a:ext cx="8524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8826A-BCFB-4F54-A3ED-70AA64A3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14280" y="1017360"/>
            <a:ext cx="4159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2520" y="1017360"/>
            <a:ext cx="4159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CD8E0-EFA3-4FAC-AB80-E6F26BDA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DABB7-C103-4CD7-80EB-FBE17FA4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14280" y="118800"/>
            <a:ext cx="554040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8612C-FB92-45CE-B329-A097E12E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4280" y="101736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2520" y="1017360"/>
            <a:ext cx="4159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14280" y="331092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F61DB-E881-4D19-A335-CEBF7D81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14280" y="1017360"/>
            <a:ext cx="8524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4280" y="1017360"/>
            <a:ext cx="4159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2520" y="101736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2520" y="331092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37B96-6A56-430B-B068-BD7F7F5D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4280" y="101736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520" y="101736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14280" y="3310920"/>
            <a:ext cx="8524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CC473-4E22-4FA0-B397-2E5D773C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4280" y="1017360"/>
            <a:ext cx="8524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14280" y="3310920"/>
            <a:ext cx="8524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0B03F-510D-4DB1-8173-F8A6ADB3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14280" y="101736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2520" y="101736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14280" y="331092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2520" y="331092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10642-B583-439E-91EF-613E01933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14280" y="1017360"/>
            <a:ext cx="274464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6440" y="1017360"/>
            <a:ext cx="274464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8960" y="1017360"/>
            <a:ext cx="274464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14280" y="3310920"/>
            <a:ext cx="274464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6440" y="3310920"/>
            <a:ext cx="274464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8960" y="3310920"/>
            <a:ext cx="274464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8A125-EB17-4FD9-A51D-7D4784C18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14280" y="1017360"/>
            <a:ext cx="8524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14280" y="1017360"/>
            <a:ext cx="8524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4280" y="1017360"/>
            <a:ext cx="4159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2520" y="1017360"/>
            <a:ext cx="4159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14280" y="1017360"/>
            <a:ext cx="8524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14280" y="118800"/>
            <a:ext cx="554040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4280" y="101736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2520" y="1017360"/>
            <a:ext cx="4159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14280" y="331092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14280" y="1017360"/>
            <a:ext cx="4159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2520" y="101736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82520" y="331092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14280" y="101736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2520" y="101736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14280" y="3310920"/>
            <a:ext cx="8524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14280" y="1017360"/>
            <a:ext cx="8524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14280" y="3310920"/>
            <a:ext cx="8524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14280" y="101736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2520" y="101736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14280" y="331092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82520" y="331092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14280" y="1017360"/>
            <a:ext cx="274464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96440" y="1017360"/>
            <a:ext cx="274464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78960" y="1017360"/>
            <a:ext cx="274464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14280" y="3310920"/>
            <a:ext cx="274464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196440" y="3310920"/>
            <a:ext cx="274464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78960" y="3310920"/>
            <a:ext cx="274464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4280" y="1017360"/>
            <a:ext cx="4159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2520" y="1017360"/>
            <a:ext cx="4159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4280" y="118800"/>
            <a:ext cx="554040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14280" y="101736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2520" y="1017360"/>
            <a:ext cx="4159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14280" y="331092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4280" y="1017360"/>
            <a:ext cx="4159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2520" y="101736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2520" y="331092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4280" y="101736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2520" y="101736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14280" y="3310920"/>
            <a:ext cx="8524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2162160" y="6408720"/>
            <a:ext cx="4784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219240" y="6408720"/>
            <a:ext cx="1342800" cy="2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Page </a:t>
            </a:r>
            <a:r>
              <a:rPr b="0" lang="de-DE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fld id="{0173C664-62E2-4554-8C59-DC64FA310C4C}" type="slidenum">
              <a:rPr b="0" lang="de-DE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314280" y="1017360"/>
            <a:ext cx="8524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1500"/>
              </a:spcBef>
              <a:buClr>
                <a:srgbClr val="2a79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1500"/>
              </a:spcBef>
              <a:buClr>
                <a:srgbClr val="2a79d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1500"/>
              </a:spcBef>
              <a:buClr>
                <a:srgbClr val="2a79d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68240" indent="-204840">
              <a:spcBef>
                <a:spcPts val="1500"/>
              </a:spcBef>
              <a:buClr>
                <a:srgbClr val="2a79d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050840" indent="-168120">
              <a:spcBef>
                <a:spcPts val="1500"/>
              </a:spcBef>
              <a:buClr>
                <a:srgbClr val="2a79d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050840" indent="-168120">
              <a:spcBef>
                <a:spcPts val="15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050840" indent="-168120">
              <a:spcBef>
                <a:spcPts val="15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F2FB-8409-4122-8E87-2A0001FA703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4770-4DC4-4B53-BE95-EF0E23464AA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2162160" y="6408720"/>
            <a:ext cx="4784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14280" y="1017360"/>
            <a:ext cx="8524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1500"/>
              </a:spcBef>
              <a:buClr>
                <a:srgbClr val="2a79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1500"/>
              </a:spcBef>
              <a:buClr>
                <a:srgbClr val="2a79d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1500"/>
              </a:spcBef>
              <a:buClr>
                <a:srgbClr val="2a79d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68240" indent="-204840">
              <a:spcBef>
                <a:spcPts val="1500"/>
              </a:spcBef>
              <a:buClr>
                <a:srgbClr val="2a79d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050840" indent="-168120">
              <a:spcBef>
                <a:spcPts val="1500"/>
              </a:spcBef>
              <a:buClr>
                <a:srgbClr val="2a79d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050840" indent="-168120">
              <a:spcBef>
                <a:spcPts val="15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050840" indent="-168120">
              <a:spcBef>
                <a:spcPts val="15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47448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fld id="{098FF4C5-3257-41FF-81A6-4477DB971E86}" type="slidenum">
              <a:rPr b="0" lang="de-DE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74840" y="2070000"/>
            <a:ext cx="47592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sert the title of you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sentation he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74840" y="3176640"/>
            <a:ext cx="4775040" cy="799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 your subtitle or main author‘s name 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"/>
          <p:cNvSpPr/>
          <p:nvPr/>
        </p:nvSpPr>
        <p:spPr>
          <a:xfrm>
            <a:off x="1895040" y="5256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굴림"/>
              </a:rPr>
              <a:t>聚会酒会报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굴림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61EC-EB7B-444C-817A-EF1B2C4C3EA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mple Slide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Bullet Poi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14280" y="1017360"/>
            <a:ext cx="8524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spcBef>
                <a:spcPts val="1500"/>
              </a:spcBef>
              <a:buClr>
                <a:srgbClr val="9191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ext demonstrates how your own text will look whe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replace the placeholder with your own tex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500"/>
              </a:spcBef>
              <a:buClr>
                <a:srgbClr val="9191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a placeholder text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500"/>
              </a:spcBef>
              <a:buClr>
                <a:srgbClr val="9191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text can be replaced with your own text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500"/>
              </a:spcBef>
              <a:buClr>
                <a:srgbClr val="9191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don’t want to use the style and size of the fonts as use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is placeholder it is possible to replace it by selecting different op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675"/>
              </a:spcBef>
              <a:buClr>
                <a:srgbClr val="91919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replacing the placeholder text you need to click on the placeholder tex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nsert y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675"/>
              </a:spcBef>
              <a:buClr>
                <a:srgbClr val="91919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xt that you insert will retain the same style and format as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holde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8199"/>
          <p:cNvSpPr/>
          <p:nvPr/>
        </p:nvSpPr>
        <p:spPr>
          <a:xfrm>
            <a:off x="1069920" y="58705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eafae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aeafae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7:08Z</dcterms:modified>
  <cp:revision>5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