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5759-CC5A-4782-9C68-D18E66F22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2ABE-91FA-4555-90AA-64922BF9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ED2C-9A94-42B7-A793-23DB8CBF3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3613-DA02-4728-A482-BC3096A01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8B02-DE9B-467A-9947-22EE4B54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1CE4-77CF-48C2-A89F-0693AAFC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B8D2-DCF6-4A73-B208-90BD4B7BE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34B8-7076-454F-A712-BB7A84D9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6050-1969-4098-ADF2-7BBAEACE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0788-6058-4154-9EC1-635DE6DB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BE47-75CD-4BA9-84CD-9D52C28A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2EDB-6044-43FB-A6E3-3178F805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04E8-F1C3-4ADA-93C0-107D04D7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093E-1597-41BD-AD03-BA5348A0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7376-E1F7-4AA4-978C-F6A1862C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6F23-1B06-4353-95FB-8CA1867E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9C7E-3032-4C93-A33D-7DA8380E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3871-F23D-458A-BE28-2F4B4FA6A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C2FD-3807-4494-B6B9-382CBA9C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B7197-5531-40F3-B9F6-463597D1C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B545-52F4-4E85-A5D7-426B3F73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0B6B6-7E00-443F-A2F1-E665984E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BFEA4-4116-4C3D-990A-629DA858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9EBF1-A7A3-46BA-A2F2-D168F0FC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7065A-76D0-49FB-8295-EDB40CB0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DC6CA-3015-41B6-9B37-9DCABBD1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3C334-A130-4CEC-8BB3-933E92C5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15F4A-2E8B-40E5-A7AA-A3CA49CF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D5C4D-6A56-4FFD-BAD9-8981DE85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029FC-C4BE-4E4A-B84A-D41312F5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C6280-764E-4372-B87B-DAD09CF48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D110-FC40-41BF-B7F8-D355663B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47AAC-F713-42A2-BBEB-3A6BDABA6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3EA2-AF7C-46D7-BBD8-5FF2B73A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C54B-9A57-4C52-82FD-C467D269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DF42-B2F2-4433-AA31-0D02C7C1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19AD-E49F-45FE-BA5A-43CFD501987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F586-B690-4B99-BC79-71E7B4960F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81755639482398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6" descr="81755639552399655654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图片 7" descr="valentines_day_mm_112106754757.jpg"/>
          <p:cNvPicPr/>
          <p:nvPr/>
        </p:nvPicPr>
        <p:blipFill>
          <a:blip r:embed="rId3"/>
          <a:stretch/>
        </p:blipFill>
        <p:spPr>
          <a:xfrm>
            <a:off x="6858000" y="457200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6" descr="81755639552399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B231-90C7-4DE6-A400-44F3A3B7627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B7E3-F186-49DD-930F-0C4F05B86F4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0A76-34BD-45E0-9BC2-E25CC89DF6B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9E25-92FD-44FA-A4A1-4589AD4DE0C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2"/>
          <p:cNvSpPr/>
          <p:nvPr/>
        </p:nvSpPr>
        <p:spPr>
          <a:xfrm>
            <a:off x="682560" y="117360"/>
            <a:ext cx="803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结婚纪念日卡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69638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369638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A24A-9F46-4062-B723-8D62C2FDBC6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图片 2" descr="unique_valentines_day_gifts23324.jpg"/>
          <p:cNvPicPr/>
          <p:nvPr/>
        </p:nvPicPr>
        <p:blipFill>
          <a:blip r:embed="rId1"/>
          <a:stretch/>
        </p:blipFill>
        <p:spPr>
          <a:xfrm>
            <a:off x="71280" y="0"/>
            <a:ext cx="1571760" cy="157176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6"/>
          <p:cNvSpPr/>
          <p:nvPr/>
        </p:nvSpPr>
        <p:spPr>
          <a:xfrm>
            <a:off x="1708200" y="1165320"/>
            <a:ext cx="1915920" cy="528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5400000"/>
          </a:gradFill>
          <a:ln w="9360">
            <a:solidFill>
              <a:srgbClr val="98b954"/>
            </a:solidFill>
            <a:round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ov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7"/>
          <p:cNvSpPr/>
          <p:nvPr/>
        </p:nvSpPr>
        <p:spPr>
          <a:xfrm>
            <a:off x="4027320" y="1165320"/>
            <a:ext cx="1916280" cy="528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54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ov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8"/>
          <p:cNvSpPr/>
          <p:nvPr/>
        </p:nvSpPr>
        <p:spPr>
          <a:xfrm>
            <a:off x="6356520" y="1165320"/>
            <a:ext cx="1915920" cy="528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5400000"/>
          </a:gradFill>
          <a:ln w="9360">
            <a:solidFill>
              <a:srgbClr val="7d60a0"/>
            </a:solidFill>
            <a:round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ov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圆角矩形 6" descr=""/>
          <p:cNvPicPr/>
          <p:nvPr/>
        </p:nvPicPr>
        <p:blipFill>
          <a:blip r:embed="rId2"/>
          <a:stretch/>
        </p:blipFill>
        <p:spPr>
          <a:xfrm>
            <a:off x="1646280" y="1889280"/>
            <a:ext cx="2066760" cy="4566960"/>
          </a:xfrm>
          <a:prstGeom prst="rect">
            <a:avLst/>
          </a:prstGeom>
          <a:ln w="0">
            <a:noFill/>
          </a:ln>
        </p:spPr>
      </p:pic>
      <p:pic>
        <p:nvPicPr>
          <p:cNvPr id="217" name="圆角矩形 7" descr=""/>
          <p:cNvPicPr/>
          <p:nvPr/>
        </p:nvPicPr>
        <p:blipFill>
          <a:blip r:embed="rId3"/>
          <a:stretch/>
        </p:blipFill>
        <p:spPr>
          <a:xfrm>
            <a:off x="4005360" y="1889280"/>
            <a:ext cx="2060640" cy="4566960"/>
          </a:xfrm>
          <a:prstGeom prst="rect">
            <a:avLst/>
          </a:prstGeom>
          <a:ln w="0">
            <a:noFill/>
          </a:ln>
        </p:spPr>
      </p:pic>
      <p:pic>
        <p:nvPicPr>
          <p:cNvPr id="218" name="圆角矩形 8" descr=""/>
          <p:cNvPicPr/>
          <p:nvPr/>
        </p:nvPicPr>
        <p:blipFill>
          <a:blip r:embed="rId4"/>
          <a:stretch/>
        </p:blipFill>
        <p:spPr>
          <a:xfrm>
            <a:off x="6291360" y="1889280"/>
            <a:ext cx="2060640" cy="4566960"/>
          </a:xfrm>
          <a:prstGeom prst="rect">
            <a:avLst/>
          </a:prstGeom>
          <a:ln w="0">
            <a:noFill/>
          </a:ln>
        </p:spPr>
      </p:pic>
      <p:sp>
        <p:nvSpPr>
          <p:cNvPr id="219" name="流程图: 摘录 9"/>
          <p:cNvSpPr/>
          <p:nvPr/>
        </p:nvSpPr>
        <p:spPr>
          <a:xfrm rot="5400000">
            <a:off x="3581280" y="3517920"/>
            <a:ext cx="298440" cy="257040"/>
          </a:xfrm>
          <a:prstGeom prst="flowChartExtra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35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流程图: 摘录 10"/>
          <p:cNvSpPr/>
          <p:nvPr/>
        </p:nvSpPr>
        <p:spPr>
          <a:xfrm rot="5400000">
            <a:off x="5938200" y="3543120"/>
            <a:ext cx="300240" cy="258840"/>
          </a:xfrm>
          <a:prstGeom prst="flowChartExtra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35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3T08:28:0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6:53Z</dcterms:modified>
  <cp:revision>1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