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042-C798-4422-95FD-B5A92C19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1BE-C4DF-452D-B6DF-31133A78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69266-F771-4767-96C3-EEE9DACC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7A770-29B6-484B-B7AE-41AAD90A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F4E93-FAA7-4E0E-899D-90FB7910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F4A6A-7F88-4AD8-88E3-A7D4D4D2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D4E7F-71A7-4AFA-AF88-AD99601E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F6B9C-89EC-4F9A-86AC-4D80A8F5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A1FB3-14E6-4503-BC79-CC1C4042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91F97-7A07-47FC-A0A9-84629A09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BDB0D-C4A9-40B5-BBDC-02F6F5EE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52530-50A2-45A3-9111-1F13B55C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8C7-CC01-400C-B41F-E8C01562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5D602-F431-43AC-8768-09DD7830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29911-557E-4C81-B5D7-3ECCB513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4D853-6F56-4FCF-AC0A-FB724C65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1B21A-FE8D-48F0-9DE9-4B4DE7EB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FD1EC-FEAB-4ED6-A62F-A90F78B9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2F251-160C-4F69-AFD5-5BA0122B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87082-77B4-44F3-8DDC-01A55C73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2A1C8-1635-4D7B-AF25-B290CC0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8E51A-4017-4803-8735-46A901F6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226AB-A125-4D31-ABBF-7972AB5C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674-B61C-41CC-9E03-03BF7F55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2795A-AC38-4D35-BD9A-434A3830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BDC65-FCBA-4B49-9165-D75FC452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AA243-5100-4844-B1D9-4F112FEE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BDA86-54D5-4E8A-A3DA-DA54B7FC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91F57-2DE0-4E9C-9D28-91F29E7E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8FDB2-E81E-42D1-A12C-1DABFE7A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C07F9-04E1-49D7-A699-40033DD6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781D4-F44E-4C2A-A2F1-3FFECF15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2D67F-A943-4F1F-B5FD-F7883A3F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4223F-EF13-4F65-8148-4317AA21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AADD-A962-4975-8B3B-51EA74EA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F481E-B9DF-490C-9371-AFC600A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FC3B5-10E1-4849-9594-5DF30CC2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3E997-2C0E-41A8-85A5-AA7A80CB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8AD8A-696F-477A-B8E8-13B9AC92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D8C72-A7AD-471D-AB8B-826D167C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7C0F4-F3D1-40BE-A64B-80898324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AE4BA-41CE-4C23-B8C2-F4BB11CC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382DD-6062-4D78-B731-383E85E3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0DE87-9194-480A-90D5-EA29E43C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C365E-7B77-4DCA-B181-BEF54487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97D4-51EA-4352-9339-125F1FF9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432AC-6917-4CD6-9FCF-1EF48CA7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A50BE-A184-44CA-B851-1EFD3FD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F6563-8D3A-46C7-BF64-E238CC67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24A6A-F912-4F19-94BE-20B1ED2E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33255-3A8C-4394-A06D-E6669561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15123-58F3-402C-B91C-261CFCC2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7ED34-96CF-4BC3-9568-61A2CD28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26217-ED82-47B2-858A-2C618333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74A29-C626-402A-9E2F-1A48936B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B5FC7-8009-40AC-AADB-230F503B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E006-B060-4998-A63A-CE4B7428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528F8-9511-4633-9C27-94F1DF13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89C0B-2589-4A04-9270-FE7BCD99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7EBE8-AAB6-4DF1-9081-D04D337E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A4EC2-0A8C-477E-8723-C74CADD7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F57CC-16AE-452A-BA4B-B0A75F54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CDF72-B486-4C73-A4B5-B4D83DC5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B2AC8-859D-4D16-85FA-9A580ED2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A085-26A8-4CF8-B075-C38A48BA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5412-0062-4887-9249-A27E4764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3084-C81E-402C-B999-9238184F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62E9-3C04-4B4D-86D5-CD709BD7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11D-EBF0-4477-BBAC-A31FC2B9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401B-36C3-46AD-8B55-49739101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12E7-D0B8-4F63-A9C5-2AA38A2A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30B5-376A-450A-99BF-F42DC272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357F-6AC4-4422-9B77-FFDB6C31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B772-0E81-4CA4-800B-EDDAE887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1375-F593-41AE-8AAB-DDA117EA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5433-593C-4C5A-A182-5DD904A2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656D3-DE8D-4D51-849A-B3D3E435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FD533-316D-4D4A-981D-CD14E261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0FCE-BF34-4B1D-888D-752EC506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2B3-44B6-4F35-8EA2-A0F617AE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73EF2-7B51-45B7-A346-2EE1D56C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FBD08-F99C-43E2-9B47-19DE274C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0188B-2B5B-43C4-923B-8F9E65AF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9D76C-B7DE-44D1-80B3-3FADAE6D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9BC3-7D4B-4273-8BAE-44A51CB8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99DC-5B7C-44C4-AFD9-E000B1A1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D39B-A70F-42BB-A7F2-45C3916D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F8246-5653-430E-ADAB-1C52954C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3523B-760C-4B56-8852-10B4F2B8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564F-6B47-49F3-9249-E898009E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296-019B-4DEB-9E39-9C21C745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35381-7804-4D2C-B3A6-ADE8A8E4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1DFC-8E7F-44BC-B6FC-141C8EB4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E8BE-F173-4AF9-885B-678E7A6D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33F4-3780-4144-829D-00555DB4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067D5-1F97-4222-9E92-B47B6BB8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CBD1-5EE7-42E4-AB26-81E19A5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AD85A-B9EF-458D-9C26-C841422B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3998F-E7E7-4191-9497-4906C8DF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57D8F-F380-42F0-807E-3D843892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E5C11-EA0B-49D1-B5B8-CF073F8C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57C-CB34-4811-871F-BDAAC3BF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FF211-2EB0-4D23-9F28-94D410AC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A369E-A492-4D8F-867B-C560B420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8A030-5EB9-406D-B4AE-6A67C6A4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9D2FB-300A-4072-B4E5-A5C4FE1A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2F7E0-BECA-4A2F-B9BC-BAE44E6B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FF07D-00DF-4C22-AE72-E2F0DD6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19706-F30D-4992-9DEA-E7139968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2B096-FE26-4CD1-B69D-3414C88D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3961D-F4D4-4826-A4C9-47C01D28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0FC40-6981-4AF0-99FE-921B424C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20D-C1DC-4768-B4F7-64366391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EA273-BB6D-4C47-943F-F73C6D57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0DA0A-3ABF-47BC-9949-1FDA11BE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7860D-5EAE-46F5-A0BE-F34F7632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B3A7-DB43-4CEE-9E36-75FCA754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58F8D-03C4-4017-B9B0-E0C5BFC0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DEB66-715D-4DAC-86E4-A575ECF9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606CF-4324-4DD2-B380-B6B8583E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9ED40-D4D3-4FE0-BF9C-89FBA0CE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7562B-81B0-4FF7-8189-2719EDC6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B274E-0D9F-4393-A606-A39B38D3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4B3-6D1E-45E0-98C4-DD6E7EA0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95342-3100-4055-9A82-4F43FFD7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38CA0-3BBC-4875-9882-4C6170C1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1FBBB-1592-4A8F-AD3E-27FA1C0E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8C8A4-BE38-4BBD-923D-F8474CD5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35ED5-3A5F-4ABB-9210-09198EF7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4227D-1D58-46CD-8646-169E4C7A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22C06-4A0E-40A8-A1D2-2492B7F4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BCBE0-73D8-4856-80CD-6150DFC2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85C36-9537-4F75-929E-F5CC41BC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028BE-3BC7-4E9A-BBAC-772CE784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216-05D7-4557-A6A8-226A6144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6658A-17FE-4E43-AD01-384D0EBF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D4CDF-95BE-444E-BB9E-5FBC3199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FD517-ED60-4849-BAB6-CE65A180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A538A-0795-4867-BEC2-1CCCE0D4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6AB3C-CF25-4B4C-A2B7-84BA309B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4AF7D-C6ED-4C35-BE7C-552873D2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57A56-912D-4080-BFBF-8E2B8307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463C2-81AC-4742-9174-267AD174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30453-845C-4340-B6BE-C45C75CB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56B34-29B2-43D2-86F2-CEA0B0FB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CEB-B2B9-4714-9499-E70E325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24612-C41F-4A88-B120-FB9A1A51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EA78B-3542-497A-8524-E2FF4127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029D4-3A3D-4D9B-925F-5D17F67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87C82-DC0D-4280-B6BE-88CB6B8D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47A39-EAF8-4B93-9C7F-58A85235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33DCE-EEB3-48F8-9F1E-E507B24B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E3122-08F4-4F61-8AC9-8EC3CD20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D09C3-C784-4C49-9A73-8D9434C0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2B376-EC14-480D-A023-5B600A9C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AD6F1-81C9-47E4-AD5B-B1237947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917E-687C-4701-BB8F-F7A7292C20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A99F-F69B-45AB-84B0-815F0F8766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D52A-3AC6-4C62-8C60-6FB61E860A7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3E10-50D8-4DE8-A1D2-B0C5F421394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FAEE-FACB-4AE3-8575-ECCA962B431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3470-F5BA-4524-A900-E6172D1D333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7B3D-6D22-4651-BA8F-179500F48E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E879-9338-4685-B2B1-3B70A6A7BB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7CF9-CAFE-42E4-97E6-1E9AE04109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2289-483D-4CDF-BC41-D113FAFFCD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F04D-5491-4946-81C9-9355B6059FF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314-2716-4AC6-951E-391B318DE9C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13C8-BBDA-40A7-B297-621E626F0F3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96A9-E902-496C-9E98-302F2688139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44"/>
            </a:gs>
            <a:gs pos="100000">
              <a:srgbClr val="bde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35" name="梯形 3"/>
          <p:cNvSpPr/>
          <p:nvPr/>
        </p:nvSpPr>
        <p:spPr>
          <a:xfrm flipV="1">
            <a:off x="2365200" y="2735640"/>
            <a:ext cx="4211640" cy="360360"/>
          </a:xfrm>
          <a:custGeom>
            <a:avLst/>
            <a:gdLst/>
            <a:ahLst/>
            <a:rect l="l" t="t" r="r" b="b"/>
            <a:pathLst>
              <a:path w="4211637" h="360362">
                <a:moveTo>
                  <a:pt x="0" y="360362"/>
                </a:moveTo>
                <a:lnTo>
                  <a:pt x="239154" y="0"/>
                </a:lnTo>
                <a:lnTo>
                  <a:pt x="3972482" y="0"/>
                </a:lnTo>
                <a:lnTo>
                  <a:pt x="4211637" y="360362"/>
                </a:lnTo>
                <a:close/>
              </a:path>
            </a:pathLst>
          </a:custGeom>
          <a:solidFill>
            <a:srgbClr val="aaea25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梯形 4"/>
          <p:cNvSpPr/>
          <p:nvPr/>
        </p:nvSpPr>
        <p:spPr>
          <a:xfrm>
            <a:off x="2346480" y="1959120"/>
            <a:ext cx="4248000" cy="8017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5"/>
          <p:cNvSpPr/>
          <p:nvPr/>
        </p:nvSpPr>
        <p:spPr>
          <a:xfrm>
            <a:off x="2709720" y="27766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D PPT DESIG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4" descr="http://ekko.ekkomediagroup.com/~custom/wheels_images/AF128/1224012188-AF128ChromeWheel.png"/>
          <p:cNvPicPr/>
          <p:nvPr/>
        </p:nvPicPr>
        <p:blipFill>
          <a:blip r:embed="rId1"/>
          <a:srcRect l="0" t="0" r="0" b="64663"/>
          <a:stretch/>
        </p:blipFill>
        <p:spPr>
          <a:xfrm>
            <a:off x="2674800" y="5589720"/>
            <a:ext cx="3589560" cy="1268280"/>
          </a:xfrm>
          <a:prstGeom prst="rect">
            <a:avLst/>
          </a:prstGeom>
          <a:ln w="0">
            <a:noFill/>
          </a:ln>
        </p:spPr>
      </p:pic>
      <p:sp>
        <p:nvSpPr>
          <p:cNvPr id="539" name="矩形 2"/>
          <p:cNvSpPr/>
          <p:nvPr/>
        </p:nvSpPr>
        <p:spPr>
          <a:xfrm>
            <a:off x="305928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6"/>
          <p:cNvSpPr/>
          <p:nvPr/>
        </p:nvSpPr>
        <p:spPr>
          <a:xfrm>
            <a:off x="250920" y="765000"/>
            <a:ext cx="873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洁的公司简介产品介绍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梯形 4"/>
          <p:cNvSpPr/>
          <p:nvPr/>
        </p:nvSpPr>
        <p:spPr>
          <a:xfrm rot="16200000">
            <a:off x="6468120" y="4539240"/>
            <a:ext cx="1536480" cy="1871640"/>
          </a:xfrm>
          <a:custGeom>
            <a:avLst/>
            <a:gdLst/>
            <a:ahLst/>
            <a:rect l="l" t="t" r="r" b="b"/>
            <a:pathLst>
              <a:path w="1536700" h="1871662">
                <a:moveTo>
                  <a:pt x="0" y="1871662"/>
                </a:moveTo>
                <a:lnTo>
                  <a:pt x="365119" y="0"/>
                </a:lnTo>
                <a:lnTo>
                  <a:pt x="1171580" y="0"/>
                </a:lnTo>
                <a:lnTo>
                  <a:pt x="1536700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梯形 5"/>
          <p:cNvSpPr/>
          <p:nvPr/>
        </p:nvSpPr>
        <p:spPr>
          <a:xfrm rot="16200000">
            <a:off x="6379920" y="772920"/>
            <a:ext cx="1712880" cy="1871640"/>
          </a:xfrm>
          <a:custGeom>
            <a:avLst/>
            <a:gdLst/>
            <a:ahLst/>
            <a:rect l="l" t="t" r="r" b="b"/>
            <a:pathLst>
              <a:path w="1712912" h="1871662">
                <a:moveTo>
                  <a:pt x="0" y="1871662"/>
                </a:moveTo>
                <a:lnTo>
                  <a:pt x="428228" y="0"/>
                </a:lnTo>
                <a:lnTo>
                  <a:pt x="1284684" y="0"/>
                </a:lnTo>
                <a:lnTo>
                  <a:pt x="1712912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梯形 6"/>
          <p:cNvSpPr/>
          <p:nvPr/>
        </p:nvSpPr>
        <p:spPr>
          <a:xfrm flipH="1" rot="5400000">
            <a:off x="674280" y="2624040"/>
            <a:ext cx="3740400" cy="1749600"/>
          </a:xfrm>
          <a:custGeom>
            <a:avLst/>
            <a:gdLst/>
            <a:ahLst/>
            <a:rect l="l" t="t" r="r" b="b"/>
            <a:pathLst>
              <a:path w="3740150" h="1749425">
                <a:moveTo>
                  <a:pt x="0" y="1749425"/>
                </a:moveTo>
                <a:lnTo>
                  <a:pt x="475458" y="0"/>
                </a:lnTo>
                <a:lnTo>
                  <a:pt x="3264691" y="0"/>
                </a:lnTo>
                <a:lnTo>
                  <a:pt x="3740150" y="174942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-795240" y="28526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f7f7f"/>
                </a:solidFill>
                <a:latin typeface="Haettenschweiler"/>
                <a:ea typeface="宋体"/>
              </a:rPr>
              <a:t>CONT</a:t>
            </a:r>
            <a:r>
              <a:rPr b="0" lang="en-US" sz="7200" spc="-1" strike="noStrike">
                <a:solidFill>
                  <a:srgbClr val="ffffff"/>
                </a:solidFill>
                <a:latin typeface="Haettenschweiler"/>
                <a:ea typeface="宋体"/>
              </a:rPr>
              <a:t>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8"/>
          <p:cNvSpPr/>
          <p:nvPr/>
        </p:nvSpPr>
        <p:spPr>
          <a:xfrm>
            <a:off x="3236040" y="10508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2d050"/>
                </a:solidFill>
                <a:latin typeface="Haettenschweiler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11"/>
          <p:cNvSpPr/>
          <p:nvPr/>
        </p:nvSpPr>
        <p:spPr>
          <a:xfrm>
            <a:off x="4159080" y="28526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Haettenschweiler"/>
                <a:ea typeface="宋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3303360" y="470700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c600"/>
                </a:solidFill>
                <a:latin typeface="Haettenschweiler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1"/>
          <p:cNvSpPr/>
          <p:nvPr/>
        </p:nvSpPr>
        <p:spPr>
          <a:xfrm>
            <a:off x="4693680" y="1465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微软雅黑"/>
                <a:ea typeface="微软雅黑"/>
              </a:rPr>
              <a:t>企业简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10"/>
          <p:cNvSpPr/>
          <p:nvPr/>
        </p:nvSpPr>
        <p:spPr>
          <a:xfrm>
            <a:off x="5547960" y="3279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13"/>
          <p:cNvSpPr/>
          <p:nvPr/>
        </p:nvSpPr>
        <p:spPr>
          <a:xfrm>
            <a:off x="4693680" y="508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c600"/>
                </a:solidFill>
                <a:latin typeface="微软雅黑"/>
                <a:ea typeface="微软雅黑"/>
              </a:rPr>
              <a:t>销售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2"/>
          <p:cNvSpPr/>
          <p:nvPr/>
        </p:nvSpPr>
        <p:spPr>
          <a:xfrm>
            <a:off x="4406760" y="1908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5261400" y="37227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15"/>
          <p:cNvSpPr/>
          <p:nvPr/>
        </p:nvSpPr>
        <p:spPr>
          <a:xfrm>
            <a:off x="4407840" y="55926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c600"/>
                </a:solidFill>
                <a:latin typeface="Arial"/>
                <a:ea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9"/>
          <p:cNvSpPr/>
          <p:nvPr/>
        </p:nvSpPr>
        <p:spPr>
          <a:xfrm>
            <a:off x="234360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梯形 6"/>
          <p:cNvSpPr/>
          <p:nvPr/>
        </p:nvSpPr>
        <p:spPr>
          <a:xfrm flipV="1" rot="5400000">
            <a:off x="4524840" y="2918880"/>
            <a:ext cx="4248360" cy="2183040"/>
          </a:xfrm>
          <a:custGeom>
            <a:avLst/>
            <a:gdLst/>
            <a:ahLst/>
            <a:rect l="l" t="t" r="r" b="b"/>
            <a:pathLst>
              <a:path w="4248150" h="2182812">
                <a:moveTo>
                  <a:pt x="0" y="2182812"/>
                </a:moveTo>
                <a:lnTo>
                  <a:pt x="983728" y="0"/>
                </a:lnTo>
                <a:lnTo>
                  <a:pt x="3264421" y="0"/>
                </a:lnTo>
                <a:lnTo>
                  <a:pt x="4248150" y="21828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梯形 5"/>
          <p:cNvSpPr/>
          <p:nvPr/>
        </p:nvSpPr>
        <p:spPr>
          <a:xfrm rot="5400000">
            <a:off x="1583280" y="2486520"/>
            <a:ext cx="4248360" cy="2160720"/>
          </a:xfrm>
          <a:custGeom>
            <a:avLst/>
            <a:gdLst/>
            <a:ahLst/>
            <a:rect l="l" t="t" r="r" b="b"/>
            <a:pathLst>
              <a:path w="4248150" h="2160587">
                <a:moveTo>
                  <a:pt x="0" y="2160587"/>
                </a:moveTo>
                <a:lnTo>
                  <a:pt x="724877" y="0"/>
                </a:lnTo>
                <a:lnTo>
                  <a:pt x="3523272" y="0"/>
                </a:lnTo>
                <a:lnTo>
                  <a:pt x="4248150" y="216058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梯形 3"/>
          <p:cNvSpPr/>
          <p:nvPr/>
        </p:nvSpPr>
        <p:spPr>
          <a:xfrm rot="5400000">
            <a:off x="1258560" y="2852640"/>
            <a:ext cx="4465440" cy="2160720"/>
          </a:xfrm>
          <a:custGeom>
            <a:avLst/>
            <a:gdLst/>
            <a:ahLst/>
            <a:rect l="l" t="t" r="r" b="b"/>
            <a:pathLst>
              <a:path w="4465637" h="2160587">
                <a:moveTo>
                  <a:pt x="0" y="2160587"/>
                </a:moveTo>
                <a:lnTo>
                  <a:pt x="782024" y="0"/>
                </a:lnTo>
                <a:lnTo>
                  <a:pt x="3683612" y="0"/>
                </a:lnTo>
                <a:lnTo>
                  <a:pt x="4465637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梯形 4"/>
          <p:cNvSpPr/>
          <p:nvPr/>
        </p:nvSpPr>
        <p:spPr>
          <a:xfrm rot="16200000">
            <a:off x="4212360" y="220428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2" y="0"/>
                </a:lnTo>
                <a:lnTo>
                  <a:pt x="3625677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3072240" y="252252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597024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9"/>
          <p:cNvSpPr/>
          <p:nvPr/>
        </p:nvSpPr>
        <p:spPr>
          <a:xfrm>
            <a:off x="2846880" y="38894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10"/>
          <p:cNvSpPr/>
          <p:nvPr/>
        </p:nvSpPr>
        <p:spPr>
          <a:xfrm>
            <a:off x="579960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梯形 3"/>
          <p:cNvSpPr/>
          <p:nvPr/>
        </p:nvSpPr>
        <p:spPr>
          <a:xfrm flipV="1" rot="5400000">
            <a:off x="3996360" y="2030040"/>
            <a:ext cx="4248360" cy="3960720"/>
          </a:xfrm>
          <a:custGeom>
            <a:avLst/>
            <a:gdLst/>
            <a:ahLst/>
            <a:rect l="l" t="t" r="r" b="b"/>
            <a:pathLst>
              <a:path w="4248150" h="3960812">
                <a:moveTo>
                  <a:pt x="0" y="3960812"/>
                </a:moveTo>
                <a:lnTo>
                  <a:pt x="1571254" y="0"/>
                </a:lnTo>
                <a:lnTo>
                  <a:pt x="2676895" y="0"/>
                </a:lnTo>
                <a:lnTo>
                  <a:pt x="4248150" y="39608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梯形 4"/>
          <p:cNvSpPr/>
          <p:nvPr/>
        </p:nvSpPr>
        <p:spPr>
          <a:xfrm rot="16200000">
            <a:off x="4572720" y="220428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2" y="0"/>
                </a:lnTo>
                <a:lnTo>
                  <a:pt x="3625677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5"/>
          <p:cNvSpPr/>
          <p:nvPr/>
        </p:nvSpPr>
        <p:spPr>
          <a:xfrm>
            <a:off x="633060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615924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梯形 7"/>
          <p:cNvSpPr/>
          <p:nvPr/>
        </p:nvSpPr>
        <p:spPr>
          <a:xfrm rot="16200000">
            <a:off x="2316960" y="273924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2" y="0"/>
                </a:lnTo>
                <a:lnTo>
                  <a:pt x="3625677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4076280" y="24224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9"/>
          <p:cNvSpPr/>
          <p:nvPr/>
        </p:nvSpPr>
        <p:spPr>
          <a:xfrm>
            <a:off x="3904200" y="36846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梯形 10"/>
          <p:cNvSpPr/>
          <p:nvPr/>
        </p:nvSpPr>
        <p:spPr>
          <a:xfrm rot="5400000">
            <a:off x="143640" y="2456640"/>
            <a:ext cx="4248000" cy="2160720"/>
          </a:xfrm>
          <a:custGeom>
            <a:avLst/>
            <a:gdLst/>
            <a:ahLst/>
            <a:rect l="l" t="t" r="r" b="b"/>
            <a:pathLst>
              <a:path w="4248150" h="2160587">
                <a:moveTo>
                  <a:pt x="0" y="2160587"/>
                </a:moveTo>
                <a:lnTo>
                  <a:pt x="724877" y="0"/>
                </a:lnTo>
                <a:lnTo>
                  <a:pt x="3523272" y="0"/>
                </a:lnTo>
                <a:lnTo>
                  <a:pt x="4248150" y="216058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梯形 11"/>
          <p:cNvSpPr/>
          <p:nvPr/>
        </p:nvSpPr>
        <p:spPr>
          <a:xfrm rot="5400000">
            <a:off x="-180720" y="2823480"/>
            <a:ext cx="4464360" cy="216036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782024" y="0"/>
                </a:lnTo>
                <a:lnTo>
                  <a:pt x="3682025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1631520" y="2492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1406880" y="38592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梯形 3"/>
          <p:cNvSpPr/>
          <p:nvPr/>
        </p:nvSpPr>
        <p:spPr>
          <a:xfrm flipV="1" rot="5400000">
            <a:off x="4923720" y="2800080"/>
            <a:ext cx="3917880" cy="2462040"/>
          </a:xfrm>
          <a:custGeom>
            <a:avLst/>
            <a:gdLst/>
            <a:ahLst/>
            <a:rect l="l" t="t" r="r" b="b"/>
            <a:pathLst>
              <a:path w="3917950" h="2462212">
                <a:moveTo>
                  <a:pt x="0" y="2462212"/>
                </a:moveTo>
                <a:lnTo>
                  <a:pt x="398952" y="0"/>
                </a:lnTo>
                <a:lnTo>
                  <a:pt x="3518997" y="0"/>
                </a:lnTo>
                <a:lnTo>
                  <a:pt x="3917950" y="24622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梯形 4"/>
          <p:cNvSpPr/>
          <p:nvPr/>
        </p:nvSpPr>
        <p:spPr>
          <a:xfrm rot="16200000">
            <a:off x="5352120" y="2307240"/>
            <a:ext cx="4465440" cy="2327400"/>
          </a:xfrm>
          <a:custGeom>
            <a:avLst/>
            <a:gdLst/>
            <a:ahLst/>
            <a:rect l="l" t="t" r="r" b="b"/>
            <a:pathLst>
              <a:path w="4465637" h="2327275">
                <a:moveTo>
                  <a:pt x="0" y="2327275"/>
                </a:moveTo>
                <a:lnTo>
                  <a:pt x="450769" y="0"/>
                </a:lnTo>
                <a:lnTo>
                  <a:pt x="4014867" y="0"/>
                </a:lnTo>
                <a:lnTo>
                  <a:pt x="4465637" y="23272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5"/>
          <p:cNvSpPr/>
          <p:nvPr/>
        </p:nvSpPr>
        <p:spPr>
          <a:xfrm>
            <a:off x="7194240" y="20750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6"/>
          <p:cNvSpPr/>
          <p:nvPr/>
        </p:nvSpPr>
        <p:spPr>
          <a:xfrm>
            <a:off x="6659640" y="3335400"/>
            <a:ext cx="1938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梯形 7"/>
          <p:cNvSpPr/>
          <p:nvPr/>
        </p:nvSpPr>
        <p:spPr>
          <a:xfrm rot="16200000">
            <a:off x="2699640" y="292500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590683" y="0"/>
                </a:lnTo>
                <a:lnTo>
                  <a:pt x="3873366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8"/>
          <p:cNvSpPr/>
          <p:nvPr/>
        </p:nvSpPr>
        <p:spPr>
          <a:xfrm>
            <a:off x="4458960" y="26082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9"/>
          <p:cNvSpPr/>
          <p:nvPr/>
        </p:nvSpPr>
        <p:spPr>
          <a:xfrm>
            <a:off x="4287600" y="387036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图表 14" descr=""/>
          <p:cNvPicPr/>
          <p:nvPr/>
        </p:nvPicPr>
        <p:blipFill>
          <a:blip r:embed="rId1"/>
          <a:stretch/>
        </p:blipFill>
        <p:spPr>
          <a:xfrm>
            <a:off x="284040" y="2577960"/>
            <a:ext cx="3089520" cy="2459160"/>
          </a:xfrm>
          <a:prstGeom prst="rect">
            <a:avLst/>
          </a:prstGeom>
          <a:ln w="0">
            <a:noFill/>
          </a:ln>
        </p:spPr>
      </p:pic>
      <p:sp>
        <p:nvSpPr>
          <p:cNvPr id="586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6" descr=""/>
          <p:cNvPicPr/>
          <p:nvPr/>
        </p:nvPicPr>
        <p:blipFill>
          <a:blip r:embed="rId1"/>
          <a:stretch/>
        </p:blipFill>
        <p:spPr>
          <a:xfrm>
            <a:off x="3193920" y="1641600"/>
            <a:ext cx="2035440" cy="789300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8" descr=""/>
          <p:cNvPicPr/>
          <p:nvPr/>
        </p:nvPicPr>
        <p:blipFill>
          <a:blip r:embed="rId2"/>
          <a:stretch/>
        </p:blipFill>
        <p:spPr>
          <a:xfrm>
            <a:off x="479520" y="1676520"/>
            <a:ext cx="2314440" cy="7597800"/>
          </a:xfrm>
          <a:prstGeom prst="rect">
            <a:avLst/>
          </a:prstGeom>
          <a:ln w="0">
            <a:noFill/>
          </a:ln>
        </p:spPr>
      </p:pic>
      <p:sp>
        <p:nvSpPr>
          <p:cNvPr id="589" name="梯形 9"/>
          <p:cNvSpPr/>
          <p:nvPr/>
        </p:nvSpPr>
        <p:spPr>
          <a:xfrm flipV="1" rot="5400000">
            <a:off x="4983840" y="3128040"/>
            <a:ext cx="4248000" cy="2182680"/>
          </a:xfrm>
          <a:custGeom>
            <a:avLst/>
            <a:gdLst/>
            <a:ahLst/>
            <a:rect l="l" t="t" r="r" b="b"/>
            <a:pathLst>
              <a:path w="4248150" h="2182812">
                <a:moveTo>
                  <a:pt x="0" y="2182812"/>
                </a:moveTo>
                <a:lnTo>
                  <a:pt x="716944" y="0"/>
                </a:lnTo>
                <a:lnTo>
                  <a:pt x="3531205" y="0"/>
                </a:lnTo>
                <a:lnTo>
                  <a:pt x="4248150" y="21828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梯形 10"/>
          <p:cNvSpPr/>
          <p:nvPr/>
        </p:nvSpPr>
        <p:spPr>
          <a:xfrm rot="16200000">
            <a:off x="4539240" y="2599560"/>
            <a:ext cx="4464000" cy="216036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609739" y="0"/>
                </a:lnTo>
                <a:lnTo>
                  <a:pt x="3854310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1"/>
          <p:cNvSpPr/>
          <p:nvPr/>
        </p:nvSpPr>
        <p:spPr>
          <a:xfrm>
            <a:off x="6298920" y="228456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12"/>
          <p:cNvSpPr/>
          <p:nvPr/>
        </p:nvSpPr>
        <p:spPr>
          <a:xfrm>
            <a:off x="6127560" y="35449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梯形 7"/>
          <p:cNvSpPr/>
          <p:nvPr/>
        </p:nvSpPr>
        <p:spPr>
          <a:xfrm rot="5400000">
            <a:off x="1434240" y="1632600"/>
            <a:ext cx="4249800" cy="3743280"/>
          </a:xfrm>
          <a:custGeom>
            <a:avLst/>
            <a:gdLst/>
            <a:ahLst/>
            <a:rect l="l" t="t" r="r" b="b"/>
            <a:pathLst>
              <a:path w="4249737" h="3743325">
                <a:moveTo>
                  <a:pt x="0" y="3743325"/>
                </a:moveTo>
                <a:lnTo>
                  <a:pt x="1255885" y="0"/>
                </a:lnTo>
                <a:lnTo>
                  <a:pt x="2993851" y="0"/>
                </a:lnTo>
                <a:lnTo>
                  <a:pt x="4249737" y="3743325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梯形 8"/>
          <p:cNvSpPr/>
          <p:nvPr/>
        </p:nvSpPr>
        <p:spPr>
          <a:xfrm rot="5400000">
            <a:off x="4086720" y="2656440"/>
            <a:ext cx="446436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782024" y="0"/>
                </a:lnTo>
                <a:lnTo>
                  <a:pt x="3682025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9"/>
          <p:cNvSpPr/>
          <p:nvPr/>
        </p:nvSpPr>
        <p:spPr>
          <a:xfrm>
            <a:off x="5900400" y="23256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0"/>
          <p:cNvSpPr/>
          <p:nvPr/>
        </p:nvSpPr>
        <p:spPr>
          <a:xfrm>
            <a:off x="5674320" y="36925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梯形 11"/>
          <p:cNvSpPr/>
          <p:nvPr/>
        </p:nvSpPr>
        <p:spPr>
          <a:xfrm rot="5400000">
            <a:off x="786960" y="1919160"/>
            <a:ext cx="4464000" cy="3816360"/>
          </a:xfrm>
          <a:custGeom>
            <a:avLst/>
            <a:gdLst/>
            <a:ahLst/>
            <a:rect l="l" t="t" r="r" b="b"/>
            <a:pathLst>
              <a:path w="4464050" h="3816350">
                <a:moveTo>
                  <a:pt x="0" y="3816350"/>
                </a:moveTo>
                <a:lnTo>
                  <a:pt x="1076516" y="0"/>
                </a:lnTo>
                <a:lnTo>
                  <a:pt x="3387533" y="0"/>
                </a:lnTo>
                <a:lnTo>
                  <a:pt x="4464050" y="381635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1446120" y="2489040"/>
            <a:ext cx="2784600" cy="362124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4"/>
          <p:cNvSpPr/>
          <p:nvPr/>
        </p:nvSpPr>
        <p:spPr>
          <a:xfrm>
            <a:off x="2009880" y="2544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数据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8199"/>
          <p:cNvSpPr/>
          <p:nvPr/>
        </p:nvSpPr>
        <p:spPr>
          <a:xfrm>
            <a:off x="1619280" y="26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C14B-9ADB-4EDE-979E-6C60212FB9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梯形 9"/>
          <p:cNvSpPr/>
          <p:nvPr/>
        </p:nvSpPr>
        <p:spPr>
          <a:xfrm flipV="1" rot="5400000">
            <a:off x="2795760" y="1662480"/>
            <a:ext cx="3678120" cy="3475080"/>
          </a:xfrm>
          <a:custGeom>
            <a:avLst/>
            <a:gdLst/>
            <a:ahLst/>
            <a:rect l="l" t="t" r="r" b="b"/>
            <a:pathLst>
              <a:path w="3678237" h="3475037">
                <a:moveTo>
                  <a:pt x="0" y="3475037"/>
                </a:moveTo>
                <a:lnTo>
                  <a:pt x="978952" y="0"/>
                </a:lnTo>
                <a:lnTo>
                  <a:pt x="2699284" y="0"/>
                </a:lnTo>
                <a:lnTo>
                  <a:pt x="3678237" y="347503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梯形 3"/>
          <p:cNvSpPr/>
          <p:nvPr/>
        </p:nvSpPr>
        <p:spPr>
          <a:xfrm flipV="1" rot="5400000">
            <a:off x="2746080" y="1412640"/>
            <a:ext cx="3291120" cy="3529080"/>
          </a:xfrm>
          <a:custGeom>
            <a:avLst/>
            <a:gdLst/>
            <a:ahLst/>
            <a:rect l="l" t="t" r="r" b="b"/>
            <a:pathLst>
              <a:path w="3290887" h="3529012">
                <a:moveTo>
                  <a:pt x="0" y="3529012"/>
                </a:moveTo>
                <a:lnTo>
                  <a:pt x="906869" y="0"/>
                </a:lnTo>
                <a:lnTo>
                  <a:pt x="2384017" y="0"/>
                </a:lnTo>
                <a:lnTo>
                  <a:pt x="3290887" y="3529012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2712240" y="275436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e883"/>
                </a:solidFill>
                <a:latin typeface="Haettenschweiler"/>
              </a:rPr>
              <a:t>ONE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同侧圆角矩形 10"/>
          <p:cNvSpPr/>
          <p:nvPr/>
        </p:nvSpPr>
        <p:spPr>
          <a:xfrm>
            <a:off x="4861080" y="2906640"/>
            <a:ext cx="811080" cy="406440"/>
          </a:xfrm>
          <a:custGeom>
            <a:avLst/>
            <a:gdLst/>
            <a:ahLst/>
            <a:rect l="l" t="t" r="r" b="b"/>
            <a:pathLst>
              <a:path w="1008112" h="504056">
                <a:moveTo>
                  <a:pt x="297916" y="0"/>
                </a:moveTo>
                <a:lnTo>
                  <a:pt x="413473" y="0"/>
                </a:lnTo>
                <a:cubicBezTo>
                  <a:pt x="395124" y="19992"/>
                  <a:pt x="380823" y="47352"/>
                  <a:pt x="371503" y="78619"/>
                </a:cubicBezTo>
                <a:cubicBezTo>
                  <a:pt x="346705" y="161807"/>
                  <a:pt x="366554" y="241155"/>
                  <a:pt x="415835" y="255845"/>
                </a:cubicBezTo>
                <a:cubicBezTo>
                  <a:pt x="398348" y="211914"/>
                  <a:pt x="398453" y="151182"/>
                  <a:pt x="416119" y="91918"/>
                </a:cubicBezTo>
                <a:cubicBezTo>
                  <a:pt x="426458" y="57231"/>
                  <a:pt x="442107" y="25417"/>
                  <a:pt x="461688" y="0"/>
                </a:cubicBezTo>
                <a:lnTo>
                  <a:pt x="551488" y="0"/>
                </a:lnTo>
                <a:cubicBezTo>
                  <a:pt x="533139" y="19992"/>
                  <a:pt x="518838" y="47352"/>
                  <a:pt x="509518" y="78619"/>
                </a:cubicBezTo>
                <a:cubicBezTo>
                  <a:pt x="484720" y="161807"/>
                  <a:pt x="504569" y="241155"/>
                  <a:pt x="553850" y="255845"/>
                </a:cubicBezTo>
                <a:cubicBezTo>
                  <a:pt x="536363" y="211914"/>
                  <a:pt x="536468" y="151182"/>
                  <a:pt x="554134" y="91918"/>
                </a:cubicBezTo>
                <a:cubicBezTo>
                  <a:pt x="564473" y="57231"/>
                  <a:pt x="580122" y="25417"/>
                  <a:pt x="599703" y="0"/>
                </a:cubicBezTo>
                <a:lnTo>
                  <a:pt x="671045" y="0"/>
                </a:lnTo>
                <a:cubicBezTo>
                  <a:pt x="656870" y="18370"/>
                  <a:pt x="645856" y="41413"/>
                  <a:pt x="638202" y="67092"/>
                </a:cubicBezTo>
                <a:cubicBezTo>
                  <a:pt x="613404" y="150280"/>
                  <a:pt x="633253" y="229628"/>
                  <a:pt x="682534" y="244318"/>
                </a:cubicBezTo>
                <a:cubicBezTo>
                  <a:pt x="665047" y="200387"/>
                  <a:pt x="665152" y="139655"/>
                  <a:pt x="682818" y="80391"/>
                </a:cubicBezTo>
                <a:cubicBezTo>
                  <a:pt x="691616" y="50875"/>
                  <a:pt x="704259" y="23438"/>
                  <a:pt x="719555" y="0"/>
                </a:cubicBezTo>
                <a:lnTo>
                  <a:pt x="756084" y="0"/>
                </a:lnTo>
                <a:cubicBezTo>
                  <a:pt x="780542" y="0"/>
                  <a:pt x="804185" y="3484"/>
                  <a:pt x="826214" y="11123"/>
                </a:cubicBezTo>
                <a:lnTo>
                  <a:pt x="801973" y="67092"/>
                </a:lnTo>
                <a:cubicBezTo>
                  <a:pt x="777175" y="150280"/>
                  <a:pt x="797024" y="229628"/>
                  <a:pt x="846305" y="244318"/>
                </a:cubicBezTo>
                <a:cubicBezTo>
                  <a:pt x="828818" y="200387"/>
                  <a:pt x="828923" y="139655"/>
                  <a:pt x="846589" y="80391"/>
                </a:cubicBezTo>
                <a:cubicBezTo>
                  <a:pt x="852169" y="61669"/>
                  <a:pt x="859297" y="43784"/>
                  <a:pt x="870282" y="28543"/>
                </a:cubicBezTo>
                <a:cubicBezTo>
                  <a:pt x="952313" y="69297"/>
                  <a:pt x="1008112" y="154146"/>
                  <a:pt x="1008112" y="252028"/>
                </a:cubicBezTo>
                <a:lnTo>
                  <a:pt x="1008112" y="504056"/>
                </a:lnTo>
                <a:lnTo>
                  <a:pt x="0" y="504056"/>
                </a:lnTo>
                <a:lnTo>
                  <a:pt x="0" y="252028"/>
                </a:lnTo>
                <a:cubicBezTo>
                  <a:pt x="0" y="113682"/>
                  <a:pt x="111472" y="1371"/>
                  <a:pt x="249499" y="255"/>
                </a:cubicBezTo>
                <a:cubicBezTo>
                  <a:pt x="231237" y="20213"/>
                  <a:pt x="217014" y="47478"/>
                  <a:pt x="207731" y="78619"/>
                </a:cubicBezTo>
                <a:cubicBezTo>
                  <a:pt x="182934" y="161807"/>
                  <a:pt x="202782" y="241155"/>
                  <a:pt x="252063" y="255845"/>
                </a:cubicBezTo>
                <a:cubicBezTo>
                  <a:pt x="234576" y="211914"/>
                  <a:pt x="234681" y="151182"/>
                  <a:pt x="252347" y="91918"/>
                </a:cubicBezTo>
                <a:cubicBezTo>
                  <a:pt x="262687" y="57231"/>
                  <a:pt x="278336" y="25417"/>
                  <a:pt x="2979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8"/>
          <p:cNvSpPr/>
          <p:nvPr/>
        </p:nvSpPr>
        <p:spPr>
          <a:xfrm>
            <a:off x="5602680" y="27766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1:18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17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