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473-0559-40B0-98E1-6BF5BCBA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D7C-D1B2-4DA1-BD66-627A2C42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8A1-BAF6-425C-8A65-D3EEDDB9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08F-80BC-489F-BDE9-B140E2D7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0ED-36D7-4CC6-AA67-505D4439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5BC2-C48F-4BDC-8ABF-39AA55DE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4A38-3A9A-4ECF-9A4B-DB86B189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3E7A-2FDD-49BF-9DDD-413FA1E3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B76-6381-430E-9E80-B91A060A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F496-C8ED-4EAE-802A-3E68CD0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0685-8B91-4FA1-8DBB-0133833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C18-F222-42F8-916C-F56E34B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9891-5E9A-4575-A1EA-34881F4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7E3-4813-4991-951E-E3B09974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918C-46A6-4524-97C8-DE28807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96C-1CF3-49D8-B8EA-F3A0BD4F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109A-ECB6-469B-BC91-1FC79807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B391-E793-423A-BC67-70D17DB2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3798-749A-409F-99AD-ECF5941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4D1B-0796-4A03-9916-29465E7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0FB4-8DCB-4226-9EEE-45A51DF8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89DE-6884-4A12-B0E4-9C4CB1C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A7F-D220-4C14-9434-C9930481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B185-77F9-4139-B1AB-1DE60BD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2595-D38E-4746-A317-27E1B85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472F-5969-45C8-AB16-C844E28C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DEA7-64CF-4892-8102-9A575BB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9B84-BE40-4040-A966-79787166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C9AB-DFA4-41F1-9D66-BEDF03FC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032D-78CA-4A09-A7FC-8E45F288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0344-6D8D-434D-B1E5-7D7DC750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60BC-63BB-434B-ACEB-FBA8E1E6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DEDD-D5C6-4C2D-A216-8F3F8FCC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45C-7838-483B-986A-A9994555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C7ABD-E843-47F6-B508-DD8F2766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F9EB-4129-4EFB-BBAD-3B08C3D5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4ACF-64F3-457A-A9A2-E0BFDDA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7414-D719-4441-AEDC-A36DB0D7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FD3A-E241-4793-8720-CCADA56B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3FFA-DE6F-4B14-9721-580CD22B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7773-D0FB-4E23-A18E-0C0D129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5DDC-D7C9-4523-8623-47C8B08A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8E40-EE69-4BEB-92D3-592AFE88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E30D-F72F-4EA3-A298-4A6886D8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5D9-5BC7-466E-A759-46FFD719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7C12-61FC-4718-BC39-0560AF5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F8B93-3E3C-43BE-B6D3-5B3EBC5E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078E-AFD0-4799-AFE8-77A8893B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B5990-C7F4-4D68-B864-F41032EF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DF816-7552-4740-8EC5-4B1EEDF6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EE4F-24B9-4A32-B3D1-54BE7BD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CA99-1B64-41A5-9571-28B55F1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049F-79F9-4ED9-B0D3-04756535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4A51E-40AD-420E-A7EC-E327545F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8B29-C7C1-4D74-8A16-B4DC049D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63A-F490-4C5C-83DB-1B57606A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A878D-B2F0-46D7-B71E-4AB954AF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96D7C-AD6E-4573-A1F2-9D51B903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0D9F-079A-430B-ABBB-50DBEB7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FEA2-F41A-4ACA-8516-FF7983A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1807C-09E5-49CE-85B6-A178A4F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AD83-140B-4441-BF8D-8DAC2AB0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2ED7-B62F-4A94-9D91-E045BA54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4C3BC-493C-44AF-B949-39EAFDA3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D1C78-51F0-45B3-A71B-F0EC3E42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3CF00-1888-4D55-B3A2-ED9F0FB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AC2-568A-4944-ADAD-851D8968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3B45-3405-4648-AC34-5F0E202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748F-2A63-4D3A-8030-B500FC2D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C463-AD06-4562-9236-158983EC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49164-897D-4A29-A85F-E014631A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2C0EC-6DC5-47BD-BCAD-8AD22EEC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8BDBA-51D2-452F-8E0E-DC921D0D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71764-496D-4491-86CE-F1A5A8E9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8F73-2F7D-4FD0-9BE5-209699CB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DCD4-B066-4566-982A-D7FF6EF6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469C4-444A-4188-833D-2B18B57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A7F-1EEF-48AD-8E9C-C36BCBA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66F0-AFE6-4547-B40F-3C99FAD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E6C30-8510-4522-853B-64C29C2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3B9AD-CAF3-476D-A558-229D9D01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4E4B-C188-4FB0-AC39-264C7ED9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FE40-68AE-4960-BBE9-AAEA0192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128-FDF2-49CE-99C4-11B547E0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1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B5BD-523D-45BD-9C6A-69C136FB47C1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16FA-6C12-4612-A49C-97810DB2C2DC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​​ 14"/>
          <p:cNvSpPr/>
          <p:nvPr/>
        </p:nvSpPr>
        <p:spPr>
          <a:xfrm>
            <a:off x="3240" y="5950080"/>
            <a:ext cx="9140760" cy="907920"/>
          </a:xfrm>
          <a:prstGeom prst="rect">
            <a:avLst/>
          </a:prstGeom>
          <a:solidFill>
            <a:srgbClr val="9dc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050"/>
          <p:cNvGrpSpPr/>
          <p:nvPr/>
        </p:nvGrpSpPr>
        <p:grpSpPr>
          <a:xfrm>
            <a:off x="1065240" y="4584600"/>
            <a:ext cx="1125360" cy="1123920"/>
            <a:chOff x="1065240" y="4584600"/>
            <a:chExt cx="1125360" cy="1123920"/>
          </a:xfrm>
        </p:grpSpPr>
        <p:sp>
          <p:nvSpPr>
            <p:cNvPr id="48" name="椭圆​​ 26"/>
            <p:cNvSpPr/>
            <p:nvPr/>
          </p:nvSpPr>
          <p:spPr>
            <a:xfrm>
              <a:off x="1065240" y="4584600"/>
              <a:ext cx="1125360" cy="11239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​​ 27"/>
            <p:cNvSpPr/>
            <p:nvPr/>
          </p:nvSpPr>
          <p:spPr>
            <a:xfrm>
              <a:off x="1171440" y="4690800"/>
              <a:ext cx="893880" cy="89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53"/>
          <p:cNvGrpSpPr/>
          <p:nvPr/>
        </p:nvGrpSpPr>
        <p:grpSpPr>
          <a:xfrm>
            <a:off x="6348240" y="447840"/>
            <a:ext cx="581040" cy="581040"/>
            <a:chOff x="6348240" y="447840"/>
            <a:chExt cx="581040" cy="581040"/>
          </a:xfrm>
        </p:grpSpPr>
        <p:sp>
          <p:nvSpPr>
            <p:cNvPr id="51" name="椭圆​​ 29"/>
            <p:cNvSpPr/>
            <p:nvPr/>
          </p:nvSpPr>
          <p:spPr>
            <a:xfrm>
              <a:off x="6348240" y="447840"/>
              <a:ext cx="581040" cy="58104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​​ 30"/>
            <p:cNvSpPr/>
            <p:nvPr/>
          </p:nvSpPr>
          <p:spPr>
            <a:xfrm>
              <a:off x="6402240" y="501840"/>
              <a:ext cx="46224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056"/>
          <p:cNvGrpSpPr/>
          <p:nvPr/>
        </p:nvGrpSpPr>
        <p:grpSpPr>
          <a:xfrm>
            <a:off x="5794200" y="725400"/>
            <a:ext cx="1076400" cy="1077840"/>
            <a:chOff x="5794200" y="725400"/>
            <a:chExt cx="1076400" cy="1077840"/>
          </a:xfrm>
        </p:grpSpPr>
        <p:sp>
          <p:nvSpPr>
            <p:cNvPr id="54" name="椭圆​​ 16"/>
            <p:cNvSpPr/>
            <p:nvPr/>
          </p:nvSpPr>
          <p:spPr>
            <a:xfrm>
              <a:off x="5794200" y="725400"/>
              <a:ext cx="1076400" cy="10778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​​ 17"/>
            <p:cNvSpPr/>
            <p:nvPr/>
          </p:nvSpPr>
          <p:spPr>
            <a:xfrm>
              <a:off x="5895720" y="826920"/>
              <a:ext cx="854280" cy="85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059"/>
          <p:cNvGrpSpPr/>
          <p:nvPr/>
        </p:nvGrpSpPr>
        <p:grpSpPr>
          <a:xfrm>
            <a:off x="6500880" y="568440"/>
            <a:ext cx="1454040" cy="1454040"/>
            <a:chOff x="6500880" y="568440"/>
            <a:chExt cx="1454040" cy="1454040"/>
          </a:xfrm>
        </p:grpSpPr>
        <p:sp>
          <p:nvSpPr>
            <p:cNvPr id="57" name="椭圆​​ 20"/>
            <p:cNvSpPr/>
            <p:nvPr/>
          </p:nvSpPr>
          <p:spPr>
            <a:xfrm>
              <a:off x="6500880" y="568440"/>
              <a:ext cx="1454040" cy="14540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​​ 21"/>
            <p:cNvSpPr/>
            <p:nvPr/>
          </p:nvSpPr>
          <p:spPr>
            <a:xfrm>
              <a:off x="6637320" y="704880"/>
              <a:ext cx="1155600" cy="1155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​​ 12"/>
          <p:cNvSpPr/>
          <p:nvPr/>
        </p:nvSpPr>
        <p:spPr>
          <a:xfrm>
            <a:off x="781200" y="1295280"/>
            <a:ext cx="7561080" cy="3748320"/>
          </a:xfrm>
          <a:prstGeom prst="rect">
            <a:avLst/>
          </a:prstGeom>
          <a:solidFill>
            <a:srgbClr val="ffffff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​​ 15"/>
          <p:cNvSpPr/>
          <p:nvPr/>
        </p:nvSpPr>
        <p:spPr>
          <a:xfrm>
            <a:off x="4284720" y="4862520"/>
            <a:ext cx="3887640" cy="360360"/>
          </a:xfrm>
          <a:prstGeom prst="rect">
            <a:avLst/>
          </a:prstGeom>
          <a:solidFill>
            <a:srgbClr val="1cd0ff"/>
          </a:solidFill>
          <a:ln w="25560">
            <a:solidFill>
              <a:srgbClr val="1c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2064"/>
          <p:cNvGrpSpPr/>
          <p:nvPr/>
        </p:nvGrpSpPr>
        <p:grpSpPr>
          <a:xfrm>
            <a:off x="2847960" y="447840"/>
            <a:ext cx="244440" cy="244440"/>
            <a:chOff x="2847960" y="447840"/>
            <a:chExt cx="244440" cy="244440"/>
          </a:xfrm>
        </p:grpSpPr>
        <p:sp>
          <p:nvSpPr>
            <p:cNvPr id="62" name="椭圆​​ 40"/>
            <p:cNvSpPr/>
            <p:nvPr/>
          </p:nvSpPr>
          <p:spPr>
            <a:xfrm>
              <a:off x="2847960" y="447840"/>
              <a:ext cx="244440" cy="24444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​​ 41"/>
            <p:cNvSpPr/>
            <p:nvPr/>
          </p:nvSpPr>
          <p:spPr>
            <a:xfrm>
              <a:off x="2869920" y="469800"/>
              <a:ext cx="195480" cy="19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​​ 13"/>
          <p:cNvSpPr/>
          <p:nvPr/>
        </p:nvSpPr>
        <p:spPr>
          <a:xfrm>
            <a:off x="996840" y="1197000"/>
            <a:ext cx="4438800" cy="36036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5369-99EF-49AA-919C-8C2C7ABF92DA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ADD7-0B26-4F31-892D-7A71139DA6BF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3073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107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078"/>
          <p:cNvGrpSpPr/>
          <p:nvPr/>
        </p:nvGrpSpPr>
        <p:grpSpPr>
          <a:xfrm>
            <a:off x="571680" y="407880"/>
            <a:ext cx="477720" cy="478080"/>
            <a:chOff x="571680" y="407880"/>
            <a:chExt cx="477720" cy="478080"/>
          </a:xfrm>
        </p:grpSpPr>
        <p:sp>
          <p:nvSpPr>
            <p:cNvPr id="112" name="椭圆​​ 29"/>
            <p:cNvSpPr/>
            <p:nvPr/>
          </p:nvSpPr>
          <p:spPr>
            <a:xfrm>
              <a:off x="571680" y="407880"/>
              <a:ext cx="477720" cy="47808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​​ 30"/>
            <p:cNvSpPr/>
            <p:nvPr/>
          </p:nvSpPr>
          <p:spPr>
            <a:xfrm>
              <a:off x="615960" y="452160"/>
              <a:ext cx="379440" cy="37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3081"/>
          <p:cNvGrpSpPr/>
          <p:nvPr/>
        </p:nvGrpSpPr>
        <p:grpSpPr>
          <a:xfrm>
            <a:off x="152280" y="692280"/>
            <a:ext cx="885960" cy="887400"/>
            <a:chOff x="152280" y="692280"/>
            <a:chExt cx="885960" cy="887400"/>
          </a:xfrm>
        </p:grpSpPr>
        <p:sp>
          <p:nvSpPr>
            <p:cNvPr id="115" name="椭圆​​ 16"/>
            <p:cNvSpPr/>
            <p:nvPr/>
          </p:nvSpPr>
          <p:spPr>
            <a:xfrm>
              <a:off x="152280" y="692280"/>
              <a:ext cx="885960" cy="8874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​​ 17"/>
            <p:cNvSpPr/>
            <p:nvPr/>
          </p:nvSpPr>
          <p:spPr>
            <a:xfrm>
              <a:off x="236160" y="776160"/>
              <a:ext cx="702000" cy="70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3084"/>
          <p:cNvGrpSpPr/>
          <p:nvPr/>
        </p:nvGrpSpPr>
        <p:grpSpPr>
          <a:xfrm>
            <a:off x="723960" y="498600"/>
            <a:ext cx="1197000" cy="1197000"/>
            <a:chOff x="723960" y="498600"/>
            <a:chExt cx="1197000" cy="1197000"/>
          </a:xfrm>
        </p:grpSpPr>
        <p:sp>
          <p:nvSpPr>
            <p:cNvPr id="118" name="椭圆​​ 20"/>
            <p:cNvSpPr/>
            <p:nvPr/>
          </p:nvSpPr>
          <p:spPr>
            <a:xfrm>
              <a:off x="723960" y="498600"/>
              <a:ext cx="1197000" cy="119700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​​ 21"/>
            <p:cNvSpPr/>
            <p:nvPr/>
          </p:nvSpPr>
          <p:spPr>
            <a:xfrm>
              <a:off x="836640" y="611280"/>
              <a:ext cx="951120" cy="9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7E3C-43E9-4012-BA51-69BE84E9A92A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79F-C185-4122-ABBB-C10D18690E08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4097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162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102"/>
          <p:cNvGrpSpPr/>
          <p:nvPr/>
        </p:nvGrpSpPr>
        <p:grpSpPr>
          <a:xfrm>
            <a:off x="138240" y="115920"/>
            <a:ext cx="1569600" cy="1647720"/>
            <a:chOff x="138240" y="115920"/>
            <a:chExt cx="1569600" cy="1647720"/>
          </a:xfrm>
        </p:grpSpPr>
        <p:sp>
          <p:nvSpPr>
            <p:cNvPr id="167" name="圆角矩形​​ 2"/>
            <p:cNvSpPr/>
            <p:nvPr/>
          </p:nvSpPr>
          <p:spPr>
            <a:xfrm rot="21283200">
              <a:off x="179280" y="735120"/>
              <a:ext cx="1487520" cy="9619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​​ 11"/>
            <p:cNvSpPr/>
            <p:nvPr/>
          </p:nvSpPr>
          <p:spPr>
            <a:xfrm flipV="1">
              <a:off x="401400" y="212400"/>
              <a:ext cx="608040" cy="59220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​​ 13"/>
            <p:cNvSpPr/>
            <p:nvPr/>
          </p:nvSpPr>
          <p:spPr>
            <a:xfrm>
              <a:off x="1179360" y="212760"/>
              <a:ext cx="231480" cy="48744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​​ 4"/>
            <p:cNvSpPr/>
            <p:nvPr/>
          </p:nvSpPr>
          <p:spPr>
            <a:xfrm>
              <a:off x="1009800" y="115920"/>
              <a:ext cx="169560" cy="19188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组合 4107"/>
            <p:cNvGrpSpPr/>
            <p:nvPr/>
          </p:nvGrpSpPr>
          <p:grpSpPr>
            <a:xfrm>
              <a:off x="1042560" y="152280"/>
              <a:ext cx="109440" cy="127800"/>
              <a:chOff x="1042560" y="152280"/>
              <a:chExt cx="109440" cy="127800"/>
            </a:xfrm>
          </p:grpSpPr>
          <p:pic>
            <p:nvPicPr>
              <p:cNvPr id="172" name="椭圆​​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560" y="152280"/>
                <a:ext cx="109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文本框 4109"/>
              <p:cNvSpPr/>
              <p:nvPr/>
            </p:nvSpPr>
            <p:spPr>
              <a:xfrm>
                <a:off x="1059840" y="172440"/>
                <a:ext cx="6876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同侧圆角矩形 11"/>
            <p:cNvSpPr/>
            <p:nvPr/>
          </p:nvSpPr>
          <p:spPr>
            <a:xfrm rot="21294600">
              <a:off x="158760" y="740880"/>
              <a:ext cx="1481400" cy="466560"/>
            </a:xfrm>
            <a:custGeom>
              <a:avLst/>
              <a:gdLst/>
              <a:ahLst/>
              <a:rect l="l" t="t" r="r" b="b"/>
              <a:pathLst>
                <a:path w="2853993" h="792139">
                  <a:moveTo>
                    <a:pt x="132026" y="0"/>
                  </a:moveTo>
                  <a:lnTo>
                    <a:pt x="2721967" y="0"/>
                  </a:lnTo>
                  <a:cubicBezTo>
                    <a:pt x="2794883" y="0"/>
                    <a:pt x="2853993" y="59110"/>
                    <a:pt x="2853993" y="132026"/>
                  </a:cubicBezTo>
                  <a:lnTo>
                    <a:pt x="2853993" y="792139"/>
                  </a:lnTo>
                  <a:lnTo>
                    <a:pt x="0" y="792139"/>
                  </a:lnTo>
                  <a:lnTo>
                    <a:pt x="0" y="132026"/>
                  </a:lnTo>
                  <a:cubicBezTo>
                    <a:pt x="0" y="59110"/>
                    <a:pt x="59110" y="0"/>
                    <a:pt x="132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​​ 3"/>
            <p:cNvSpPr/>
            <p:nvPr/>
          </p:nvSpPr>
          <p:spPr>
            <a:xfrm rot="21283200">
              <a:off x="245880" y="828720"/>
              <a:ext cx="1360440" cy="793800"/>
            </a:xfrm>
            <a:prstGeom prst="roundRect">
              <a:avLst>
                <a:gd name="adj" fmla="val 7417"/>
              </a:avLst>
            </a:prstGeom>
            <a:solidFill>
              <a:srgbClr val="57d3ff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4112"/>
            <p:cNvGrpSpPr/>
            <p:nvPr/>
          </p:nvGrpSpPr>
          <p:grpSpPr>
            <a:xfrm>
              <a:off x="365760" y="798480"/>
              <a:ext cx="79200" cy="85320"/>
              <a:chOff x="365760" y="798480"/>
              <a:chExt cx="79200" cy="85320"/>
            </a:xfrm>
          </p:grpSpPr>
          <p:pic>
            <p:nvPicPr>
              <p:cNvPr id="177" name="椭圆​​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" y="798480"/>
                <a:ext cx="79200" cy="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文本框 4114"/>
              <p:cNvSpPr/>
              <p:nvPr/>
            </p:nvSpPr>
            <p:spPr>
              <a:xfrm rot="21283200">
                <a:off x="382320" y="81540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4115"/>
            <p:cNvGrpSpPr/>
            <p:nvPr/>
          </p:nvGrpSpPr>
          <p:grpSpPr>
            <a:xfrm>
              <a:off x="1371600" y="688680"/>
              <a:ext cx="85320" cy="91440"/>
              <a:chOff x="1371600" y="688680"/>
              <a:chExt cx="85320" cy="91440"/>
            </a:xfrm>
          </p:grpSpPr>
          <p:pic>
            <p:nvPicPr>
              <p:cNvPr id="180" name="椭圆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688680"/>
                <a:ext cx="8532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文本框 4117"/>
              <p:cNvSpPr/>
              <p:nvPr/>
            </p:nvSpPr>
            <p:spPr>
              <a:xfrm rot="21283200">
                <a:off x="1392120" y="70956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组合 4118"/>
          <p:cNvGrpSpPr/>
          <p:nvPr/>
        </p:nvGrpSpPr>
        <p:grpSpPr>
          <a:xfrm>
            <a:off x="7956720" y="5300640"/>
            <a:ext cx="652320" cy="654120"/>
            <a:chOff x="7956720" y="5300640"/>
            <a:chExt cx="652320" cy="654120"/>
          </a:xfrm>
        </p:grpSpPr>
        <p:sp>
          <p:nvSpPr>
            <p:cNvPr id="183" name="椭圆​​ 16"/>
            <p:cNvSpPr/>
            <p:nvPr/>
          </p:nvSpPr>
          <p:spPr>
            <a:xfrm>
              <a:off x="7956720" y="5300640"/>
              <a:ext cx="652320" cy="65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​​ 17"/>
            <p:cNvSpPr/>
            <p:nvPr/>
          </p:nvSpPr>
          <p:spPr>
            <a:xfrm>
              <a:off x="8018640" y="5362560"/>
              <a:ext cx="517680" cy="51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4121"/>
          <p:cNvGrpSpPr/>
          <p:nvPr/>
        </p:nvGrpSpPr>
        <p:grpSpPr>
          <a:xfrm>
            <a:off x="8277120" y="4867200"/>
            <a:ext cx="831960" cy="865440"/>
            <a:chOff x="8277120" y="4867200"/>
            <a:chExt cx="831960" cy="865440"/>
          </a:xfrm>
        </p:grpSpPr>
        <p:sp>
          <p:nvSpPr>
            <p:cNvPr id="186" name="椭圆​​ 20"/>
            <p:cNvSpPr/>
            <p:nvPr/>
          </p:nvSpPr>
          <p:spPr>
            <a:xfrm>
              <a:off x="8277120" y="4867200"/>
              <a:ext cx="831960" cy="8654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​​ 21"/>
            <p:cNvSpPr/>
            <p:nvPr/>
          </p:nvSpPr>
          <p:spPr>
            <a:xfrm>
              <a:off x="8354880" y="4948200"/>
              <a:ext cx="662040" cy="68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4124"/>
          <p:cNvGrpSpPr/>
          <p:nvPr/>
        </p:nvGrpSpPr>
        <p:grpSpPr>
          <a:xfrm>
            <a:off x="7607160" y="4869000"/>
            <a:ext cx="493920" cy="492120"/>
            <a:chOff x="7607160" y="4869000"/>
            <a:chExt cx="493920" cy="492120"/>
          </a:xfrm>
        </p:grpSpPr>
        <p:sp>
          <p:nvSpPr>
            <p:cNvPr id="189" name="椭圆​​ 29"/>
            <p:cNvSpPr/>
            <p:nvPr/>
          </p:nvSpPr>
          <p:spPr>
            <a:xfrm>
              <a:off x="7607160" y="4869000"/>
              <a:ext cx="493920" cy="4921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​​ 30"/>
            <p:cNvSpPr/>
            <p:nvPr/>
          </p:nvSpPr>
          <p:spPr>
            <a:xfrm>
              <a:off x="7653240" y="4914720"/>
              <a:ext cx="392400" cy="39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A4A9-F415-4D81-86FC-C0E925BA5D56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4E4-347B-4DCF-9C1D-D45DB36A73D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5121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233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126"/>
          <p:cNvGrpSpPr/>
          <p:nvPr/>
        </p:nvGrpSpPr>
        <p:grpSpPr>
          <a:xfrm>
            <a:off x="138240" y="115920"/>
            <a:ext cx="1569600" cy="1647720"/>
            <a:chOff x="138240" y="115920"/>
            <a:chExt cx="1569600" cy="1647720"/>
          </a:xfrm>
        </p:grpSpPr>
        <p:sp>
          <p:nvSpPr>
            <p:cNvPr id="238" name="圆角矩形​​ 2"/>
            <p:cNvSpPr/>
            <p:nvPr/>
          </p:nvSpPr>
          <p:spPr>
            <a:xfrm rot="21283200">
              <a:off x="179280" y="735120"/>
              <a:ext cx="1487520" cy="9619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​​ 11"/>
            <p:cNvSpPr/>
            <p:nvPr/>
          </p:nvSpPr>
          <p:spPr>
            <a:xfrm flipV="1">
              <a:off x="401400" y="212400"/>
              <a:ext cx="608040" cy="59220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​​ 13"/>
            <p:cNvSpPr/>
            <p:nvPr/>
          </p:nvSpPr>
          <p:spPr>
            <a:xfrm>
              <a:off x="1179360" y="212760"/>
              <a:ext cx="231480" cy="48744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​​ 4"/>
            <p:cNvSpPr/>
            <p:nvPr/>
          </p:nvSpPr>
          <p:spPr>
            <a:xfrm>
              <a:off x="1009800" y="115920"/>
              <a:ext cx="169560" cy="19188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5131"/>
            <p:cNvGrpSpPr/>
            <p:nvPr/>
          </p:nvGrpSpPr>
          <p:grpSpPr>
            <a:xfrm>
              <a:off x="1042560" y="152280"/>
              <a:ext cx="109440" cy="127800"/>
              <a:chOff x="1042560" y="152280"/>
              <a:chExt cx="109440" cy="127800"/>
            </a:xfrm>
          </p:grpSpPr>
          <p:pic>
            <p:nvPicPr>
              <p:cNvPr id="243" name="椭圆​​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560" y="152280"/>
                <a:ext cx="109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文本框 5133"/>
              <p:cNvSpPr/>
              <p:nvPr/>
            </p:nvSpPr>
            <p:spPr>
              <a:xfrm>
                <a:off x="1059840" y="172440"/>
                <a:ext cx="6876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同侧圆角矩形 11"/>
            <p:cNvSpPr/>
            <p:nvPr/>
          </p:nvSpPr>
          <p:spPr>
            <a:xfrm rot="21294600">
              <a:off x="158760" y="740880"/>
              <a:ext cx="1481400" cy="466560"/>
            </a:xfrm>
            <a:custGeom>
              <a:avLst/>
              <a:gdLst/>
              <a:ahLst/>
              <a:rect l="l" t="t" r="r" b="b"/>
              <a:pathLst>
                <a:path w="2853993" h="792139">
                  <a:moveTo>
                    <a:pt x="132026" y="0"/>
                  </a:moveTo>
                  <a:lnTo>
                    <a:pt x="2721967" y="0"/>
                  </a:lnTo>
                  <a:cubicBezTo>
                    <a:pt x="2794883" y="0"/>
                    <a:pt x="2853993" y="59110"/>
                    <a:pt x="2853993" y="132026"/>
                  </a:cubicBezTo>
                  <a:lnTo>
                    <a:pt x="2853993" y="792139"/>
                  </a:lnTo>
                  <a:lnTo>
                    <a:pt x="0" y="792139"/>
                  </a:lnTo>
                  <a:lnTo>
                    <a:pt x="0" y="132026"/>
                  </a:lnTo>
                  <a:cubicBezTo>
                    <a:pt x="0" y="59110"/>
                    <a:pt x="59110" y="0"/>
                    <a:pt x="132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角矩形​​ 3"/>
            <p:cNvSpPr/>
            <p:nvPr/>
          </p:nvSpPr>
          <p:spPr>
            <a:xfrm rot="21283200">
              <a:off x="245880" y="828720"/>
              <a:ext cx="1360440" cy="793800"/>
            </a:xfrm>
            <a:prstGeom prst="roundRect">
              <a:avLst>
                <a:gd name="adj" fmla="val 7417"/>
              </a:avLst>
            </a:prstGeom>
            <a:solidFill>
              <a:srgbClr val="9dcf65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组合 5136"/>
            <p:cNvGrpSpPr/>
            <p:nvPr/>
          </p:nvGrpSpPr>
          <p:grpSpPr>
            <a:xfrm>
              <a:off x="365760" y="798480"/>
              <a:ext cx="79200" cy="85320"/>
              <a:chOff x="365760" y="798480"/>
              <a:chExt cx="79200" cy="85320"/>
            </a:xfrm>
          </p:grpSpPr>
          <p:pic>
            <p:nvPicPr>
              <p:cNvPr id="248" name="椭圆​​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" y="798480"/>
                <a:ext cx="79200" cy="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文本框 5138"/>
              <p:cNvSpPr/>
              <p:nvPr/>
            </p:nvSpPr>
            <p:spPr>
              <a:xfrm rot="21283200">
                <a:off x="382320" y="81540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组合 5139"/>
            <p:cNvGrpSpPr/>
            <p:nvPr/>
          </p:nvGrpSpPr>
          <p:grpSpPr>
            <a:xfrm>
              <a:off x="1371600" y="688680"/>
              <a:ext cx="85320" cy="91440"/>
              <a:chOff x="1371600" y="688680"/>
              <a:chExt cx="85320" cy="91440"/>
            </a:xfrm>
          </p:grpSpPr>
          <p:pic>
            <p:nvPicPr>
              <p:cNvPr id="251" name="椭圆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688680"/>
                <a:ext cx="8532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文本框 5141"/>
              <p:cNvSpPr/>
              <p:nvPr/>
            </p:nvSpPr>
            <p:spPr>
              <a:xfrm rot="21283200">
                <a:off x="1392120" y="70956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合 5142"/>
          <p:cNvGrpSpPr/>
          <p:nvPr/>
        </p:nvGrpSpPr>
        <p:grpSpPr>
          <a:xfrm>
            <a:off x="7956720" y="5300640"/>
            <a:ext cx="652320" cy="654120"/>
            <a:chOff x="7956720" y="5300640"/>
            <a:chExt cx="652320" cy="654120"/>
          </a:xfrm>
        </p:grpSpPr>
        <p:sp>
          <p:nvSpPr>
            <p:cNvPr id="254" name="椭圆​​ 16"/>
            <p:cNvSpPr/>
            <p:nvPr/>
          </p:nvSpPr>
          <p:spPr>
            <a:xfrm>
              <a:off x="7956720" y="5300640"/>
              <a:ext cx="652320" cy="65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​​ 17"/>
            <p:cNvSpPr/>
            <p:nvPr/>
          </p:nvSpPr>
          <p:spPr>
            <a:xfrm>
              <a:off x="8018640" y="5362560"/>
              <a:ext cx="517680" cy="51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145"/>
          <p:cNvGrpSpPr/>
          <p:nvPr/>
        </p:nvGrpSpPr>
        <p:grpSpPr>
          <a:xfrm>
            <a:off x="8277120" y="4867200"/>
            <a:ext cx="831960" cy="865440"/>
            <a:chOff x="8277120" y="4867200"/>
            <a:chExt cx="831960" cy="865440"/>
          </a:xfrm>
        </p:grpSpPr>
        <p:sp>
          <p:nvSpPr>
            <p:cNvPr id="257" name="椭圆​​ 20"/>
            <p:cNvSpPr/>
            <p:nvPr/>
          </p:nvSpPr>
          <p:spPr>
            <a:xfrm>
              <a:off x="8277120" y="4867200"/>
              <a:ext cx="831960" cy="8654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​​ 21"/>
            <p:cNvSpPr/>
            <p:nvPr/>
          </p:nvSpPr>
          <p:spPr>
            <a:xfrm>
              <a:off x="8354880" y="4948200"/>
              <a:ext cx="662040" cy="68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5148"/>
          <p:cNvGrpSpPr/>
          <p:nvPr/>
        </p:nvGrpSpPr>
        <p:grpSpPr>
          <a:xfrm>
            <a:off x="7607160" y="4869000"/>
            <a:ext cx="493920" cy="492120"/>
            <a:chOff x="7607160" y="4869000"/>
            <a:chExt cx="493920" cy="492120"/>
          </a:xfrm>
        </p:grpSpPr>
        <p:sp>
          <p:nvSpPr>
            <p:cNvPr id="260" name="椭圆​​ 29"/>
            <p:cNvSpPr/>
            <p:nvPr/>
          </p:nvSpPr>
          <p:spPr>
            <a:xfrm>
              <a:off x="7607160" y="4869000"/>
              <a:ext cx="493920" cy="4921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​​ 30"/>
            <p:cNvSpPr/>
            <p:nvPr/>
          </p:nvSpPr>
          <p:spPr>
            <a:xfrm>
              <a:off x="7653240" y="4914720"/>
              <a:ext cx="392400" cy="39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9743-6DE6-4FB3-AD4A-BCF6EF4FD879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15A3-0B16-4703-89D2-EC54EDF5C37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6145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304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6150"/>
          <p:cNvGrpSpPr/>
          <p:nvPr/>
        </p:nvGrpSpPr>
        <p:grpSpPr>
          <a:xfrm>
            <a:off x="138240" y="115920"/>
            <a:ext cx="1569600" cy="1647720"/>
            <a:chOff x="138240" y="115920"/>
            <a:chExt cx="1569600" cy="1647720"/>
          </a:xfrm>
        </p:grpSpPr>
        <p:sp>
          <p:nvSpPr>
            <p:cNvPr id="309" name="圆角矩形​​ 2"/>
            <p:cNvSpPr/>
            <p:nvPr/>
          </p:nvSpPr>
          <p:spPr>
            <a:xfrm rot="21283200">
              <a:off x="179280" y="735120"/>
              <a:ext cx="1487520" cy="9619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​​ 11"/>
            <p:cNvSpPr/>
            <p:nvPr/>
          </p:nvSpPr>
          <p:spPr>
            <a:xfrm flipV="1">
              <a:off x="401400" y="212400"/>
              <a:ext cx="608040" cy="59220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​​ 13"/>
            <p:cNvSpPr/>
            <p:nvPr/>
          </p:nvSpPr>
          <p:spPr>
            <a:xfrm>
              <a:off x="1179360" y="212760"/>
              <a:ext cx="231480" cy="48744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​​ 4"/>
            <p:cNvSpPr/>
            <p:nvPr/>
          </p:nvSpPr>
          <p:spPr>
            <a:xfrm>
              <a:off x="1009800" y="115920"/>
              <a:ext cx="169560" cy="19188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组合 6155"/>
            <p:cNvGrpSpPr/>
            <p:nvPr/>
          </p:nvGrpSpPr>
          <p:grpSpPr>
            <a:xfrm>
              <a:off x="1042560" y="152280"/>
              <a:ext cx="109440" cy="127800"/>
              <a:chOff x="1042560" y="152280"/>
              <a:chExt cx="109440" cy="127800"/>
            </a:xfrm>
          </p:grpSpPr>
          <p:pic>
            <p:nvPicPr>
              <p:cNvPr id="314" name="椭圆​​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560" y="152280"/>
                <a:ext cx="109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文本框 6157"/>
              <p:cNvSpPr/>
              <p:nvPr/>
            </p:nvSpPr>
            <p:spPr>
              <a:xfrm>
                <a:off x="1059840" y="172440"/>
                <a:ext cx="6876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同侧圆角矩形 11"/>
            <p:cNvSpPr/>
            <p:nvPr/>
          </p:nvSpPr>
          <p:spPr>
            <a:xfrm rot="21294600">
              <a:off x="158760" y="740880"/>
              <a:ext cx="1481400" cy="466560"/>
            </a:xfrm>
            <a:custGeom>
              <a:avLst/>
              <a:gdLst/>
              <a:ahLst/>
              <a:rect l="l" t="t" r="r" b="b"/>
              <a:pathLst>
                <a:path w="2853993" h="792139">
                  <a:moveTo>
                    <a:pt x="132026" y="0"/>
                  </a:moveTo>
                  <a:lnTo>
                    <a:pt x="2721967" y="0"/>
                  </a:lnTo>
                  <a:cubicBezTo>
                    <a:pt x="2794883" y="0"/>
                    <a:pt x="2853993" y="59110"/>
                    <a:pt x="2853993" y="132026"/>
                  </a:cubicBezTo>
                  <a:lnTo>
                    <a:pt x="2853993" y="792139"/>
                  </a:lnTo>
                  <a:lnTo>
                    <a:pt x="0" y="792139"/>
                  </a:lnTo>
                  <a:lnTo>
                    <a:pt x="0" y="132026"/>
                  </a:lnTo>
                  <a:cubicBezTo>
                    <a:pt x="0" y="59110"/>
                    <a:pt x="59110" y="0"/>
                    <a:pt x="132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​​ 3"/>
            <p:cNvSpPr/>
            <p:nvPr/>
          </p:nvSpPr>
          <p:spPr>
            <a:xfrm rot="21283200">
              <a:off x="245880" y="828720"/>
              <a:ext cx="1360440" cy="793800"/>
            </a:xfrm>
            <a:prstGeom prst="roundRect">
              <a:avLst>
                <a:gd name="adj" fmla="val 7417"/>
              </a:avLst>
            </a:prstGeom>
            <a:solidFill>
              <a:srgbClr val="ffc000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组合 6160"/>
            <p:cNvGrpSpPr/>
            <p:nvPr/>
          </p:nvGrpSpPr>
          <p:grpSpPr>
            <a:xfrm>
              <a:off x="365760" y="798480"/>
              <a:ext cx="79200" cy="85320"/>
              <a:chOff x="365760" y="798480"/>
              <a:chExt cx="79200" cy="85320"/>
            </a:xfrm>
          </p:grpSpPr>
          <p:pic>
            <p:nvPicPr>
              <p:cNvPr id="319" name="椭圆​​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" y="798480"/>
                <a:ext cx="79200" cy="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文本框 6162"/>
              <p:cNvSpPr/>
              <p:nvPr/>
            </p:nvSpPr>
            <p:spPr>
              <a:xfrm rot="21283200">
                <a:off x="382320" y="81540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组合 6163"/>
            <p:cNvGrpSpPr/>
            <p:nvPr/>
          </p:nvGrpSpPr>
          <p:grpSpPr>
            <a:xfrm>
              <a:off x="1371600" y="688680"/>
              <a:ext cx="85320" cy="91440"/>
              <a:chOff x="1371600" y="688680"/>
              <a:chExt cx="85320" cy="91440"/>
            </a:xfrm>
          </p:grpSpPr>
          <p:pic>
            <p:nvPicPr>
              <p:cNvPr id="322" name="椭圆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688680"/>
                <a:ext cx="8532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文本框 6165"/>
              <p:cNvSpPr/>
              <p:nvPr/>
            </p:nvSpPr>
            <p:spPr>
              <a:xfrm rot="21283200">
                <a:off x="1392120" y="70956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组合 6166"/>
          <p:cNvGrpSpPr/>
          <p:nvPr/>
        </p:nvGrpSpPr>
        <p:grpSpPr>
          <a:xfrm>
            <a:off x="7956720" y="5300640"/>
            <a:ext cx="652320" cy="654120"/>
            <a:chOff x="7956720" y="5300640"/>
            <a:chExt cx="652320" cy="654120"/>
          </a:xfrm>
        </p:grpSpPr>
        <p:sp>
          <p:nvSpPr>
            <p:cNvPr id="325" name="椭圆​​ 16"/>
            <p:cNvSpPr/>
            <p:nvPr/>
          </p:nvSpPr>
          <p:spPr>
            <a:xfrm>
              <a:off x="7956720" y="5300640"/>
              <a:ext cx="652320" cy="65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​​ 17"/>
            <p:cNvSpPr/>
            <p:nvPr/>
          </p:nvSpPr>
          <p:spPr>
            <a:xfrm>
              <a:off x="8018640" y="5362560"/>
              <a:ext cx="517680" cy="51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6169"/>
          <p:cNvGrpSpPr/>
          <p:nvPr/>
        </p:nvGrpSpPr>
        <p:grpSpPr>
          <a:xfrm>
            <a:off x="8277120" y="4867200"/>
            <a:ext cx="831960" cy="865440"/>
            <a:chOff x="8277120" y="4867200"/>
            <a:chExt cx="831960" cy="865440"/>
          </a:xfrm>
        </p:grpSpPr>
        <p:sp>
          <p:nvSpPr>
            <p:cNvPr id="328" name="椭圆​​ 20"/>
            <p:cNvSpPr/>
            <p:nvPr/>
          </p:nvSpPr>
          <p:spPr>
            <a:xfrm>
              <a:off x="8277120" y="4867200"/>
              <a:ext cx="831960" cy="8654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​​ 21"/>
            <p:cNvSpPr/>
            <p:nvPr/>
          </p:nvSpPr>
          <p:spPr>
            <a:xfrm>
              <a:off x="8354880" y="4948200"/>
              <a:ext cx="662040" cy="68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172"/>
          <p:cNvGrpSpPr/>
          <p:nvPr/>
        </p:nvGrpSpPr>
        <p:grpSpPr>
          <a:xfrm>
            <a:off x="7607160" y="4869000"/>
            <a:ext cx="493920" cy="492120"/>
            <a:chOff x="7607160" y="4869000"/>
            <a:chExt cx="493920" cy="492120"/>
          </a:xfrm>
        </p:grpSpPr>
        <p:sp>
          <p:nvSpPr>
            <p:cNvPr id="331" name="椭圆​​ 29"/>
            <p:cNvSpPr/>
            <p:nvPr/>
          </p:nvSpPr>
          <p:spPr>
            <a:xfrm>
              <a:off x="7607160" y="4869000"/>
              <a:ext cx="493920" cy="4921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​​ 30"/>
            <p:cNvSpPr/>
            <p:nvPr/>
          </p:nvSpPr>
          <p:spPr>
            <a:xfrm>
              <a:off x="7653240" y="4914720"/>
              <a:ext cx="392400" cy="39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DB35-EEF5-4A25-9BD6-599E88632A33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256D-1D33-4983-B23A-C14D867D4702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F622-DA49-4E15-BDDF-959DB4C17BF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D86E-670D-4BEF-A179-3DFDA3575B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6560" y="2205000"/>
            <a:ext cx="7393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71560" y="41814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"/>
          <p:cNvSpPr/>
          <p:nvPr/>
        </p:nvSpPr>
        <p:spPr>
          <a:xfrm>
            <a:off x="868320" y="2349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工作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560" y="917280"/>
            <a:ext cx="1754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560" y="917280"/>
            <a:ext cx="1754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560" y="917280"/>
            <a:ext cx="1754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84D-5CCA-4B16-84C4-E69590E981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13313"/>
          <p:cNvGrpSpPr/>
          <p:nvPr/>
        </p:nvGrpSpPr>
        <p:grpSpPr>
          <a:xfrm>
            <a:off x="7345440" y="4127400"/>
            <a:ext cx="884160" cy="885960"/>
            <a:chOff x="7345440" y="4127400"/>
            <a:chExt cx="884160" cy="885960"/>
          </a:xfrm>
        </p:grpSpPr>
        <p:sp>
          <p:nvSpPr>
            <p:cNvPr id="440" name="椭圆​​ 16"/>
            <p:cNvSpPr/>
            <p:nvPr/>
          </p:nvSpPr>
          <p:spPr>
            <a:xfrm>
              <a:off x="7345440" y="4127400"/>
              <a:ext cx="884160" cy="885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​​ 17"/>
            <p:cNvSpPr/>
            <p:nvPr/>
          </p:nvSpPr>
          <p:spPr>
            <a:xfrm>
              <a:off x="7429320" y="4211280"/>
              <a:ext cx="701640" cy="70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13316"/>
          <p:cNvGrpSpPr/>
          <p:nvPr/>
        </p:nvGrpSpPr>
        <p:grpSpPr>
          <a:xfrm>
            <a:off x="7786800" y="3562200"/>
            <a:ext cx="979200" cy="979560"/>
            <a:chOff x="7786800" y="3562200"/>
            <a:chExt cx="979200" cy="979560"/>
          </a:xfrm>
        </p:grpSpPr>
        <p:sp>
          <p:nvSpPr>
            <p:cNvPr id="443" name="椭圆​​ 20"/>
            <p:cNvSpPr/>
            <p:nvPr/>
          </p:nvSpPr>
          <p:spPr>
            <a:xfrm>
              <a:off x="7786800" y="3562200"/>
              <a:ext cx="979200" cy="97956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椭圆​​ 21"/>
            <p:cNvSpPr/>
            <p:nvPr/>
          </p:nvSpPr>
          <p:spPr>
            <a:xfrm>
              <a:off x="7878600" y="3654000"/>
              <a:ext cx="777600" cy="77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Box 2"/>
          <p:cNvSpPr/>
          <p:nvPr/>
        </p:nvSpPr>
        <p:spPr>
          <a:xfrm>
            <a:off x="71280" y="2852640"/>
            <a:ext cx="74628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skerville Old Face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648720" y="2852640"/>
            <a:ext cx="330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  <a:ea typeface="华文细黑"/>
              </a:rPr>
              <a:t>hank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6681960" y="2908440"/>
            <a:ext cx="221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  <a:ea typeface="华文细黑"/>
              </a:rPr>
              <a:t>10:09</a:t>
            </a:r>
            <a:r>
              <a:rPr b="0" lang="en-US" sz="2400" spc="-1" strike="noStrike">
                <a:solidFill>
                  <a:srgbClr val="7f7f7f"/>
                </a:solidFill>
                <a:latin typeface="华文细黑"/>
                <a:ea typeface="华文细黑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​​ 9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9dc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​​ 10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solidFill>
            <a:srgbClr val="1c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13324"/>
          <p:cNvGrpSpPr/>
          <p:nvPr/>
        </p:nvGrpSpPr>
        <p:grpSpPr>
          <a:xfrm>
            <a:off x="6359400" y="3936960"/>
            <a:ext cx="478080" cy="476280"/>
            <a:chOff x="6359400" y="3936960"/>
            <a:chExt cx="478080" cy="476280"/>
          </a:xfrm>
        </p:grpSpPr>
        <p:sp>
          <p:nvSpPr>
            <p:cNvPr id="451" name="椭圆​​ 29"/>
            <p:cNvSpPr/>
            <p:nvPr/>
          </p:nvSpPr>
          <p:spPr>
            <a:xfrm>
              <a:off x="6359400" y="3936960"/>
              <a:ext cx="478080" cy="47628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​​ 30"/>
            <p:cNvSpPr/>
            <p:nvPr/>
          </p:nvSpPr>
          <p:spPr>
            <a:xfrm>
              <a:off x="6403680" y="3981240"/>
              <a:ext cx="379800" cy="37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标题 1"/>
          <p:cNvSpPr/>
          <p:nvPr/>
        </p:nvSpPr>
        <p:spPr>
          <a:xfrm>
            <a:off x="971640" y="333360"/>
            <a:ext cx="7392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2:44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16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