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3.jpeg" ContentType="image/jpeg"/>
  <Override PartName="/ppt/media/image16.wmf" ContentType="image/x-wmf"/>
  <Override PartName="/ppt/media/image14.png" ContentType="image/png"/>
  <Override PartName="/ppt/media/image1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116-354D-4F9F-A2CB-C4B68FB2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47B1-13C2-4823-8A31-4FB3D57B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2F5-7FD8-4920-A017-45B18832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D18-B547-4762-B8FF-BAFA4498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EC43-E8F0-4E04-BCA6-CD6E7C2C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ECA8-5D8D-4C09-865B-6E804382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9C05-2019-4051-82ED-B1FEF387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53C6-C8E1-4467-9045-319BEE13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5534-6527-4E56-9A18-0C2B13E0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C18D-0325-4F55-9DD1-FC12355D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0430-5322-4B74-83D4-F2F122BC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43D3-B7F2-40F9-B502-D54129CF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317F-AC35-47F1-97F2-EF21D620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E256-B326-4DCF-A978-03CB6F8D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EBD7-2540-411D-A225-E7334ACA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C1CE-BFE1-4B41-B2A0-AFA9EBD3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5807-7A04-428D-90F7-98B965AF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20830-74E4-40BF-A959-7A8F6CA3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A6B7C-4037-4FBF-AA0D-0314CAE0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B5077-762C-4759-897C-8D0626D2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E9EA5-1405-4762-9DD7-B637DC5E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06FFA-B4F6-4179-BD98-B71F8745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3F76-D778-4F67-93BD-C31576AF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09C0-ABF6-4AC5-B71E-6C64A9F9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D2C12-0C6C-4A61-B749-C1402D76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13EAA-611F-4838-B69A-DB3AE516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8916F-A248-46E1-93B5-8DF0DCAE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2C9DD-384B-496E-B8BB-9FAE101A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5BFF0-7048-4ED6-9C3F-9C20DFF8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0A749-9BA2-4123-980F-03612573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399F-4DA2-44D9-86E9-B61A6EE0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685C-1626-41A4-854A-6A2B6575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0D4-A09F-4939-87A0-67867DD8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539-F6EB-4D8F-A0CF-D5728A9B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C40-00F0-4C8F-AFFA-C72DA3B1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CA8-2433-4C10-8107-CA7DFDD8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jpeg"/><Relationship Id="rId6" Type="http://schemas.openxmlformats.org/officeDocument/2006/relationships/image" Target="../media/image1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3.jpeg"/><Relationship Id="rId6" Type="http://schemas.openxmlformats.org/officeDocument/2006/relationships/image" Target="../media/image1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49"/>
          <p:cNvSpPr/>
          <p:nvPr/>
        </p:nvSpPr>
        <p:spPr>
          <a:xfrm>
            <a:off x="0" y="228600"/>
            <a:ext cx="9144000" cy="838080"/>
          </a:xfrm>
          <a:prstGeom prst="rect">
            <a:avLst/>
          </a:prstGeom>
          <a:gradFill rotWithShape="0">
            <a:gsLst>
              <a:gs pos="0">
                <a:srgbClr val="132132"/>
              </a:gs>
              <a:gs pos="100000">
                <a:srgbClr val="2e5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406E-5012-4550-A4B8-A7C31B1CCAE6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矩形 1175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8ac246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1176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177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1178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1179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1180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1181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1182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1183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8ac246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矩形 1184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矩形 1185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8ac246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矩形 1186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矩形 1187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efc821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矩形 1188"/>
          <p:cNvSpPr/>
          <p:nvPr/>
        </p:nvSpPr>
        <p:spPr>
          <a:xfrm>
            <a:off x="8128080" y="6386400"/>
            <a:ext cx="5061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矩形 1189"/>
          <p:cNvSpPr/>
          <p:nvPr/>
        </p:nvSpPr>
        <p:spPr>
          <a:xfrm>
            <a:off x="50911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矩形 1190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efc821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矩形 1191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矩形 1192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efc821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矩形 1193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矩形 1194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矩形 1196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矩形 1197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矩形 1199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efc821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矩形 1200"/>
          <p:cNvSpPr/>
          <p:nvPr/>
        </p:nvSpPr>
        <p:spPr>
          <a:xfrm>
            <a:off x="3046320" y="6386400"/>
            <a:ext cx="507960" cy="471600"/>
          </a:xfrm>
          <a:prstGeom prst="rect">
            <a:avLst/>
          </a:prstGeom>
          <a:solidFill>
            <a:srgbClr val="efc821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矩形 1204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8ac246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矩形 1205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矩形 1206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矩形 1207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矩形 1208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矩形 1209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矩形 1210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矩形 1211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矩形 1212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efc821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矩形 1213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矩形 1214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1215"/>
          <p:cNvSpPr/>
          <p:nvPr/>
        </p:nvSpPr>
        <p:spPr>
          <a:xfrm>
            <a:off x="2023920" y="6384960"/>
            <a:ext cx="50652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矩形 1217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218"/>
          <p:cNvGrpSpPr/>
          <p:nvPr/>
        </p:nvGrpSpPr>
        <p:grpSpPr>
          <a:xfrm>
            <a:off x="0" y="357120"/>
            <a:ext cx="1157040" cy="1123920"/>
            <a:chOff x="0" y="357120"/>
            <a:chExt cx="1157040" cy="1123920"/>
          </a:xfrm>
        </p:grpSpPr>
        <p:pic>
          <p:nvPicPr>
            <p:cNvPr id="43" name="图片 1219" descr="pan01"/>
            <p:cNvPicPr/>
            <p:nvPr/>
          </p:nvPicPr>
          <p:blipFill>
            <a:blip r:embed="rId2"/>
            <a:srcRect l="46684" t="0" r="2341" b="0"/>
            <a:stretch/>
          </p:blipFill>
          <p:spPr>
            <a:xfrm>
              <a:off x="3240" y="357120"/>
              <a:ext cx="11538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任意多边形 1220" descr=""/>
            <p:cNvPicPr/>
            <p:nvPr/>
          </p:nvPicPr>
          <p:blipFill>
            <a:blip r:embed="rId3"/>
            <a:stretch/>
          </p:blipFill>
          <p:spPr>
            <a:xfrm>
              <a:off x="0" y="394920"/>
              <a:ext cx="110160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" name="组合 1221"/>
          <p:cNvGrpSpPr/>
          <p:nvPr/>
        </p:nvGrpSpPr>
        <p:grpSpPr>
          <a:xfrm>
            <a:off x="-6480" y="195120"/>
            <a:ext cx="1057320" cy="1143000"/>
            <a:chOff x="-6480" y="195120"/>
            <a:chExt cx="1057320" cy="1143000"/>
          </a:xfrm>
        </p:grpSpPr>
        <p:pic>
          <p:nvPicPr>
            <p:cNvPr id="46" name="图片 1222" descr="pan01"/>
            <p:cNvPicPr/>
            <p:nvPr/>
          </p:nvPicPr>
          <p:blipFill>
            <a:blip r:embed="rId4"/>
            <a:srcRect l="51732" t="0" r="2341" b="0"/>
            <a:stretch/>
          </p:blipFill>
          <p:spPr>
            <a:xfrm>
              <a:off x="-6480" y="195120"/>
              <a:ext cx="10573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任意多边形 1223"/>
            <p:cNvSpPr/>
            <p:nvPr/>
          </p:nvSpPr>
          <p:spPr>
            <a:xfrm>
              <a:off x="-6480" y="233640"/>
              <a:ext cx="1000440" cy="1026000"/>
            </a:xfrm>
            <a:custGeom>
              <a:avLst/>
              <a:gdLst/>
              <a:ahLst/>
              <a:rect l="l" t="t" r="r" b="b"/>
              <a:pathLst>
                <a:path w="2537" h="2600">
                  <a:moveTo>
                    <a:pt x="0" y="0"/>
                  </a:moveTo>
                  <a:lnTo>
                    <a:pt x="2537" y="1"/>
                  </a:lnTo>
                  <a:lnTo>
                    <a:pt x="991" y="2597"/>
                  </a:lnTo>
                  <a:lnTo>
                    <a:pt x="0" y="260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组合 1224"/>
          <p:cNvGrpSpPr/>
          <p:nvPr/>
        </p:nvGrpSpPr>
        <p:grpSpPr>
          <a:xfrm>
            <a:off x="0" y="0"/>
            <a:ext cx="933480" cy="1239840"/>
            <a:chOff x="0" y="0"/>
            <a:chExt cx="933480" cy="1239840"/>
          </a:xfrm>
        </p:grpSpPr>
        <p:pic>
          <p:nvPicPr>
            <p:cNvPr id="49" name="图片 1225" descr="pan01"/>
            <p:cNvPicPr/>
            <p:nvPr/>
          </p:nvPicPr>
          <p:blipFill>
            <a:blip r:embed="rId6"/>
            <a:srcRect l="60431" t="0" r="2341" b="0"/>
            <a:stretch/>
          </p:blipFill>
          <p:spPr>
            <a:xfrm>
              <a:off x="2520" y="0"/>
              <a:ext cx="930960" cy="12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任意多边形 1226"/>
            <p:cNvSpPr/>
            <p:nvPr/>
          </p:nvSpPr>
          <p:spPr>
            <a:xfrm>
              <a:off x="0" y="41760"/>
              <a:ext cx="871560" cy="1113840"/>
            </a:xfrm>
            <a:custGeom>
              <a:avLst/>
              <a:gdLst/>
              <a:ahLst/>
              <a:rect l="l" t="t" r="r" b="b"/>
              <a:pathLst>
                <a:path w="2247" h="2874">
                  <a:moveTo>
                    <a:pt x="7" y="0"/>
                  </a:moveTo>
                  <a:lnTo>
                    <a:pt x="2247" y="0"/>
                  </a:lnTo>
                  <a:lnTo>
                    <a:pt x="540" y="2868"/>
                  </a:lnTo>
                  <a:lnTo>
                    <a:pt x="0" y="2874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42EF-54EB-482A-B09B-5D0D1450613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5047-E4DA-48D0-92F3-3935795152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3262"/>
          <p:cNvGrpSpPr/>
          <p:nvPr/>
        </p:nvGrpSpPr>
        <p:grpSpPr>
          <a:xfrm>
            <a:off x="434880" y="4680"/>
            <a:ext cx="8015400" cy="6852960"/>
            <a:chOff x="434880" y="4680"/>
            <a:chExt cx="8015400" cy="6852960"/>
          </a:xfrm>
        </p:grpSpPr>
        <p:grpSp>
          <p:nvGrpSpPr>
            <p:cNvPr id="130" name=""/>
            <p:cNvGrpSpPr/>
            <p:nvPr/>
          </p:nvGrpSpPr>
          <p:grpSpPr>
            <a:xfrm>
              <a:off x="5522760" y="4680"/>
              <a:ext cx="33480" cy="6852960"/>
              <a:chOff x="5522760" y="4680"/>
              <a:chExt cx="33480" cy="6852960"/>
            </a:xfrm>
          </p:grpSpPr>
          <p:sp>
            <p:nvSpPr>
              <p:cNvPr id="131" name="直接连接符 3197"/>
              <p:cNvSpPr/>
              <p:nvPr/>
            </p:nvSpPr>
            <p:spPr>
              <a:xfrm>
                <a:off x="5522760" y="4680"/>
                <a:ext cx="3348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 txBox="1"/>
              <p:nvPr/>
            </p:nvSpPr>
            <p:spPr>
              <a:xfrm>
                <a:off x="5522760" y="4680"/>
                <a:ext cx="3348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237360" y="4680"/>
              <a:ext cx="33120" cy="6852960"/>
              <a:chOff x="6237360" y="4680"/>
              <a:chExt cx="33120" cy="6852960"/>
            </a:xfrm>
          </p:grpSpPr>
          <p:sp>
            <p:nvSpPr>
              <p:cNvPr id="134" name="直接连接符 3208"/>
              <p:cNvSpPr/>
              <p:nvPr/>
            </p:nvSpPr>
            <p:spPr>
              <a:xfrm>
                <a:off x="6237360" y="4680"/>
                <a:ext cx="3312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6237360" y="4680"/>
                <a:ext cx="3312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977160" y="4680"/>
              <a:ext cx="33120" cy="6852960"/>
              <a:chOff x="6977160" y="4680"/>
              <a:chExt cx="33120" cy="6852960"/>
            </a:xfrm>
          </p:grpSpPr>
          <p:sp>
            <p:nvSpPr>
              <p:cNvPr id="137" name="直接连接符 3210"/>
              <p:cNvSpPr/>
              <p:nvPr/>
            </p:nvSpPr>
            <p:spPr>
              <a:xfrm>
                <a:off x="6977160" y="4680"/>
                <a:ext cx="3312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6977160" y="4680"/>
                <a:ext cx="3312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691400" y="4680"/>
              <a:ext cx="33480" cy="6852960"/>
              <a:chOff x="7691400" y="4680"/>
              <a:chExt cx="33480" cy="6852960"/>
            </a:xfrm>
          </p:grpSpPr>
          <p:sp>
            <p:nvSpPr>
              <p:cNvPr id="140" name="直接连接符 3211"/>
              <p:cNvSpPr/>
              <p:nvPr/>
            </p:nvSpPr>
            <p:spPr>
              <a:xfrm>
                <a:off x="7691400" y="4680"/>
                <a:ext cx="3348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7691400" y="4680"/>
                <a:ext cx="3348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8416800" y="4680"/>
              <a:ext cx="33480" cy="6852960"/>
              <a:chOff x="8416800" y="4680"/>
              <a:chExt cx="33480" cy="6852960"/>
            </a:xfrm>
          </p:grpSpPr>
          <p:sp>
            <p:nvSpPr>
              <p:cNvPr id="143" name="直接连接符 3214"/>
              <p:cNvSpPr/>
              <p:nvPr/>
            </p:nvSpPr>
            <p:spPr>
              <a:xfrm>
                <a:off x="8416800" y="4680"/>
                <a:ext cx="3348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8416800" y="4680"/>
                <a:ext cx="3348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620800" y="4680"/>
              <a:ext cx="33480" cy="6852960"/>
              <a:chOff x="2620800" y="4680"/>
              <a:chExt cx="33480" cy="6852960"/>
            </a:xfrm>
          </p:grpSpPr>
          <p:sp>
            <p:nvSpPr>
              <p:cNvPr id="146" name="直接连接符 3218"/>
              <p:cNvSpPr/>
              <p:nvPr/>
            </p:nvSpPr>
            <p:spPr>
              <a:xfrm>
                <a:off x="2620800" y="4680"/>
                <a:ext cx="3348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>
                <a:off x="2620800" y="4680"/>
                <a:ext cx="3348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335400" y="4680"/>
              <a:ext cx="33120" cy="6852960"/>
              <a:chOff x="3335400" y="4680"/>
              <a:chExt cx="33120" cy="6852960"/>
            </a:xfrm>
          </p:grpSpPr>
          <p:sp>
            <p:nvSpPr>
              <p:cNvPr id="149" name="直接连接符 3220"/>
              <p:cNvSpPr/>
              <p:nvPr/>
            </p:nvSpPr>
            <p:spPr>
              <a:xfrm>
                <a:off x="3335400" y="4680"/>
                <a:ext cx="3312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3335400" y="4680"/>
                <a:ext cx="3312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075200" y="4680"/>
              <a:ext cx="33120" cy="6852960"/>
              <a:chOff x="4075200" y="4680"/>
              <a:chExt cx="33120" cy="6852960"/>
            </a:xfrm>
          </p:grpSpPr>
          <p:sp>
            <p:nvSpPr>
              <p:cNvPr id="152" name="直接连接符 3222"/>
              <p:cNvSpPr/>
              <p:nvPr/>
            </p:nvSpPr>
            <p:spPr>
              <a:xfrm>
                <a:off x="4075200" y="4680"/>
                <a:ext cx="3312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4075200" y="4680"/>
                <a:ext cx="3312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789440" y="4680"/>
              <a:ext cx="33480" cy="6852960"/>
              <a:chOff x="4789440" y="4680"/>
              <a:chExt cx="33480" cy="6852960"/>
            </a:xfrm>
          </p:grpSpPr>
          <p:sp>
            <p:nvSpPr>
              <p:cNvPr id="155" name="直接连接符 3223"/>
              <p:cNvSpPr/>
              <p:nvPr/>
            </p:nvSpPr>
            <p:spPr>
              <a:xfrm>
                <a:off x="4789440" y="4680"/>
                <a:ext cx="3348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>
                <a:off x="4789440" y="4680"/>
                <a:ext cx="3348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34880" y="4680"/>
              <a:ext cx="33480" cy="6852960"/>
              <a:chOff x="434880" y="4680"/>
              <a:chExt cx="33480" cy="6852960"/>
            </a:xfrm>
          </p:grpSpPr>
          <p:sp>
            <p:nvSpPr>
              <p:cNvPr id="158" name="直接连接符 3229"/>
              <p:cNvSpPr/>
              <p:nvPr/>
            </p:nvSpPr>
            <p:spPr>
              <a:xfrm>
                <a:off x="434880" y="4680"/>
                <a:ext cx="3348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434880" y="4680"/>
                <a:ext cx="3348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1174680" y="4680"/>
              <a:ext cx="33480" cy="6852960"/>
              <a:chOff x="1174680" y="4680"/>
              <a:chExt cx="33480" cy="6852960"/>
            </a:xfrm>
          </p:grpSpPr>
          <p:sp>
            <p:nvSpPr>
              <p:cNvPr id="161" name="直接连接符 3231"/>
              <p:cNvSpPr/>
              <p:nvPr/>
            </p:nvSpPr>
            <p:spPr>
              <a:xfrm>
                <a:off x="1174680" y="4680"/>
                <a:ext cx="3348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1174680" y="4680"/>
                <a:ext cx="3348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889280" y="4680"/>
              <a:ext cx="33120" cy="6852960"/>
              <a:chOff x="1889280" y="4680"/>
              <a:chExt cx="33120" cy="6852960"/>
            </a:xfrm>
          </p:grpSpPr>
          <p:sp>
            <p:nvSpPr>
              <p:cNvPr id="164" name="直接连接符 3232"/>
              <p:cNvSpPr/>
              <p:nvPr/>
            </p:nvSpPr>
            <p:spPr>
              <a:xfrm>
                <a:off x="1889280" y="4680"/>
                <a:ext cx="33120" cy="6852960"/>
              </a:xfrm>
              <a:prstGeom prst="line">
                <a:avLst/>
              </a:prstGeom>
              <a:ln w="9360">
                <a:solidFill>
                  <a:srgbClr val="dddddd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1889280" y="4680"/>
                <a:ext cx="33120" cy="6852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矩形 3158"/>
          <p:cNvSpPr/>
          <p:nvPr/>
        </p:nvSpPr>
        <p:spPr>
          <a:xfrm>
            <a:off x="0" y="1795320"/>
            <a:ext cx="9144000" cy="2503800"/>
          </a:xfrm>
          <a:prstGeom prst="rect">
            <a:avLst/>
          </a:prstGeom>
          <a:gradFill rotWithShape="0">
            <a:gsLst>
              <a:gs pos="0">
                <a:srgbClr val="152538"/>
              </a:gs>
              <a:gs pos="100000">
                <a:srgbClr val="2e5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236"/>
          <p:cNvSpPr/>
          <p:nvPr/>
        </p:nvSpPr>
        <p:spPr>
          <a:xfrm>
            <a:off x="5553000" y="5576760"/>
            <a:ext cx="712800" cy="644760"/>
          </a:xfrm>
          <a:prstGeom prst="rect">
            <a:avLst/>
          </a:prstGeom>
          <a:solidFill>
            <a:srgbClr val="8ac24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237"/>
          <p:cNvSpPr/>
          <p:nvPr/>
        </p:nvSpPr>
        <p:spPr>
          <a:xfrm>
            <a:off x="700740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238"/>
          <p:cNvSpPr/>
          <p:nvPr/>
        </p:nvSpPr>
        <p:spPr>
          <a:xfrm>
            <a:off x="62690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239"/>
          <p:cNvSpPr/>
          <p:nvPr/>
        </p:nvSpPr>
        <p:spPr>
          <a:xfrm>
            <a:off x="8447040" y="5587920"/>
            <a:ext cx="69696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241"/>
          <p:cNvSpPr/>
          <p:nvPr/>
        </p:nvSpPr>
        <p:spPr>
          <a:xfrm>
            <a:off x="26510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242"/>
          <p:cNvSpPr/>
          <p:nvPr/>
        </p:nvSpPr>
        <p:spPr>
          <a:xfrm>
            <a:off x="41054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243"/>
          <p:cNvSpPr/>
          <p:nvPr/>
        </p:nvSpPr>
        <p:spPr>
          <a:xfrm>
            <a:off x="336708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3244"/>
          <p:cNvSpPr/>
          <p:nvPr/>
        </p:nvSpPr>
        <p:spPr>
          <a:xfrm>
            <a:off x="48182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245"/>
          <p:cNvSpPr/>
          <p:nvPr/>
        </p:nvSpPr>
        <p:spPr>
          <a:xfrm>
            <a:off x="1917720" y="4943520"/>
            <a:ext cx="725400" cy="636480"/>
          </a:xfrm>
          <a:prstGeom prst="rect">
            <a:avLst/>
          </a:prstGeom>
          <a:solidFill>
            <a:srgbClr val="8ac24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246"/>
          <p:cNvSpPr/>
          <p:nvPr/>
        </p:nvSpPr>
        <p:spPr>
          <a:xfrm>
            <a:off x="5541840" y="4309920"/>
            <a:ext cx="725760" cy="636840"/>
          </a:xfrm>
          <a:prstGeom prst="rect">
            <a:avLst/>
          </a:prstGeom>
          <a:solidFill>
            <a:srgbClr val="8ac246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247"/>
          <p:cNvSpPr/>
          <p:nvPr/>
        </p:nvSpPr>
        <p:spPr>
          <a:xfrm>
            <a:off x="6996240" y="4300560"/>
            <a:ext cx="725400" cy="646200"/>
          </a:xfrm>
          <a:prstGeom prst="rect">
            <a:avLst/>
          </a:prstGeom>
          <a:solidFill>
            <a:srgbClr val="8ac246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248"/>
          <p:cNvSpPr/>
          <p:nvPr/>
        </p:nvSpPr>
        <p:spPr>
          <a:xfrm>
            <a:off x="8435880" y="4300560"/>
            <a:ext cx="703440" cy="646200"/>
          </a:xfrm>
          <a:prstGeom prst="rect">
            <a:avLst/>
          </a:prstGeom>
          <a:solidFill>
            <a:srgbClr val="8ac246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249"/>
          <p:cNvSpPr/>
          <p:nvPr/>
        </p:nvSpPr>
        <p:spPr>
          <a:xfrm>
            <a:off x="4105440" y="4309920"/>
            <a:ext cx="725400" cy="6368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256"/>
          <p:cNvSpPr/>
          <p:nvPr/>
        </p:nvSpPr>
        <p:spPr>
          <a:xfrm>
            <a:off x="7719840" y="6221520"/>
            <a:ext cx="72576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3257"/>
          <p:cNvSpPr/>
          <p:nvPr/>
        </p:nvSpPr>
        <p:spPr>
          <a:xfrm>
            <a:off x="3371760" y="6221520"/>
            <a:ext cx="72864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3258"/>
          <p:cNvSpPr/>
          <p:nvPr/>
        </p:nvSpPr>
        <p:spPr>
          <a:xfrm>
            <a:off x="48261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259"/>
          <p:cNvSpPr/>
          <p:nvPr/>
        </p:nvSpPr>
        <p:spPr>
          <a:xfrm>
            <a:off x="19209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3277"/>
          <p:cNvGrpSpPr/>
          <p:nvPr/>
        </p:nvGrpSpPr>
        <p:grpSpPr>
          <a:xfrm>
            <a:off x="0" y="533520"/>
            <a:ext cx="9144000" cy="5689800"/>
            <a:chOff x="0" y="533520"/>
            <a:chExt cx="9144000" cy="5689800"/>
          </a:xfrm>
        </p:grpSpPr>
        <p:grpSp>
          <p:nvGrpSpPr>
            <p:cNvPr id="185" name=""/>
            <p:cNvGrpSpPr/>
            <p:nvPr/>
          </p:nvGrpSpPr>
          <p:grpSpPr>
            <a:xfrm>
              <a:off x="0" y="533520"/>
              <a:ext cx="9144000" cy="360"/>
              <a:chOff x="0" y="533520"/>
              <a:chExt cx="9144000" cy="360"/>
            </a:xfrm>
          </p:grpSpPr>
          <p:sp>
            <p:nvSpPr>
              <p:cNvPr id="186" name="直接连接符 3263"/>
              <p:cNvSpPr/>
              <p:nvPr/>
            </p:nvSpPr>
            <p:spPr>
              <a:xfrm flipH="1">
                <a:off x="0" y="533520"/>
                <a:ext cx="9144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0" y="53352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0" y="1163520"/>
              <a:ext cx="9144000" cy="360"/>
              <a:chOff x="0" y="1163520"/>
              <a:chExt cx="9144000" cy="360"/>
            </a:xfrm>
          </p:grpSpPr>
          <p:sp>
            <p:nvSpPr>
              <p:cNvPr id="189" name="直接连接符 3264"/>
              <p:cNvSpPr/>
              <p:nvPr/>
            </p:nvSpPr>
            <p:spPr>
              <a:xfrm flipH="1">
                <a:off x="0" y="1163520"/>
                <a:ext cx="9144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0" y="116352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0" y="1782720"/>
              <a:ext cx="9144000" cy="360"/>
              <a:chOff x="0" y="1782720"/>
              <a:chExt cx="9144000" cy="360"/>
            </a:xfrm>
          </p:grpSpPr>
          <p:sp>
            <p:nvSpPr>
              <p:cNvPr id="192" name="直接连接符 3265"/>
              <p:cNvSpPr/>
              <p:nvPr/>
            </p:nvSpPr>
            <p:spPr>
              <a:xfrm flipH="1">
                <a:off x="0" y="1782720"/>
                <a:ext cx="9144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>
                <a:off x="0" y="178272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0" y="4297320"/>
              <a:ext cx="9144000" cy="360"/>
              <a:chOff x="0" y="4297320"/>
              <a:chExt cx="9144000" cy="360"/>
            </a:xfrm>
          </p:grpSpPr>
          <p:sp>
            <p:nvSpPr>
              <p:cNvPr id="195" name="直接连接符 3266"/>
              <p:cNvSpPr/>
              <p:nvPr/>
            </p:nvSpPr>
            <p:spPr>
              <a:xfrm flipH="1">
                <a:off x="0" y="4297320"/>
                <a:ext cx="9144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0" y="429732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0" y="4938840"/>
              <a:ext cx="9144000" cy="360"/>
              <a:chOff x="0" y="4938840"/>
              <a:chExt cx="9144000" cy="360"/>
            </a:xfrm>
          </p:grpSpPr>
          <p:sp>
            <p:nvSpPr>
              <p:cNvPr id="198" name="直接连接符 3267"/>
              <p:cNvSpPr/>
              <p:nvPr/>
            </p:nvSpPr>
            <p:spPr>
              <a:xfrm flipH="1">
                <a:off x="0" y="4938840"/>
                <a:ext cx="9144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>
                <a:off x="0" y="493884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0" y="5581800"/>
              <a:ext cx="9144000" cy="360"/>
              <a:chOff x="0" y="5581800"/>
              <a:chExt cx="9144000" cy="360"/>
            </a:xfrm>
          </p:grpSpPr>
          <p:sp>
            <p:nvSpPr>
              <p:cNvPr id="201" name="直接连接符 3268"/>
              <p:cNvSpPr/>
              <p:nvPr/>
            </p:nvSpPr>
            <p:spPr>
              <a:xfrm flipH="1">
                <a:off x="0" y="5581800"/>
                <a:ext cx="9144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0" y="558180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0" y="6222960"/>
              <a:ext cx="9144000" cy="360"/>
              <a:chOff x="0" y="6222960"/>
              <a:chExt cx="9144000" cy="360"/>
            </a:xfrm>
          </p:grpSpPr>
          <p:sp>
            <p:nvSpPr>
              <p:cNvPr id="204" name="直接连接符 3269"/>
              <p:cNvSpPr/>
              <p:nvPr/>
            </p:nvSpPr>
            <p:spPr>
              <a:xfrm flipH="1">
                <a:off x="0" y="6222960"/>
                <a:ext cx="9144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0" y="62229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文本框 3082"/>
          <p:cNvSpPr/>
          <p:nvPr/>
        </p:nvSpPr>
        <p:spPr>
          <a:xfrm>
            <a:off x="0" y="461880"/>
            <a:ext cx="109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209"/>
          <p:cNvSpPr/>
          <p:nvPr/>
        </p:nvSpPr>
        <p:spPr>
          <a:xfrm>
            <a:off x="552456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3212"/>
          <p:cNvSpPr/>
          <p:nvPr/>
        </p:nvSpPr>
        <p:spPr>
          <a:xfrm>
            <a:off x="697860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3217"/>
          <p:cNvSpPr/>
          <p:nvPr/>
        </p:nvSpPr>
        <p:spPr>
          <a:xfrm>
            <a:off x="7691400" y="4680"/>
            <a:ext cx="725400" cy="522360"/>
          </a:xfrm>
          <a:prstGeom prst="rect">
            <a:avLst/>
          </a:prstGeom>
          <a:solidFill>
            <a:srgbClr val="efc82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3224"/>
          <p:cNvSpPr/>
          <p:nvPr/>
        </p:nvSpPr>
        <p:spPr>
          <a:xfrm>
            <a:off x="407664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3226"/>
          <p:cNvSpPr/>
          <p:nvPr/>
        </p:nvSpPr>
        <p:spPr>
          <a:xfrm>
            <a:off x="478944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3233"/>
          <p:cNvSpPr/>
          <p:nvPr/>
        </p:nvSpPr>
        <p:spPr>
          <a:xfrm>
            <a:off x="446040" y="1147680"/>
            <a:ext cx="725400" cy="633600"/>
          </a:xfrm>
          <a:prstGeom prst="rect">
            <a:avLst/>
          </a:prstGeom>
          <a:solidFill>
            <a:srgbClr val="efc82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3235"/>
          <p:cNvSpPr/>
          <p:nvPr/>
        </p:nvSpPr>
        <p:spPr>
          <a:xfrm>
            <a:off x="1889280" y="4680"/>
            <a:ext cx="725400" cy="52236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3250"/>
          <p:cNvSpPr/>
          <p:nvPr/>
        </p:nvSpPr>
        <p:spPr>
          <a:xfrm>
            <a:off x="6251400" y="1165320"/>
            <a:ext cx="72576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251"/>
          <p:cNvSpPr/>
          <p:nvPr/>
        </p:nvSpPr>
        <p:spPr>
          <a:xfrm>
            <a:off x="7691400" y="1165320"/>
            <a:ext cx="725400" cy="633240"/>
          </a:xfrm>
          <a:prstGeom prst="rect">
            <a:avLst/>
          </a:prstGeom>
          <a:solidFill>
            <a:srgbClr val="efc821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3252"/>
          <p:cNvSpPr/>
          <p:nvPr/>
        </p:nvSpPr>
        <p:spPr>
          <a:xfrm>
            <a:off x="3349800" y="1165320"/>
            <a:ext cx="72540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253"/>
          <p:cNvSpPr/>
          <p:nvPr/>
        </p:nvSpPr>
        <p:spPr>
          <a:xfrm>
            <a:off x="4800600" y="1165320"/>
            <a:ext cx="725400" cy="633240"/>
          </a:xfrm>
          <a:prstGeom prst="rect">
            <a:avLst/>
          </a:prstGeom>
          <a:solidFill>
            <a:srgbClr val="efc821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3254"/>
          <p:cNvSpPr/>
          <p:nvPr/>
        </p:nvSpPr>
        <p:spPr>
          <a:xfrm>
            <a:off x="1889280" y="1165320"/>
            <a:ext cx="725400" cy="633240"/>
          </a:xfrm>
          <a:prstGeom prst="rect">
            <a:avLst/>
          </a:prstGeom>
          <a:solidFill>
            <a:srgbClr val="efc821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260"/>
          <p:cNvSpPr/>
          <p:nvPr/>
        </p:nvSpPr>
        <p:spPr>
          <a:xfrm>
            <a:off x="43812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3261"/>
          <p:cNvSpPr/>
          <p:nvPr/>
        </p:nvSpPr>
        <p:spPr>
          <a:xfrm>
            <a:off x="1143000" y="533520"/>
            <a:ext cx="725400" cy="63324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3271"/>
          <p:cNvSpPr/>
          <p:nvPr/>
        </p:nvSpPr>
        <p:spPr>
          <a:xfrm>
            <a:off x="2577960" y="534960"/>
            <a:ext cx="72576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3305"/>
          <p:cNvGrpSpPr/>
          <p:nvPr/>
        </p:nvGrpSpPr>
        <p:grpSpPr>
          <a:xfrm>
            <a:off x="0" y="2257560"/>
            <a:ext cx="4738680" cy="4600440"/>
            <a:chOff x="0" y="2257560"/>
            <a:chExt cx="4738680" cy="4600440"/>
          </a:xfrm>
        </p:grpSpPr>
        <p:pic>
          <p:nvPicPr>
            <p:cNvPr id="223" name="图片 3284" descr="pan01"/>
            <p:cNvPicPr/>
            <p:nvPr/>
          </p:nvPicPr>
          <p:blipFill>
            <a:blip r:embed="rId2"/>
            <a:srcRect l="46684" t="0" r="2341" b="0"/>
            <a:stretch/>
          </p:blipFill>
          <p:spPr>
            <a:xfrm>
              <a:off x="14400" y="2257560"/>
              <a:ext cx="4724280" cy="46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任意多边形 3280" descr=""/>
            <p:cNvPicPr/>
            <p:nvPr/>
          </p:nvPicPr>
          <p:blipFill>
            <a:blip r:embed="rId3"/>
            <a:stretch/>
          </p:blipFill>
          <p:spPr>
            <a:xfrm>
              <a:off x="0" y="2413080"/>
              <a:ext cx="4510080" cy="412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组合 3304"/>
          <p:cNvGrpSpPr/>
          <p:nvPr/>
        </p:nvGrpSpPr>
        <p:grpSpPr>
          <a:xfrm>
            <a:off x="9360" y="1395360"/>
            <a:ext cx="4255920" cy="4599000"/>
            <a:chOff x="9360" y="1395360"/>
            <a:chExt cx="4255920" cy="4599000"/>
          </a:xfrm>
        </p:grpSpPr>
        <p:pic>
          <p:nvPicPr>
            <p:cNvPr id="226" name="图片 3291" descr="pan01"/>
            <p:cNvPicPr/>
            <p:nvPr/>
          </p:nvPicPr>
          <p:blipFill>
            <a:blip r:embed="rId4"/>
            <a:srcRect l="51732" t="0" r="2341" b="0"/>
            <a:stretch/>
          </p:blipFill>
          <p:spPr>
            <a:xfrm>
              <a:off x="9360" y="1395360"/>
              <a:ext cx="4255920" cy="45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任意多边形 3292"/>
            <p:cNvSpPr/>
            <p:nvPr/>
          </p:nvSpPr>
          <p:spPr>
            <a:xfrm>
              <a:off x="9360" y="1550880"/>
              <a:ext cx="4027320" cy="4127400"/>
            </a:xfrm>
            <a:custGeom>
              <a:avLst/>
              <a:gdLst/>
              <a:ahLst/>
              <a:rect l="l" t="t" r="r" b="b"/>
              <a:pathLst>
                <a:path w="2537" h="2600">
                  <a:moveTo>
                    <a:pt x="0" y="0"/>
                  </a:moveTo>
                  <a:lnTo>
                    <a:pt x="2537" y="1"/>
                  </a:lnTo>
                  <a:lnTo>
                    <a:pt x="991" y="2597"/>
                  </a:lnTo>
                  <a:lnTo>
                    <a:pt x="0" y="260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3303"/>
          <p:cNvGrpSpPr/>
          <p:nvPr/>
        </p:nvGrpSpPr>
        <p:grpSpPr>
          <a:xfrm>
            <a:off x="-4680" y="304920"/>
            <a:ext cx="3821040" cy="5078160"/>
            <a:chOff x="-4680" y="304920"/>
            <a:chExt cx="3821040" cy="5078160"/>
          </a:xfrm>
        </p:grpSpPr>
        <p:pic>
          <p:nvPicPr>
            <p:cNvPr id="229" name="图片 3294" descr="pan01"/>
            <p:cNvPicPr/>
            <p:nvPr/>
          </p:nvPicPr>
          <p:blipFill>
            <a:blip r:embed="rId6"/>
            <a:srcRect l="60431" t="0" r="2341" b="0"/>
            <a:stretch/>
          </p:blipFill>
          <p:spPr>
            <a:xfrm>
              <a:off x="6480" y="304920"/>
              <a:ext cx="3809880" cy="50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任意多边形 3295"/>
            <p:cNvSpPr/>
            <p:nvPr/>
          </p:nvSpPr>
          <p:spPr>
            <a:xfrm>
              <a:off x="-4680" y="476280"/>
              <a:ext cx="3567240" cy="4561920"/>
            </a:xfrm>
            <a:custGeom>
              <a:avLst/>
              <a:gdLst/>
              <a:ahLst/>
              <a:rect l="l" t="t" r="r" b="b"/>
              <a:pathLst>
                <a:path w="2247" h="2874">
                  <a:moveTo>
                    <a:pt x="7" y="0"/>
                  </a:moveTo>
                  <a:lnTo>
                    <a:pt x="2247" y="0"/>
                  </a:lnTo>
                  <a:lnTo>
                    <a:pt x="540" y="2868"/>
                  </a:lnTo>
                  <a:lnTo>
                    <a:pt x="0" y="2874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文本框 3306"/>
          <p:cNvSpPr/>
          <p:nvPr/>
        </p:nvSpPr>
        <p:spPr>
          <a:xfrm>
            <a:off x="7924680" y="1295280"/>
            <a:ext cx="109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304920" y="640044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8"/>
          </p:nvPr>
        </p:nvSpPr>
        <p:spPr>
          <a:xfrm>
            <a:off x="6171840" y="64004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9"/>
          </p:nvPr>
        </p:nvSpPr>
        <p:spPr>
          <a:xfrm>
            <a:off x="3733920" y="640044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55F4-45A6-48FA-8347-CC82DDB91E93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8.wmf"/><Relationship Id="rId3" Type="http://schemas.openxmlformats.org/officeDocument/2006/relationships/image" Target="../media/image26.png"/><Relationship Id="rId4" Type="http://schemas.openxmlformats.org/officeDocument/2006/relationships/image" Target="../media/image8.wmf"/><Relationship Id="rId5" Type="http://schemas.openxmlformats.org/officeDocument/2006/relationships/image" Target="../media/image26.png"/><Relationship Id="rId6" Type="http://schemas.openxmlformats.org/officeDocument/2006/relationships/image" Target="../media/image8.wmf"/><Relationship Id="rId7" Type="http://schemas.openxmlformats.org/officeDocument/2006/relationships/image" Target="../media/image26.png"/><Relationship Id="rId8" Type="http://schemas.openxmlformats.org/officeDocument/2006/relationships/image" Target="../media/image8.wmf"/><Relationship Id="rId9" Type="http://schemas.openxmlformats.org/officeDocument/2006/relationships/image" Target="../media/image26.png"/><Relationship Id="rId10" Type="http://schemas.openxmlformats.org/officeDocument/2006/relationships/image" Target="../media/image8.wmf"/><Relationship Id="rId11" Type="http://schemas.openxmlformats.org/officeDocument/2006/relationships/image" Target="../media/image26.png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image" Target="../media/image9.png"/><Relationship Id="rId11" Type="http://schemas.openxmlformats.org/officeDocument/2006/relationships/image" Target="../media/image7.png"/><Relationship Id="rId12" Type="http://schemas.openxmlformats.org/officeDocument/2006/relationships/image" Target="../media/image8.wmf"/><Relationship Id="rId13" Type="http://schemas.openxmlformats.org/officeDocument/2006/relationships/image" Target="../media/image9.png"/><Relationship Id="rId14" Type="http://schemas.openxmlformats.org/officeDocument/2006/relationships/image" Target="../media/image7.png"/><Relationship Id="rId15" Type="http://schemas.openxmlformats.org/officeDocument/2006/relationships/image" Target="../media/image8.wmf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12.png"/><Relationship Id="rId7" Type="http://schemas.openxmlformats.org/officeDocument/2006/relationships/image" Target="../media/image7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648320" y="4343040"/>
            <a:ext cx="4419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Your company  slogan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120240" y="188640"/>
            <a:ext cx="782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金融工作办公</a:t>
            </a:r>
            <a:r>
              <a:rPr b="1" lang="en-US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Microsoft JhengHei"/>
                <a:ea typeface="宋体"/>
              </a:rPr>
              <a:t>模板免费下</a:t>
            </a:r>
            <a:r>
              <a:rPr b="1" lang="zh-CN" sz="4400" spc="-1" strike="noStrike">
                <a:solidFill>
                  <a:srgbClr val="000000"/>
                </a:solidFill>
                <a:latin typeface="Microsoft JhengHei"/>
                <a:ea typeface="宋体"/>
              </a:rPr>
              <a:t>载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圆角矩形 125953"/>
          <p:cNvSpPr/>
          <p:nvPr/>
        </p:nvSpPr>
        <p:spPr>
          <a:xfrm>
            <a:off x="533520" y="2971800"/>
            <a:ext cx="8381880" cy="3276720"/>
          </a:xfrm>
          <a:prstGeom prst="roundRect">
            <a:avLst>
              <a:gd name="adj" fmla="val 3125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609480" y="3102120"/>
          <a:ext cx="8229600" cy="2852640"/>
        </p:xfrm>
        <a:graphic>
          <a:graphicData uri="http://schemas.openxmlformats.org/drawingml/2006/table">
            <a:tbl>
              <a:tblPr/>
              <a:tblGrid>
                <a:gridCol w="1447920"/>
                <a:gridCol w="1371600"/>
                <a:gridCol w="1371600"/>
                <a:gridCol w="1371600"/>
                <a:gridCol w="1371600"/>
                <a:gridCol w="1295280"/>
              </a:tblGrid>
              <a:tr h="4604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90c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ex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90c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ex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90c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ex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90c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ex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90c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Tex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90c2"/>
                    </a:solidFill>
                  </a:tcPr>
                </a:tc>
              </a:tr>
              <a:tr h="398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ont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24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24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24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24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24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246">
                        <a:alpha val="50000"/>
                      </a:srgbClr>
                    </a:solidFill>
                  </a:tcPr>
                </a:tc>
              </a:tr>
              <a:tr h="398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ont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399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ont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24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24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24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24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24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246">
                        <a:alpha val="50000"/>
                      </a:srgbClr>
                    </a:solidFill>
                  </a:tcPr>
                </a:tc>
              </a:tr>
              <a:tr h="398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ont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398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ont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24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24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24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24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246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246">
                        <a:alpha val="50000"/>
                      </a:srgbClr>
                    </a:solidFill>
                  </a:tcPr>
                </a:tc>
              </a:tr>
              <a:tr h="398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ont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6248520" y="2154240"/>
          <a:ext cx="2590560" cy="676440"/>
        </p:xfrm>
        <a:graphic>
          <a:graphicData uri="http://schemas.openxmlformats.org/drawingml/2006/table">
            <a:tbl>
              <a:tblPr/>
              <a:tblGrid>
                <a:gridCol w="977400"/>
                <a:gridCol w="1613160"/>
              </a:tblGrid>
              <a:tr h="33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D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a90c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a90c2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90c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a90c2"/>
                      </a:solidFill>
                    </a:lnR>
                    <a:lnT w="5760">
                      <a:solidFill>
                        <a:srgbClr val="5a90c2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3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Na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5a90c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a90c2"/>
                      </a:solidFill>
                    </a:lnB>
                    <a:solidFill>
                      <a:srgbClr val="5a90c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a90c2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a90c2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51" name="文本框 126029"/>
          <p:cNvSpPr/>
          <p:nvPr/>
        </p:nvSpPr>
        <p:spPr>
          <a:xfrm>
            <a:off x="609480" y="18288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07a"/>
                </a:solidFill>
                <a:latin typeface="Arial"/>
                <a:ea typeface="宋体"/>
              </a:rPr>
              <a:t>Title in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631800" y="2314440"/>
            <a:ext cx="546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126031"/>
          <p:cNvSpPr/>
          <p:nvPr/>
        </p:nvSpPr>
        <p:spPr>
          <a:xfrm>
            <a:off x="7315200" y="596592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*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任意多边形 130050"/>
          <p:cNvSpPr/>
          <p:nvPr/>
        </p:nvSpPr>
        <p:spPr>
          <a:xfrm flipV="1">
            <a:off x="1022400" y="5409720"/>
            <a:ext cx="7089840" cy="40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694" y="21600"/>
                </a:lnTo>
                <a:lnTo>
                  <a:pt x="17906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圆角矩形 130051"/>
          <p:cNvSpPr/>
          <p:nvPr/>
        </p:nvSpPr>
        <p:spPr>
          <a:xfrm>
            <a:off x="1676520" y="1752480"/>
            <a:ext cx="2819160" cy="1755720"/>
          </a:xfrm>
          <a:prstGeom prst="roundRect">
            <a:avLst>
              <a:gd name="adj" fmla="val 9616"/>
            </a:avLst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5a90c2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圆角矩形 130052"/>
          <p:cNvSpPr/>
          <p:nvPr/>
        </p:nvSpPr>
        <p:spPr>
          <a:xfrm>
            <a:off x="4648320" y="1752480"/>
            <a:ext cx="2819160" cy="1755720"/>
          </a:xfrm>
          <a:prstGeom prst="roundRect">
            <a:avLst>
              <a:gd name="adj" fmla="val 9616"/>
            </a:avLst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8ac246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圆角矩形 130053"/>
          <p:cNvSpPr/>
          <p:nvPr/>
        </p:nvSpPr>
        <p:spPr>
          <a:xfrm>
            <a:off x="1676520" y="3654360"/>
            <a:ext cx="2819160" cy="1832040"/>
          </a:xfrm>
          <a:prstGeom prst="roundRect">
            <a:avLst>
              <a:gd name="adj" fmla="val 9616"/>
            </a:avLst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f6831a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圆角矩形 130054"/>
          <p:cNvSpPr/>
          <p:nvPr/>
        </p:nvSpPr>
        <p:spPr>
          <a:xfrm>
            <a:off x="4648320" y="3654360"/>
            <a:ext cx="2819160" cy="1832040"/>
          </a:xfrm>
          <a:prstGeom prst="roundRect">
            <a:avLst>
              <a:gd name="adj" fmla="val 9616"/>
            </a:avLst>
          </a:prstGeom>
          <a:gradFill rotWithShape="0">
            <a:gsLst>
              <a:gs pos="0">
                <a:srgbClr val="f5f5f5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fc821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圆角矩形 130055"/>
          <p:cNvSpPr/>
          <p:nvPr/>
        </p:nvSpPr>
        <p:spPr>
          <a:xfrm>
            <a:off x="2744640" y="2743200"/>
            <a:ext cx="1752840" cy="766800"/>
          </a:xfrm>
          <a:prstGeom prst="roundRect">
            <a:avLst>
              <a:gd name="adj" fmla="val 19773"/>
            </a:avLst>
          </a:prstGeom>
          <a:gradFill rotWithShape="0">
            <a:gsLst>
              <a:gs pos="0">
                <a:srgbClr val="5a90c2"/>
              </a:gs>
              <a:gs pos="100000">
                <a:srgbClr val="3c6081"/>
              </a:gs>
            </a:gsLst>
            <a:lin ang="5400000"/>
          </a:gradFill>
          <a:ln w="19080">
            <a:solidFill>
              <a:srgbClr val="5a90c2"/>
            </a:solidFill>
            <a:round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圆角矩形 130056"/>
          <p:cNvSpPr/>
          <p:nvPr/>
        </p:nvSpPr>
        <p:spPr>
          <a:xfrm>
            <a:off x="4638600" y="2743200"/>
            <a:ext cx="1752840" cy="766800"/>
          </a:xfrm>
          <a:prstGeom prst="roundRect">
            <a:avLst>
              <a:gd name="adj" fmla="val 20903"/>
            </a:avLst>
          </a:prstGeom>
          <a:gradFill rotWithShape="0">
            <a:gsLst>
              <a:gs pos="0">
                <a:srgbClr val="8ac246"/>
              </a:gs>
              <a:gs pos="100000">
                <a:srgbClr val="5c812f"/>
              </a:gs>
            </a:gsLst>
            <a:lin ang="5400000"/>
          </a:gradFill>
          <a:ln w="19080">
            <a:solidFill>
              <a:srgbClr val="8ac246"/>
            </a:solidFill>
            <a:round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圆角矩形 130057"/>
          <p:cNvSpPr/>
          <p:nvPr/>
        </p:nvSpPr>
        <p:spPr>
          <a:xfrm>
            <a:off x="2744640" y="3645000"/>
            <a:ext cx="1752840" cy="745920"/>
          </a:xfrm>
          <a:prstGeom prst="roundRect">
            <a:avLst>
              <a:gd name="adj" fmla="val 19773"/>
            </a:avLst>
          </a:prstGeom>
          <a:gradFill rotWithShape="0">
            <a:gsLst>
              <a:gs pos="0">
                <a:srgbClr val="f6831a"/>
              </a:gs>
              <a:gs pos="100000">
                <a:srgbClr val="a45711"/>
              </a:gs>
            </a:gsLst>
            <a:lin ang="5400000"/>
          </a:gradFill>
          <a:ln w="19080">
            <a:solidFill>
              <a:srgbClr val="f6831a"/>
            </a:solidFill>
            <a:round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圆角矩形 130058"/>
          <p:cNvSpPr/>
          <p:nvPr/>
        </p:nvSpPr>
        <p:spPr>
          <a:xfrm>
            <a:off x="4638600" y="3645000"/>
            <a:ext cx="1752840" cy="745920"/>
          </a:xfrm>
          <a:prstGeom prst="roundRect">
            <a:avLst>
              <a:gd name="adj" fmla="val 20903"/>
            </a:avLst>
          </a:prstGeom>
          <a:gradFill rotWithShape="0">
            <a:gsLst>
              <a:gs pos="0">
                <a:srgbClr val="efc821"/>
              </a:gs>
              <a:gs pos="100000">
                <a:srgbClr val="9f8516"/>
              </a:gs>
            </a:gsLst>
            <a:lin ang="5400000"/>
          </a:gradFill>
          <a:ln w="19080">
            <a:solidFill>
              <a:srgbClr val="efc821"/>
            </a:solidFill>
            <a:round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圆角矩形 130059"/>
          <p:cNvSpPr/>
          <p:nvPr/>
        </p:nvSpPr>
        <p:spPr>
          <a:xfrm>
            <a:off x="923760" y="5713560"/>
            <a:ext cx="7296480" cy="763560"/>
          </a:xfrm>
          <a:prstGeom prst="roundRect">
            <a:avLst>
              <a:gd name="adj" fmla="val 35954"/>
            </a:avLst>
          </a:prstGeom>
          <a:gradFill rotWithShape="0">
            <a:gsLst>
              <a:gs pos="0">
                <a:srgbClr val="ff9900"/>
              </a:gs>
              <a:gs pos="50000">
                <a:srgbClr val="ffc56d"/>
              </a:gs>
              <a:gs pos="100000">
                <a:srgbClr val="ff9900"/>
              </a:gs>
            </a:gsLst>
            <a:lin ang="5400000"/>
          </a:gradFill>
          <a:ln w="19080">
            <a:solidFill>
              <a:srgbClr val="d27d00"/>
            </a:solidFill>
            <a:round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130060"/>
          <p:cNvSpPr/>
          <p:nvPr/>
        </p:nvSpPr>
        <p:spPr>
          <a:xfrm>
            <a:off x="2838600" y="2943360"/>
            <a:ext cx="157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130061"/>
          <p:cNvSpPr/>
          <p:nvPr/>
        </p:nvSpPr>
        <p:spPr>
          <a:xfrm>
            <a:off x="4710240" y="2943360"/>
            <a:ext cx="157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130062"/>
          <p:cNvSpPr/>
          <p:nvPr/>
        </p:nvSpPr>
        <p:spPr>
          <a:xfrm>
            <a:off x="2838600" y="3821040"/>
            <a:ext cx="157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130063"/>
          <p:cNvSpPr/>
          <p:nvPr/>
        </p:nvSpPr>
        <p:spPr>
          <a:xfrm>
            <a:off x="4710240" y="3809880"/>
            <a:ext cx="157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130064"/>
          <p:cNvSpPr/>
          <p:nvPr/>
        </p:nvSpPr>
        <p:spPr>
          <a:xfrm>
            <a:off x="1752480" y="1828800"/>
            <a:ext cx="228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130065"/>
          <p:cNvSpPr/>
          <p:nvPr/>
        </p:nvSpPr>
        <p:spPr>
          <a:xfrm>
            <a:off x="1752480" y="4707000"/>
            <a:ext cx="228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130066"/>
          <p:cNvSpPr/>
          <p:nvPr/>
        </p:nvSpPr>
        <p:spPr>
          <a:xfrm>
            <a:off x="5105520" y="1828800"/>
            <a:ext cx="228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130067"/>
          <p:cNvSpPr/>
          <p:nvPr/>
        </p:nvSpPr>
        <p:spPr>
          <a:xfrm>
            <a:off x="5105520" y="4707000"/>
            <a:ext cx="228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1676520" y="5819760"/>
            <a:ext cx="579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圆角矩形 124930"/>
          <p:cNvSpPr/>
          <p:nvPr/>
        </p:nvSpPr>
        <p:spPr>
          <a:xfrm>
            <a:off x="2771640" y="2046240"/>
            <a:ext cx="499140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5a90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圆角矩形 124931"/>
          <p:cNvSpPr/>
          <p:nvPr/>
        </p:nvSpPr>
        <p:spPr>
          <a:xfrm>
            <a:off x="2781360" y="34196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8ac2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上箭头 124932"/>
          <p:cNvSpPr/>
          <p:nvPr/>
        </p:nvSpPr>
        <p:spPr>
          <a:xfrm>
            <a:off x="2009880" y="1523880"/>
            <a:ext cx="2438280" cy="1785960"/>
          </a:xfrm>
          <a:prstGeom prst="upArrow">
            <a:avLst>
              <a:gd name="adj1" fmla="val 49093"/>
              <a:gd name="adj2" fmla="val 22301"/>
            </a:avLst>
          </a:prstGeom>
          <a:gradFill rotWithShape="0">
            <a:gsLst>
              <a:gs pos="0">
                <a:srgbClr val="3c5f81"/>
              </a:gs>
              <a:gs pos="100000">
                <a:srgbClr val="5a90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上箭头 124933"/>
          <p:cNvSpPr/>
          <p:nvPr/>
        </p:nvSpPr>
        <p:spPr>
          <a:xfrm>
            <a:off x="1371600" y="2905200"/>
            <a:ext cx="2476440" cy="1778040"/>
          </a:xfrm>
          <a:prstGeom prst="upArrow">
            <a:avLst>
              <a:gd name="adj1" fmla="val 51824"/>
              <a:gd name="adj2" fmla="val 23458"/>
            </a:avLst>
          </a:prstGeom>
          <a:gradFill rotWithShape="0">
            <a:gsLst>
              <a:gs pos="0">
                <a:srgbClr val="4d6d27"/>
              </a:gs>
              <a:gs pos="100000">
                <a:srgbClr val="8ac24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圆角矩形 124934"/>
          <p:cNvSpPr/>
          <p:nvPr/>
        </p:nvSpPr>
        <p:spPr>
          <a:xfrm>
            <a:off x="2100240" y="4815000"/>
            <a:ext cx="567072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efc8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上箭头 124935"/>
          <p:cNvSpPr/>
          <p:nvPr/>
        </p:nvSpPr>
        <p:spPr>
          <a:xfrm>
            <a:off x="828720" y="4275000"/>
            <a:ext cx="2438280" cy="1805040"/>
          </a:xfrm>
          <a:prstGeom prst="upArrow">
            <a:avLst>
              <a:gd name="adj1" fmla="val 52602"/>
              <a:gd name="adj2" fmla="val 25236"/>
            </a:avLst>
          </a:prstGeom>
          <a:gradFill rotWithShape="0">
            <a:gsLst>
              <a:gs pos="0">
                <a:srgbClr val="897313"/>
              </a:gs>
              <a:gs pos="100000">
                <a:srgbClr val="efc8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124936"/>
          <p:cNvSpPr txBox="1"/>
          <p:nvPr/>
        </p:nvSpPr>
        <p:spPr>
          <a:xfrm rot="5400000">
            <a:off x="1754280" y="36464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1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2" name="矩形 124937"/>
          <p:cNvSpPr txBox="1"/>
          <p:nvPr/>
        </p:nvSpPr>
        <p:spPr>
          <a:xfrm rot="5400000">
            <a:off x="1275120" y="5233320"/>
            <a:ext cx="68436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1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3" name="矩形 124938"/>
          <p:cNvSpPr txBox="1"/>
          <p:nvPr/>
        </p:nvSpPr>
        <p:spPr>
          <a:xfrm rot="5400000">
            <a:off x="2387520" y="2261880"/>
            <a:ext cx="78876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1" lang="en-US" sz="20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4" name="文本框 124939"/>
          <p:cNvSpPr/>
          <p:nvPr/>
        </p:nvSpPr>
        <p:spPr>
          <a:xfrm>
            <a:off x="3076560" y="2085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124940"/>
          <p:cNvSpPr/>
          <p:nvPr/>
        </p:nvSpPr>
        <p:spPr>
          <a:xfrm>
            <a:off x="2476440" y="33764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124941"/>
          <p:cNvSpPr/>
          <p:nvPr/>
        </p:nvSpPr>
        <p:spPr>
          <a:xfrm>
            <a:off x="1886040" y="48531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124942"/>
          <p:cNvSpPr/>
          <p:nvPr/>
        </p:nvSpPr>
        <p:spPr>
          <a:xfrm>
            <a:off x="3133800" y="4884840"/>
            <a:ext cx="35859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124943"/>
          <p:cNvSpPr/>
          <p:nvPr/>
        </p:nvSpPr>
        <p:spPr>
          <a:xfrm>
            <a:off x="4211640" y="2092320"/>
            <a:ext cx="32385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124944"/>
          <p:cNvSpPr/>
          <p:nvPr/>
        </p:nvSpPr>
        <p:spPr>
          <a:xfrm>
            <a:off x="3594240" y="3475080"/>
            <a:ext cx="35812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图片 131073" descr="1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762120" y="4659480"/>
            <a:ext cx="1752480" cy="164124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131074" descr="2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2765520" y="4070520"/>
            <a:ext cx="1752480" cy="223344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131075" descr="3"/>
          <p:cNvPicPr/>
          <p:nvPr/>
        </p:nvPicPr>
        <p:blipFill>
          <a:blip r:embed="rId3">
            <a:lum bright="-30000"/>
          </a:blip>
          <a:stretch/>
        </p:blipFill>
        <p:spPr>
          <a:xfrm>
            <a:off x="4745160" y="3276720"/>
            <a:ext cx="1739880" cy="302400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131076" descr="4"/>
          <p:cNvPicPr/>
          <p:nvPr/>
        </p:nvPicPr>
        <p:blipFill>
          <a:blip r:embed="rId4">
            <a:lum bright="-30000"/>
          </a:blip>
          <a:stretch/>
        </p:blipFill>
        <p:spPr>
          <a:xfrm>
            <a:off x="6727680" y="2514600"/>
            <a:ext cx="1739880" cy="379260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组合 131078"/>
          <p:cNvGrpSpPr/>
          <p:nvPr/>
        </p:nvGrpSpPr>
        <p:grpSpPr>
          <a:xfrm>
            <a:off x="4748040" y="3213000"/>
            <a:ext cx="1728720" cy="533520"/>
            <a:chOff x="4748040" y="3213000"/>
            <a:chExt cx="1728720" cy="533520"/>
          </a:xfrm>
        </p:grpSpPr>
        <p:sp>
          <p:nvSpPr>
            <p:cNvPr id="596" name="椭圆 131079"/>
            <p:cNvSpPr/>
            <p:nvPr/>
          </p:nvSpPr>
          <p:spPr>
            <a:xfrm>
              <a:off x="4752720" y="325584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658b0e"/>
                </a:gs>
                <a:gs pos="50000">
                  <a:srgbClr val="b0f319"/>
                </a:gs>
                <a:gs pos="100000">
                  <a:srgbClr val="658b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椭圆 131080"/>
            <p:cNvSpPr/>
            <p:nvPr/>
          </p:nvSpPr>
          <p:spPr>
            <a:xfrm>
              <a:off x="4748040" y="321300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e8fcbd"/>
                </a:gs>
                <a:gs pos="100000">
                  <a:srgbClr val="b0f31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131081"/>
          <p:cNvGrpSpPr/>
          <p:nvPr/>
        </p:nvGrpSpPr>
        <p:grpSpPr>
          <a:xfrm>
            <a:off x="6729480" y="2451240"/>
            <a:ext cx="1728720" cy="532800"/>
            <a:chOff x="6729480" y="2451240"/>
            <a:chExt cx="1728720" cy="532800"/>
          </a:xfrm>
        </p:grpSpPr>
        <p:sp>
          <p:nvSpPr>
            <p:cNvPr id="599" name="椭圆 131082"/>
            <p:cNvSpPr/>
            <p:nvPr/>
          </p:nvSpPr>
          <p:spPr>
            <a:xfrm>
              <a:off x="6734160" y="2493720"/>
              <a:ext cx="1724040" cy="490320"/>
            </a:xfrm>
            <a:prstGeom prst="ellipse">
              <a:avLst/>
            </a:prstGeom>
            <a:gradFill rotWithShape="0">
              <a:gsLst>
                <a:gs pos="0">
                  <a:srgbClr val="8d680d"/>
                </a:gs>
                <a:gs pos="50000">
                  <a:srgbClr val="f6b616"/>
                </a:gs>
                <a:gs pos="100000">
                  <a:srgbClr val="8d68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椭圆 131083"/>
            <p:cNvSpPr/>
            <p:nvPr/>
          </p:nvSpPr>
          <p:spPr>
            <a:xfrm>
              <a:off x="6729480" y="2451240"/>
              <a:ext cx="1724040" cy="490320"/>
            </a:xfrm>
            <a:prstGeom prst="ellipse">
              <a:avLst/>
            </a:prstGeom>
            <a:gradFill rotWithShape="0">
              <a:gsLst>
                <a:gs pos="0">
                  <a:srgbClr val="fceabc"/>
                </a:gs>
                <a:gs pos="100000">
                  <a:srgbClr val="f6b61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组合 131084"/>
          <p:cNvGrpSpPr/>
          <p:nvPr/>
        </p:nvGrpSpPr>
        <p:grpSpPr>
          <a:xfrm>
            <a:off x="781200" y="4584600"/>
            <a:ext cx="1728720" cy="533520"/>
            <a:chOff x="781200" y="4584600"/>
            <a:chExt cx="1728720" cy="533520"/>
          </a:xfrm>
        </p:grpSpPr>
        <p:sp>
          <p:nvSpPr>
            <p:cNvPr id="602" name="椭圆 131085"/>
            <p:cNvSpPr/>
            <p:nvPr/>
          </p:nvSpPr>
          <p:spPr>
            <a:xfrm>
              <a:off x="785880" y="462744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922e2e"/>
                </a:gs>
                <a:gs pos="50000">
                  <a:srgbClr val="ff5050"/>
                </a:gs>
                <a:gs pos="100000">
                  <a:srgbClr val="9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椭圆 131086"/>
            <p:cNvSpPr/>
            <p:nvPr/>
          </p:nvSpPr>
          <p:spPr>
            <a:xfrm>
              <a:off x="781200" y="458460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ffc7c7"/>
                </a:gs>
                <a:gs pos="100000">
                  <a:srgbClr val="ff505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组合 131087"/>
          <p:cNvGrpSpPr/>
          <p:nvPr/>
        </p:nvGrpSpPr>
        <p:grpSpPr>
          <a:xfrm>
            <a:off x="2766960" y="3975120"/>
            <a:ext cx="1728720" cy="533520"/>
            <a:chOff x="2766960" y="3975120"/>
            <a:chExt cx="1728720" cy="533520"/>
          </a:xfrm>
        </p:grpSpPr>
        <p:sp>
          <p:nvSpPr>
            <p:cNvPr id="605" name="椭圆 131088"/>
            <p:cNvSpPr/>
            <p:nvPr/>
          </p:nvSpPr>
          <p:spPr>
            <a:xfrm>
              <a:off x="2771640" y="401796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0f4a8a"/>
                </a:gs>
                <a:gs pos="50000">
                  <a:srgbClr val="1b81f1"/>
                </a:gs>
                <a:gs pos="100000">
                  <a:srgbClr val="0f4a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椭圆 131089"/>
            <p:cNvSpPr/>
            <p:nvPr/>
          </p:nvSpPr>
          <p:spPr>
            <a:xfrm>
              <a:off x="2766960" y="397512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b7d7fb"/>
                </a:gs>
                <a:gs pos="100000">
                  <a:srgbClr val="1b81f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7" name="图片 131090" descr="062"/>
          <p:cNvPicPr/>
          <p:nvPr/>
        </p:nvPicPr>
        <p:blipFill>
          <a:blip r:embed="rId5"/>
          <a:stretch/>
        </p:blipFill>
        <p:spPr>
          <a:xfrm>
            <a:off x="5105520" y="2209680"/>
            <a:ext cx="868320" cy="137160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131091" descr="3D_30"/>
          <p:cNvPicPr/>
          <p:nvPr/>
        </p:nvPicPr>
        <p:blipFill>
          <a:blip r:embed="rId6"/>
          <a:stretch/>
        </p:blipFill>
        <p:spPr>
          <a:xfrm>
            <a:off x="6934320" y="1523880"/>
            <a:ext cx="1245960" cy="129564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131092" descr="118"/>
          <p:cNvPicPr/>
          <p:nvPr/>
        </p:nvPicPr>
        <p:blipFill>
          <a:blip r:embed="rId7"/>
          <a:stretch/>
        </p:blipFill>
        <p:spPr>
          <a:xfrm>
            <a:off x="2971800" y="3124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131093" descr="013"/>
          <p:cNvPicPr/>
          <p:nvPr/>
        </p:nvPicPr>
        <p:blipFill>
          <a:blip r:embed="rId8"/>
          <a:stretch/>
        </p:blipFill>
        <p:spPr>
          <a:xfrm>
            <a:off x="1143000" y="3657600"/>
            <a:ext cx="1098720" cy="129528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9"/>
          <p:cNvSpPr/>
          <p:nvPr/>
        </p:nvSpPr>
        <p:spPr>
          <a:xfrm>
            <a:off x="533520" y="160020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131095"/>
          <p:cNvSpPr/>
          <p:nvPr/>
        </p:nvSpPr>
        <p:spPr>
          <a:xfrm>
            <a:off x="762120" y="5257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131096"/>
          <p:cNvSpPr/>
          <p:nvPr/>
        </p:nvSpPr>
        <p:spPr>
          <a:xfrm>
            <a:off x="2759040" y="5257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131097"/>
          <p:cNvSpPr/>
          <p:nvPr/>
        </p:nvSpPr>
        <p:spPr>
          <a:xfrm>
            <a:off x="4765680" y="5257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131098"/>
          <p:cNvSpPr/>
          <p:nvPr/>
        </p:nvSpPr>
        <p:spPr>
          <a:xfrm>
            <a:off x="6751800" y="5257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圆角矩形 87042"/>
          <p:cNvSpPr/>
          <p:nvPr/>
        </p:nvSpPr>
        <p:spPr>
          <a:xfrm>
            <a:off x="1015920" y="167652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3333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圆角矩形 87043"/>
          <p:cNvSpPr/>
          <p:nvPr/>
        </p:nvSpPr>
        <p:spPr>
          <a:xfrm>
            <a:off x="1676520" y="5410080"/>
            <a:ext cx="5790960" cy="82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round/>
          </a:ln>
          <a:effectLst>
            <a:outerShdw dist="12600" dir="54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圆角矩形 87044"/>
          <p:cNvSpPr/>
          <p:nvPr/>
        </p:nvSpPr>
        <p:spPr>
          <a:xfrm>
            <a:off x="6159600" y="203688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7" y="0"/>
                </a:moveTo>
                <a:arcTo wR="2057" hR="2057" stAng="16200000" swAng="-5400000"/>
                <a:lnTo>
                  <a:pt x="0" y="34661"/>
                </a:lnTo>
                <a:arcTo wR="2057" hR="2057" stAng="10800000" swAng="-5400000"/>
                <a:lnTo>
                  <a:pt x="19543" y="36718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3bb1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圆角矩形 87045"/>
          <p:cNvSpPr/>
          <p:nvPr/>
        </p:nvSpPr>
        <p:spPr>
          <a:xfrm>
            <a:off x="4545000" y="20368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25b7e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圆角矩形 87046"/>
          <p:cNvSpPr/>
          <p:nvPr/>
        </p:nvSpPr>
        <p:spPr>
          <a:xfrm>
            <a:off x="2933640" y="20368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8aae5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圆角矩形 87047"/>
          <p:cNvSpPr/>
          <p:nvPr/>
        </p:nvSpPr>
        <p:spPr>
          <a:xfrm>
            <a:off x="1319040" y="20368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52ca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87048"/>
          <p:cNvSpPr/>
          <p:nvPr/>
        </p:nvSpPr>
        <p:spPr>
          <a:xfrm>
            <a:off x="2133720" y="5486400"/>
            <a:ext cx="46782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Calibri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下箭头 87049"/>
          <p:cNvSpPr/>
          <p:nvPr/>
        </p:nvSpPr>
        <p:spPr>
          <a:xfrm>
            <a:off x="1601640" y="2038320"/>
            <a:ext cx="981360" cy="623880"/>
          </a:xfrm>
          <a:prstGeom prst="downArrow">
            <a:avLst>
              <a:gd name="adj1" fmla="val 75111"/>
              <a:gd name="adj2" fmla="val 4083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87050"/>
          <p:cNvSpPr/>
          <p:nvPr/>
        </p:nvSpPr>
        <p:spPr>
          <a:xfrm>
            <a:off x="1562040" y="205740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alibri"/>
                <a:ea typeface="宋体"/>
              </a:rPr>
              <a:t>8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下箭头 87051"/>
          <p:cNvSpPr/>
          <p:nvPr/>
        </p:nvSpPr>
        <p:spPr>
          <a:xfrm>
            <a:off x="3195720" y="2039760"/>
            <a:ext cx="981000" cy="1214640"/>
          </a:xfrm>
          <a:prstGeom prst="downArrow">
            <a:avLst>
              <a:gd name="adj1" fmla="val 77269"/>
              <a:gd name="adj2" fmla="val 2883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下箭头 87052"/>
          <p:cNvSpPr/>
          <p:nvPr/>
        </p:nvSpPr>
        <p:spPr>
          <a:xfrm>
            <a:off x="4811760" y="2039760"/>
            <a:ext cx="981000" cy="1582920"/>
          </a:xfrm>
          <a:prstGeom prst="downArrow">
            <a:avLst>
              <a:gd name="adj1" fmla="val 77269"/>
              <a:gd name="adj2" fmla="val 375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下箭头 87053"/>
          <p:cNvSpPr/>
          <p:nvPr/>
        </p:nvSpPr>
        <p:spPr>
          <a:xfrm>
            <a:off x="6434280" y="2039760"/>
            <a:ext cx="981000" cy="1787760"/>
          </a:xfrm>
          <a:prstGeom prst="downArrow">
            <a:avLst>
              <a:gd name="adj1" fmla="val 77269"/>
              <a:gd name="adj2" fmla="val 3622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87054"/>
          <p:cNvSpPr/>
          <p:nvPr/>
        </p:nvSpPr>
        <p:spPr>
          <a:xfrm>
            <a:off x="3178080" y="20732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alibri"/>
                <a:ea typeface="宋体"/>
              </a:rPr>
              <a:t>5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87055"/>
          <p:cNvSpPr/>
          <p:nvPr/>
        </p:nvSpPr>
        <p:spPr>
          <a:xfrm>
            <a:off x="4781520" y="20732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alibri"/>
                <a:ea typeface="宋体"/>
              </a:rPr>
              <a:t>3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87056"/>
          <p:cNvSpPr/>
          <p:nvPr/>
        </p:nvSpPr>
        <p:spPr>
          <a:xfrm>
            <a:off x="6404040" y="20653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alibri"/>
                <a:ea typeface="宋体"/>
              </a:rPr>
              <a:t>2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组合 87057"/>
          <p:cNvGrpSpPr/>
          <p:nvPr/>
        </p:nvGrpSpPr>
        <p:grpSpPr>
          <a:xfrm>
            <a:off x="1324080" y="4384800"/>
            <a:ext cx="1553760" cy="704880"/>
            <a:chOff x="1324080" y="4384800"/>
            <a:chExt cx="1553760" cy="704880"/>
          </a:xfrm>
        </p:grpSpPr>
        <p:sp>
          <p:nvSpPr>
            <p:cNvPr id="633" name="圆角矩形 87058"/>
            <p:cNvSpPr/>
            <p:nvPr/>
          </p:nvSpPr>
          <p:spPr>
            <a:xfrm>
              <a:off x="1324080" y="43848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d7ca7"/>
                </a:gs>
                <a:gs pos="100000">
                  <a:srgbClr val="5a90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圆角矩形 87059"/>
            <p:cNvSpPr/>
            <p:nvPr/>
          </p:nvSpPr>
          <p:spPr>
            <a:xfrm>
              <a:off x="1325520" y="438588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a90c2"/>
                </a:gs>
                <a:gs pos="100000">
                  <a:srgbClr val="8cb2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组合 87060"/>
          <p:cNvGrpSpPr/>
          <p:nvPr/>
        </p:nvGrpSpPr>
        <p:grpSpPr>
          <a:xfrm>
            <a:off x="2943360" y="4384800"/>
            <a:ext cx="1553760" cy="704880"/>
            <a:chOff x="2943360" y="4384800"/>
            <a:chExt cx="1553760" cy="704880"/>
          </a:xfrm>
        </p:grpSpPr>
        <p:sp>
          <p:nvSpPr>
            <p:cNvPr id="636" name="圆角矩形 87061"/>
            <p:cNvSpPr/>
            <p:nvPr/>
          </p:nvSpPr>
          <p:spPr>
            <a:xfrm>
              <a:off x="2943360" y="43848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7a73c"/>
                </a:gs>
                <a:gs pos="100000">
                  <a:srgbClr val="8ac2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圆角矩形 87062"/>
            <p:cNvSpPr/>
            <p:nvPr/>
          </p:nvSpPr>
          <p:spPr>
            <a:xfrm>
              <a:off x="2944800" y="438588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8ac246"/>
                </a:gs>
                <a:gs pos="100000">
                  <a:srgbClr val="badb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组合 87063"/>
          <p:cNvGrpSpPr/>
          <p:nvPr/>
        </p:nvGrpSpPr>
        <p:grpSpPr>
          <a:xfrm>
            <a:off x="4560840" y="4384800"/>
            <a:ext cx="1553760" cy="704880"/>
            <a:chOff x="4560840" y="4384800"/>
            <a:chExt cx="1553760" cy="704880"/>
          </a:xfrm>
        </p:grpSpPr>
        <p:sp>
          <p:nvSpPr>
            <p:cNvPr id="639" name="圆角矩形 87064"/>
            <p:cNvSpPr/>
            <p:nvPr/>
          </p:nvSpPr>
          <p:spPr>
            <a:xfrm>
              <a:off x="4560840" y="43848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dac1c"/>
                </a:gs>
                <a:gs pos="100000">
                  <a:srgbClr val="efc8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圆角矩形 87065"/>
            <p:cNvSpPr/>
            <p:nvPr/>
          </p:nvSpPr>
          <p:spPr>
            <a:xfrm>
              <a:off x="4562280" y="438588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fc821"/>
                </a:gs>
                <a:gs pos="100000">
                  <a:srgbClr val="f6de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组合 87066"/>
          <p:cNvGrpSpPr/>
          <p:nvPr/>
        </p:nvGrpSpPr>
        <p:grpSpPr>
          <a:xfrm>
            <a:off x="6176880" y="4384800"/>
            <a:ext cx="1553760" cy="704880"/>
            <a:chOff x="6176880" y="4384800"/>
            <a:chExt cx="1553760" cy="704880"/>
          </a:xfrm>
        </p:grpSpPr>
        <p:sp>
          <p:nvSpPr>
            <p:cNvPr id="642" name="圆角矩形 87067"/>
            <p:cNvSpPr/>
            <p:nvPr/>
          </p:nvSpPr>
          <p:spPr>
            <a:xfrm>
              <a:off x="6176880" y="43848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37116"/>
                </a:gs>
                <a:gs pos="100000">
                  <a:srgbClr val="f6831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圆角矩形 87068"/>
            <p:cNvSpPr/>
            <p:nvPr/>
          </p:nvSpPr>
          <p:spPr>
            <a:xfrm>
              <a:off x="6178320" y="438588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6831a"/>
                </a:gs>
                <a:gs pos="100000">
                  <a:srgbClr val="f9b2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文本框 87069"/>
          <p:cNvSpPr/>
          <p:nvPr/>
        </p:nvSpPr>
        <p:spPr>
          <a:xfrm>
            <a:off x="1390680" y="4711680"/>
            <a:ext cx="1427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87070"/>
          <p:cNvSpPr/>
          <p:nvPr/>
        </p:nvSpPr>
        <p:spPr>
          <a:xfrm>
            <a:off x="3005280" y="4711680"/>
            <a:ext cx="1427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87071"/>
          <p:cNvSpPr/>
          <p:nvPr/>
        </p:nvSpPr>
        <p:spPr>
          <a:xfrm>
            <a:off x="4626000" y="4711680"/>
            <a:ext cx="1427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87072"/>
          <p:cNvSpPr/>
          <p:nvPr/>
        </p:nvSpPr>
        <p:spPr>
          <a:xfrm>
            <a:off x="6227640" y="4711680"/>
            <a:ext cx="1425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87073"/>
          <p:cNvSpPr/>
          <p:nvPr/>
        </p:nvSpPr>
        <p:spPr>
          <a:xfrm>
            <a:off x="1341360" y="4387680"/>
            <a:ext cx="365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87074"/>
          <p:cNvSpPr/>
          <p:nvPr/>
        </p:nvSpPr>
        <p:spPr>
          <a:xfrm>
            <a:off x="2959200" y="4387680"/>
            <a:ext cx="365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87075"/>
          <p:cNvSpPr/>
          <p:nvPr/>
        </p:nvSpPr>
        <p:spPr>
          <a:xfrm>
            <a:off x="4581360" y="4387680"/>
            <a:ext cx="363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87076"/>
          <p:cNvSpPr/>
          <p:nvPr/>
        </p:nvSpPr>
        <p:spPr>
          <a:xfrm>
            <a:off x="6180120" y="4387680"/>
            <a:ext cx="365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组合 87077"/>
          <p:cNvGrpSpPr/>
          <p:nvPr/>
        </p:nvGrpSpPr>
        <p:grpSpPr>
          <a:xfrm>
            <a:off x="1327320" y="4191120"/>
            <a:ext cx="1550520" cy="153720"/>
            <a:chOff x="1327320" y="4191120"/>
            <a:chExt cx="1550520" cy="153720"/>
          </a:xfrm>
        </p:grpSpPr>
        <p:sp>
          <p:nvSpPr>
            <p:cNvPr id="653" name="圆角矩形 87078"/>
            <p:cNvSpPr/>
            <p:nvPr/>
          </p:nvSpPr>
          <p:spPr>
            <a:xfrm>
              <a:off x="1327320" y="41911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d7ca7"/>
                </a:gs>
                <a:gs pos="100000">
                  <a:srgbClr val="5a90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圆角矩形 87079"/>
            <p:cNvSpPr/>
            <p:nvPr/>
          </p:nvSpPr>
          <p:spPr>
            <a:xfrm>
              <a:off x="1328400" y="41911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90c2"/>
                </a:gs>
                <a:gs pos="100000">
                  <a:srgbClr val="8cb2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组合 87080"/>
          <p:cNvGrpSpPr/>
          <p:nvPr/>
        </p:nvGrpSpPr>
        <p:grpSpPr>
          <a:xfrm>
            <a:off x="1327320" y="4037040"/>
            <a:ext cx="1550520" cy="152280"/>
            <a:chOff x="1327320" y="4037040"/>
            <a:chExt cx="1550520" cy="152280"/>
          </a:xfrm>
        </p:grpSpPr>
        <p:sp>
          <p:nvSpPr>
            <p:cNvPr id="656" name="圆角矩形 87081"/>
            <p:cNvSpPr/>
            <p:nvPr/>
          </p:nvSpPr>
          <p:spPr>
            <a:xfrm>
              <a:off x="1327320" y="40370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d7ca7"/>
                </a:gs>
                <a:gs pos="100000">
                  <a:srgbClr val="5a90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圆角矩形 87082"/>
            <p:cNvSpPr/>
            <p:nvPr/>
          </p:nvSpPr>
          <p:spPr>
            <a:xfrm>
              <a:off x="1328400" y="40370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90c2"/>
                </a:gs>
                <a:gs pos="100000">
                  <a:srgbClr val="8cb2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组合 87083"/>
          <p:cNvGrpSpPr/>
          <p:nvPr/>
        </p:nvGrpSpPr>
        <p:grpSpPr>
          <a:xfrm>
            <a:off x="1327320" y="3849840"/>
            <a:ext cx="1550520" cy="153720"/>
            <a:chOff x="1327320" y="3849840"/>
            <a:chExt cx="1550520" cy="153720"/>
          </a:xfrm>
        </p:grpSpPr>
        <p:sp>
          <p:nvSpPr>
            <p:cNvPr id="659" name="圆角矩形 87084"/>
            <p:cNvSpPr/>
            <p:nvPr/>
          </p:nvSpPr>
          <p:spPr>
            <a:xfrm>
              <a:off x="1327320" y="38498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d7ca7"/>
                </a:gs>
                <a:gs pos="100000">
                  <a:srgbClr val="5a90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圆角矩形 87085"/>
            <p:cNvSpPr/>
            <p:nvPr/>
          </p:nvSpPr>
          <p:spPr>
            <a:xfrm>
              <a:off x="1328400" y="38498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90c2"/>
                </a:gs>
                <a:gs pos="100000">
                  <a:srgbClr val="8cb2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87086"/>
          <p:cNvGrpSpPr/>
          <p:nvPr/>
        </p:nvGrpSpPr>
        <p:grpSpPr>
          <a:xfrm>
            <a:off x="1327320" y="3662280"/>
            <a:ext cx="1550520" cy="154080"/>
            <a:chOff x="1327320" y="3662280"/>
            <a:chExt cx="1550520" cy="154080"/>
          </a:xfrm>
        </p:grpSpPr>
        <p:sp>
          <p:nvSpPr>
            <p:cNvPr id="662" name="圆角矩形 87087"/>
            <p:cNvSpPr/>
            <p:nvPr/>
          </p:nvSpPr>
          <p:spPr>
            <a:xfrm>
              <a:off x="1327320" y="3662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d7ca7"/>
                </a:gs>
                <a:gs pos="100000">
                  <a:srgbClr val="5a90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圆角矩形 87088"/>
            <p:cNvSpPr/>
            <p:nvPr/>
          </p:nvSpPr>
          <p:spPr>
            <a:xfrm>
              <a:off x="1328400" y="3662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90c2"/>
                </a:gs>
                <a:gs pos="100000">
                  <a:srgbClr val="8cb2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组合 87089"/>
          <p:cNvGrpSpPr/>
          <p:nvPr/>
        </p:nvGrpSpPr>
        <p:grpSpPr>
          <a:xfrm>
            <a:off x="1327320" y="3479760"/>
            <a:ext cx="1550520" cy="154080"/>
            <a:chOff x="1327320" y="3479760"/>
            <a:chExt cx="1550520" cy="154080"/>
          </a:xfrm>
        </p:grpSpPr>
        <p:sp>
          <p:nvSpPr>
            <p:cNvPr id="665" name="圆角矩形 87090"/>
            <p:cNvSpPr/>
            <p:nvPr/>
          </p:nvSpPr>
          <p:spPr>
            <a:xfrm>
              <a:off x="1327320" y="34797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d7ca7"/>
                </a:gs>
                <a:gs pos="100000">
                  <a:srgbClr val="5a90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圆角矩形 87091"/>
            <p:cNvSpPr/>
            <p:nvPr/>
          </p:nvSpPr>
          <p:spPr>
            <a:xfrm>
              <a:off x="1328400" y="34797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90c2"/>
                </a:gs>
                <a:gs pos="100000">
                  <a:srgbClr val="8cb2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87092"/>
          <p:cNvGrpSpPr/>
          <p:nvPr/>
        </p:nvGrpSpPr>
        <p:grpSpPr>
          <a:xfrm>
            <a:off x="1327320" y="3292560"/>
            <a:ext cx="1550520" cy="154080"/>
            <a:chOff x="1327320" y="3292560"/>
            <a:chExt cx="1550520" cy="154080"/>
          </a:xfrm>
        </p:grpSpPr>
        <p:sp>
          <p:nvSpPr>
            <p:cNvPr id="668" name="圆角矩形 87093"/>
            <p:cNvSpPr/>
            <p:nvPr/>
          </p:nvSpPr>
          <p:spPr>
            <a:xfrm>
              <a:off x="1327320" y="32925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d7ca7"/>
                </a:gs>
                <a:gs pos="100000">
                  <a:srgbClr val="5a90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圆角矩形 87094"/>
            <p:cNvSpPr/>
            <p:nvPr/>
          </p:nvSpPr>
          <p:spPr>
            <a:xfrm>
              <a:off x="1328400" y="32925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90c2"/>
                </a:gs>
                <a:gs pos="100000">
                  <a:srgbClr val="8cb2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87095"/>
          <p:cNvGrpSpPr/>
          <p:nvPr/>
        </p:nvGrpSpPr>
        <p:grpSpPr>
          <a:xfrm>
            <a:off x="1327320" y="3105000"/>
            <a:ext cx="1550520" cy="154080"/>
            <a:chOff x="1327320" y="3105000"/>
            <a:chExt cx="1550520" cy="154080"/>
          </a:xfrm>
        </p:grpSpPr>
        <p:sp>
          <p:nvSpPr>
            <p:cNvPr id="671" name="圆角矩形 87096"/>
            <p:cNvSpPr/>
            <p:nvPr/>
          </p:nvSpPr>
          <p:spPr>
            <a:xfrm>
              <a:off x="1327320" y="3105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d7ca7"/>
                </a:gs>
                <a:gs pos="100000">
                  <a:srgbClr val="5a90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圆角矩形 87097"/>
            <p:cNvSpPr/>
            <p:nvPr/>
          </p:nvSpPr>
          <p:spPr>
            <a:xfrm>
              <a:off x="1328400" y="3105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90c2"/>
                </a:gs>
                <a:gs pos="100000">
                  <a:srgbClr val="8cb2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87098"/>
          <p:cNvGrpSpPr/>
          <p:nvPr/>
        </p:nvGrpSpPr>
        <p:grpSpPr>
          <a:xfrm>
            <a:off x="1327320" y="2919240"/>
            <a:ext cx="1550520" cy="154080"/>
            <a:chOff x="1327320" y="2919240"/>
            <a:chExt cx="1550520" cy="154080"/>
          </a:xfrm>
        </p:grpSpPr>
        <p:sp>
          <p:nvSpPr>
            <p:cNvPr id="674" name="圆角矩形 87099"/>
            <p:cNvSpPr/>
            <p:nvPr/>
          </p:nvSpPr>
          <p:spPr>
            <a:xfrm>
              <a:off x="1327320" y="29192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d7ca7"/>
                </a:gs>
                <a:gs pos="100000">
                  <a:srgbClr val="5a90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圆角矩形 87100"/>
            <p:cNvSpPr/>
            <p:nvPr/>
          </p:nvSpPr>
          <p:spPr>
            <a:xfrm>
              <a:off x="1328400" y="29192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90c2"/>
                </a:gs>
                <a:gs pos="100000">
                  <a:srgbClr val="8cb2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87101"/>
          <p:cNvGrpSpPr/>
          <p:nvPr/>
        </p:nvGrpSpPr>
        <p:grpSpPr>
          <a:xfrm>
            <a:off x="2951280" y="4191120"/>
            <a:ext cx="1550520" cy="153720"/>
            <a:chOff x="2951280" y="4191120"/>
            <a:chExt cx="1550520" cy="153720"/>
          </a:xfrm>
        </p:grpSpPr>
        <p:sp>
          <p:nvSpPr>
            <p:cNvPr id="677" name="圆角矩形 87102"/>
            <p:cNvSpPr/>
            <p:nvPr/>
          </p:nvSpPr>
          <p:spPr>
            <a:xfrm>
              <a:off x="2951280" y="419112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8ac246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圆角矩形 87103"/>
            <p:cNvSpPr/>
            <p:nvPr/>
          </p:nvSpPr>
          <p:spPr>
            <a:xfrm>
              <a:off x="2952360" y="41911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246"/>
                </a:gs>
                <a:gs pos="100000">
                  <a:srgbClr val="aed5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87104"/>
          <p:cNvGrpSpPr/>
          <p:nvPr/>
        </p:nvGrpSpPr>
        <p:grpSpPr>
          <a:xfrm>
            <a:off x="2951280" y="4037040"/>
            <a:ext cx="1550520" cy="152280"/>
            <a:chOff x="2951280" y="4037040"/>
            <a:chExt cx="1550520" cy="152280"/>
          </a:xfrm>
        </p:grpSpPr>
        <p:sp>
          <p:nvSpPr>
            <p:cNvPr id="680" name="圆角矩形 87105"/>
            <p:cNvSpPr/>
            <p:nvPr/>
          </p:nvSpPr>
          <p:spPr>
            <a:xfrm>
              <a:off x="2951280" y="40370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7a73c"/>
                </a:gs>
                <a:gs pos="100000">
                  <a:srgbClr val="8ac2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圆角矩形 87106"/>
            <p:cNvSpPr/>
            <p:nvPr/>
          </p:nvSpPr>
          <p:spPr>
            <a:xfrm>
              <a:off x="2952360" y="40370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246"/>
                </a:gs>
                <a:gs pos="100000">
                  <a:srgbClr val="aed5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组合 87107"/>
          <p:cNvGrpSpPr/>
          <p:nvPr/>
        </p:nvGrpSpPr>
        <p:grpSpPr>
          <a:xfrm>
            <a:off x="4552920" y="4191120"/>
            <a:ext cx="1549080" cy="153720"/>
            <a:chOff x="4552920" y="4191120"/>
            <a:chExt cx="1549080" cy="153720"/>
          </a:xfrm>
        </p:grpSpPr>
        <p:sp>
          <p:nvSpPr>
            <p:cNvPr id="683" name="圆角矩形 87108"/>
            <p:cNvSpPr/>
            <p:nvPr/>
          </p:nvSpPr>
          <p:spPr>
            <a:xfrm>
              <a:off x="4552920" y="419112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efc821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圆角矩形 87109"/>
            <p:cNvSpPr/>
            <p:nvPr/>
          </p:nvSpPr>
          <p:spPr>
            <a:xfrm>
              <a:off x="4554000" y="41911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c821"/>
                </a:gs>
                <a:gs pos="100000">
                  <a:srgbClr val="f4d9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组合 87110"/>
          <p:cNvGrpSpPr/>
          <p:nvPr/>
        </p:nvGrpSpPr>
        <p:grpSpPr>
          <a:xfrm>
            <a:off x="6173640" y="4191120"/>
            <a:ext cx="1549080" cy="153720"/>
            <a:chOff x="6173640" y="4191120"/>
            <a:chExt cx="1549080" cy="153720"/>
          </a:xfrm>
        </p:grpSpPr>
        <p:sp>
          <p:nvSpPr>
            <p:cNvPr id="686" name="圆角矩形 87111"/>
            <p:cNvSpPr/>
            <p:nvPr/>
          </p:nvSpPr>
          <p:spPr>
            <a:xfrm>
              <a:off x="6173640" y="41911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37116"/>
                </a:gs>
                <a:gs pos="100000">
                  <a:srgbClr val="f6831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圆角矩形 87112"/>
            <p:cNvSpPr/>
            <p:nvPr/>
          </p:nvSpPr>
          <p:spPr>
            <a:xfrm>
              <a:off x="6174720" y="41911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831a"/>
                </a:gs>
                <a:gs pos="100000">
                  <a:srgbClr val="f9a9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组合 87113"/>
          <p:cNvGrpSpPr/>
          <p:nvPr/>
        </p:nvGrpSpPr>
        <p:grpSpPr>
          <a:xfrm>
            <a:off x="2951280" y="3851280"/>
            <a:ext cx="1550520" cy="152280"/>
            <a:chOff x="2951280" y="3851280"/>
            <a:chExt cx="1550520" cy="152280"/>
          </a:xfrm>
        </p:grpSpPr>
        <p:sp>
          <p:nvSpPr>
            <p:cNvPr id="689" name="圆角矩形 87114"/>
            <p:cNvSpPr/>
            <p:nvPr/>
          </p:nvSpPr>
          <p:spPr>
            <a:xfrm>
              <a:off x="2951280" y="385128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7a73c"/>
                </a:gs>
                <a:gs pos="100000">
                  <a:srgbClr val="8ac2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圆角矩形 87115"/>
            <p:cNvSpPr/>
            <p:nvPr/>
          </p:nvSpPr>
          <p:spPr>
            <a:xfrm>
              <a:off x="2952360" y="38512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246"/>
                </a:gs>
                <a:gs pos="100000">
                  <a:srgbClr val="aed5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组合 87116"/>
          <p:cNvGrpSpPr/>
          <p:nvPr/>
        </p:nvGrpSpPr>
        <p:grpSpPr>
          <a:xfrm>
            <a:off x="2951280" y="3673440"/>
            <a:ext cx="1550520" cy="152280"/>
            <a:chOff x="2951280" y="3673440"/>
            <a:chExt cx="1550520" cy="152280"/>
          </a:xfrm>
        </p:grpSpPr>
        <p:sp>
          <p:nvSpPr>
            <p:cNvPr id="692" name="圆角矩形 87117"/>
            <p:cNvSpPr/>
            <p:nvPr/>
          </p:nvSpPr>
          <p:spPr>
            <a:xfrm>
              <a:off x="2951280" y="36734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7a73c"/>
                </a:gs>
                <a:gs pos="100000">
                  <a:srgbClr val="8ac2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圆角矩形 87118"/>
            <p:cNvSpPr/>
            <p:nvPr/>
          </p:nvSpPr>
          <p:spPr>
            <a:xfrm>
              <a:off x="2952360" y="36734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246"/>
                </a:gs>
                <a:gs pos="100000">
                  <a:srgbClr val="aed5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组合 87119"/>
          <p:cNvGrpSpPr/>
          <p:nvPr/>
        </p:nvGrpSpPr>
        <p:grpSpPr>
          <a:xfrm>
            <a:off x="2951280" y="3487680"/>
            <a:ext cx="1550520" cy="152280"/>
            <a:chOff x="2951280" y="3487680"/>
            <a:chExt cx="1550520" cy="152280"/>
          </a:xfrm>
        </p:grpSpPr>
        <p:sp>
          <p:nvSpPr>
            <p:cNvPr id="695" name="圆角矩形 87120"/>
            <p:cNvSpPr/>
            <p:nvPr/>
          </p:nvSpPr>
          <p:spPr>
            <a:xfrm>
              <a:off x="2951280" y="348768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7a73c"/>
                </a:gs>
                <a:gs pos="100000">
                  <a:srgbClr val="8ac2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圆角矩形 87121"/>
            <p:cNvSpPr/>
            <p:nvPr/>
          </p:nvSpPr>
          <p:spPr>
            <a:xfrm>
              <a:off x="2952360" y="34876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246"/>
                </a:gs>
                <a:gs pos="100000">
                  <a:srgbClr val="aed5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组合 87122"/>
          <p:cNvGrpSpPr/>
          <p:nvPr/>
        </p:nvGrpSpPr>
        <p:grpSpPr>
          <a:xfrm>
            <a:off x="4552920" y="4035600"/>
            <a:ext cx="1549080" cy="153720"/>
            <a:chOff x="4552920" y="4035600"/>
            <a:chExt cx="1549080" cy="153720"/>
          </a:xfrm>
        </p:grpSpPr>
        <p:sp>
          <p:nvSpPr>
            <p:cNvPr id="698" name="圆角矩形 87123"/>
            <p:cNvSpPr/>
            <p:nvPr/>
          </p:nvSpPr>
          <p:spPr>
            <a:xfrm>
              <a:off x="4552920" y="403560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efc821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圆角矩形 87124"/>
            <p:cNvSpPr/>
            <p:nvPr/>
          </p:nvSpPr>
          <p:spPr>
            <a:xfrm>
              <a:off x="4554000" y="403560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c821"/>
                </a:gs>
                <a:gs pos="100000">
                  <a:srgbClr val="f4d9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组合 87125"/>
          <p:cNvGrpSpPr/>
          <p:nvPr/>
        </p:nvGrpSpPr>
        <p:grpSpPr>
          <a:xfrm>
            <a:off x="4552920" y="3849840"/>
            <a:ext cx="1549080" cy="153720"/>
            <a:chOff x="4552920" y="3849840"/>
            <a:chExt cx="1549080" cy="153720"/>
          </a:xfrm>
        </p:grpSpPr>
        <p:sp>
          <p:nvSpPr>
            <p:cNvPr id="701" name="圆角矩形 87126"/>
            <p:cNvSpPr/>
            <p:nvPr/>
          </p:nvSpPr>
          <p:spPr>
            <a:xfrm>
              <a:off x="4552920" y="384984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efc821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圆角矩形 87127"/>
            <p:cNvSpPr/>
            <p:nvPr/>
          </p:nvSpPr>
          <p:spPr>
            <a:xfrm>
              <a:off x="4554000" y="384984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c821"/>
                </a:gs>
                <a:gs pos="100000">
                  <a:srgbClr val="f4d9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87128"/>
          <p:cNvGrpSpPr/>
          <p:nvPr/>
        </p:nvGrpSpPr>
        <p:grpSpPr>
          <a:xfrm>
            <a:off x="6173640" y="4027320"/>
            <a:ext cx="1549080" cy="154080"/>
            <a:chOff x="6173640" y="4027320"/>
            <a:chExt cx="1549080" cy="154080"/>
          </a:xfrm>
        </p:grpSpPr>
        <p:sp>
          <p:nvSpPr>
            <p:cNvPr id="704" name="圆角矩形 87129"/>
            <p:cNvSpPr/>
            <p:nvPr/>
          </p:nvSpPr>
          <p:spPr>
            <a:xfrm>
              <a:off x="6173640" y="40273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37116"/>
                </a:gs>
                <a:gs pos="100000">
                  <a:srgbClr val="f6831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圆角矩形 87130"/>
            <p:cNvSpPr/>
            <p:nvPr/>
          </p:nvSpPr>
          <p:spPr>
            <a:xfrm>
              <a:off x="6174720" y="40273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831a"/>
                </a:gs>
                <a:gs pos="100000">
                  <a:srgbClr val="f9a9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图片 113665" descr="num-1_t1"/>
          <p:cNvPicPr/>
          <p:nvPr/>
        </p:nvPicPr>
        <p:blipFill>
          <a:blip r:embed="rId1"/>
          <a:stretch/>
        </p:blipFill>
        <p:spPr>
          <a:xfrm>
            <a:off x="5943600" y="3151080"/>
            <a:ext cx="2747880" cy="309744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五边形 113667"/>
          <p:cNvSpPr/>
          <p:nvPr/>
        </p:nvSpPr>
        <p:spPr>
          <a:xfrm>
            <a:off x="4373640" y="3189240"/>
            <a:ext cx="2712960" cy="257508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五边形 113668"/>
          <p:cNvSpPr/>
          <p:nvPr/>
        </p:nvSpPr>
        <p:spPr>
          <a:xfrm>
            <a:off x="2336760" y="3191040"/>
            <a:ext cx="2809800" cy="257472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6831a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任意多边形 113669"/>
          <p:cNvSpPr/>
          <p:nvPr/>
        </p:nvSpPr>
        <p:spPr>
          <a:xfrm>
            <a:off x="2127240" y="2890800"/>
            <a:ext cx="4425840" cy="51768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ac246"/>
              </a:gs>
              <a:gs pos="100000">
                <a:srgbClr val="405a2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五边形 113670"/>
          <p:cNvSpPr/>
          <p:nvPr/>
        </p:nvSpPr>
        <p:spPr>
          <a:xfrm>
            <a:off x="876240" y="2889360"/>
            <a:ext cx="2400480" cy="289548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a90c2"/>
              </a:gs>
              <a:gs pos="100000">
                <a:srgbClr val="3f6587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矩形 113671"/>
          <p:cNvSpPr/>
          <p:nvPr/>
        </p:nvSpPr>
        <p:spPr>
          <a:xfrm>
            <a:off x="1014480" y="3552840"/>
            <a:ext cx="182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矩形 113672"/>
          <p:cNvSpPr/>
          <p:nvPr/>
        </p:nvSpPr>
        <p:spPr>
          <a:xfrm>
            <a:off x="2814480" y="293688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 113673"/>
          <p:cNvSpPr/>
          <p:nvPr/>
        </p:nvSpPr>
        <p:spPr>
          <a:xfrm>
            <a:off x="5129280" y="377352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Calibri"/>
                <a:ea typeface="宋体"/>
              </a:rPr>
              <a:t>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Calibri"/>
                <a:ea typeface="宋体"/>
              </a:rPr>
              <a:t>Description of the company’s sub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113674"/>
          <p:cNvSpPr/>
          <p:nvPr/>
        </p:nvSpPr>
        <p:spPr>
          <a:xfrm>
            <a:off x="762120" y="200808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 is a Design Digital Content &amp; Contents mall developed by Guild Design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113675"/>
          <p:cNvSpPr/>
          <p:nvPr/>
        </p:nvSpPr>
        <p:spPr>
          <a:xfrm>
            <a:off x="3206880" y="377028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Calibri"/>
                <a:ea typeface="宋体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Calibri"/>
                <a:ea typeface="宋体"/>
              </a:rPr>
              <a:t>Description of the company’s sub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任意多边形 116738"/>
          <p:cNvSpPr/>
          <p:nvPr/>
        </p:nvSpPr>
        <p:spPr>
          <a:xfrm>
            <a:off x="11160" y="4292640"/>
            <a:ext cx="2568600" cy="2565360"/>
          </a:xfrm>
          <a:custGeom>
            <a:avLst/>
            <a:gdLst/>
            <a:ahLst/>
            <a:rect l="l" t="t" r="r" b="b"/>
            <a:pathLst>
              <a:path fill="none" w="43200" h="28436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43200" h="28436">
                <a:moveTo>
                  <a:pt x="21600" y="21600"/>
                </a:moveTo>
                <a:cubicBezTo>
                  <a:pt x="21600" y="9671"/>
                  <a:pt x="26435" y="0"/>
                  <a:pt x="32400" y="0"/>
                </a:cubicBezTo>
                <a:cubicBezTo>
                  <a:pt x="38365" y="0"/>
                  <a:pt x="43200" y="9671"/>
                  <a:pt x="43200" y="21600"/>
                </a:cubicBezTo>
                <a:cubicBezTo>
                  <a:pt x="43200" y="23991"/>
                  <a:pt x="43006" y="26290"/>
                  <a:pt x="42648" y="28436"/>
                </a:cubicBez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5a90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0" y="6400800"/>
            <a:ext cx="2819520" cy="228600"/>
            <a:chOff x="0" y="6400800"/>
            <a:chExt cx="2819520" cy="228600"/>
          </a:xfrm>
        </p:grpSpPr>
        <p:sp>
          <p:nvSpPr>
            <p:cNvPr id="719" name="直接连接符 116739"/>
            <p:cNvSpPr/>
            <p:nvPr/>
          </p:nvSpPr>
          <p:spPr>
            <a:xfrm flipH="1">
              <a:off x="0" y="6400800"/>
              <a:ext cx="2819520" cy="228600"/>
            </a:xfrm>
            <a:prstGeom prst="line">
              <a:avLst/>
            </a:prstGeom>
            <a:ln w="9360">
              <a:solidFill>
                <a:srgbClr val="5a90c2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 txBox="1"/>
            <p:nvPr/>
          </p:nvSpPr>
          <p:spPr>
            <a:xfrm>
              <a:off x="0" y="6400800"/>
              <a:ext cx="2819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-360" y="3962520"/>
            <a:ext cx="609840" cy="2666880"/>
            <a:chOff x="-360" y="3962520"/>
            <a:chExt cx="609840" cy="2666880"/>
          </a:xfrm>
        </p:grpSpPr>
        <p:sp>
          <p:nvSpPr>
            <p:cNvPr id="722" name="直接连接符 116740"/>
            <p:cNvSpPr/>
            <p:nvPr/>
          </p:nvSpPr>
          <p:spPr>
            <a:xfrm flipH="1">
              <a:off x="-360" y="3962520"/>
              <a:ext cx="609480" cy="2666880"/>
            </a:xfrm>
            <a:prstGeom prst="line">
              <a:avLst/>
            </a:prstGeom>
            <a:ln w="9360">
              <a:solidFill>
                <a:srgbClr val="5a90c2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 txBox="1"/>
            <p:nvPr/>
          </p:nvSpPr>
          <p:spPr>
            <a:xfrm>
              <a:off x="0" y="3962520"/>
              <a:ext cx="609480" cy="266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任意多边形 116741"/>
          <p:cNvSpPr/>
          <p:nvPr/>
        </p:nvSpPr>
        <p:spPr>
          <a:xfrm>
            <a:off x="1614600" y="3543480"/>
            <a:ext cx="22860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5a90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任意多边形 116742"/>
          <p:cNvSpPr/>
          <p:nvPr/>
        </p:nvSpPr>
        <p:spPr>
          <a:xfrm>
            <a:off x="2506680" y="4032360"/>
            <a:ext cx="22860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5a90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任意多边形 116743"/>
          <p:cNvSpPr/>
          <p:nvPr/>
        </p:nvSpPr>
        <p:spPr>
          <a:xfrm>
            <a:off x="2884320" y="5334120"/>
            <a:ext cx="22860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5a90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0" y="3751200"/>
            <a:ext cx="1665360" cy="2878200"/>
            <a:chOff x="0" y="3751200"/>
            <a:chExt cx="1665360" cy="2878200"/>
          </a:xfrm>
        </p:grpSpPr>
        <p:sp>
          <p:nvSpPr>
            <p:cNvPr id="728" name="直接连接符 116744"/>
            <p:cNvSpPr/>
            <p:nvPr/>
          </p:nvSpPr>
          <p:spPr>
            <a:xfrm flipH="1">
              <a:off x="0" y="3751200"/>
              <a:ext cx="1665360" cy="2878200"/>
            </a:xfrm>
            <a:prstGeom prst="line">
              <a:avLst/>
            </a:prstGeom>
            <a:ln w="9360">
              <a:solidFill>
                <a:srgbClr val="5a90c2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 txBox="1"/>
            <p:nvPr/>
          </p:nvSpPr>
          <p:spPr>
            <a:xfrm>
              <a:off x="0" y="3751200"/>
              <a:ext cx="1665360" cy="28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-360" y="5481720"/>
            <a:ext cx="2895840" cy="1147680"/>
            <a:chOff x="-360" y="5481720"/>
            <a:chExt cx="2895840" cy="1147680"/>
          </a:xfrm>
        </p:grpSpPr>
        <p:sp>
          <p:nvSpPr>
            <p:cNvPr id="731" name="直接连接符 116745"/>
            <p:cNvSpPr/>
            <p:nvPr/>
          </p:nvSpPr>
          <p:spPr>
            <a:xfrm flipH="1">
              <a:off x="-360" y="5481720"/>
              <a:ext cx="2895480" cy="1147680"/>
            </a:xfrm>
            <a:prstGeom prst="line">
              <a:avLst/>
            </a:prstGeom>
            <a:ln w="9360">
              <a:solidFill>
                <a:srgbClr val="5a90c2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>
              <a:off x="0" y="5481720"/>
              <a:ext cx="2895480" cy="114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0" y="2243160"/>
            <a:ext cx="1866960" cy="4386240"/>
            <a:chOff x="0" y="2243160"/>
            <a:chExt cx="1866960" cy="4386240"/>
          </a:xfrm>
        </p:grpSpPr>
        <p:sp>
          <p:nvSpPr>
            <p:cNvPr id="734" name="直接连接符 116746"/>
            <p:cNvSpPr/>
            <p:nvPr/>
          </p:nvSpPr>
          <p:spPr>
            <a:xfrm flipH="1">
              <a:off x="0" y="2243160"/>
              <a:ext cx="1866960" cy="4386240"/>
            </a:xfrm>
            <a:prstGeom prst="line">
              <a:avLst/>
            </a:prstGeom>
            <a:ln w="19080">
              <a:solidFill>
                <a:srgbClr val="5a90c2">
                  <a:alpha val="6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 txBox="1"/>
            <p:nvPr/>
          </p:nvSpPr>
          <p:spPr>
            <a:xfrm>
              <a:off x="0" y="2243160"/>
              <a:ext cx="1866960" cy="438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0" y="3570120"/>
            <a:ext cx="2309760" cy="3059280"/>
            <a:chOff x="0" y="3570120"/>
            <a:chExt cx="2309760" cy="3059280"/>
          </a:xfrm>
        </p:grpSpPr>
        <p:sp>
          <p:nvSpPr>
            <p:cNvPr id="737" name="直接连接符 116747"/>
            <p:cNvSpPr/>
            <p:nvPr/>
          </p:nvSpPr>
          <p:spPr>
            <a:xfrm flipH="1">
              <a:off x="0" y="3570120"/>
              <a:ext cx="2309760" cy="3059280"/>
            </a:xfrm>
            <a:prstGeom prst="line">
              <a:avLst/>
            </a:prstGeom>
            <a:ln w="19080">
              <a:solidFill>
                <a:srgbClr val="5a90c2">
                  <a:alpha val="6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 txBox="1"/>
            <p:nvPr/>
          </p:nvSpPr>
          <p:spPr>
            <a:xfrm>
              <a:off x="0" y="3570120"/>
              <a:ext cx="2309760" cy="305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-360" y="4836960"/>
            <a:ext cx="2846880" cy="1792440"/>
            <a:chOff x="-360" y="4836960"/>
            <a:chExt cx="2846880" cy="1792440"/>
          </a:xfrm>
        </p:grpSpPr>
        <p:sp>
          <p:nvSpPr>
            <p:cNvPr id="740" name="直接连接符 116748"/>
            <p:cNvSpPr/>
            <p:nvPr/>
          </p:nvSpPr>
          <p:spPr>
            <a:xfrm flipH="1">
              <a:off x="-360" y="4836960"/>
              <a:ext cx="2846520" cy="1792440"/>
            </a:xfrm>
            <a:prstGeom prst="line">
              <a:avLst/>
            </a:prstGeom>
            <a:ln w="19080">
              <a:solidFill>
                <a:srgbClr val="5a90c2">
                  <a:alpha val="6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>
              <a:off x="0" y="4836960"/>
              <a:ext cx="2846520" cy="179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0" y="5883120"/>
            <a:ext cx="3867120" cy="746280"/>
            <a:chOff x="0" y="5883120"/>
            <a:chExt cx="3867120" cy="746280"/>
          </a:xfrm>
        </p:grpSpPr>
        <p:sp>
          <p:nvSpPr>
            <p:cNvPr id="743" name="直接连接符 116749"/>
            <p:cNvSpPr/>
            <p:nvPr/>
          </p:nvSpPr>
          <p:spPr>
            <a:xfrm flipH="1">
              <a:off x="0" y="5883120"/>
              <a:ext cx="3867120" cy="746280"/>
            </a:xfrm>
            <a:prstGeom prst="line">
              <a:avLst/>
            </a:prstGeom>
            <a:ln w="19080">
              <a:solidFill>
                <a:srgbClr val="5a90c2">
                  <a:alpha val="6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>
              <a:off x="0" y="5883120"/>
              <a:ext cx="3867120" cy="74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任意多边形 116750"/>
          <p:cNvSpPr/>
          <p:nvPr/>
        </p:nvSpPr>
        <p:spPr>
          <a:xfrm>
            <a:off x="0" y="4343400"/>
            <a:ext cx="2509920" cy="2514600"/>
          </a:xfrm>
          <a:custGeom>
            <a:avLst/>
            <a:gdLst/>
            <a:ahLst/>
            <a:rect l="l" t="t" r="r" b="b"/>
            <a:pathLst>
              <a:path fill="none" w="43200" h="28436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43200" h="28436">
                <a:moveTo>
                  <a:pt x="21600" y="21600"/>
                </a:moveTo>
                <a:cubicBezTo>
                  <a:pt x="21600" y="9671"/>
                  <a:pt x="26435" y="0"/>
                  <a:pt x="32400" y="0"/>
                </a:cubicBezTo>
                <a:cubicBezTo>
                  <a:pt x="38365" y="0"/>
                  <a:pt x="43200" y="9671"/>
                  <a:pt x="43200" y="21600"/>
                </a:cubicBezTo>
                <a:cubicBezTo>
                  <a:pt x="43200" y="23991"/>
                  <a:pt x="43006" y="26290"/>
                  <a:pt x="42648" y="28436"/>
                </a:cubicBezTo>
                <a:lnTo>
                  <a:pt x="0" y="0"/>
                </a:lnTo>
                <a:close/>
              </a:path>
            </a:pathLst>
          </a:custGeom>
          <a:solidFill>
            <a:srgbClr val="5a90c2">
              <a:alpha val="50000"/>
            </a:srgbClr>
          </a:solidFill>
          <a:ln w="9360">
            <a:solidFill>
              <a:srgbClr val="5a90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0" y="4232160"/>
            <a:ext cx="2532240" cy="2625840"/>
            <a:chOff x="0" y="4232160"/>
            <a:chExt cx="2532240" cy="2625840"/>
          </a:xfrm>
        </p:grpSpPr>
        <p:sp>
          <p:nvSpPr>
            <p:cNvPr id="747" name="直接连接符 116751"/>
            <p:cNvSpPr/>
            <p:nvPr/>
          </p:nvSpPr>
          <p:spPr>
            <a:xfrm flipH="1">
              <a:off x="0" y="4232160"/>
              <a:ext cx="2532240" cy="2625840"/>
            </a:xfrm>
            <a:prstGeom prst="line">
              <a:avLst/>
            </a:prstGeom>
            <a:ln w="9360">
              <a:solidFill>
                <a:srgbClr val="5a90c2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 txBox="1"/>
            <p:nvPr/>
          </p:nvSpPr>
          <p:spPr>
            <a:xfrm>
              <a:off x="0" y="4232160"/>
              <a:ext cx="2532240" cy="262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任意多边形 116752"/>
          <p:cNvSpPr/>
          <p:nvPr/>
        </p:nvSpPr>
        <p:spPr>
          <a:xfrm>
            <a:off x="0" y="4422600"/>
            <a:ext cx="2438280" cy="2435400"/>
          </a:xfrm>
          <a:custGeom>
            <a:avLst/>
            <a:gdLst/>
            <a:ahLst/>
            <a:rect l="l" t="t" r="r" b="b"/>
            <a:pathLst>
              <a:path fill="none" w="43200" h="28436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43200" h="28436">
                <a:moveTo>
                  <a:pt x="21600" y="21600"/>
                </a:moveTo>
                <a:cubicBezTo>
                  <a:pt x="21600" y="9671"/>
                  <a:pt x="26435" y="0"/>
                  <a:pt x="32400" y="0"/>
                </a:cubicBezTo>
                <a:cubicBezTo>
                  <a:pt x="38365" y="0"/>
                  <a:pt x="43200" y="9671"/>
                  <a:pt x="43200" y="21600"/>
                </a:cubicBezTo>
                <a:cubicBezTo>
                  <a:pt x="43200" y="23991"/>
                  <a:pt x="43006" y="26290"/>
                  <a:pt x="42648" y="28436"/>
                </a:cubicBezTo>
                <a:lnTo>
                  <a:pt x="0" y="0"/>
                </a:lnTo>
                <a:close/>
              </a:path>
            </a:pathLst>
          </a:custGeom>
          <a:solidFill>
            <a:srgbClr val="5a90c2"/>
          </a:solidFill>
          <a:ln w="9360">
            <a:solidFill>
              <a:srgbClr val="5a90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文本框 116753"/>
          <p:cNvSpPr/>
          <p:nvPr/>
        </p:nvSpPr>
        <p:spPr>
          <a:xfrm>
            <a:off x="2368440" y="171936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  <a:ea typeface="宋体"/>
              </a:rPr>
              <a:t>2007. 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116754"/>
          <p:cNvSpPr/>
          <p:nvPr/>
        </p:nvSpPr>
        <p:spPr>
          <a:xfrm>
            <a:off x="2908440" y="311796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6 ~ 200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116755"/>
          <p:cNvSpPr/>
          <p:nvPr/>
        </p:nvSpPr>
        <p:spPr>
          <a:xfrm>
            <a:off x="3346560" y="449568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4 ~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116756"/>
          <p:cNvSpPr/>
          <p:nvPr/>
        </p:nvSpPr>
        <p:spPr>
          <a:xfrm>
            <a:off x="4270320" y="561024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2 ~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组合 116757"/>
          <p:cNvGrpSpPr/>
          <p:nvPr/>
        </p:nvGrpSpPr>
        <p:grpSpPr>
          <a:xfrm>
            <a:off x="2637000" y="2120760"/>
            <a:ext cx="118800" cy="119160"/>
            <a:chOff x="2637000" y="2120760"/>
            <a:chExt cx="118800" cy="119160"/>
          </a:xfrm>
        </p:grpSpPr>
        <p:sp>
          <p:nvSpPr>
            <p:cNvPr id="755" name="圆角矩形 116758"/>
            <p:cNvSpPr/>
            <p:nvPr/>
          </p:nvSpPr>
          <p:spPr>
            <a:xfrm>
              <a:off x="2637000" y="2120760"/>
              <a:ext cx="118800" cy="119160"/>
            </a:xfrm>
            <a:custGeom>
              <a:avLst/>
              <a:gdLst>
                <a:gd name="textAreaLeft" fmla="*/ 5760 w 118800"/>
                <a:gd name="textAreaRight" fmla="*/ 113040 w 118800"/>
                <a:gd name="textAreaTop" fmla="*/ 5760 h 119160"/>
                <a:gd name="textAreaBottom" fmla="*/ 113400 h 119160"/>
              </a:gdLst>
              <a:ahLst/>
              <a:rect l="textAreaLeft" t="textAreaTop" r="textAreaRight" b="textAreaBottom"/>
              <a:pathLst>
                <a:path w="21600" h="21665">
                  <a:moveTo>
                    <a:pt x="3600" y="0"/>
                  </a:moveTo>
                  <a:arcTo wR="3600" hR="3600" stAng="16200000" swAng="-5400000"/>
                  <a:lnTo>
                    <a:pt x="0" y="18065"/>
                  </a:lnTo>
                  <a:arcTo wR="3600" hR="3600" stAng="10800000" swAng="-5400000"/>
                  <a:lnTo>
                    <a:pt x="18000" y="216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五边形 116759"/>
            <p:cNvSpPr/>
            <p:nvPr/>
          </p:nvSpPr>
          <p:spPr>
            <a:xfrm>
              <a:off x="2673000" y="2136600"/>
              <a:ext cx="63720" cy="860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文本框 116760"/>
          <p:cNvSpPr/>
          <p:nvPr/>
        </p:nvSpPr>
        <p:spPr>
          <a:xfrm>
            <a:off x="2774880" y="2033640"/>
            <a:ext cx="408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文本框 116764"/>
          <p:cNvSpPr/>
          <p:nvPr/>
        </p:nvSpPr>
        <p:spPr>
          <a:xfrm>
            <a:off x="3411360" y="3421080"/>
            <a:ext cx="408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组合 116765"/>
          <p:cNvGrpSpPr/>
          <p:nvPr/>
        </p:nvGrpSpPr>
        <p:grpSpPr>
          <a:xfrm>
            <a:off x="3780000" y="4889520"/>
            <a:ext cx="118800" cy="119160"/>
            <a:chOff x="3780000" y="4889520"/>
            <a:chExt cx="118800" cy="119160"/>
          </a:xfrm>
        </p:grpSpPr>
        <p:sp>
          <p:nvSpPr>
            <p:cNvPr id="760" name="圆角矩形 116766"/>
            <p:cNvSpPr/>
            <p:nvPr/>
          </p:nvSpPr>
          <p:spPr>
            <a:xfrm>
              <a:off x="3780000" y="4889520"/>
              <a:ext cx="118800" cy="119160"/>
            </a:xfrm>
            <a:custGeom>
              <a:avLst/>
              <a:gdLst>
                <a:gd name="textAreaLeft" fmla="*/ 5760 w 118800"/>
                <a:gd name="textAreaRight" fmla="*/ 113040 w 118800"/>
                <a:gd name="textAreaTop" fmla="*/ 5760 h 119160"/>
                <a:gd name="textAreaBottom" fmla="*/ 113400 h 119160"/>
              </a:gdLst>
              <a:ahLst/>
              <a:rect l="textAreaLeft" t="textAreaTop" r="textAreaRight" b="textAreaBottom"/>
              <a:pathLst>
                <a:path w="21600" h="21665">
                  <a:moveTo>
                    <a:pt x="3600" y="0"/>
                  </a:moveTo>
                  <a:arcTo wR="3600" hR="3600" stAng="16200000" swAng="-5400000"/>
                  <a:lnTo>
                    <a:pt x="0" y="18065"/>
                  </a:lnTo>
                  <a:arcTo wR="3600" hR="3600" stAng="10800000" swAng="-5400000"/>
                  <a:lnTo>
                    <a:pt x="18000" y="216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五边形 116767"/>
            <p:cNvSpPr/>
            <p:nvPr/>
          </p:nvSpPr>
          <p:spPr>
            <a:xfrm>
              <a:off x="3816000" y="4905360"/>
              <a:ext cx="63720" cy="860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文本框 116768"/>
          <p:cNvSpPr/>
          <p:nvPr/>
        </p:nvSpPr>
        <p:spPr>
          <a:xfrm>
            <a:off x="3917880" y="4802040"/>
            <a:ext cx="408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组合 116769"/>
          <p:cNvGrpSpPr/>
          <p:nvPr/>
        </p:nvGrpSpPr>
        <p:grpSpPr>
          <a:xfrm>
            <a:off x="4516560" y="6005520"/>
            <a:ext cx="118800" cy="119160"/>
            <a:chOff x="4516560" y="6005520"/>
            <a:chExt cx="118800" cy="119160"/>
          </a:xfrm>
        </p:grpSpPr>
        <p:sp>
          <p:nvSpPr>
            <p:cNvPr id="764" name="圆角矩形 116770"/>
            <p:cNvSpPr/>
            <p:nvPr/>
          </p:nvSpPr>
          <p:spPr>
            <a:xfrm>
              <a:off x="4516560" y="6005520"/>
              <a:ext cx="118800" cy="119160"/>
            </a:xfrm>
            <a:custGeom>
              <a:avLst/>
              <a:gdLst>
                <a:gd name="textAreaLeft" fmla="*/ 5760 w 118800"/>
                <a:gd name="textAreaRight" fmla="*/ 113040 w 118800"/>
                <a:gd name="textAreaTop" fmla="*/ 5760 h 119160"/>
                <a:gd name="textAreaBottom" fmla="*/ 113400 h 119160"/>
              </a:gdLst>
              <a:ahLst/>
              <a:rect l="textAreaLeft" t="textAreaTop" r="textAreaRight" b="textAreaBottom"/>
              <a:pathLst>
                <a:path w="21600" h="21665">
                  <a:moveTo>
                    <a:pt x="3600" y="0"/>
                  </a:moveTo>
                  <a:arcTo wR="3600" hR="3600" stAng="16200000" swAng="-5400000"/>
                  <a:lnTo>
                    <a:pt x="0" y="18065"/>
                  </a:lnTo>
                  <a:arcTo wR="3600" hR="3600" stAng="10800000" swAng="-5400000"/>
                  <a:lnTo>
                    <a:pt x="18000" y="216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五边形 116771"/>
            <p:cNvSpPr/>
            <p:nvPr/>
          </p:nvSpPr>
          <p:spPr>
            <a:xfrm>
              <a:off x="4552560" y="6021360"/>
              <a:ext cx="63720" cy="860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文本框 116772"/>
          <p:cNvSpPr/>
          <p:nvPr/>
        </p:nvSpPr>
        <p:spPr>
          <a:xfrm>
            <a:off x="4654440" y="5918040"/>
            <a:ext cx="408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任意多边形 116773"/>
          <p:cNvSpPr/>
          <p:nvPr/>
        </p:nvSpPr>
        <p:spPr>
          <a:xfrm>
            <a:off x="534960" y="3732120"/>
            <a:ext cx="22860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5a90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任意多边形 116774"/>
          <p:cNvSpPr/>
          <p:nvPr/>
        </p:nvSpPr>
        <p:spPr>
          <a:xfrm>
            <a:off x="2819520" y="6302520"/>
            <a:ext cx="22860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5a90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椭圆 116775"/>
          <p:cNvSpPr/>
          <p:nvPr/>
        </p:nvSpPr>
        <p:spPr>
          <a:xfrm rot="3083400">
            <a:off x="3714120" y="5619600"/>
            <a:ext cx="400320" cy="399960"/>
          </a:xfrm>
          <a:prstGeom prst="ellipse">
            <a:avLst/>
          </a:prstGeom>
          <a:gradFill rotWithShape="0">
            <a:gsLst>
              <a:gs pos="0">
                <a:srgbClr val="c3e0a1"/>
              </a:gs>
              <a:gs pos="100000">
                <a:srgbClr val="8ac2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椭圆 116776"/>
          <p:cNvSpPr/>
          <p:nvPr/>
        </p:nvSpPr>
        <p:spPr>
          <a:xfrm>
            <a:off x="1503360" y="1735200"/>
            <a:ext cx="730080" cy="730080"/>
          </a:xfrm>
          <a:prstGeom prst="ellipse">
            <a:avLst/>
          </a:prstGeom>
          <a:gradFill rotWithShape="0">
            <a:gsLst>
              <a:gs pos="0">
                <a:srgbClr val="fde6d1"/>
              </a:gs>
              <a:gs pos="100000">
                <a:srgbClr val="f6831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椭圆 116777"/>
          <p:cNvSpPr/>
          <p:nvPr/>
        </p:nvSpPr>
        <p:spPr>
          <a:xfrm rot="801600">
            <a:off x="2133720" y="3123720"/>
            <a:ext cx="598320" cy="598680"/>
          </a:xfrm>
          <a:prstGeom prst="ellipse">
            <a:avLst/>
          </a:prstGeom>
          <a:gradFill rotWithShape="0">
            <a:gsLst>
              <a:gs pos="0">
                <a:srgbClr val="d0dfee"/>
              </a:gs>
              <a:gs pos="100000">
                <a:srgbClr val="5a90c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椭圆 116778"/>
          <p:cNvSpPr/>
          <p:nvPr/>
        </p:nvSpPr>
        <p:spPr>
          <a:xfrm rot="3115800">
            <a:off x="2714760" y="4468680"/>
            <a:ext cx="505080" cy="504720"/>
          </a:xfrm>
          <a:prstGeom prst="ellipse">
            <a:avLst/>
          </a:prstGeom>
          <a:gradFill rotWithShape="0">
            <a:gsLst>
              <a:gs pos="0">
                <a:srgbClr val="f5dc72"/>
              </a:gs>
              <a:gs pos="100000">
                <a:srgbClr val="efc82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4" name="组合 116780"/>
          <p:cNvGrpSpPr/>
          <p:nvPr/>
        </p:nvGrpSpPr>
        <p:grpSpPr>
          <a:xfrm>
            <a:off x="304920" y="4495680"/>
            <a:ext cx="1752120" cy="1958760"/>
            <a:chOff x="304920" y="4495680"/>
            <a:chExt cx="1752120" cy="1958760"/>
          </a:xfrm>
        </p:grpSpPr>
        <p:sp>
          <p:nvSpPr>
            <p:cNvPr id="775" name="任意多边形 116781"/>
            <p:cNvSpPr/>
            <p:nvPr/>
          </p:nvSpPr>
          <p:spPr>
            <a:xfrm>
              <a:off x="478080" y="6004080"/>
              <a:ext cx="682560" cy="42480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任意多边形 116782"/>
            <p:cNvSpPr/>
            <p:nvPr/>
          </p:nvSpPr>
          <p:spPr>
            <a:xfrm>
              <a:off x="946800" y="5848920"/>
              <a:ext cx="747360" cy="4176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任意多边形 116783"/>
            <p:cNvSpPr/>
            <p:nvPr/>
          </p:nvSpPr>
          <p:spPr>
            <a:xfrm>
              <a:off x="1431720" y="6102360"/>
              <a:ext cx="625320" cy="35172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任意多边形 116784"/>
            <p:cNvSpPr/>
            <p:nvPr/>
          </p:nvSpPr>
          <p:spPr>
            <a:xfrm>
              <a:off x="304920" y="5024520"/>
              <a:ext cx="456120" cy="14004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任意多边形 116785"/>
            <p:cNvSpPr/>
            <p:nvPr/>
          </p:nvSpPr>
          <p:spPr>
            <a:xfrm>
              <a:off x="745200" y="4495680"/>
              <a:ext cx="574560" cy="17618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任意多边形 116786"/>
            <p:cNvSpPr/>
            <p:nvPr/>
          </p:nvSpPr>
          <p:spPr>
            <a:xfrm>
              <a:off x="1270800" y="5054040"/>
              <a:ext cx="455760" cy="14004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组合 116787"/>
          <p:cNvGrpSpPr/>
          <p:nvPr/>
        </p:nvGrpSpPr>
        <p:grpSpPr>
          <a:xfrm>
            <a:off x="3276720" y="3524400"/>
            <a:ext cx="118800" cy="118800"/>
            <a:chOff x="3276720" y="3524400"/>
            <a:chExt cx="118800" cy="118800"/>
          </a:xfrm>
        </p:grpSpPr>
        <p:sp>
          <p:nvSpPr>
            <p:cNvPr id="782" name="圆角矩形 116788"/>
            <p:cNvSpPr/>
            <p:nvPr/>
          </p:nvSpPr>
          <p:spPr>
            <a:xfrm>
              <a:off x="3276720" y="3524400"/>
              <a:ext cx="118800" cy="1188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五边形 116789"/>
            <p:cNvSpPr/>
            <p:nvPr/>
          </p:nvSpPr>
          <p:spPr>
            <a:xfrm>
              <a:off x="3312720" y="3540240"/>
              <a:ext cx="63720" cy="856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文本框 111621"/>
          <p:cNvSpPr/>
          <p:nvPr/>
        </p:nvSpPr>
        <p:spPr>
          <a:xfrm>
            <a:off x="3962520" y="224784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图片 111641" descr=""/>
          <p:cNvPicPr/>
          <p:nvPr/>
        </p:nvPicPr>
        <p:blipFill>
          <a:blip r:embed="rId1"/>
          <a:stretch/>
        </p:blipFill>
        <p:spPr>
          <a:xfrm>
            <a:off x="826920" y="4162320"/>
            <a:ext cx="2953080" cy="202104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111642" descr=""/>
          <p:cNvPicPr/>
          <p:nvPr/>
        </p:nvPicPr>
        <p:blipFill>
          <a:blip r:embed="rId2"/>
          <a:stretch/>
        </p:blipFill>
        <p:spPr>
          <a:xfrm>
            <a:off x="828720" y="1952640"/>
            <a:ext cx="2952720" cy="2021040"/>
          </a:xfrm>
          <a:prstGeom prst="rect">
            <a:avLst/>
          </a:prstGeom>
          <a:ln w="0">
            <a:noFill/>
          </a:ln>
        </p:spPr>
      </p:pic>
      <p:sp>
        <p:nvSpPr>
          <p:cNvPr id="788" name="文本框 111643"/>
          <p:cNvSpPr/>
          <p:nvPr/>
        </p:nvSpPr>
        <p:spPr>
          <a:xfrm>
            <a:off x="3962520" y="44467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111644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[Image Info]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www.wizdata.co.kr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  - Note to customers : This image has been licensed to be used within this PowerPoint template only.  You may not extract the image for any other use.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1" name="图片 91138" descr="cylinder03"/>
          <p:cNvPicPr/>
          <p:nvPr/>
        </p:nvPicPr>
        <p:blipFill>
          <a:blip r:embed="rId1"/>
          <a:stretch/>
        </p:blipFill>
        <p:spPr>
          <a:xfrm>
            <a:off x="1490760" y="454356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91139" descr="cylinder03"/>
          <p:cNvPicPr/>
          <p:nvPr/>
        </p:nvPicPr>
        <p:blipFill>
          <a:blip r:embed="rId2"/>
          <a:stretch/>
        </p:blipFill>
        <p:spPr>
          <a:xfrm>
            <a:off x="5214960" y="454356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793" name="任意多边形 91140"/>
          <p:cNvSpPr/>
          <p:nvPr/>
        </p:nvSpPr>
        <p:spPr>
          <a:xfrm>
            <a:off x="2085840" y="250812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任意多边形 91141"/>
          <p:cNvSpPr/>
          <p:nvPr/>
        </p:nvSpPr>
        <p:spPr>
          <a:xfrm>
            <a:off x="2584440" y="3394080"/>
            <a:ext cx="6602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任意多边形 91142"/>
          <p:cNvSpPr/>
          <p:nvPr/>
        </p:nvSpPr>
        <p:spPr>
          <a:xfrm>
            <a:off x="6242040" y="265284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任意多边形 91143"/>
          <p:cNvSpPr/>
          <p:nvPr/>
        </p:nvSpPr>
        <p:spPr>
          <a:xfrm>
            <a:off x="5605560" y="359892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任意多边形 91144"/>
          <p:cNvSpPr/>
          <p:nvPr/>
        </p:nvSpPr>
        <p:spPr>
          <a:xfrm>
            <a:off x="5907240" y="359892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任意多边形 91145"/>
          <p:cNvSpPr/>
          <p:nvPr/>
        </p:nvSpPr>
        <p:spPr>
          <a:xfrm>
            <a:off x="6842160" y="359892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任意多边形 91146"/>
          <p:cNvSpPr/>
          <p:nvPr/>
        </p:nvSpPr>
        <p:spPr>
          <a:xfrm>
            <a:off x="7135920" y="359892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任意多边形 91147"/>
          <p:cNvSpPr/>
          <p:nvPr/>
        </p:nvSpPr>
        <p:spPr>
          <a:xfrm>
            <a:off x="2779560" y="339408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>
            <a:off x="1492200" y="5095800"/>
            <a:ext cx="269892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4"/>
          <p:cNvSpPr/>
          <p:nvPr/>
        </p:nvSpPr>
        <p:spPr>
          <a:xfrm>
            <a:off x="5270400" y="5094360"/>
            <a:ext cx="270216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线形标注 3(带强调线) 91150"/>
          <p:cNvSpPr/>
          <p:nvPr/>
        </p:nvSpPr>
        <p:spPr>
          <a:xfrm flipH="1">
            <a:off x="1937520" y="202572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34259" y="9257"/>
                </a:lnTo>
                <a:lnTo>
                  <a:pt x="34259" y="44357"/>
                </a:lnTo>
                <a:lnTo>
                  <a:pt x="23881" y="75471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9"/>
          <p:cNvSpPr/>
          <p:nvPr/>
        </p:nvSpPr>
        <p:spPr>
          <a:xfrm>
            <a:off x="2994120" y="1959120"/>
            <a:ext cx="154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线形标注 3(带强调线) 91152"/>
          <p:cNvSpPr/>
          <p:nvPr/>
        </p:nvSpPr>
        <p:spPr>
          <a:xfrm flipH="1">
            <a:off x="6043680" y="200196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35079" y="9312"/>
                </a:lnTo>
                <a:lnTo>
                  <a:pt x="35079" y="46821"/>
                </a:lnTo>
                <a:lnTo>
                  <a:pt x="24029" y="80191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9"/>
          <p:cNvSpPr/>
          <p:nvPr/>
        </p:nvSpPr>
        <p:spPr>
          <a:xfrm>
            <a:off x="7118280" y="1905120"/>
            <a:ext cx="154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3736800" y="3067200"/>
            <a:ext cx="183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fc821"/>
                </a:solidFill>
                <a:uFillTx/>
                <a:latin typeface="Calibri"/>
                <a:ea typeface="宋体"/>
              </a:rPr>
              <a:t>Title in 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椭圆 115714"/>
          <p:cNvSpPr/>
          <p:nvPr/>
        </p:nvSpPr>
        <p:spPr>
          <a:xfrm>
            <a:off x="5199120" y="2065320"/>
            <a:ext cx="2971800" cy="2971800"/>
          </a:xfrm>
          <a:prstGeom prst="ellipse">
            <a:avLst/>
          </a:prstGeom>
          <a:noFill/>
          <a:ln w="38160">
            <a:solidFill>
              <a:srgbClr val="efc821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椭圆 115715"/>
          <p:cNvSpPr/>
          <p:nvPr/>
        </p:nvSpPr>
        <p:spPr>
          <a:xfrm>
            <a:off x="838080" y="2065320"/>
            <a:ext cx="2971800" cy="2971800"/>
          </a:xfrm>
          <a:prstGeom prst="ellipse">
            <a:avLst/>
          </a:prstGeom>
          <a:noFill/>
          <a:ln w="38160">
            <a:solidFill>
              <a:srgbClr val="8ac246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9"/>
          <p:cNvSpPr/>
          <p:nvPr/>
        </p:nvSpPr>
        <p:spPr>
          <a:xfrm>
            <a:off x="1343160" y="30877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5"/>
          <p:cNvGrpSpPr/>
          <p:nvPr/>
        </p:nvGrpSpPr>
        <p:grpSpPr>
          <a:xfrm>
            <a:off x="1263600" y="1676520"/>
            <a:ext cx="1000080" cy="977760"/>
            <a:chOff x="1263600" y="1676520"/>
            <a:chExt cx="1000080" cy="977760"/>
          </a:xfrm>
        </p:grpSpPr>
        <p:grpSp>
          <p:nvGrpSpPr>
            <p:cNvPr id="813" name="Group 16"/>
            <p:cNvGrpSpPr/>
            <p:nvPr/>
          </p:nvGrpSpPr>
          <p:grpSpPr>
            <a:xfrm>
              <a:off x="1263600" y="1676520"/>
              <a:ext cx="1000080" cy="977760"/>
              <a:chOff x="1263600" y="1676520"/>
              <a:chExt cx="1000080" cy="977760"/>
            </a:xfrm>
          </p:grpSpPr>
          <p:pic>
            <p:nvPicPr>
              <p:cNvPr id="814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63600" y="167652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Oval 18"/>
              <p:cNvSpPr/>
              <p:nvPr/>
            </p:nvSpPr>
            <p:spPr>
              <a:xfrm>
                <a:off x="1263600" y="167652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8ac246"/>
                  </a:gs>
                  <a:gs pos="50000">
                    <a:srgbClr val="405a20"/>
                  </a:gs>
                  <a:gs pos="100000">
                    <a:srgbClr val="8ac2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6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362960" y="168588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7" name="Text Box 30"/>
          <p:cNvSpPr/>
          <p:nvPr/>
        </p:nvSpPr>
        <p:spPr>
          <a:xfrm>
            <a:off x="1292400" y="188604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9"/>
          <p:cNvSpPr/>
          <p:nvPr/>
        </p:nvSpPr>
        <p:spPr>
          <a:xfrm>
            <a:off x="6049800" y="30877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45"/>
          <p:cNvGrpSpPr/>
          <p:nvPr/>
        </p:nvGrpSpPr>
        <p:grpSpPr>
          <a:xfrm>
            <a:off x="6777000" y="1706400"/>
            <a:ext cx="1000080" cy="978120"/>
            <a:chOff x="6777000" y="1706400"/>
            <a:chExt cx="1000080" cy="978120"/>
          </a:xfrm>
        </p:grpSpPr>
        <p:grpSp>
          <p:nvGrpSpPr>
            <p:cNvPr id="820" name="Group 46"/>
            <p:cNvGrpSpPr/>
            <p:nvPr/>
          </p:nvGrpSpPr>
          <p:grpSpPr>
            <a:xfrm>
              <a:off x="6777000" y="1706400"/>
              <a:ext cx="1000080" cy="978120"/>
              <a:chOff x="6777000" y="1706400"/>
              <a:chExt cx="1000080" cy="978120"/>
            </a:xfrm>
          </p:grpSpPr>
          <p:pic>
            <p:nvPicPr>
              <p:cNvPr id="821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777000" y="170640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2" name="Oval 48"/>
              <p:cNvSpPr/>
              <p:nvPr/>
            </p:nvSpPr>
            <p:spPr>
              <a:xfrm>
                <a:off x="6777000" y="170640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efc821"/>
                  </a:gs>
                  <a:gs pos="50000">
                    <a:srgbClr val="816c12"/>
                  </a:gs>
                  <a:gs pos="100000">
                    <a:srgbClr val="efc8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3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876360" y="17157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4" name="Text Box 50"/>
          <p:cNvSpPr/>
          <p:nvPr/>
        </p:nvSpPr>
        <p:spPr>
          <a:xfrm>
            <a:off x="6743880" y="191628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4"/>
          <p:cNvSpPr/>
          <p:nvPr/>
        </p:nvSpPr>
        <p:spPr>
          <a:xfrm>
            <a:off x="1365120" y="553896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15"/>
          <p:cNvGrpSpPr/>
          <p:nvPr/>
        </p:nvGrpSpPr>
        <p:grpSpPr>
          <a:xfrm>
            <a:off x="1263600" y="4429080"/>
            <a:ext cx="1000080" cy="978120"/>
            <a:chOff x="1263600" y="4429080"/>
            <a:chExt cx="1000080" cy="978120"/>
          </a:xfrm>
        </p:grpSpPr>
        <p:grpSp>
          <p:nvGrpSpPr>
            <p:cNvPr id="827" name="Group 16"/>
            <p:cNvGrpSpPr/>
            <p:nvPr/>
          </p:nvGrpSpPr>
          <p:grpSpPr>
            <a:xfrm>
              <a:off x="1263600" y="4429080"/>
              <a:ext cx="1000080" cy="978120"/>
              <a:chOff x="1263600" y="4429080"/>
              <a:chExt cx="1000080" cy="978120"/>
            </a:xfrm>
          </p:grpSpPr>
          <p:pic>
            <p:nvPicPr>
              <p:cNvPr id="828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263600" y="4429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9" name="Oval 18"/>
              <p:cNvSpPr/>
              <p:nvPr/>
            </p:nvSpPr>
            <p:spPr>
              <a:xfrm>
                <a:off x="1263600" y="4429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8ac246"/>
                  </a:gs>
                  <a:gs pos="50000">
                    <a:srgbClr val="4d6d27"/>
                  </a:gs>
                  <a:gs pos="100000">
                    <a:srgbClr val="8ac2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0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362960" y="4438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Text Box 30"/>
          <p:cNvSpPr/>
          <p:nvPr/>
        </p:nvSpPr>
        <p:spPr>
          <a:xfrm>
            <a:off x="1292400" y="463860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5"/>
          <p:cNvGrpSpPr/>
          <p:nvPr/>
        </p:nvGrpSpPr>
        <p:grpSpPr>
          <a:xfrm>
            <a:off x="358920" y="3133800"/>
            <a:ext cx="1000080" cy="977760"/>
            <a:chOff x="358920" y="3133800"/>
            <a:chExt cx="1000080" cy="977760"/>
          </a:xfrm>
        </p:grpSpPr>
        <p:grpSp>
          <p:nvGrpSpPr>
            <p:cNvPr id="833" name="Group 16"/>
            <p:cNvGrpSpPr/>
            <p:nvPr/>
          </p:nvGrpSpPr>
          <p:grpSpPr>
            <a:xfrm>
              <a:off x="358920" y="3133800"/>
              <a:ext cx="1000080" cy="977760"/>
              <a:chOff x="358920" y="3133800"/>
              <a:chExt cx="1000080" cy="977760"/>
            </a:xfrm>
          </p:grpSpPr>
          <p:pic>
            <p:nvPicPr>
              <p:cNvPr id="834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358920" y="3133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Oval 18"/>
              <p:cNvSpPr/>
              <p:nvPr/>
            </p:nvSpPr>
            <p:spPr>
              <a:xfrm>
                <a:off x="358920" y="3133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8ac246"/>
                  </a:gs>
                  <a:gs pos="50000">
                    <a:srgbClr val="4d6d27"/>
                  </a:gs>
                  <a:gs pos="100000">
                    <a:srgbClr val="8ac2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6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458280" y="3143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Text Box 30"/>
          <p:cNvSpPr/>
          <p:nvPr/>
        </p:nvSpPr>
        <p:spPr>
          <a:xfrm>
            <a:off x="387360" y="334332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45"/>
          <p:cNvGrpSpPr/>
          <p:nvPr/>
        </p:nvGrpSpPr>
        <p:grpSpPr>
          <a:xfrm>
            <a:off x="6777000" y="4316400"/>
            <a:ext cx="1000080" cy="977760"/>
            <a:chOff x="6777000" y="4316400"/>
            <a:chExt cx="1000080" cy="977760"/>
          </a:xfrm>
        </p:grpSpPr>
        <p:grpSp>
          <p:nvGrpSpPr>
            <p:cNvPr id="839" name="Group 46"/>
            <p:cNvGrpSpPr/>
            <p:nvPr/>
          </p:nvGrpSpPr>
          <p:grpSpPr>
            <a:xfrm>
              <a:off x="6777000" y="4316400"/>
              <a:ext cx="1000080" cy="977760"/>
              <a:chOff x="6777000" y="4316400"/>
              <a:chExt cx="1000080" cy="977760"/>
            </a:xfrm>
          </p:grpSpPr>
          <p:pic>
            <p:nvPicPr>
              <p:cNvPr id="840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777000" y="43164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Oval 48"/>
              <p:cNvSpPr/>
              <p:nvPr/>
            </p:nvSpPr>
            <p:spPr>
              <a:xfrm>
                <a:off x="6777000" y="43164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efc821"/>
                  </a:gs>
                  <a:gs pos="50000">
                    <a:srgbClr val="816c12"/>
                  </a:gs>
                  <a:gs pos="100000">
                    <a:srgbClr val="efc8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42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876360" y="43257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Text Box 50"/>
          <p:cNvSpPr/>
          <p:nvPr/>
        </p:nvSpPr>
        <p:spPr>
          <a:xfrm>
            <a:off x="6743880" y="452592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45"/>
          <p:cNvGrpSpPr/>
          <p:nvPr/>
        </p:nvGrpSpPr>
        <p:grpSpPr>
          <a:xfrm>
            <a:off x="7624800" y="3078000"/>
            <a:ext cx="1000080" cy="978120"/>
            <a:chOff x="7624800" y="3078000"/>
            <a:chExt cx="1000080" cy="978120"/>
          </a:xfrm>
        </p:grpSpPr>
        <p:grpSp>
          <p:nvGrpSpPr>
            <p:cNvPr id="845" name="Group 46"/>
            <p:cNvGrpSpPr/>
            <p:nvPr/>
          </p:nvGrpSpPr>
          <p:grpSpPr>
            <a:xfrm>
              <a:off x="7624800" y="3078000"/>
              <a:ext cx="1000080" cy="978120"/>
              <a:chOff x="7624800" y="3078000"/>
              <a:chExt cx="1000080" cy="978120"/>
            </a:xfrm>
          </p:grpSpPr>
          <p:pic>
            <p:nvPicPr>
              <p:cNvPr id="846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624800" y="307800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Oval 48"/>
              <p:cNvSpPr/>
              <p:nvPr/>
            </p:nvSpPr>
            <p:spPr>
              <a:xfrm>
                <a:off x="7624800" y="307800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efc821"/>
                  </a:gs>
                  <a:gs pos="50000">
                    <a:srgbClr val="816c12"/>
                  </a:gs>
                  <a:gs pos="100000">
                    <a:srgbClr val="efc8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48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724160" y="30873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Text Box 50"/>
          <p:cNvSpPr/>
          <p:nvPr/>
        </p:nvSpPr>
        <p:spPr>
          <a:xfrm>
            <a:off x="7591320" y="328788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任意多边形 115755"/>
          <p:cNvSpPr/>
          <p:nvPr/>
        </p:nvSpPr>
        <p:spPr>
          <a:xfrm>
            <a:off x="3809880" y="2141640"/>
            <a:ext cx="1371600" cy="1162080"/>
          </a:xfrm>
          <a:custGeom>
            <a:avLst/>
            <a:gdLst/>
            <a:ahLst/>
            <a:rect l="l" t="t" r="r" b="b"/>
            <a:pathLst>
              <a:path w="22942" h="10291">
                <a:moveTo>
                  <a:pt x="18112" y="7246"/>
                </a:moveTo>
                <a:cubicBezTo>
                  <a:pt x="16794" y="4536"/>
                  <a:pt x="14015" y="2670"/>
                  <a:pt x="10800" y="2670"/>
                </a:cubicBezTo>
                <a:cubicBezTo>
                  <a:pt x="6517" y="2670"/>
                  <a:pt x="3007" y="5982"/>
                  <a:pt x="2693" y="10185"/>
                </a:cubicBezTo>
                <a:lnTo>
                  <a:pt x="30" y="9983"/>
                </a:lnTo>
                <a:cubicBezTo>
                  <a:pt x="449" y="4398"/>
                  <a:pt x="5110" y="0"/>
                  <a:pt x="10799" y="0"/>
                </a:cubicBezTo>
                <a:cubicBezTo>
                  <a:pt x="15070" y="0"/>
                  <a:pt x="18762" y="2479"/>
                  <a:pt x="20514" y="6076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6b8d8">
                  <a:alpha val="80392"/>
                </a:srgbClr>
              </a:gs>
              <a:gs pos="100000">
                <a:srgbClr val="5a90c2">
                  <a:alpha val="8039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115756"/>
          <p:cNvGrpSpPr/>
          <p:nvPr/>
        </p:nvGrpSpPr>
        <p:grpSpPr>
          <a:xfrm>
            <a:off x="4543560" y="2847960"/>
            <a:ext cx="1676160" cy="1403280"/>
            <a:chOff x="4543560" y="2847960"/>
            <a:chExt cx="1676160" cy="1403280"/>
          </a:xfrm>
        </p:grpSpPr>
        <p:sp>
          <p:nvSpPr>
            <p:cNvPr id="852" name="五边形 115757"/>
            <p:cNvSpPr/>
            <p:nvPr/>
          </p:nvSpPr>
          <p:spPr>
            <a:xfrm>
              <a:off x="4543560" y="2847960"/>
              <a:ext cx="1676160" cy="140328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8e8a4"/>
                </a:gs>
                <a:gs pos="100000">
                  <a:srgbClr val="efc821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五边形 115758"/>
            <p:cNvSpPr/>
            <p:nvPr/>
          </p:nvSpPr>
          <p:spPr>
            <a:xfrm>
              <a:off x="4598640" y="2903400"/>
              <a:ext cx="1550880" cy="1287360"/>
            </a:xfrm>
            <a:custGeom>
              <a:avLst/>
              <a:gdLst>
                <a:gd name="textAreaLeft" fmla="*/ 0 w 1550880"/>
                <a:gd name="textAreaRight" fmla="*/ 1551240 w 155088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78c17"/>
                </a:gs>
                <a:gs pos="100000">
                  <a:srgbClr val="efc821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组合 115759"/>
          <p:cNvGrpSpPr/>
          <p:nvPr/>
        </p:nvGrpSpPr>
        <p:grpSpPr>
          <a:xfrm>
            <a:off x="2819520" y="2865600"/>
            <a:ext cx="1676160" cy="1403280"/>
            <a:chOff x="2819520" y="2865600"/>
            <a:chExt cx="1676160" cy="1403280"/>
          </a:xfrm>
        </p:grpSpPr>
        <p:sp>
          <p:nvSpPr>
            <p:cNvPr id="855" name="五边形 115760"/>
            <p:cNvSpPr/>
            <p:nvPr/>
          </p:nvSpPr>
          <p:spPr>
            <a:xfrm flipH="1">
              <a:off x="2819520" y="2865600"/>
              <a:ext cx="1676160" cy="1403280"/>
            </a:xfrm>
            <a:custGeom>
              <a:avLst/>
              <a:gdLst>
                <a:gd name="textAreaLeft" fmla="*/ 360 w 1676160"/>
                <a:gd name="textAreaRight" fmla="*/ 1676880 w 167616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ac246"/>
                </a:gs>
                <a:gs pos="100000">
                  <a:srgbClr val="c3e0a1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五边形 115761"/>
            <p:cNvSpPr/>
            <p:nvPr/>
          </p:nvSpPr>
          <p:spPr>
            <a:xfrm flipH="1">
              <a:off x="2889720" y="2921040"/>
              <a:ext cx="1550880" cy="1287360"/>
            </a:xfrm>
            <a:custGeom>
              <a:avLst/>
              <a:gdLst>
                <a:gd name="textAreaLeft" fmla="*/ 360 w 1550880"/>
                <a:gd name="textAreaRight" fmla="*/ 1551600 w 155088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ac246"/>
                </a:gs>
                <a:gs pos="100000">
                  <a:srgbClr val="5c812f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Text Box 8"/>
          <p:cNvSpPr/>
          <p:nvPr/>
        </p:nvSpPr>
        <p:spPr>
          <a:xfrm>
            <a:off x="3084480" y="31431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8"/>
          <p:cNvSpPr/>
          <p:nvPr/>
        </p:nvSpPr>
        <p:spPr>
          <a:xfrm>
            <a:off x="4670280" y="31431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30"/>
          <p:cNvSpPr/>
          <p:nvPr/>
        </p:nvSpPr>
        <p:spPr>
          <a:xfrm>
            <a:off x="3581280" y="176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30"/>
          <p:cNvSpPr/>
          <p:nvPr/>
        </p:nvSpPr>
        <p:spPr>
          <a:xfrm>
            <a:off x="3581280" y="4991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任意多边形 115766"/>
          <p:cNvSpPr/>
          <p:nvPr/>
        </p:nvSpPr>
        <p:spPr>
          <a:xfrm flipH="1" flipV="1">
            <a:off x="3809880" y="3798720"/>
            <a:ext cx="1371600" cy="1162080"/>
          </a:xfrm>
          <a:custGeom>
            <a:avLst/>
            <a:gdLst/>
            <a:ahLst/>
            <a:rect l="l" t="t" r="r" b="b"/>
            <a:pathLst>
              <a:path w="22942" h="10291">
                <a:moveTo>
                  <a:pt x="18112" y="7246"/>
                </a:moveTo>
                <a:cubicBezTo>
                  <a:pt x="16794" y="4536"/>
                  <a:pt x="14015" y="2670"/>
                  <a:pt x="10800" y="2670"/>
                </a:cubicBezTo>
                <a:cubicBezTo>
                  <a:pt x="6721" y="2670"/>
                  <a:pt x="3343" y="5674"/>
                  <a:pt x="2759" y="9591"/>
                </a:cubicBezTo>
                <a:lnTo>
                  <a:pt x="119" y="9195"/>
                </a:lnTo>
                <a:cubicBezTo>
                  <a:pt x="895" y="3989"/>
                  <a:pt x="5381" y="0"/>
                  <a:pt x="10799" y="0"/>
                </a:cubicBezTo>
                <a:cubicBezTo>
                  <a:pt x="15070" y="0"/>
                  <a:pt x="18762" y="2479"/>
                  <a:pt x="20514" y="6076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f5dc72">
                  <a:alpha val="80392"/>
                </a:srgbClr>
              </a:gs>
              <a:gs pos="100000">
                <a:srgbClr val="efc821">
                  <a:alpha val="8039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35888" descr="arrow_metal0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85800" y="2209680"/>
            <a:ext cx="27417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2928960" y="5543640"/>
            <a:ext cx="4800600" cy="360"/>
            <a:chOff x="2928960" y="5543640"/>
            <a:chExt cx="4800600" cy="360"/>
          </a:xfrm>
        </p:grpSpPr>
        <p:sp>
          <p:nvSpPr>
            <p:cNvPr id="277" name="直接连接符 35841"/>
            <p:cNvSpPr/>
            <p:nvPr/>
          </p:nvSpPr>
          <p:spPr>
            <a:xfrm>
              <a:off x="2928960" y="5543640"/>
              <a:ext cx="48006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928960" y="554364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矩形 35842"/>
          <p:cNvSpPr/>
          <p:nvPr/>
        </p:nvSpPr>
        <p:spPr>
          <a:xfrm>
            <a:off x="3614760" y="516240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971800" y="2743200"/>
            <a:ext cx="4800600" cy="360"/>
            <a:chOff x="2971800" y="2743200"/>
            <a:chExt cx="4800600" cy="360"/>
          </a:xfrm>
        </p:grpSpPr>
        <p:sp>
          <p:nvSpPr>
            <p:cNvPr id="281" name="直接连接符 35843"/>
            <p:cNvSpPr/>
            <p:nvPr/>
          </p:nvSpPr>
          <p:spPr>
            <a:xfrm>
              <a:off x="2971800" y="2743200"/>
              <a:ext cx="48006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2971800" y="274320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矩形 35847"/>
          <p:cNvSpPr/>
          <p:nvPr/>
        </p:nvSpPr>
        <p:spPr>
          <a:xfrm>
            <a:off x="3657600" y="236232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462480" y="3429000"/>
            <a:ext cx="4800600" cy="360"/>
            <a:chOff x="3462480" y="3429000"/>
            <a:chExt cx="4800600" cy="360"/>
          </a:xfrm>
        </p:grpSpPr>
        <p:sp>
          <p:nvSpPr>
            <p:cNvPr id="286" name="直接连接符 35848"/>
            <p:cNvSpPr/>
            <p:nvPr/>
          </p:nvSpPr>
          <p:spPr>
            <a:xfrm>
              <a:off x="3462480" y="3429000"/>
              <a:ext cx="48006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3462480" y="342900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矩形 35849"/>
          <p:cNvSpPr/>
          <p:nvPr/>
        </p:nvSpPr>
        <p:spPr>
          <a:xfrm>
            <a:off x="4114800" y="304812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657600" y="4154400"/>
            <a:ext cx="4800600" cy="360"/>
            <a:chOff x="3657600" y="4154400"/>
            <a:chExt cx="4800600" cy="360"/>
          </a:xfrm>
        </p:grpSpPr>
        <p:sp>
          <p:nvSpPr>
            <p:cNvPr id="290" name="直接连接符 35850"/>
            <p:cNvSpPr/>
            <p:nvPr/>
          </p:nvSpPr>
          <p:spPr>
            <a:xfrm>
              <a:off x="3657600" y="4154400"/>
              <a:ext cx="48006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3657600" y="415440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矩形 35851"/>
          <p:cNvSpPr/>
          <p:nvPr/>
        </p:nvSpPr>
        <p:spPr>
          <a:xfrm>
            <a:off x="4343400" y="377352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462480" y="4876920"/>
            <a:ext cx="4800600" cy="360"/>
            <a:chOff x="3462480" y="4876920"/>
            <a:chExt cx="4800600" cy="360"/>
          </a:xfrm>
        </p:grpSpPr>
        <p:sp>
          <p:nvSpPr>
            <p:cNvPr id="294" name="直接连接符 35852"/>
            <p:cNvSpPr/>
            <p:nvPr/>
          </p:nvSpPr>
          <p:spPr>
            <a:xfrm>
              <a:off x="3462480" y="4876920"/>
              <a:ext cx="48006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3462480" y="487692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矩形 35853"/>
          <p:cNvSpPr/>
          <p:nvPr/>
        </p:nvSpPr>
        <p:spPr>
          <a:xfrm>
            <a:off x="4114800" y="449568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组合 35933"/>
          <p:cNvGrpSpPr/>
          <p:nvPr/>
        </p:nvGrpSpPr>
        <p:grpSpPr>
          <a:xfrm>
            <a:off x="2777040" y="2311560"/>
            <a:ext cx="466920" cy="468000"/>
            <a:chOff x="2777040" y="2311560"/>
            <a:chExt cx="466920" cy="468000"/>
          </a:xfrm>
        </p:grpSpPr>
        <p:sp>
          <p:nvSpPr>
            <p:cNvPr id="298" name="椭圆 35891"/>
            <p:cNvSpPr/>
            <p:nvPr/>
          </p:nvSpPr>
          <p:spPr>
            <a:xfrm>
              <a:off x="2813040" y="235116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round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组合 35892"/>
            <p:cNvGrpSpPr/>
            <p:nvPr/>
          </p:nvGrpSpPr>
          <p:grpSpPr>
            <a:xfrm>
              <a:off x="2777040" y="2311560"/>
              <a:ext cx="466920" cy="468000"/>
              <a:chOff x="2777040" y="2311560"/>
              <a:chExt cx="466920" cy="468000"/>
            </a:xfrm>
          </p:grpSpPr>
          <p:pic>
            <p:nvPicPr>
              <p:cNvPr id="300" name="图片 35893" descr="circuler_1"/>
              <p:cNvPicPr/>
              <p:nvPr/>
            </p:nvPicPr>
            <p:blipFill>
              <a:blip r:embed="rId2"/>
              <a:stretch/>
            </p:blipFill>
            <p:spPr>
              <a:xfrm rot="19311000">
                <a:off x="2845440" y="2377800"/>
                <a:ext cx="32724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椭圆 35894"/>
              <p:cNvSpPr/>
              <p:nvPr/>
            </p:nvSpPr>
            <p:spPr>
              <a:xfrm rot="19311000">
                <a:off x="2845800" y="2377080"/>
                <a:ext cx="329400" cy="336600"/>
              </a:xfrm>
              <a:prstGeom prst="ellipse">
                <a:avLst/>
              </a:prstGeom>
              <a:gradFill rotWithShape="0">
                <a:gsLst>
                  <a:gs pos="0">
                    <a:srgbClr val="1f3244">
                      <a:alpha val="90196"/>
                    </a:srgbClr>
                  </a:gs>
                  <a:gs pos="50000">
                    <a:srgbClr val="5a90c2">
                      <a:alpha val="75294"/>
                    </a:srgbClr>
                  </a:gs>
                  <a:gs pos="100000">
                    <a:srgbClr val="1f3244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2" name="图片 35895" descr="Picture2"/>
              <p:cNvPicPr/>
              <p:nvPr/>
            </p:nvPicPr>
            <p:blipFill>
              <a:blip r:embed="rId3"/>
              <a:stretch/>
            </p:blipFill>
            <p:spPr>
              <a:xfrm rot="19311000">
                <a:off x="2813400" y="240300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3" name="图片 35896" descr=""/>
            <p:cNvPicPr/>
            <p:nvPr/>
          </p:nvPicPr>
          <p:blipFill>
            <a:blip r:embed="rId4"/>
            <a:srcRect l="12029" t="9307" r="12418" b="12612"/>
            <a:stretch/>
          </p:blipFill>
          <p:spPr>
            <a:xfrm>
              <a:off x="2838600" y="236412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组合 35932"/>
          <p:cNvGrpSpPr/>
          <p:nvPr/>
        </p:nvGrpSpPr>
        <p:grpSpPr>
          <a:xfrm>
            <a:off x="3290040" y="3009960"/>
            <a:ext cx="466920" cy="468360"/>
            <a:chOff x="3290040" y="3009960"/>
            <a:chExt cx="466920" cy="468360"/>
          </a:xfrm>
        </p:grpSpPr>
        <p:sp>
          <p:nvSpPr>
            <p:cNvPr id="305" name="椭圆 35901"/>
            <p:cNvSpPr/>
            <p:nvPr/>
          </p:nvSpPr>
          <p:spPr>
            <a:xfrm>
              <a:off x="3325680" y="304956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round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组合 35902"/>
            <p:cNvGrpSpPr/>
            <p:nvPr/>
          </p:nvGrpSpPr>
          <p:grpSpPr>
            <a:xfrm>
              <a:off x="3290040" y="3009960"/>
              <a:ext cx="466920" cy="468360"/>
              <a:chOff x="3290040" y="3009960"/>
              <a:chExt cx="466920" cy="468360"/>
            </a:xfrm>
          </p:grpSpPr>
          <p:pic>
            <p:nvPicPr>
              <p:cNvPr id="307" name="图片 35903" descr="circuler_1"/>
              <p:cNvPicPr/>
              <p:nvPr/>
            </p:nvPicPr>
            <p:blipFill>
              <a:blip r:embed="rId5"/>
              <a:stretch/>
            </p:blipFill>
            <p:spPr>
              <a:xfrm rot="19311000">
                <a:off x="3358440" y="3076560"/>
                <a:ext cx="32688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椭圆 35904"/>
              <p:cNvSpPr/>
              <p:nvPr/>
            </p:nvSpPr>
            <p:spPr>
              <a:xfrm rot="19311000">
                <a:off x="3358800" y="3075480"/>
                <a:ext cx="329040" cy="336960"/>
              </a:xfrm>
              <a:prstGeom prst="ellipse">
                <a:avLst/>
              </a:prstGeom>
              <a:gradFill rotWithShape="0">
                <a:gsLst>
                  <a:gs pos="0">
                    <a:srgbClr val="304418">
                      <a:alpha val="90196"/>
                    </a:srgbClr>
                  </a:gs>
                  <a:gs pos="50000">
                    <a:srgbClr val="8ac246">
                      <a:alpha val="75294"/>
                    </a:srgbClr>
                  </a:gs>
                  <a:gs pos="100000">
                    <a:srgbClr val="304418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9" name="图片 35905" descr="Picture2"/>
              <p:cNvPicPr/>
              <p:nvPr/>
            </p:nvPicPr>
            <p:blipFill>
              <a:blip r:embed="rId6"/>
              <a:stretch/>
            </p:blipFill>
            <p:spPr>
              <a:xfrm rot="19311000">
                <a:off x="3325680" y="3101760"/>
                <a:ext cx="26208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0" name="图片 35925" descr=""/>
            <p:cNvPicPr/>
            <p:nvPr/>
          </p:nvPicPr>
          <p:blipFill>
            <a:blip r:embed="rId7"/>
            <a:srcRect l="12029" t="9307" r="12418" b="12612"/>
            <a:stretch/>
          </p:blipFill>
          <p:spPr>
            <a:xfrm>
              <a:off x="3350880" y="306252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1" name="组合 35931"/>
          <p:cNvGrpSpPr/>
          <p:nvPr/>
        </p:nvGrpSpPr>
        <p:grpSpPr>
          <a:xfrm>
            <a:off x="3458520" y="3732480"/>
            <a:ext cx="466560" cy="468000"/>
            <a:chOff x="3458520" y="3732480"/>
            <a:chExt cx="466560" cy="468000"/>
          </a:xfrm>
        </p:grpSpPr>
        <p:sp>
          <p:nvSpPr>
            <p:cNvPr id="312" name="椭圆 35906"/>
            <p:cNvSpPr/>
            <p:nvPr/>
          </p:nvSpPr>
          <p:spPr>
            <a:xfrm>
              <a:off x="3494160" y="377208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round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组合 35907"/>
            <p:cNvGrpSpPr/>
            <p:nvPr/>
          </p:nvGrpSpPr>
          <p:grpSpPr>
            <a:xfrm>
              <a:off x="3458520" y="3732480"/>
              <a:ext cx="466560" cy="468000"/>
              <a:chOff x="3458520" y="3732480"/>
              <a:chExt cx="466560" cy="468000"/>
            </a:xfrm>
          </p:grpSpPr>
          <p:pic>
            <p:nvPicPr>
              <p:cNvPr id="314" name="图片 35908" descr="circuler_1"/>
              <p:cNvPicPr/>
              <p:nvPr/>
            </p:nvPicPr>
            <p:blipFill>
              <a:blip r:embed="rId8"/>
              <a:stretch/>
            </p:blipFill>
            <p:spPr>
              <a:xfrm rot="19311000">
                <a:off x="3526920" y="3799080"/>
                <a:ext cx="32688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椭圆 35909"/>
              <p:cNvSpPr/>
              <p:nvPr/>
            </p:nvSpPr>
            <p:spPr>
              <a:xfrm rot="19311000">
                <a:off x="3527280" y="379800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562e09">
                      <a:alpha val="90196"/>
                    </a:srgbClr>
                  </a:gs>
                  <a:gs pos="50000">
                    <a:srgbClr val="f6831a">
                      <a:alpha val="75294"/>
                    </a:srgbClr>
                  </a:gs>
                  <a:gs pos="100000">
                    <a:srgbClr val="562e09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6" name="图片 35910" descr="Picture2"/>
              <p:cNvPicPr/>
              <p:nvPr/>
            </p:nvPicPr>
            <p:blipFill>
              <a:blip r:embed="rId9"/>
              <a:stretch/>
            </p:blipFill>
            <p:spPr>
              <a:xfrm rot="19311000">
                <a:off x="3494520" y="3824280"/>
                <a:ext cx="26208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7" name="图片 35926" descr=""/>
            <p:cNvPicPr/>
            <p:nvPr/>
          </p:nvPicPr>
          <p:blipFill>
            <a:blip r:embed="rId10"/>
            <a:srcRect l="12029" t="9307" r="12418" b="12612"/>
            <a:stretch/>
          </p:blipFill>
          <p:spPr>
            <a:xfrm>
              <a:off x="3521520" y="3785040"/>
              <a:ext cx="33948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组合 35930"/>
          <p:cNvGrpSpPr/>
          <p:nvPr/>
        </p:nvGrpSpPr>
        <p:grpSpPr>
          <a:xfrm>
            <a:off x="3274200" y="4444920"/>
            <a:ext cx="466920" cy="468360"/>
            <a:chOff x="3274200" y="4444920"/>
            <a:chExt cx="466920" cy="468360"/>
          </a:xfrm>
        </p:grpSpPr>
        <p:sp>
          <p:nvSpPr>
            <p:cNvPr id="319" name="椭圆 35911"/>
            <p:cNvSpPr/>
            <p:nvPr/>
          </p:nvSpPr>
          <p:spPr>
            <a:xfrm>
              <a:off x="3309840" y="448452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round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组合 35912"/>
            <p:cNvGrpSpPr/>
            <p:nvPr/>
          </p:nvGrpSpPr>
          <p:grpSpPr>
            <a:xfrm>
              <a:off x="3274200" y="4444920"/>
              <a:ext cx="466920" cy="468360"/>
              <a:chOff x="3274200" y="4444920"/>
              <a:chExt cx="466920" cy="468360"/>
            </a:xfrm>
          </p:grpSpPr>
          <p:pic>
            <p:nvPicPr>
              <p:cNvPr id="321" name="图片 35913" descr="circuler_1"/>
              <p:cNvPicPr/>
              <p:nvPr/>
            </p:nvPicPr>
            <p:blipFill>
              <a:blip r:embed="rId11"/>
              <a:stretch/>
            </p:blipFill>
            <p:spPr>
              <a:xfrm rot="19311000">
                <a:off x="3342600" y="4511520"/>
                <a:ext cx="32688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椭圆 35914"/>
              <p:cNvSpPr/>
              <p:nvPr/>
            </p:nvSpPr>
            <p:spPr>
              <a:xfrm rot="19311000">
                <a:off x="3342960" y="4510440"/>
                <a:ext cx="329040" cy="336960"/>
              </a:xfrm>
              <a:prstGeom prst="ellipse">
                <a:avLst/>
              </a:prstGeom>
              <a:gradFill rotWithShape="0">
                <a:gsLst>
                  <a:gs pos="0">
                    <a:srgbClr val="53460c">
                      <a:alpha val="90196"/>
                    </a:srgbClr>
                  </a:gs>
                  <a:gs pos="50000">
                    <a:srgbClr val="efc821">
                      <a:alpha val="75294"/>
                    </a:srgbClr>
                  </a:gs>
                  <a:gs pos="100000">
                    <a:srgbClr val="53460c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3" name="图片 35915" descr="Picture2"/>
              <p:cNvPicPr/>
              <p:nvPr/>
            </p:nvPicPr>
            <p:blipFill>
              <a:blip r:embed="rId12"/>
              <a:stretch/>
            </p:blipFill>
            <p:spPr>
              <a:xfrm rot="19311000">
                <a:off x="3309840" y="4536720"/>
                <a:ext cx="26208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4" name="图片 35927" descr=""/>
            <p:cNvPicPr/>
            <p:nvPr/>
          </p:nvPicPr>
          <p:blipFill>
            <a:blip r:embed="rId13"/>
            <a:srcRect l="12029" t="9307" r="12418" b="12612"/>
            <a:stretch/>
          </p:blipFill>
          <p:spPr>
            <a:xfrm>
              <a:off x="3335040" y="449748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组合 35929"/>
          <p:cNvGrpSpPr/>
          <p:nvPr/>
        </p:nvGrpSpPr>
        <p:grpSpPr>
          <a:xfrm>
            <a:off x="2696040" y="5108760"/>
            <a:ext cx="466920" cy="468000"/>
            <a:chOff x="2696040" y="5108760"/>
            <a:chExt cx="466920" cy="468000"/>
          </a:xfrm>
        </p:grpSpPr>
        <p:sp>
          <p:nvSpPr>
            <p:cNvPr id="326" name="椭圆 35920"/>
            <p:cNvSpPr/>
            <p:nvPr/>
          </p:nvSpPr>
          <p:spPr>
            <a:xfrm>
              <a:off x="2732040" y="514836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round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组合 35921"/>
            <p:cNvGrpSpPr/>
            <p:nvPr/>
          </p:nvGrpSpPr>
          <p:grpSpPr>
            <a:xfrm>
              <a:off x="2696040" y="5108760"/>
              <a:ext cx="466920" cy="468000"/>
              <a:chOff x="2696040" y="5108760"/>
              <a:chExt cx="466920" cy="468000"/>
            </a:xfrm>
          </p:grpSpPr>
          <p:pic>
            <p:nvPicPr>
              <p:cNvPr id="328" name="图片 35922" descr="circuler_1"/>
              <p:cNvPicPr/>
              <p:nvPr/>
            </p:nvPicPr>
            <p:blipFill>
              <a:blip r:embed="rId14"/>
              <a:stretch/>
            </p:blipFill>
            <p:spPr>
              <a:xfrm rot="19311000">
                <a:off x="2764440" y="5175000"/>
                <a:ext cx="32724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椭圆 35923"/>
              <p:cNvSpPr/>
              <p:nvPr/>
            </p:nvSpPr>
            <p:spPr>
              <a:xfrm rot="19311000">
                <a:off x="2764800" y="5174280"/>
                <a:ext cx="329400" cy="336600"/>
              </a:xfrm>
              <a:prstGeom prst="ellipse">
                <a:avLst/>
              </a:prstGeom>
              <a:solidFill>
                <a:srgbClr val="fb4f2d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0" name="图片 35924" descr="Picture2"/>
              <p:cNvPicPr/>
              <p:nvPr/>
            </p:nvPicPr>
            <p:blipFill>
              <a:blip r:embed="rId15"/>
              <a:stretch/>
            </p:blipFill>
            <p:spPr>
              <a:xfrm rot="19311000">
                <a:off x="2732400" y="520020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1" name="图片 35928" descr=""/>
            <p:cNvPicPr/>
            <p:nvPr/>
          </p:nvPicPr>
          <p:blipFill>
            <a:blip r:embed="rId16"/>
            <a:srcRect l="12029" t="9307" r="12418" b="12612"/>
            <a:stretch/>
          </p:blipFill>
          <p:spPr>
            <a:xfrm>
              <a:off x="2757600" y="516132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0B79-3831-46EA-A580-4ECFD6ED24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矩形 66561"/>
          <p:cNvSpPr txBox="1"/>
          <p:nvPr/>
        </p:nvSpPr>
        <p:spPr>
          <a:xfrm>
            <a:off x="4572000" y="2868480"/>
            <a:ext cx="434340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solidFill>
                  <a:srgbClr val="2e507a"/>
                </a:solidFill>
                <a:effectLst>
                  <a:outerShdw dist="63504" dir="3183908" blurRad="0" rotWithShape="0">
                    <a:srgbClr val="333333">
                      <a:alpha val="50000"/>
                    </a:srgbClr>
                  </a:outerShdw>
                </a:effectLst>
                <a:latin typeface="Verdana"/>
              </a:rPr>
              <a:t>Thank You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solidFill>
                <a:srgbClr val="2e507a"/>
              </a:solidFill>
              <a:effectLst>
                <a:outerShdw dist="63504" dir="3183908" blurRad="0" rotWithShape="0">
                  <a:srgbClr val="333333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4571640" y="43430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Your company  slogan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06480" y="1828440"/>
            <a:ext cx="733104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LOG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UR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0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2e507a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2e507a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2e507a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2e507a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36867"/>
          <p:cNvSpPr/>
          <p:nvPr/>
        </p:nvSpPr>
        <p:spPr>
          <a:xfrm>
            <a:off x="1676520" y="510552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mage : www.wizdata.co.k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36868" descr="num-1_t1"/>
          <p:cNvPicPr/>
          <p:nvPr/>
        </p:nvPicPr>
        <p:blipFill>
          <a:blip r:embed="rId1"/>
          <a:stretch/>
        </p:blipFill>
        <p:spPr>
          <a:xfrm>
            <a:off x="7434360" y="5003640"/>
            <a:ext cx="13730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122881"/>
          <p:cNvSpPr/>
          <p:nvPr/>
        </p:nvSpPr>
        <p:spPr>
          <a:xfrm>
            <a:off x="4191120" y="2133720"/>
            <a:ext cx="4800600" cy="10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e507a"/>
                </a:solidFill>
                <a:latin typeface="Calibri"/>
                <a:ea typeface="宋体"/>
              </a:rPr>
              <a:t>1. Describe contents for a Chart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mpany’s sub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mpany’s sub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495680" y="3354480"/>
            <a:ext cx="4419720" cy="360"/>
            <a:chOff x="4495680" y="3354480"/>
            <a:chExt cx="4419720" cy="360"/>
          </a:xfrm>
        </p:grpSpPr>
        <p:sp>
          <p:nvSpPr>
            <p:cNvPr id="338" name="直接连接符 122882"/>
            <p:cNvSpPr/>
            <p:nvPr/>
          </p:nvSpPr>
          <p:spPr>
            <a:xfrm>
              <a:off x="4495680" y="3354480"/>
              <a:ext cx="4419720" cy="0"/>
            </a:xfrm>
            <a:prstGeom prst="line">
              <a:avLst/>
            </a:prstGeom>
            <a:ln w="9360">
              <a:solidFill>
                <a:srgbClr val="2e507a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4495680" y="3354480"/>
              <a:ext cx="4419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圆角矩形 122883"/>
          <p:cNvSpPr/>
          <p:nvPr/>
        </p:nvSpPr>
        <p:spPr>
          <a:xfrm>
            <a:off x="609480" y="5686560"/>
            <a:ext cx="3146400" cy="48564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fefefe"/>
            </a:solidFill>
            <a:round/>
          </a:ln>
          <a:effectLst>
            <a:outerShdw dist="53966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22884"/>
          <p:cNvSpPr/>
          <p:nvPr/>
        </p:nvSpPr>
        <p:spPr>
          <a:xfrm>
            <a:off x="1084320" y="573408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Chart Title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任意多边形 122885"/>
          <p:cNvSpPr/>
          <p:nvPr/>
        </p:nvSpPr>
        <p:spPr>
          <a:xfrm rot="10800000">
            <a:off x="563400" y="1784160"/>
            <a:ext cx="2408400" cy="2251080"/>
          </a:xfrm>
          <a:custGeom>
            <a:avLst/>
            <a:gdLst/>
            <a:ahLst/>
            <a:rect l="l" t="t" r="r" b="b"/>
            <a:pathLst>
              <a:path w="952" h="947">
                <a:moveTo>
                  <a:pt x="0" y="756"/>
                </a:moveTo>
                <a:lnTo>
                  <a:pt x="191" y="591"/>
                </a:lnTo>
                <a:lnTo>
                  <a:pt x="190" y="672"/>
                </a:lnTo>
                <a:lnTo>
                  <a:pt x="194" y="672"/>
                </a:lnTo>
                <a:lnTo>
                  <a:pt x="205" y="672"/>
                </a:lnTo>
                <a:lnTo>
                  <a:pt x="225" y="671"/>
                </a:lnTo>
                <a:lnTo>
                  <a:pt x="250" y="667"/>
                </a:lnTo>
                <a:lnTo>
                  <a:pt x="281" y="662"/>
                </a:lnTo>
                <a:lnTo>
                  <a:pt x="316" y="653"/>
                </a:lnTo>
                <a:lnTo>
                  <a:pt x="356" y="641"/>
                </a:lnTo>
                <a:lnTo>
                  <a:pt x="399" y="626"/>
                </a:lnTo>
                <a:lnTo>
                  <a:pt x="444" y="605"/>
                </a:lnTo>
                <a:lnTo>
                  <a:pt x="492" y="578"/>
                </a:lnTo>
                <a:lnTo>
                  <a:pt x="540" y="547"/>
                </a:lnTo>
                <a:lnTo>
                  <a:pt x="587" y="508"/>
                </a:lnTo>
                <a:lnTo>
                  <a:pt x="635" y="463"/>
                </a:lnTo>
                <a:lnTo>
                  <a:pt x="689" y="405"/>
                </a:lnTo>
                <a:lnTo>
                  <a:pt x="737" y="350"/>
                </a:lnTo>
                <a:lnTo>
                  <a:pt x="780" y="298"/>
                </a:lnTo>
                <a:lnTo>
                  <a:pt x="816" y="249"/>
                </a:lnTo>
                <a:lnTo>
                  <a:pt x="847" y="204"/>
                </a:lnTo>
                <a:lnTo>
                  <a:pt x="873" y="164"/>
                </a:lnTo>
                <a:lnTo>
                  <a:pt x="895" y="126"/>
                </a:lnTo>
                <a:lnTo>
                  <a:pt x="913" y="94"/>
                </a:lnTo>
                <a:lnTo>
                  <a:pt x="926" y="66"/>
                </a:lnTo>
                <a:lnTo>
                  <a:pt x="936" y="42"/>
                </a:lnTo>
                <a:lnTo>
                  <a:pt x="944" y="24"/>
                </a:lnTo>
                <a:lnTo>
                  <a:pt x="949" y="12"/>
                </a:lnTo>
                <a:lnTo>
                  <a:pt x="952" y="2"/>
                </a:lnTo>
                <a:lnTo>
                  <a:pt x="952" y="0"/>
                </a:lnTo>
                <a:lnTo>
                  <a:pt x="952" y="4"/>
                </a:lnTo>
                <a:lnTo>
                  <a:pt x="950" y="17"/>
                </a:lnTo>
                <a:lnTo>
                  <a:pt x="948" y="36"/>
                </a:lnTo>
                <a:lnTo>
                  <a:pt x="942" y="62"/>
                </a:lnTo>
                <a:lnTo>
                  <a:pt x="936" y="93"/>
                </a:lnTo>
                <a:lnTo>
                  <a:pt x="927" y="130"/>
                </a:lnTo>
                <a:lnTo>
                  <a:pt x="914" y="172"/>
                </a:lnTo>
                <a:lnTo>
                  <a:pt x="899" y="217"/>
                </a:lnTo>
                <a:lnTo>
                  <a:pt x="881" y="264"/>
                </a:lnTo>
                <a:lnTo>
                  <a:pt x="857" y="315"/>
                </a:lnTo>
                <a:lnTo>
                  <a:pt x="830" y="368"/>
                </a:lnTo>
                <a:lnTo>
                  <a:pt x="798" y="421"/>
                </a:lnTo>
                <a:lnTo>
                  <a:pt x="762" y="475"/>
                </a:lnTo>
                <a:lnTo>
                  <a:pt x="719" y="529"/>
                </a:lnTo>
                <a:lnTo>
                  <a:pt x="671" y="582"/>
                </a:lnTo>
                <a:lnTo>
                  <a:pt x="613" y="637"/>
                </a:lnTo>
                <a:lnTo>
                  <a:pt x="555" y="685"/>
                </a:lnTo>
                <a:lnTo>
                  <a:pt x="500" y="726"/>
                </a:lnTo>
                <a:lnTo>
                  <a:pt x="447" y="761"/>
                </a:lnTo>
                <a:lnTo>
                  <a:pt x="396" y="790"/>
                </a:lnTo>
                <a:lnTo>
                  <a:pt x="350" y="813"/>
                </a:lnTo>
                <a:lnTo>
                  <a:pt x="307" y="831"/>
                </a:lnTo>
                <a:lnTo>
                  <a:pt x="270" y="845"/>
                </a:lnTo>
                <a:lnTo>
                  <a:pt x="238" y="855"/>
                </a:lnTo>
                <a:lnTo>
                  <a:pt x="212" y="862"/>
                </a:lnTo>
                <a:lnTo>
                  <a:pt x="192" y="866"/>
                </a:lnTo>
                <a:lnTo>
                  <a:pt x="181" y="868"/>
                </a:lnTo>
                <a:lnTo>
                  <a:pt x="176" y="868"/>
                </a:lnTo>
                <a:lnTo>
                  <a:pt x="167" y="947"/>
                </a:lnTo>
                <a:lnTo>
                  <a:pt x="0" y="75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0bbd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立方体 122886"/>
          <p:cNvSpPr/>
          <p:nvPr/>
        </p:nvSpPr>
        <p:spPr>
          <a:xfrm>
            <a:off x="152280" y="4759200"/>
            <a:ext cx="4267440" cy="65268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立方体 122887"/>
          <p:cNvSpPr/>
          <p:nvPr/>
        </p:nvSpPr>
        <p:spPr>
          <a:xfrm flipV="1" rot="16200000">
            <a:off x="528480" y="4280760"/>
            <a:ext cx="95580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15611"/>
              </a:gs>
              <a:gs pos="100000">
                <a:srgbClr val="f6831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立方体 122888"/>
          <p:cNvSpPr/>
          <p:nvPr/>
        </p:nvSpPr>
        <p:spPr>
          <a:xfrm flipV="1" rot="16200000">
            <a:off x="1077120" y="4014000"/>
            <a:ext cx="148752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b5e7f"/>
              </a:gs>
              <a:gs pos="100000">
                <a:srgbClr val="5a90c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立方体 122889"/>
          <p:cNvSpPr/>
          <p:nvPr/>
        </p:nvSpPr>
        <p:spPr>
          <a:xfrm flipV="1" rot="16200000">
            <a:off x="1620000" y="3785400"/>
            <a:ext cx="194472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9d8316"/>
              </a:gs>
              <a:gs pos="100000">
                <a:srgbClr val="efc8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立方体 122890"/>
          <p:cNvSpPr/>
          <p:nvPr/>
        </p:nvSpPr>
        <p:spPr>
          <a:xfrm flipV="1" rot="16200000">
            <a:off x="1877400" y="3214440"/>
            <a:ext cx="308952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a7f2e"/>
              </a:gs>
              <a:gs pos="100000">
                <a:srgbClr val="8ac24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22891"/>
          <p:cNvSpPr/>
          <p:nvPr/>
        </p:nvSpPr>
        <p:spPr>
          <a:xfrm>
            <a:off x="661680" y="5075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22892"/>
          <p:cNvSpPr/>
          <p:nvPr/>
        </p:nvSpPr>
        <p:spPr>
          <a:xfrm>
            <a:off x="1452240" y="5075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122893"/>
          <p:cNvSpPr/>
          <p:nvPr/>
        </p:nvSpPr>
        <p:spPr>
          <a:xfrm>
            <a:off x="2233440" y="5075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122894"/>
          <p:cNvSpPr/>
          <p:nvPr/>
        </p:nvSpPr>
        <p:spPr>
          <a:xfrm>
            <a:off x="3090600" y="5075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122895"/>
          <p:cNvSpPr/>
          <p:nvPr/>
        </p:nvSpPr>
        <p:spPr>
          <a:xfrm>
            <a:off x="754560" y="413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3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122896"/>
          <p:cNvSpPr/>
          <p:nvPr/>
        </p:nvSpPr>
        <p:spPr>
          <a:xfrm>
            <a:off x="1554840" y="3625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22897"/>
          <p:cNvSpPr/>
          <p:nvPr/>
        </p:nvSpPr>
        <p:spPr>
          <a:xfrm>
            <a:off x="2326320" y="315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7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122898"/>
          <p:cNvSpPr/>
          <p:nvPr/>
        </p:nvSpPr>
        <p:spPr>
          <a:xfrm>
            <a:off x="3082320" y="2168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1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矩形 122900"/>
          <p:cNvSpPr/>
          <p:nvPr/>
        </p:nvSpPr>
        <p:spPr>
          <a:xfrm>
            <a:off x="4191120" y="3460680"/>
            <a:ext cx="4800600" cy="10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e507a"/>
                </a:solidFill>
                <a:latin typeface="Calibri"/>
                <a:ea typeface="宋体"/>
              </a:rPr>
              <a:t>2. Describe contents for a Chart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mpany’s sub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mpany’s sub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圆角矩形 123906"/>
          <p:cNvSpPr/>
          <p:nvPr/>
        </p:nvSpPr>
        <p:spPr>
          <a:xfrm>
            <a:off x="1146240" y="4724280"/>
            <a:ext cx="685476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9f9f9"/>
              </a:gs>
              <a:gs pos="100000">
                <a:srgbClr val="eaeaea"/>
              </a:gs>
            </a:gsLst>
            <a:lin ang="5400000"/>
          </a:gradFill>
          <a:ln w="19080">
            <a:solidFill>
              <a:srgbClr val="5a90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圆角矩形 123907"/>
          <p:cNvSpPr/>
          <p:nvPr/>
        </p:nvSpPr>
        <p:spPr>
          <a:xfrm>
            <a:off x="1146240" y="3192480"/>
            <a:ext cx="685476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9f9f9"/>
              </a:gs>
              <a:gs pos="100000">
                <a:srgbClr val="eaeaea"/>
              </a:gs>
            </a:gsLst>
            <a:lin ang="5400000"/>
          </a:gradFill>
          <a:ln w="19080">
            <a:solidFill>
              <a:srgbClr val="efc8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圆角矩形 123908"/>
          <p:cNvSpPr/>
          <p:nvPr/>
        </p:nvSpPr>
        <p:spPr>
          <a:xfrm>
            <a:off x="1146240" y="1670040"/>
            <a:ext cx="685476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9f9f9"/>
              </a:gs>
              <a:gs pos="100000">
                <a:srgbClr val="eaeaea"/>
              </a:gs>
            </a:gsLst>
            <a:lin ang="5400000"/>
          </a:gradFill>
          <a:ln w="19080">
            <a:solidFill>
              <a:srgbClr val="8ac2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组合 123909"/>
          <p:cNvGrpSpPr/>
          <p:nvPr/>
        </p:nvGrpSpPr>
        <p:grpSpPr>
          <a:xfrm>
            <a:off x="2222640" y="2971800"/>
            <a:ext cx="4686120" cy="463680"/>
            <a:chOff x="2222640" y="2971800"/>
            <a:chExt cx="4686120" cy="463680"/>
          </a:xfrm>
        </p:grpSpPr>
        <p:sp>
          <p:nvSpPr>
            <p:cNvPr id="363" name="圆角矩形 123910"/>
            <p:cNvSpPr/>
            <p:nvPr/>
          </p:nvSpPr>
          <p:spPr>
            <a:xfrm>
              <a:off x="2222640" y="2971800"/>
              <a:ext cx="4686120" cy="463680"/>
            </a:xfrm>
            <a:prstGeom prst="roundRect">
              <a:avLst>
                <a:gd name="adj" fmla="val 17509"/>
              </a:avLst>
            </a:prstGeom>
            <a:solidFill>
              <a:srgbClr val="efc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组合 123911"/>
            <p:cNvGrpSpPr/>
            <p:nvPr/>
          </p:nvGrpSpPr>
          <p:grpSpPr>
            <a:xfrm>
              <a:off x="2234160" y="2986200"/>
              <a:ext cx="4668840" cy="428400"/>
              <a:chOff x="2234160" y="2986200"/>
              <a:chExt cx="4668840" cy="428400"/>
            </a:xfrm>
          </p:grpSpPr>
          <p:sp>
            <p:nvSpPr>
              <p:cNvPr id="365" name="圆角矩形 123912"/>
              <p:cNvSpPr/>
              <p:nvPr/>
            </p:nvSpPr>
            <p:spPr>
              <a:xfrm>
                <a:off x="2234160" y="330372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fc821">
                      <a:alpha val="0"/>
                    </a:srgbClr>
                  </a:gs>
                  <a:gs pos="100000">
                    <a:srgbClr val="f9ec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圆角矩形 123913"/>
              <p:cNvSpPr/>
              <p:nvPr/>
            </p:nvSpPr>
            <p:spPr>
              <a:xfrm>
                <a:off x="2234160" y="2986200"/>
                <a:ext cx="4668840" cy="11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9eaab"/>
                  </a:gs>
                  <a:gs pos="100000">
                    <a:srgbClr val="efc82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7" name="组合 123914"/>
          <p:cNvGrpSpPr/>
          <p:nvPr/>
        </p:nvGrpSpPr>
        <p:grpSpPr>
          <a:xfrm>
            <a:off x="2195640" y="4489560"/>
            <a:ext cx="4686120" cy="463320"/>
            <a:chOff x="2195640" y="4489560"/>
            <a:chExt cx="4686120" cy="463320"/>
          </a:xfrm>
        </p:grpSpPr>
        <p:sp>
          <p:nvSpPr>
            <p:cNvPr id="368" name="圆角矩形 123915"/>
            <p:cNvSpPr/>
            <p:nvPr/>
          </p:nvSpPr>
          <p:spPr>
            <a:xfrm>
              <a:off x="2195640" y="4489560"/>
              <a:ext cx="4686120" cy="463320"/>
            </a:xfrm>
            <a:prstGeom prst="roundRect">
              <a:avLst>
                <a:gd name="adj" fmla="val 17509"/>
              </a:avLst>
            </a:prstGeom>
            <a:solidFill>
              <a:srgbClr val="5a9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组合 123916"/>
            <p:cNvGrpSpPr/>
            <p:nvPr/>
          </p:nvGrpSpPr>
          <p:grpSpPr>
            <a:xfrm>
              <a:off x="2207160" y="4503960"/>
              <a:ext cx="4668840" cy="428400"/>
              <a:chOff x="2207160" y="4503960"/>
              <a:chExt cx="4668840" cy="428400"/>
            </a:xfrm>
          </p:grpSpPr>
          <p:sp>
            <p:nvSpPr>
              <p:cNvPr id="370" name="圆角矩形 123917"/>
              <p:cNvSpPr/>
              <p:nvPr/>
            </p:nvSpPr>
            <p:spPr>
              <a:xfrm>
                <a:off x="2207160" y="482148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a90c2">
                      <a:alpha val="0"/>
                    </a:srgbClr>
                  </a:gs>
                  <a:gs pos="100000">
                    <a:srgbClr val="c0d5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圆角矩形 123918"/>
              <p:cNvSpPr/>
              <p:nvPr/>
            </p:nvSpPr>
            <p:spPr>
              <a:xfrm>
                <a:off x="2207160" y="450396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5d8ea"/>
                  </a:gs>
                  <a:gs pos="100000">
                    <a:srgbClr val="5a90c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组合 123919"/>
          <p:cNvGrpSpPr/>
          <p:nvPr/>
        </p:nvGrpSpPr>
        <p:grpSpPr>
          <a:xfrm>
            <a:off x="2225520" y="1447920"/>
            <a:ext cx="4686480" cy="463320"/>
            <a:chOff x="2225520" y="1447920"/>
            <a:chExt cx="4686480" cy="463320"/>
          </a:xfrm>
        </p:grpSpPr>
        <p:sp>
          <p:nvSpPr>
            <p:cNvPr id="373" name="圆角矩形 123920"/>
            <p:cNvSpPr/>
            <p:nvPr/>
          </p:nvSpPr>
          <p:spPr>
            <a:xfrm>
              <a:off x="2225520" y="1447920"/>
              <a:ext cx="4686480" cy="463320"/>
            </a:xfrm>
            <a:prstGeom prst="roundRect">
              <a:avLst>
                <a:gd name="adj" fmla="val 17509"/>
              </a:avLst>
            </a:prstGeom>
            <a:solidFill>
              <a:srgbClr val="8ac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组合 123921"/>
            <p:cNvGrpSpPr/>
            <p:nvPr/>
          </p:nvGrpSpPr>
          <p:grpSpPr>
            <a:xfrm>
              <a:off x="2237040" y="1462320"/>
              <a:ext cx="4669200" cy="428400"/>
              <a:chOff x="2237040" y="1462320"/>
              <a:chExt cx="4669200" cy="428400"/>
            </a:xfrm>
          </p:grpSpPr>
          <p:sp>
            <p:nvSpPr>
              <p:cNvPr id="375" name="圆角矩形 123922"/>
              <p:cNvSpPr/>
              <p:nvPr/>
            </p:nvSpPr>
            <p:spPr>
              <a:xfrm>
                <a:off x="2237040" y="1779840"/>
                <a:ext cx="466920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246">
                      <a:alpha val="0"/>
                    </a:srgbClr>
                  </a:gs>
                  <a:gs pos="100000">
                    <a:srgbClr val="d6ea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圆角矩形 123923"/>
              <p:cNvSpPr/>
              <p:nvPr/>
            </p:nvSpPr>
            <p:spPr>
              <a:xfrm>
                <a:off x="2237040" y="1462320"/>
                <a:ext cx="466920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aecc4"/>
                  </a:gs>
                  <a:gs pos="100000">
                    <a:srgbClr val="8ac24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矩形 123924"/>
          <p:cNvSpPr/>
          <p:nvPr/>
        </p:nvSpPr>
        <p:spPr>
          <a:xfrm>
            <a:off x="3438720" y="1476360"/>
            <a:ext cx="2255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itle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23925"/>
          <p:cNvSpPr/>
          <p:nvPr/>
        </p:nvSpPr>
        <p:spPr>
          <a:xfrm>
            <a:off x="3438720" y="3014640"/>
            <a:ext cx="2255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itle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123926"/>
          <p:cNvSpPr/>
          <p:nvPr/>
        </p:nvSpPr>
        <p:spPr>
          <a:xfrm>
            <a:off x="3438720" y="4529160"/>
            <a:ext cx="2255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itle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123927"/>
          <p:cNvSpPr/>
          <p:nvPr/>
        </p:nvSpPr>
        <p:spPr>
          <a:xfrm>
            <a:off x="1452600" y="1944720"/>
            <a:ext cx="33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123928"/>
          <p:cNvSpPr/>
          <p:nvPr/>
        </p:nvSpPr>
        <p:spPr>
          <a:xfrm>
            <a:off x="1219320" y="2268360"/>
            <a:ext cx="6734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123929"/>
          <p:cNvSpPr/>
          <p:nvPr/>
        </p:nvSpPr>
        <p:spPr>
          <a:xfrm>
            <a:off x="1452600" y="5014800"/>
            <a:ext cx="33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23930"/>
          <p:cNvSpPr/>
          <p:nvPr/>
        </p:nvSpPr>
        <p:spPr>
          <a:xfrm>
            <a:off x="1219320" y="5308560"/>
            <a:ext cx="6734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123931"/>
          <p:cNvSpPr/>
          <p:nvPr/>
        </p:nvSpPr>
        <p:spPr>
          <a:xfrm>
            <a:off x="1447920" y="5867280"/>
            <a:ext cx="616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 is a Design Digital Content &amp; Contents mall developed by Guild Design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123932"/>
          <p:cNvSpPr/>
          <p:nvPr/>
        </p:nvSpPr>
        <p:spPr>
          <a:xfrm>
            <a:off x="1452600" y="3483000"/>
            <a:ext cx="33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123933"/>
          <p:cNvSpPr/>
          <p:nvPr/>
        </p:nvSpPr>
        <p:spPr>
          <a:xfrm>
            <a:off x="1219320" y="3776760"/>
            <a:ext cx="6734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对象 109571" descr=""/>
          <p:cNvPicPr/>
          <p:nvPr/>
        </p:nvPicPr>
        <p:blipFill>
          <a:blip r:embed="rId1"/>
          <a:stretch/>
        </p:blipFill>
        <p:spPr>
          <a:xfrm>
            <a:off x="2054160" y="2908440"/>
            <a:ext cx="5184720" cy="3190680"/>
          </a:xfrm>
          <a:prstGeom prst="rect">
            <a:avLst/>
          </a:prstGeom>
          <a:ln w="0">
            <a:noFill/>
          </a:ln>
        </p:spPr>
      </p:pic>
      <p:sp>
        <p:nvSpPr>
          <p:cNvPr id="388" name="任意多边形 109572"/>
          <p:cNvSpPr/>
          <p:nvPr/>
        </p:nvSpPr>
        <p:spPr>
          <a:xfrm flipH="1" flipV="1" rot="10800000">
            <a:off x="2742120" y="2252520"/>
            <a:ext cx="671400" cy="1447920"/>
          </a:xfrm>
          <a:custGeom>
            <a:avLst/>
            <a:gdLst/>
            <a:ahLst/>
            <a:rect l="l" t="t" r="r" b="b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8ac2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任意多边形 109573"/>
          <p:cNvSpPr/>
          <p:nvPr/>
        </p:nvSpPr>
        <p:spPr>
          <a:xfrm>
            <a:off x="6767640" y="3548160"/>
            <a:ext cx="2880" cy="734760"/>
          </a:xfrm>
          <a:custGeom>
            <a:avLst/>
            <a:gdLst/>
            <a:ahLst/>
            <a:rect l="l" t="t" r="r" b="b"/>
            <a:pathLst>
              <a:path w="2" h="463">
                <a:moveTo>
                  <a:pt x="0" y="463"/>
                </a:moveTo>
                <a:lnTo>
                  <a:pt x="2" y="0"/>
                </a:lnTo>
              </a:path>
            </a:pathLst>
          </a:custGeom>
          <a:noFill/>
          <a:ln w="38160">
            <a:solidFill>
              <a:srgbClr val="f683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任意多边形 109574"/>
          <p:cNvSpPr/>
          <p:nvPr/>
        </p:nvSpPr>
        <p:spPr>
          <a:xfrm>
            <a:off x="2351160" y="3664080"/>
            <a:ext cx="181080" cy="744480"/>
          </a:xfrm>
          <a:custGeom>
            <a:avLst/>
            <a:gdLst/>
            <a:ahLst/>
            <a:rect l="l" t="t" r="r" b="b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5a90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任意多边形 109575"/>
          <p:cNvSpPr/>
          <p:nvPr/>
        </p:nvSpPr>
        <p:spPr>
          <a:xfrm flipH="1" rot="5400000">
            <a:off x="4716360" y="2320920"/>
            <a:ext cx="1440000" cy="861840"/>
          </a:xfrm>
          <a:custGeom>
            <a:avLst/>
            <a:gdLst/>
            <a:ahLst/>
            <a:rect l="l" t="t" r="r" b="b"/>
            <a:pathLst>
              <a:path w="723" h="650">
                <a:moveTo>
                  <a:pt x="720" y="0"/>
                </a:moveTo>
                <a:lnTo>
                  <a:pt x="723" y="643"/>
                </a:lnTo>
                <a:lnTo>
                  <a:pt x="0" y="650"/>
                </a:lnTo>
              </a:path>
            </a:pathLst>
          </a:custGeom>
          <a:noFill/>
          <a:ln w="38160">
            <a:solidFill>
              <a:srgbClr val="efc8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组合 109632"/>
          <p:cNvGrpSpPr/>
          <p:nvPr/>
        </p:nvGrpSpPr>
        <p:grpSpPr>
          <a:xfrm>
            <a:off x="914400" y="2011320"/>
            <a:ext cx="1905120" cy="523800"/>
            <a:chOff x="914400" y="2011320"/>
            <a:chExt cx="1905120" cy="523800"/>
          </a:xfrm>
        </p:grpSpPr>
        <p:sp>
          <p:nvSpPr>
            <p:cNvPr id="394" name="圆角矩形 109633"/>
            <p:cNvSpPr/>
            <p:nvPr/>
          </p:nvSpPr>
          <p:spPr>
            <a:xfrm>
              <a:off x="914400" y="201132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8ac246"/>
            </a:solidFill>
            <a:ln w="0">
              <a:noFill/>
            </a:ln>
            <a:effectLst>
              <a:outerShdw dist="17819" dir="2700000" blurRad="0" rotWithShape="0">
                <a:srgbClr val="2e507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圆角矩形 109634"/>
            <p:cNvSpPr/>
            <p:nvPr/>
          </p:nvSpPr>
          <p:spPr>
            <a:xfrm>
              <a:off x="919440" y="201456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ac246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矩形 109635"/>
          <p:cNvSpPr/>
          <p:nvPr/>
        </p:nvSpPr>
        <p:spPr>
          <a:xfrm>
            <a:off x="1155600" y="208296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组合 109636"/>
          <p:cNvGrpSpPr/>
          <p:nvPr/>
        </p:nvGrpSpPr>
        <p:grpSpPr>
          <a:xfrm>
            <a:off x="447840" y="3416400"/>
            <a:ext cx="1904760" cy="523800"/>
            <a:chOff x="447840" y="3416400"/>
            <a:chExt cx="1904760" cy="523800"/>
          </a:xfrm>
        </p:grpSpPr>
        <p:sp>
          <p:nvSpPr>
            <p:cNvPr id="398" name="圆角矩形 109637"/>
            <p:cNvSpPr/>
            <p:nvPr/>
          </p:nvSpPr>
          <p:spPr>
            <a:xfrm>
              <a:off x="447840" y="3416400"/>
              <a:ext cx="1904760" cy="523800"/>
            </a:xfrm>
            <a:prstGeom prst="roundRect">
              <a:avLst>
                <a:gd name="adj" fmla="val 16667"/>
              </a:avLst>
            </a:prstGeom>
            <a:solidFill>
              <a:srgbClr val="5a90c2"/>
            </a:solidFill>
            <a:ln w="0">
              <a:noFill/>
            </a:ln>
            <a:effectLst>
              <a:outerShdw dist="17819" dir="2700000" blurRad="0" rotWithShape="0">
                <a:srgbClr val="2e507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圆角矩形 109638"/>
            <p:cNvSpPr/>
            <p:nvPr/>
          </p:nvSpPr>
          <p:spPr>
            <a:xfrm>
              <a:off x="452520" y="3419640"/>
              <a:ext cx="189180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a90c2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矩形 109639"/>
          <p:cNvSpPr/>
          <p:nvPr/>
        </p:nvSpPr>
        <p:spPr>
          <a:xfrm>
            <a:off x="689040" y="34876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09640"/>
          <p:cNvSpPr/>
          <p:nvPr/>
        </p:nvSpPr>
        <p:spPr>
          <a:xfrm>
            <a:off x="1447920" y="56167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 is a Design Digital Content &amp; Contents mall developed by Guild Design I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组合 109629"/>
          <p:cNvGrpSpPr/>
          <p:nvPr/>
        </p:nvGrpSpPr>
        <p:grpSpPr>
          <a:xfrm>
            <a:off x="5486400" y="1752480"/>
            <a:ext cx="1905120" cy="523800"/>
            <a:chOff x="5486400" y="1752480"/>
            <a:chExt cx="1905120" cy="523800"/>
          </a:xfrm>
        </p:grpSpPr>
        <p:sp>
          <p:nvSpPr>
            <p:cNvPr id="403" name="圆角矩形 109630"/>
            <p:cNvSpPr/>
            <p:nvPr/>
          </p:nvSpPr>
          <p:spPr>
            <a:xfrm>
              <a:off x="5486400" y="175248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efc821"/>
            </a:solidFill>
            <a:ln w="0">
              <a:noFill/>
            </a:ln>
            <a:effectLst>
              <a:outerShdw dist="17819" dir="2700000" blurRad="0" rotWithShape="0">
                <a:srgbClr val="2e507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圆角矩形 109631"/>
            <p:cNvSpPr/>
            <p:nvPr/>
          </p:nvSpPr>
          <p:spPr>
            <a:xfrm>
              <a:off x="5491440" y="175572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fc821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矩形 109622"/>
          <p:cNvSpPr/>
          <p:nvPr/>
        </p:nvSpPr>
        <p:spPr>
          <a:xfrm>
            <a:off x="5727600" y="18241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109628"/>
          <p:cNvGrpSpPr/>
          <p:nvPr/>
        </p:nvGrpSpPr>
        <p:grpSpPr>
          <a:xfrm>
            <a:off x="6738840" y="3187800"/>
            <a:ext cx="1905120" cy="523800"/>
            <a:chOff x="6738840" y="3187800"/>
            <a:chExt cx="1905120" cy="523800"/>
          </a:xfrm>
        </p:grpSpPr>
        <p:sp>
          <p:nvSpPr>
            <p:cNvPr id="407" name="圆角矩形 109626"/>
            <p:cNvSpPr/>
            <p:nvPr/>
          </p:nvSpPr>
          <p:spPr>
            <a:xfrm>
              <a:off x="6738840" y="318780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f6831a"/>
            </a:solidFill>
            <a:ln w="0">
              <a:noFill/>
            </a:ln>
            <a:effectLst>
              <a:outerShdw dist="17819" dir="2700000" blurRad="0" rotWithShape="0">
                <a:srgbClr val="2e507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圆角矩形 109627"/>
            <p:cNvSpPr/>
            <p:nvPr/>
          </p:nvSpPr>
          <p:spPr>
            <a:xfrm>
              <a:off x="6743880" y="319104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6831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109623"/>
          <p:cNvSpPr/>
          <p:nvPr/>
        </p:nvSpPr>
        <p:spPr>
          <a:xfrm>
            <a:off x="6977160" y="32558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任意多边形 132295"/>
          <p:cNvSpPr/>
          <p:nvPr/>
        </p:nvSpPr>
        <p:spPr>
          <a:xfrm rot="21175800">
            <a:off x="822240" y="3332160"/>
            <a:ext cx="1812960" cy="2336760"/>
          </a:xfrm>
          <a:custGeom>
            <a:avLst/>
            <a:gdLst/>
            <a:ahLst/>
            <a:rect l="l" t="t" r="r" b="b"/>
            <a:pathLst>
              <a:path w="2220" h="2878">
                <a:moveTo>
                  <a:pt x="832" y="20"/>
                </a:moveTo>
                <a:lnTo>
                  <a:pt x="784" y="20"/>
                </a:lnTo>
                <a:lnTo>
                  <a:pt x="756" y="0"/>
                </a:lnTo>
                <a:lnTo>
                  <a:pt x="676" y="20"/>
                </a:lnTo>
                <a:lnTo>
                  <a:pt x="624" y="44"/>
                </a:lnTo>
                <a:lnTo>
                  <a:pt x="568" y="112"/>
                </a:lnTo>
                <a:lnTo>
                  <a:pt x="536" y="164"/>
                </a:lnTo>
                <a:lnTo>
                  <a:pt x="508" y="208"/>
                </a:lnTo>
                <a:lnTo>
                  <a:pt x="464" y="212"/>
                </a:lnTo>
                <a:lnTo>
                  <a:pt x="392" y="164"/>
                </a:lnTo>
                <a:lnTo>
                  <a:pt x="352" y="140"/>
                </a:lnTo>
                <a:lnTo>
                  <a:pt x="300" y="164"/>
                </a:lnTo>
                <a:lnTo>
                  <a:pt x="280" y="184"/>
                </a:lnTo>
                <a:lnTo>
                  <a:pt x="216" y="184"/>
                </a:lnTo>
                <a:lnTo>
                  <a:pt x="180" y="156"/>
                </a:lnTo>
                <a:lnTo>
                  <a:pt x="108" y="152"/>
                </a:lnTo>
                <a:lnTo>
                  <a:pt x="48" y="184"/>
                </a:lnTo>
                <a:lnTo>
                  <a:pt x="16" y="184"/>
                </a:lnTo>
                <a:lnTo>
                  <a:pt x="0" y="264"/>
                </a:lnTo>
                <a:lnTo>
                  <a:pt x="4" y="312"/>
                </a:lnTo>
                <a:lnTo>
                  <a:pt x="68" y="368"/>
                </a:lnTo>
                <a:lnTo>
                  <a:pt x="124" y="408"/>
                </a:lnTo>
                <a:lnTo>
                  <a:pt x="196" y="432"/>
                </a:lnTo>
                <a:lnTo>
                  <a:pt x="224" y="460"/>
                </a:lnTo>
                <a:lnTo>
                  <a:pt x="256" y="588"/>
                </a:lnTo>
                <a:lnTo>
                  <a:pt x="272" y="636"/>
                </a:lnTo>
                <a:lnTo>
                  <a:pt x="272" y="664"/>
                </a:lnTo>
                <a:lnTo>
                  <a:pt x="276" y="724"/>
                </a:lnTo>
                <a:lnTo>
                  <a:pt x="256" y="812"/>
                </a:lnTo>
                <a:lnTo>
                  <a:pt x="248" y="900"/>
                </a:lnTo>
                <a:lnTo>
                  <a:pt x="216" y="964"/>
                </a:lnTo>
                <a:lnTo>
                  <a:pt x="216" y="1012"/>
                </a:lnTo>
                <a:lnTo>
                  <a:pt x="180" y="1072"/>
                </a:lnTo>
                <a:lnTo>
                  <a:pt x="180" y="1100"/>
                </a:lnTo>
                <a:lnTo>
                  <a:pt x="132" y="1160"/>
                </a:lnTo>
                <a:lnTo>
                  <a:pt x="144" y="1240"/>
                </a:lnTo>
                <a:lnTo>
                  <a:pt x="156" y="1296"/>
                </a:lnTo>
                <a:lnTo>
                  <a:pt x="184" y="1372"/>
                </a:lnTo>
                <a:lnTo>
                  <a:pt x="236" y="1476"/>
                </a:lnTo>
                <a:lnTo>
                  <a:pt x="268" y="1500"/>
                </a:lnTo>
                <a:lnTo>
                  <a:pt x="292" y="1500"/>
                </a:lnTo>
                <a:lnTo>
                  <a:pt x="328" y="1556"/>
                </a:lnTo>
                <a:lnTo>
                  <a:pt x="404" y="1640"/>
                </a:lnTo>
                <a:lnTo>
                  <a:pt x="412" y="1716"/>
                </a:lnTo>
                <a:lnTo>
                  <a:pt x="436" y="1772"/>
                </a:lnTo>
                <a:lnTo>
                  <a:pt x="452" y="1796"/>
                </a:lnTo>
                <a:lnTo>
                  <a:pt x="460" y="1824"/>
                </a:lnTo>
                <a:lnTo>
                  <a:pt x="452" y="1964"/>
                </a:lnTo>
                <a:lnTo>
                  <a:pt x="452" y="2152"/>
                </a:lnTo>
                <a:lnTo>
                  <a:pt x="424" y="2196"/>
                </a:lnTo>
                <a:lnTo>
                  <a:pt x="384" y="2196"/>
                </a:lnTo>
                <a:lnTo>
                  <a:pt x="264" y="2276"/>
                </a:lnTo>
                <a:lnTo>
                  <a:pt x="116" y="2392"/>
                </a:lnTo>
                <a:lnTo>
                  <a:pt x="140" y="2420"/>
                </a:lnTo>
                <a:lnTo>
                  <a:pt x="76" y="2420"/>
                </a:lnTo>
                <a:lnTo>
                  <a:pt x="16" y="2472"/>
                </a:lnTo>
                <a:lnTo>
                  <a:pt x="64" y="2572"/>
                </a:lnTo>
                <a:lnTo>
                  <a:pt x="100" y="2708"/>
                </a:lnTo>
                <a:lnTo>
                  <a:pt x="136" y="2828"/>
                </a:lnTo>
                <a:cubicBezTo>
                  <a:pt x="151" y="2851"/>
                  <a:pt x="171" y="2878"/>
                  <a:pt x="188" y="2848"/>
                </a:cubicBezTo>
                <a:cubicBezTo>
                  <a:pt x="213" y="2839"/>
                  <a:pt x="221" y="2698"/>
                  <a:pt x="240" y="2648"/>
                </a:cubicBezTo>
                <a:cubicBezTo>
                  <a:pt x="259" y="2598"/>
                  <a:pt x="280" y="2563"/>
                  <a:pt x="300" y="2548"/>
                </a:cubicBezTo>
                <a:lnTo>
                  <a:pt x="360" y="2556"/>
                </a:lnTo>
                <a:lnTo>
                  <a:pt x="408" y="2484"/>
                </a:lnTo>
                <a:lnTo>
                  <a:pt x="524" y="2420"/>
                </a:lnTo>
                <a:lnTo>
                  <a:pt x="680" y="2340"/>
                </a:lnTo>
                <a:lnTo>
                  <a:pt x="736" y="2224"/>
                </a:lnTo>
                <a:lnTo>
                  <a:pt x="752" y="2144"/>
                </a:lnTo>
                <a:lnTo>
                  <a:pt x="744" y="2076"/>
                </a:lnTo>
                <a:lnTo>
                  <a:pt x="748" y="1972"/>
                </a:lnTo>
                <a:lnTo>
                  <a:pt x="756" y="1720"/>
                </a:lnTo>
                <a:lnTo>
                  <a:pt x="736" y="1644"/>
                </a:lnTo>
                <a:lnTo>
                  <a:pt x="728" y="1584"/>
                </a:lnTo>
                <a:lnTo>
                  <a:pt x="728" y="1500"/>
                </a:lnTo>
                <a:lnTo>
                  <a:pt x="756" y="1412"/>
                </a:lnTo>
                <a:lnTo>
                  <a:pt x="808" y="1412"/>
                </a:lnTo>
                <a:lnTo>
                  <a:pt x="844" y="1332"/>
                </a:lnTo>
                <a:lnTo>
                  <a:pt x="888" y="1304"/>
                </a:lnTo>
                <a:lnTo>
                  <a:pt x="940" y="1320"/>
                </a:lnTo>
                <a:lnTo>
                  <a:pt x="980" y="1308"/>
                </a:lnTo>
                <a:lnTo>
                  <a:pt x="1060" y="1292"/>
                </a:lnTo>
                <a:lnTo>
                  <a:pt x="1164" y="1312"/>
                </a:lnTo>
                <a:lnTo>
                  <a:pt x="1240" y="1304"/>
                </a:lnTo>
                <a:lnTo>
                  <a:pt x="1260" y="1328"/>
                </a:lnTo>
                <a:lnTo>
                  <a:pt x="1312" y="1332"/>
                </a:lnTo>
                <a:lnTo>
                  <a:pt x="1364" y="1360"/>
                </a:lnTo>
                <a:lnTo>
                  <a:pt x="1400" y="1380"/>
                </a:lnTo>
                <a:lnTo>
                  <a:pt x="1488" y="1384"/>
                </a:lnTo>
                <a:lnTo>
                  <a:pt x="1548" y="1460"/>
                </a:lnTo>
                <a:lnTo>
                  <a:pt x="1672" y="1484"/>
                </a:lnTo>
                <a:lnTo>
                  <a:pt x="1744" y="1500"/>
                </a:lnTo>
                <a:lnTo>
                  <a:pt x="1808" y="1488"/>
                </a:lnTo>
                <a:lnTo>
                  <a:pt x="1856" y="1432"/>
                </a:lnTo>
                <a:lnTo>
                  <a:pt x="1908" y="1304"/>
                </a:lnTo>
                <a:lnTo>
                  <a:pt x="1912" y="1228"/>
                </a:lnTo>
                <a:lnTo>
                  <a:pt x="1896" y="1148"/>
                </a:lnTo>
                <a:lnTo>
                  <a:pt x="1932" y="1028"/>
                </a:lnTo>
                <a:lnTo>
                  <a:pt x="1996" y="936"/>
                </a:lnTo>
                <a:lnTo>
                  <a:pt x="2032" y="832"/>
                </a:lnTo>
                <a:lnTo>
                  <a:pt x="2168" y="856"/>
                </a:lnTo>
                <a:lnTo>
                  <a:pt x="2196" y="860"/>
                </a:lnTo>
                <a:lnTo>
                  <a:pt x="2220" y="140"/>
                </a:lnTo>
                <a:lnTo>
                  <a:pt x="2144" y="132"/>
                </a:lnTo>
                <a:lnTo>
                  <a:pt x="1988" y="136"/>
                </a:lnTo>
                <a:lnTo>
                  <a:pt x="1788" y="108"/>
                </a:lnTo>
                <a:lnTo>
                  <a:pt x="1724" y="120"/>
                </a:lnTo>
                <a:lnTo>
                  <a:pt x="1712" y="188"/>
                </a:lnTo>
                <a:lnTo>
                  <a:pt x="1724" y="320"/>
                </a:lnTo>
                <a:lnTo>
                  <a:pt x="1652" y="340"/>
                </a:lnTo>
                <a:lnTo>
                  <a:pt x="1674" y="356"/>
                </a:lnTo>
                <a:lnTo>
                  <a:pt x="1723" y="351"/>
                </a:lnTo>
                <a:lnTo>
                  <a:pt x="1724" y="536"/>
                </a:lnTo>
                <a:lnTo>
                  <a:pt x="1660" y="536"/>
                </a:lnTo>
                <a:lnTo>
                  <a:pt x="1620" y="548"/>
                </a:lnTo>
                <a:lnTo>
                  <a:pt x="1712" y="584"/>
                </a:lnTo>
                <a:lnTo>
                  <a:pt x="1720" y="612"/>
                </a:lnTo>
                <a:lnTo>
                  <a:pt x="1700" y="780"/>
                </a:lnTo>
                <a:lnTo>
                  <a:pt x="1668" y="820"/>
                </a:lnTo>
                <a:lnTo>
                  <a:pt x="1664" y="868"/>
                </a:lnTo>
                <a:lnTo>
                  <a:pt x="1632" y="904"/>
                </a:lnTo>
                <a:lnTo>
                  <a:pt x="1564" y="900"/>
                </a:lnTo>
                <a:lnTo>
                  <a:pt x="1496" y="924"/>
                </a:lnTo>
                <a:lnTo>
                  <a:pt x="1424" y="952"/>
                </a:lnTo>
                <a:lnTo>
                  <a:pt x="1384" y="980"/>
                </a:lnTo>
                <a:lnTo>
                  <a:pt x="1368" y="1008"/>
                </a:lnTo>
                <a:lnTo>
                  <a:pt x="1216" y="992"/>
                </a:lnTo>
                <a:lnTo>
                  <a:pt x="1168" y="956"/>
                </a:lnTo>
                <a:lnTo>
                  <a:pt x="1088" y="956"/>
                </a:lnTo>
                <a:lnTo>
                  <a:pt x="992" y="956"/>
                </a:lnTo>
                <a:lnTo>
                  <a:pt x="924" y="940"/>
                </a:lnTo>
                <a:lnTo>
                  <a:pt x="892" y="924"/>
                </a:lnTo>
                <a:lnTo>
                  <a:pt x="876" y="884"/>
                </a:lnTo>
                <a:lnTo>
                  <a:pt x="888" y="832"/>
                </a:lnTo>
                <a:lnTo>
                  <a:pt x="912" y="784"/>
                </a:lnTo>
                <a:lnTo>
                  <a:pt x="928" y="728"/>
                </a:lnTo>
                <a:lnTo>
                  <a:pt x="976" y="712"/>
                </a:lnTo>
                <a:lnTo>
                  <a:pt x="1060" y="732"/>
                </a:lnTo>
                <a:lnTo>
                  <a:pt x="1204" y="740"/>
                </a:lnTo>
                <a:lnTo>
                  <a:pt x="1288" y="712"/>
                </a:lnTo>
                <a:lnTo>
                  <a:pt x="1388" y="660"/>
                </a:lnTo>
                <a:lnTo>
                  <a:pt x="1468" y="592"/>
                </a:lnTo>
                <a:lnTo>
                  <a:pt x="1520" y="536"/>
                </a:lnTo>
                <a:lnTo>
                  <a:pt x="1544" y="508"/>
                </a:lnTo>
                <a:lnTo>
                  <a:pt x="1592" y="520"/>
                </a:lnTo>
                <a:lnTo>
                  <a:pt x="1624" y="548"/>
                </a:lnTo>
                <a:lnTo>
                  <a:pt x="1647" y="536"/>
                </a:lnTo>
                <a:lnTo>
                  <a:pt x="1612" y="492"/>
                </a:lnTo>
                <a:lnTo>
                  <a:pt x="1632" y="456"/>
                </a:lnTo>
                <a:lnTo>
                  <a:pt x="1632" y="420"/>
                </a:lnTo>
                <a:lnTo>
                  <a:pt x="1648" y="376"/>
                </a:lnTo>
                <a:lnTo>
                  <a:pt x="1672" y="356"/>
                </a:lnTo>
                <a:lnTo>
                  <a:pt x="1656" y="341"/>
                </a:lnTo>
                <a:lnTo>
                  <a:pt x="1584" y="344"/>
                </a:lnTo>
                <a:lnTo>
                  <a:pt x="1536" y="356"/>
                </a:lnTo>
                <a:lnTo>
                  <a:pt x="1540" y="392"/>
                </a:lnTo>
                <a:lnTo>
                  <a:pt x="1496" y="424"/>
                </a:lnTo>
                <a:lnTo>
                  <a:pt x="1444" y="464"/>
                </a:lnTo>
                <a:lnTo>
                  <a:pt x="1444" y="492"/>
                </a:lnTo>
                <a:lnTo>
                  <a:pt x="1392" y="492"/>
                </a:lnTo>
                <a:lnTo>
                  <a:pt x="1384" y="520"/>
                </a:lnTo>
                <a:lnTo>
                  <a:pt x="1340" y="520"/>
                </a:lnTo>
                <a:lnTo>
                  <a:pt x="1300" y="540"/>
                </a:lnTo>
                <a:lnTo>
                  <a:pt x="1236" y="572"/>
                </a:lnTo>
                <a:lnTo>
                  <a:pt x="1208" y="584"/>
                </a:lnTo>
                <a:lnTo>
                  <a:pt x="1148" y="564"/>
                </a:lnTo>
                <a:lnTo>
                  <a:pt x="1080" y="556"/>
                </a:lnTo>
                <a:lnTo>
                  <a:pt x="1048" y="528"/>
                </a:lnTo>
                <a:lnTo>
                  <a:pt x="1028" y="500"/>
                </a:lnTo>
                <a:lnTo>
                  <a:pt x="1012" y="480"/>
                </a:lnTo>
                <a:lnTo>
                  <a:pt x="976" y="432"/>
                </a:lnTo>
                <a:lnTo>
                  <a:pt x="936" y="388"/>
                </a:lnTo>
                <a:lnTo>
                  <a:pt x="904" y="368"/>
                </a:lnTo>
                <a:lnTo>
                  <a:pt x="844" y="372"/>
                </a:lnTo>
                <a:lnTo>
                  <a:pt x="824" y="344"/>
                </a:lnTo>
                <a:lnTo>
                  <a:pt x="820" y="316"/>
                </a:lnTo>
                <a:lnTo>
                  <a:pt x="844" y="264"/>
                </a:lnTo>
                <a:lnTo>
                  <a:pt x="860" y="212"/>
                </a:lnTo>
                <a:lnTo>
                  <a:pt x="868" y="152"/>
                </a:lnTo>
                <a:lnTo>
                  <a:pt x="880" y="120"/>
                </a:lnTo>
                <a:lnTo>
                  <a:pt x="876" y="96"/>
                </a:lnTo>
                <a:lnTo>
                  <a:pt x="856" y="72"/>
                </a:lnTo>
                <a:lnTo>
                  <a:pt x="852" y="48"/>
                </a:lnTo>
                <a:lnTo>
                  <a:pt x="83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2139480" y="2838240"/>
            <a:ext cx="4785120" cy="3025800"/>
            <a:chOff x="2139480" y="2838240"/>
            <a:chExt cx="4785120" cy="3025800"/>
          </a:xfrm>
        </p:grpSpPr>
        <p:sp>
          <p:nvSpPr>
            <p:cNvPr id="413" name="直接连接符 132296"/>
            <p:cNvSpPr/>
            <p:nvPr/>
          </p:nvSpPr>
          <p:spPr>
            <a:xfrm flipV="1">
              <a:off x="2139840" y="2838240"/>
              <a:ext cx="4784760" cy="30258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 rot="10800000">
              <a:off x="2139480" y="2838240"/>
              <a:ext cx="4784760" cy="302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132297"/>
          <p:cNvGrpSpPr/>
          <p:nvPr/>
        </p:nvGrpSpPr>
        <p:grpSpPr>
          <a:xfrm>
            <a:off x="2100240" y="5722200"/>
            <a:ext cx="216000" cy="219600"/>
            <a:chOff x="2100240" y="5722200"/>
            <a:chExt cx="216000" cy="219600"/>
          </a:xfrm>
        </p:grpSpPr>
        <p:pic>
          <p:nvPicPr>
            <p:cNvPr id="416" name="图片 132298" descr="circuler_1"/>
            <p:cNvPicPr/>
            <p:nvPr/>
          </p:nvPicPr>
          <p:blipFill>
            <a:blip r:embed="rId1"/>
            <a:stretch/>
          </p:blipFill>
          <p:spPr>
            <a:xfrm>
              <a:off x="2122920" y="574200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椭圆 132299"/>
            <p:cNvSpPr/>
            <p:nvPr/>
          </p:nvSpPr>
          <p:spPr>
            <a:xfrm>
              <a:off x="2122920" y="574200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152538"/>
                </a:gs>
                <a:gs pos="50000">
                  <a:srgbClr val="2e507a">
                    <a:alpha val="50196"/>
                  </a:srgbClr>
                </a:gs>
                <a:gs pos="100000">
                  <a:srgbClr val="1525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组合 132300"/>
            <p:cNvGrpSpPr/>
            <p:nvPr/>
          </p:nvGrpSpPr>
          <p:grpSpPr>
            <a:xfrm>
              <a:off x="2135880" y="5873400"/>
              <a:ext cx="170280" cy="68400"/>
              <a:chOff x="2135880" y="5873400"/>
              <a:chExt cx="170280" cy="68400"/>
            </a:xfrm>
          </p:grpSpPr>
          <p:grpSp>
            <p:nvGrpSpPr>
              <p:cNvPr id="419" name="组合 132301"/>
              <p:cNvGrpSpPr/>
              <p:nvPr/>
            </p:nvGrpSpPr>
            <p:grpSpPr>
              <a:xfrm>
                <a:off x="2165760" y="5873400"/>
                <a:ext cx="140400" cy="64080"/>
                <a:chOff x="2165760" y="5873400"/>
                <a:chExt cx="140400" cy="64080"/>
              </a:xfrm>
            </p:grpSpPr>
            <p:sp>
              <p:nvSpPr>
                <p:cNvPr id="420" name="新月形 132302"/>
                <p:cNvSpPr/>
                <p:nvPr/>
              </p:nvSpPr>
              <p:spPr>
                <a:xfrm flipH="1" flipV="1" rot="3964800">
                  <a:off x="2241720" y="585432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新月形 132303"/>
                <p:cNvSpPr/>
                <p:nvPr/>
              </p:nvSpPr>
              <p:spPr>
                <a:xfrm flipH="1" flipV="1" rot="4780200">
                  <a:off x="2226240" y="586080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新月形 132304"/>
                <p:cNvSpPr/>
                <p:nvPr/>
              </p:nvSpPr>
              <p:spPr>
                <a:xfrm flipH="1" flipV="1" rot="5076000">
                  <a:off x="2216520" y="586224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新月形 132305"/>
                <p:cNvSpPr/>
                <p:nvPr/>
              </p:nvSpPr>
              <p:spPr>
                <a:xfrm flipH="1" flipV="1" rot="5608200">
                  <a:off x="2205000" y="586296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组合 132306"/>
              <p:cNvGrpSpPr/>
              <p:nvPr/>
            </p:nvGrpSpPr>
            <p:grpSpPr>
              <a:xfrm>
                <a:off x="2135880" y="5874120"/>
                <a:ext cx="140760" cy="67680"/>
                <a:chOff x="2135880" y="5874120"/>
                <a:chExt cx="140760" cy="67680"/>
              </a:xfrm>
            </p:grpSpPr>
            <p:sp>
              <p:nvSpPr>
                <p:cNvPr id="425" name="新月形 132307"/>
                <p:cNvSpPr/>
                <p:nvPr/>
              </p:nvSpPr>
              <p:spPr>
                <a:xfrm flipH="1" flipV="1" rot="5317800">
                  <a:off x="2212200" y="586296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新月形 132308"/>
                <p:cNvSpPr/>
                <p:nvPr/>
              </p:nvSpPr>
              <p:spPr>
                <a:xfrm flipH="1" flipV="1" rot="6133800">
                  <a:off x="2195280" y="586332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新月形 132309"/>
                <p:cNvSpPr/>
                <p:nvPr/>
              </p:nvSpPr>
              <p:spPr>
                <a:xfrm flipH="1" flipV="1" rot="6429000">
                  <a:off x="2185920" y="58600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新月形 132310"/>
                <p:cNvSpPr/>
                <p:nvPr/>
              </p:nvSpPr>
              <p:spPr>
                <a:xfrm flipH="1" flipV="1" rot="6961200">
                  <a:off x="2174040" y="58568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29" name="图片 132311" descr="light_shadow1"/>
            <p:cNvPicPr/>
            <p:nvPr/>
          </p:nvPicPr>
          <p:blipFill>
            <a:blip r:embed="rId2"/>
            <a:srcRect l="0" t="23740" r="0" b="0"/>
            <a:stretch/>
          </p:blipFill>
          <p:spPr>
            <a:xfrm rot="19029600">
              <a:off x="2112480" y="5758560"/>
              <a:ext cx="143280" cy="9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组合 132312"/>
          <p:cNvGrpSpPr/>
          <p:nvPr/>
        </p:nvGrpSpPr>
        <p:grpSpPr>
          <a:xfrm>
            <a:off x="3783240" y="4626720"/>
            <a:ext cx="215280" cy="219600"/>
            <a:chOff x="3783240" y="4626720"/>
            <a:chExt cx="215280" cy="219600"/>
          </a:xfrm>
        </p:grpSpPr>
        <p:pic>
          <p:nvPicPr>
            <p:cNvPr id="431" name="图片 132313" descr="circuler_1"/>
            <p:cNvPicPr/>
            <p:nvPr/>
          </p:nvPicPr>
          <p:blipFill>
            <a:blip r:embed="rId3"/>
            <a:stretch/>
          </p:blipFill>
          <p:spPr>
            <a:xfrm>
              <a:off x="3805560" y="4646520"/>
              <a:ext cx="1929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椭圆 132314"/>
            <p:cNvSpPr/>
            <p:nvPr/>
          </p:nvSpPr>
          <p:spPr>
            <a:xfrm>
              <a:off x="3805560" y="4646520"/>
              <a:ext cx="191880" cy="190440"/>
            </a:xfrm>
            <a:prstGeom prst="ellipse">
              <a:avLst/>
            </a:prstGeom>
            <a:gradFill rotWithShape="0">
              <a:gsLst>
                <a:gs pos="0">
                  <a:srgbClr val="152538"/>
                </a:gs>
                <a:gs pos="50000">
                  <a:srgbClr val="2e507a">
                    <a:alpha val="50196"/>
                  </a:srgbClr>
                </a:gs>
                <a:gs pos="100000">
                  <a:srgbClr val="1525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组合 132315"/>
            <p:cNvGrpSpPr/>
            <p:nvPr/>
          </p:nvGrpSpPr>
          <p:grpSpPr>
            <a:xfrm>
              <a:off x="3818520" y="4778280"/>
              <a:ext cx="169920" cy="68040"/>
              <a:chOff x="3818520" y="4778280"/>
              <a:chExt cx="169920" cy="68040"/>
            </a:xfrm>
          </p:grpSpPr>
          <p:grpSp>
            <p:nvGrpSpPr>
              <p:cNvPr id="434" name="组合 132316"/>
              <p:cNvGrpSpPr/>
              <p:nvPr/>
            </p:nvGrpSpPr>
            <p:grpSpPr>
              <a:xfrm>
                <a:off x="3848400" y="4778280"/>
                <a:ext cx="140040" cy="64080"/>
                <a:chOff x="3848400" y="4778280"/>
                <a:chExt cx="140040" cy="64080"/>
              </a:xfrm>
            </p:grpSpPr>
            <p:sp>
              <p:nvSpPr>
                <p:cNvPr id="435" name="新月形 132317"/>
                <p:cNvSpPr/>
                <p:nvPr/>
              </p:nvSpPr>
              <p:spPr>
                <a:xfrm flipH="1" flipV="1" rot="3964800">
                  <a:off x="3924000" y="475920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新月形 132318"/>
                <p:cNvSpPr/>
                <p:nvPr/>
              </p:nvSpPr>
              <p:spPr>
                <a:xfrm flipH="1" flipV="1" rot="4780200">
                  <a:off x="3908520" y="476532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新月形 132319"/>
                <p:cNvSpPr/>
                <p:nvPr/>
              </p:nvSpPr>
              <p:spPr>
                <a:xfrm flipH="1" flipV="1" rot="5076000">
                  <a:off x="3898800" y="476676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新月形 132320"/>
                <p:cNvSpPr/>
                <p:nvPr/>
              </p:nvSpPr>
              <p:spPr>
                <a:xfrm flipH="1" flipV="1" rot="5608200">
                  <a:off x="3887640" y="476748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组合 132321"/>
              <p:cNvGrpSpPr/>
              <p:nvPr/>
            </p:nvGrpSpPr>
            <p:grpSpPr>
              <a:xfrm>
                <a:off x="3818520" y="4778640"/>
                <a:ext cx="140400" cy="67680"/>
                <a:chOff x="3818520" y="4778640"/>
                <a:chExt cx="140400" cy="67680"/>
              </a:xfrm>
            </p:grpSpPr>
            <p:sp>
              <p:nvSpPr>
                <p:cNvPr id="440" name="新月形 132322"/>
                <p:cNvSpPr/>
                <p:nvPr/>
              </p:nvSpPr>
              <p:spPr>
                <a:xfrm flipH="1" flipV="1" rot="5317800">
                  <a:off x="3894480" y="47674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新月形 132323"/>
                <p:cNvSpPr/>
                <p:nvPr/>
              </p:nvSpPr>
              <p:spPr>
                <a:xfrm flipH="1" flipV="1" rot="6133800">
                  <a:off x="3877200" y="47674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新月形 132324"/>
                <p:cNvSpPr/>
                <p:nvPr/>
              </p:nvSpPr>
              <p:spPr>
                <a:xfrm flipH="1" flipV="1" rot="6429000">
                  <a:off x="3868200" y="47646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新月形 132325"/>
                <p:cNvSpPr/>
                <p:nvPr/>
              </p:nvSpPr>
              <p:spPr>
                <a:xfrm flipH="1" flipV="1" rot="6961200">
                  <a:off x="3856680" y="476136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44" name="图片 132326" descr="light_shadow1"/>
            <p:cNvPicPr/>
            <p:nvPr/>
          </p:nvPicPr>
          <p:blipFill>
            <a:blip r:embed="rId4"/>
            <a:srcRect l="0" t="23740" r="0" b="0"/>
            <a:stretch/>
          </p:blipFill>
          <p:spPr>
            <a:xfrm rot="19029600">
              <a:off x="3795480" y="4662720"/>
              <a:ext cx="142920" cy="9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5" name="组合 132327"/>
          <p:cNvGrpSpPr/>
          <p:nvPr/>
        </p:nvGrpSpPr>
        <p:grpSpPr>
          <a:xfrm>
            <a:off x="5391360" y="3628440"/>
            <a:ext cx="215280" cy="219600"/>
            <a:chOff x="5391360" y="3628440"/>
            <a:chExt cx="215280" cy="219600"/>
          </a:xfrm>
        </p:grpSpPr>
        <p:pic>
          <p:nvPicPr>
            <p:cNvPr id="446" name="图片 132328" descr="circuler_1"/>
            <p:cNvPicPr/>
            <p:nvPr/>
          </p:nvPicPr>
          <p:blipFill>
            <a:blip r:embed="rId5"/>
            <a:stretch/>
          </p:blipFill>
          <p:spPr>
            <a:xfrm>
              <a:off x="5413680" y="3648240"/>
              <a:ext cx="1929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椭圆 132329"/>
            <p:cNvSpPr/>
            <p:nvPr/>
          </p:nvSpPr>
          <p:spPr>
            <a:xfrm>
              <a:off x="5413680" y="3648240"/>
              <a:ext cx="191880" cy="190440"/>
            </a:xfrm>
            <a:prstGeom prst="ellipse">
              <a:avLst/>
            </a:prstGeom>
            <a:gradFill rotWithShape="0">
              <a:gsLst>
                <a:gs pos="0">
                  <a:srgbClr val="152538"/>
                </a:gs>
                <a:gs pos="50000">
                  <a:srgbClr val="2e507a">
                    <a:alpha val="50196"/>
                  </a:srgbClr>
                </a:gs>
                <a:gs pos="100000">
                  <a:srgbClr val="1525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组合 132330"/>
            <p:cNvGrpSpPr/>
            <p:nvPr/>
          </p:nvGrpSpPr>
          <p:grpSpPr>
            <a:xfrm>
              <a:off x="5426640" y="3780000"/>
              <a:ext cx="169920" cy="68040"/>
              <a:chOff x="5426640" y="3780000"/>
              <a:chExt cx="169920" cy="68040"/>
            </a:xfrm>
          </p:grpSpPr>
          <p:grpSp>
            <p:nvGrpSpPr>
              <p:cNvPr id="449" name="组合 132331"/>
              <p:cNvGrpSpPr/>
              <p:nvPr/>
            </p:nvGrpSpPr>
            <p:grpSpPr>
              <a:xfrm>
                <a:off x="5456520" y="3780000"/>
                <a:ext cx="140040" cy="64080"/>
                <a:chOff x="5456520" y="3780000"/>
                <a:chExt cx="140040" cy="64080"/>
              </a:xfrm>
            </p:grpSpPr>
            <p:sp>
              <p:nvSpPr>
                <p:cNvPr id="450" name="新月形 132332"/>
                <p:cNvSpPr/>
                <p:nvPr/>
              </p:nvSpPr>
              <p:spPr>
                <a:xfrm flipH="1" flipV="1" rot="3964800">
                  <a:off x="5532120" y="376092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新月形 132333"/>
                <p:cNvSpPr/>
                <p:nvPr/>
              </p:nvSpPr>
              <p:spPr>
                <a:xfrm flipH="1" flipV="1" rot="4780200">
                  <a:off x="5516640" y="376704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新月形 132334"/>
                <p:cNvSpPr/>
                <p:nvPr/>
              </p:nvSpPr>
              <p:spPr>
                <a:xfrm flipH="1" flipV="1" rot="5076000">
                  <a:off x="5506920" y="376848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新月形 132335"/>
                <p:cNvSpPr/>
                <p:nvPr/>
              </p:nvSpPr>
              <p:spPr>
                <a:xfrm flipH="1" flipV="1" rot="5608200">
                  <a:off x="5495760" y="376920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组合 132336"/>
              <p:cNvGrpSpPr/>
              <p:nvPr/>
            </p:nvGrpSpPr>
            <p:grpSpPr>
              <a:xfrm>
                <a:off x="5426640" y="3780360"/>
                <a:ext cx="140400" cy="67680"/>
                <a:chOff x="5426640" y="3780360"/>
                <a:chExt cx="140400" cy="67680"/>
              </a:xfrm>
            </p:grpSpPr>
            <p:sp>
              <p:nvSpPr>
                <p:cNvPr id="455" name="新月形 132337"/>
                <p:cNvSpPr/>
                <p:nvPr/>
              </p:nvSpPr>
              <p:spPr>
                <a:xfrm flipH="1" flipV="1" rot="5317800">
                  <a:off x="5502600" y="37692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新月形 132338"/>
                <p:cNvSpPr/>
                <p:nvPr/>
              </p:nvSpPr>
              <p:spPr>
                <a:xfrm flipH="1" flipV="1" rot="6133800">
                  <a:off x="5485320" y="376920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新月形 132339"/>
                <p:cNvSpPr/>
                <p:nvPr/>
              </p:nvSpPr>
              <p:spPr>
                <a:xfrm flipH="1" flipV="1" rot="6429000">
                  <a:off x="5476320" y="37663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新月形 132340"/>
                <p:cNvSpPr/>
                <p:nvPr/>
              </p:nvSpPr>
              <p:spPr>
                <a:xfrm flipH="1" flipV="1" rot="6961200">
                  <a:off x="5464800" y="37630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59" name="图片 132341" descr="light_shadow1"/>
            <p:cNvPicPr/>
            <p:nvPr/>
          </p:nvPicPr>
          <p:blipFill>
            <a:blip r:embed="rId6"/>
            <a:srcRect l="0" t="23740" r="0" b="0"/>
            <a:stretch/>
          </p:blipFill>
          <p:spPr>
            <a:xfrm rot="19029600">
              <a:off x="5403600" y="3664440"/>
              <a:ext cx="142920" cy="9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0" name="组合 132342"/>
          <p:cNvGrpSpPr/>
          <p:nvPr/>
        </p:nvGrpSpPr>
        <p:grpSpPr>
          <a:xfrm>
            <a:off x="6747120" y="2743920"/>
            <a:ext cx="215280" cy="219600"/>
            <a:chOff x="6747120" y="2743920"/>
            <a:chExt cx="215280" cy="219600"/>
          </a:xfrm>
        </p:grpSpPr>
        <p:pic>
          <p:nvPicPr>
            <p:cNvPr id="461" name="图片 132343" descr="circuler_1"/>
            <p:cNvPicPr/>
            <p:nvPr/>
          </p:nvPicPr>
          <p:blipFill>
            <a:blip r:embed="rId7"/>
            <a:stretch/>
          </p:blipFill>
          <p:spPr>
            <a:xfrm>
              <a:off x="6769440" y="2763720"/>
              <a:ext cx="1929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椭圆 132344"/>
            <p:cNvSpPr/>
            <p:nvPr/>
          </p:nvSpPr>
          <p:spPr>
            <a:xfrm>
              <a:off x="6769440" y="2763720"/>
              <a:ext cx="191880" cy="190440"/>
            </a:xfrm>
            <a:prstGeom prst="ellipse">
              <a:avLst/>
            </a:prstGeom>
            <a:gradFill rotWithShape="0">
              <a:gsLst>
                <a:gs pos="0">
                  <a:srgbClr val="005776"/>
                </a:gs>
                <a:gs pos="50000">
                  <a:srgbClr val="01bcff">
                    <a:alpha val="50196"/>
                  </a:srgbClr>
                </a:gs>
                <a:gs pos="100000">
                  <a:srgbClr val="005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组合 132345"/>
            <p:cNvGrpSpPr/>
            <p:nvPr/>
          </p:nvGrpSpPr>
          <p:grpSpPr>
            <a:xfrm>
              <a:off x="6782400" y="2895480"/>
              <a:ext cx="169920" cy="68040"/>
              <a:chOff x="6782400" y="2895480"/>
              <a:chExt cx="169920" cy="68040"/>
            </a:xfrm>
          </p:grpSpPr>
          <p:grpSp>
            <p:nvGrpSpPr>
              <p:cNvPr id="464" name="组合 132346"/>
              <p:cNvGrpSpPr/>
              <p:nvPr/>
            </p:nvGrpSpPr>
            <p:grpSpPr>
              <a:xfrm>
                <a:off x="6812280" y="2895480"/>
                <a:ext cx="140040" cy="64080"/>
                <a:chOff x="6812280" y="2895480"/>
                <a:chExt cx="140040" cy="64080"/>
              </a:xfrm>
            </p:grpSpPr>
            <p:sp>
              <p:nvSpPr>
                <p:cNvPr id="465" name="新月形 132347"/>
                <p:cNvSpPr/>
                <p:nvPr/>
              </p:nvSpPr>
              <p:spPr>
                <a:xfrm flipH="1" flipV="1" rot="3964800">
                  <a:off x="6887880" y="287640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新月形 132348"/>
                <p:cNvSpPr/>
                <p:nvPr/>
              </p:nvSpPr>
              <p:spPr>
                <a:xfrm flipH="1" flipV="1" rot="4780200">
                  <a:off x="6872400" y="288252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新月形 132349"/>
                <p:cNvSpPr/>
                <p:nvPr/>
              </p:nvSpPr>
              <p:spPr>
                <a:xfrm flipH="1" flipV="1" rot="5076000">
                  <a:off x="6862680" y="288396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新月形 132350"/>
                <p:cNvSpPr/>
                <p:nvPr/>
              </p:nvSpPr>
              <p:spPr>
                <a:xfrm flipH="1" flipV="1" rot="5608200">
                  <a:off x="6851520" y="288468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组合 132351"/>
              <p:cNvGrpSpPr/>
              <p:nvPr/>
            </p:nvGrpSpPr>
            <p:grpSpPr>
              <a:xfrm>
                <a:off x="6782400" y="2895840"/>
                <a:ext cx="140400" cy="67680"/>
                <a:chOff x="6782400" y="2895840"/>
                <a:chExt cx="140400" cy="67680"/>
              </a:xfrm>
            </p:grpSpPr>
            <p:sp>
              <p:nvSpPr>
                <p:cNvPr id="470" name="新月形 132352"/>
                <p:cNvSpPr/>
                <p:nvPr/>
              </p:nvSpPr>
              <p:spPr>
                <a:xfrm flipH="1" flipV="1" rot="5317800">
                  <a:off x="6858360" y="28846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新月形 132353"/>
                <p:cNvSpPr/>
                <p:nvPr/>
              </p:nvSpPr>
              <p:spPr>
                <a:xfrm flipH="1" flipV="1" rot="6133800">
                  <a:off x="6841080" y="28846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新月形 132354"/>
                <p:cNvSpPr/>
                <p:nvPr/>
              </p:nvSpPr>
              <p:spPr>
                <a:xfrm flipH="1" flipV="1" rot="6429000">
                  <a:off x="6832080" y="28818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新月形 132355"/>
                <p:cNvSpPr/>
                <p:nvPr/>
              </p:nvSpPr>
              <p:spPr>
                <a:xfrm flipH="1" flipV="1" rot="6961200">
                  <a:off x="6820560" y="287856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74" name="图片 132356" descr="light_shadow1"/>
            <p:cNvPicPr/>
            <p:nvPr/>
          </p:nvPicPr>
          <p:blipFill>
            <a:blip r:embed="rId8"/>
            <a:srcRect l="0" t="23740" r="0" b="0"/>
            <a:stretch/>
          </p:blipFill>
          <p:spPr>
            <a:xfrm rot="19029600">
              <a:off x="6759360" y="2779920"/>
              <a:ext cx="142920" cy="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圆角矩形 132357"/>
          <p:cNvSpPr/>
          <p:nvPr/>
        </p:nvSpPr>
        <p:spPr>
          <a:xfrm>
            <a:off x="741240" y="5415120"/>
            <a:ext cx="1339920" cy="326880"/>
          </a:xfrm>
          <a:prstGeom prst="roundRect">
            <a:avLst>
              <a:gd name="adj" fmla="val 22815"/>
            </a:avLst>
          </a:prstGeom>
          <a:solidFill>
            <a:srgbClr val="f6831a"/>
          </a:solidFill>
          <a:ln w="12600">
            <a:solidFill>
              <a:srgbClr val="080808"/>
            </a:solidFill>
            <a:round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圆角矩形 132358"/>
          <p:cNvSpPr/>
          <p:nvPr/>
        </p:nvSpPr>
        <p:spPr>
          <a:xfrm>
            <a:off x="2455920" y="4319640"/>
            <a:ext cx="1339920" cy="326880"/>
          </a:xfrm>
          <a:prstGeom prst="roundRect">
            <a:avLst>
              <a:gd name="adj" fmla="val 22815"/>
            </a:avLst>
          </a:prstGeom>
          <a:solidFill>
            <a:srgbClr val="f6831a"/>
          </a:solidFill>
          <a:ln w="12600">
            <a:solidFill>
              <a:srgbClr val="080808"/>
            </a:solidFill>
            <a:round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圆角矩形 132359"/>
          <p:cNvSpPr/>
          <p:nvPr/>
        </p:nvSpPr>
        <p:spPr>
          <a:xfrm>
            <a:off x="3998880" y="3321000"/>
            <a:ext cx="1339920" cy="327240"/>
          </a:xfrm>
          <a:prstGeom prst="roundRect">
            <a:avLst>
              <a:gd name="adj" fmla="val 22815"/>
            </a:avLst>
          </a:prstGeom>
          <a:solidFill>
            <a:srgbClr val="f6831a"/>
          </a:solidFill>
          <a:ln w="12600">
            <a:solidFill>
              <a:srgbClr val="080808"/>
            </a:solidFill>
            <a:round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132360"/>
          <p:cNvSpPr/>
          <p:nvPr/>
        </p:nvSpPr>
        <p:spPr>
          <a:xfrm>
            <a:off x="1014480" y="539604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132361"/>
          <p:cNvSpPr/>
          <p:nvPr/>
        </p:nvSpPr>
        <p:spPr>
          <a:xfrm>
            <a:off x="2681280" y="430704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132362"/>
          <p:cNvSpPr/>
          <p:nvPr/>
        </p:nvSpPr>
        <p:spPr>
          <a:xfrm>
            <a:off x="4284720" y="33037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图片 132363" descr="095"/>
          <p:cNvPicPr/>
          <p:nvPr/>
        </p:nvPicPr>
        <p:blipFill>
          <a:blip r:embed="rId9"/>
          <a:stretch/>
        </p:blipFill>
        <p:spPr>
          <a:xfrm>
            <a:off x="6919920" y="1601640"/>
            <a:ext cx="1434960" cy="1281240"/>
          </a:xfrm>
          <a:prstGeom prst="rect">
            <a:avLst/>
          </a:prstGeom>
          <a:ln w="0">
            <a:noFill/>
          </a:ln>
        </p:spPr>
      </p:pic>
      <p:sp>
        <p:nvSpPr>
          <p:cNvPr id="482" name="文本框 132364"/>
          <p:cNvSpPr/>
          <p:nvPr/>
        </p:nvSpPr>
        <p:spPr>
          <a:xfrm>
            <a:off x="2219400" y="585144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2e50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e507a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2e507a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2e50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507a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2e507a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132365"/>
          <p:cNvSpPr/>
          <p:nvPr/>
        </p:nvSpPr>
        <p:spPr>
          <a:xfrm>
            <a:off x="3938760" y="475632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2e50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e507a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2e507a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2e50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507a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2e507a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132366"/>
          <p:cNvSpPr/>
          <p:nvPr/>
        </p:nvSpPr>
        <p:spPr>
          <a:xfrm>
            <a:off x="5551560" y="379080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2e50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e507a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2e507a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2e50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507a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2e507a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图片 106516" descr=""/>
          <p:cNvPicPr/>
          <p:nvPr/>
        </p:nvPicPr>
        <p:blipFill>
          <a:blip r:embed="rId1"/>
          <a:srcRect l="0" t="0" r="0" b="26335"/>
          <a:stretch/>
        </p:blipFill>
        <p:spPr>
          <a:xfrm>
            <a:off x="1436760" y="4191120"/>
            <a:ext cx="6205320" cy="2666880"/>
          </a:xfrm>
          <a:prstGeom prst="rect">
            <a:avLst/>
          </a:prstGeom>
          <a:ln w="0">
            <a:noFill/>
          </a:ln>
        </p:spPr>
      </p:pic>
      <p:sp>
        <p:nvSpPr>
          <p:cNvPr id="486" name="上箭头 106497"/>
          <p:cNvSpPr/>
          <p:nvPr/>
        </p:nvSpPr>
        <p:spPr>
          <a:xfrm flipV="1">
            <a:off x="3430440" y="2801160"/>
            <a:ext cx="2262240" cy="1305000"/>
          </a:xfrm>
          <a:prstGeom prst="upArrow">
            <a:avLst>
              <a:gd name="adj1" fmla="val 66602"/>
              <a:gd name="adj2" fmla="val 48250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圆角矩形 106498"/>
          <p:cNvSpPr/>
          <p:nvPr/>
        </p:nvSpPr>
        <p:spPr>
          <a:xfrm>
            <a:off x="627120" y="285588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f6831a"/>
          </a:solidFill>
          <a:ln w="38160">
            <a:solidFill>
              <a:srgbClr val="ffff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圆角矩形 106499"/>
          <p:cNvSpPr/>
          <p:nvPr/>
        </p:nvSpPr>
        <p:spPr>
          <a:xfrm>
            <a:off x="2897280" y="2151000"/>
            <a:ext cx="3379680" cy="1133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圆角矩形 106500"/>
          <p:cNvSpPr/>
          <p:nvPr/>
        </p:nvSpPr>
        <p:spPr>
          <a:xfrm>
            <a:off x="2909880" y="2171880"/>
            <a:ext cx="3340080" cy="460080"/>
          </a:xfrm>
          <a:prstGeom prst="roundRect">
            <a:avLst>
              <a:gd name="adj" fmla="val 3482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上箭头 106503"/>
          <p:cNvSpPr/>
          <p:nvPr/>
        </p:nvSpPr>
        <p:spPr>
          <a:xfrm rot="5400000">
            <a:off x="2140560" y="2481840"/>
            <a:ext cx="865080" cy="432000"/>
          </a:xfrm>
          <a:prstGeom prst="upArrow">
            <a:avLst>
              <a:gd name="adj1" fmla="val 50093"/>
              <a:gd name="adj2" fmla="val 54037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上箭头 106504"/>
          <p:cNvSpPr/>
          <p:nvPr/>
        </p:nvSpPr>
        <p:spPr>
          <a:xfrm rot="16200000">
            <a:off x="6164280" y="2528640"/>
            <a:ext cx="863640" cy="431640"/>
          </a:xfrm>
          <a:prstGeom prst="upArrow">
            <a:avLst>
              <a:gd name="adj1" fmla="val 50093"/>
              <a:gd name="adj2" fmla="val 54037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106505"/>
          <p:cNvSpPr/>
          <p:nvPr/>
        </p:nvSpPr>
        <p:spPr>
          <a:xfrm>
            <a:off x="3890520" y="219384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507a"/>
                </a:solidFill>
                <a:latin typeface="Calibri"/>
                <a:ea typeface="宋体"/>
              </a:rPr>
              <a:t>Title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106506"/>
          <p:cNvSpPr/>
          <p:nvPr/>
        </p:nvSpPr>
        <p:spPr>
          <a:xfrm>
            <a:off x="3056400" y="276696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lease write down of cont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951280" y="2617920"/>
            <a:ext cx="3243240" cy="360"/>
            <a:chOff x="2951280" y="2617920"/>
            <a:chExt cx="3243240" cy="360"/>
          </a:xfrm>
        </p:grpSpPr>
        <p:sp>
          <p:nvSpPr>
            <p:cNvPr id="496" name="直接连接符 106507"/>
            <p:cNvSpPr/>
            <p:nvPr/>
          </p:nvSpPr>
          <p:spPr>
            <a:xfrm>
              <a:off x="2951280" y="2617920"/>
              <a:ext cx="3243240" cy="0"/>
            </a:xfrm>
            <a:prstGeom prst="line">
              <a:avLst/>
            </a:prstGeom>
            <a:ln w="9360">
              <a:solidFill>
                <a:srgbClr val="eaeaea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2951280" y="2617920"/>
              <a:ext cx="3243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圆角矩形 106508"/>
          <p:cNvSpPr/>
          <p:nvPr/>
        </p:nvSpPr>
        <p:spPr>
          <a:xfrm>
            <a:off x="627120" y="1905120"/>
            <a:ext cx="1658880" cy="761760"/>
          </a:xfrm>
          <a:prstGeom prst="roundRect">
            <a:avLst>
              <a:gd name="adj" fmla="val 16667"/>
            </a:avLst>
          </a:prstGeom>
          <a:solidFill>
            <a:srgbClr val="f6831a"/>
          </a:solidFill>
          <a:ln w="38160">
            <a:solidFill>
              <a:srgbClr val="ffff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106509"/>
          <p:cNvSpPr/>
          <p:nvPr/>
        </p:nvSpPr>
        <p:spPr>
          <a:xfrm>
            <a:off x="6916680" y="284472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8ac246"/>
          </a:solidFill>
          <a:ln w="38160">
            <a:solidFill>
              <a:srgbClr val="ffff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圆角矩形 106510"/>
          <p:cNvSpPr/>
          <p:nvPr/>
        </p:nvSpPr>
        <p:spPr>
          <a:xfrm>
            <a:off x="6921360" y="1913040"/>
            <a:ext cx="1659240" cy="761760"/>
          </a:xfrm>
          <a:prstGeom prst="roundRect">
            <a:avLst>
              <a:gd name="adj" fmla="val 16667"/>
            </a:avLst>
          </a:prstGeom>
          <a:solidFill>
            <a:srgbClr val="8ac246"/>
          </a:solidFill>
          <a:ln w="38160">
            <a:solidFill>
              <a:srgbClr val="ffff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106511"/>
          <p:cNvSpPr/>
          <p:nvPr/>
        </p:nvSpPr>
        <p:spPr>
          <a:xfrm>
            <a:off x="7050240" y="210024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06512"/>
          <p:cNvSpPr/>
          <p:nvPr/>
        </p:nvSpPr>
        <p:spPr>
          <a:xfrm>
            <a:off x="7050240" y="303048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06513"/>
          <p:cNvSpPr/>
          <p:nvPr/>
        </p:nvSpPr>
        <p:spPr>
          <a:xfrm>
            <a:off x="752400" y="21099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106514"/>
          <p:cNvSpPr/>
          <p:nvPr/>
        </p:nvSpPr>
        <p:spPr>
          <a:xfrm>
            <a:off x="752400" y="30495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106515"/>
          <p:cNvSpPr/>
          <p:nvPr/>
        </p:nvSpPr>
        <p:spPr>
          <a:xfrm>
            <a:off x="3352680" y="4632480"/>
            <a:ext cx="39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106517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[Image Info]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www.wizdata.co.kr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  - Note to customers : This image has been licensed to be used within this PowerPoint template only.  You may not extract the image for any other use.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圆角矩形 95234"/>
          <p:cNvSpPr/>
          <p:nvPr/>
        </p:nvSpPr>
        <p:spPr>
          <a:xfrm>
            <a:off x="1177920" y="5222880"/>
            <a:ext cx="3152880" cy="11192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95235"/>
          <p:cNvGrpSpPr/>
          <p:nvPr/>
        </p:nvGrpSpPr>
        <p:grpSpPr>
          <a:xfrm>
            <a:off x="1393920" y="5035680"/>
            <a:ext cx="2712960" cy="416880"/>
            <a:chOff x="1393920" y="5035680"/>
            <a:chExt cx="2712960" cy="416880"/>
          </a:xfrm>
        </p:grpSpPr>
        <p:sp>
          <p:nvSpPr>
            <p:cNvPr id="510" name="圆角矩形 95236"/>
            <p:cNvSpPr/>
            <p:nvPr/>
          </p:nvSpPr>
          <p:spPr>
            <a:xfrm>
              <a:off x="1393920" y="5035680"/>
              <a:ext cx="2712960" cy="41688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圆角矩形 95237"/>
            <p:cNvSpPr/>
            <p:nvPr/>
          </p:nvSpPr>
          <p:spPr>
            <a:xfrm>
              <a:off x="1412280" y="5038920"/>
              <a:ext cx="2674800" cy="18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圆角矩形 95238"/>
          <p:cNvSpPr/>
          <p:nvPr/>
        </p:nvSpPr>
        <p:spPr>
          <a:xfrm>
            <a:off x="4616280" y="5222880"/>
            <a:ext cx="3151440" cy="11192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组合 95239"/>
          <p:cNvGrpSpPr/>
          <p:nvPr/>
        </p:nvGrpSpPr>
        <p:grpSpPr>
          <a:xfrm>
            <a:off x="4830840" y="5035680"/>
            <a:ext cx="2712960" cy="416880"/>
            <a:chOff x="4830840" y="5035680"/>
            <a:chExt cx="2712960" cy="416880"/>
          </a:xfrm>
        </p:grpSpPr>
        <p:sp>
          <p:nvSpPr>
            <p:cNvPr id="514" name="圆角矩形 95240"/>
            <p:cNvSpPr/>
            <p:nvPr/>
          </p:nvSpPr>
          <p:spPr>
            <a:xfrm>
              <a:off x="4830840" y="5035680"/>
              <a:ext cx="2712960" cy="41688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圆角矩形 95241"/>
            <p:cNvSpPr/>
            <p:nvPr/>
          </p:nvSpPr>
          <p:spPr>
            <a:xfrm>
              <a:off x="4849200" y="5038920"/>
              <a:ext cx="2674800" cy="18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组合 95242"/>
          <p:cNvGrpSpPr/>
          <p:nvPr/>
        </p:nvGrpSpPr>
        <p:grpSpPr>
          <a:xfrm>
            <a:off x="914400" y="4462560"/>
            <a:ext cx="7354440" cy="519120"/>
            <a:chOff x="914400" y="4462560"/>
            <a:chExt cx="7354440" cy="519120"/>
          </a:xfrm>
        </p:grpSpPr>
        <p:sp>
          <p:nvSpPr>
            <p:cNvPr id="517" name="圆角矩形 95243"/>
            <p:cNvSpPr/>
            <p:nvPr/>
          </p:nvSpPr>
          <p:spPr>
            <a:xfrm>
              <a:off x="914400" y="4589280"/>
              <a:ext cx="325440" cy="261000"/>
            </a:xfrm>
            <a:prstGeom prst="roundRect">
              <a:avLst>
                <a:gd name="adj" fmla="val 29069"/>
              </a:avLst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右箭头 95244"/>
            <p:cNvSpPr/>
            <p:nvPr/>
          </p:nvSpPr>
          <p:spPr>
            <a:xfrm>
              <a:off x="1035360" y="4462560"/>
              <a:ext cx="7233480" cy="519120"/>
            </a:xfrm>
            <a:prstGeom prst="rightArrow">
              <a:avLst>
                <a:gd name="adj1" fmla="val 50000"/>
                <a:gd name="adj2" fmla="val 63091"/>
              </a:avLst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文本框 95245"/>
          <p:cNvSpPr/>
          <p:nvPr/>
        </p:nvSpPr>
        <p:spPr>
          <a:xfrm>
            <a:off x="1822320" y="45514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95246"/>
          <p:cNvSpPr/>
          <p:nvPr/>
        </p:nvSpPr>
        <p:spPr>
          <a:xfrm>
            <a:off x="4214880" y="4551480"/>
            <a:ext cx="6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0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95247"/>
          <p:cNvSpPr/>
          <p:nvPr/>
        </p:nvSpPr>
        <p:spPr>
          <a:xfrm>
            <a:off x="6438960" y="4551480"/>
            <a:ext cx="6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宋体"/>
              </a:rPr>
              <a:t>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177560" y="2760840"/>
            <a:ext cx="360" cy="1790640"/>
            <a:chOff x="1177560" y="2760840"/>
            <a:chExt cx="360" cy="1790640"/>
          </a:xfrm>
        </p:grpSpPr>
        <p:sp>
          <p:nvSpPr>
            <p:cNvPr id="523" name="直接连接符 95248"/>
            <p:cNvSpPr/>
            <p:nvPr/>
          </p:nvSpPr>
          <p:spPr>
            <a:xfrm flipV="1">
              <a:off x="1177920" y="2760840"/>
              <a:ext cx="0" cy="1790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 rot="10800000">
              <a:off x="1177560" y="2760840"/>
              <a:ext cx="360" cy="17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3392280" y="2444760"/>
            <a:ext cx="360" cy="2106720"/>
            <a:chOff x="3392280" y="2444760"/>
            <a:chExt cx="360" cy="2106720"/>
          </a:xfrm>
        </p:grpSpPr>
        <p:sp>
          <p:nvSpPr>
            <p:cNvPr id="526" name="直接连接符 95249"/>
            <p:cNvSpPr/>
            <p:nvPr/>
          </p:nvSpPr>
          <p:spPr>
            <a:xfrm flipV="1">
              <a:off x="3392640" y="2444760"/>
              <a:ext cx="0" cy="2106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 rot="10800000">
              <a:off x="3392280" y="244476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592240" y="2015640"/>
            <a:ext cx="360" cy="2535480"/>
            <a:chOff x="5592240" y="2015640"/>
            <a:chExt cx="360" cy="2535480"/>
          </a:xfrm>
        </p:grpSpPr>
        <p:sp>
          <p:nvSpPr>
            <p:cNvPr id="529" name="直接连接符 95250"/>
            <p:cNvSpPr/>
            <p:nvPr/>
          </p:nvSpPr>
          <p:spPr>
            <a:xfrm flipV="1">
              <a:off x="5592600" y="2015640"/>
              <a:ext cx="0" cy="2535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 rot="10800000">
              <a:off x="5592240" y="2015640"/>
              <a:ext cx="360" cy="253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7813440" y="1657080"/>
            <a:ext cx="360" cy="2894040"/>
            <a:chOff x="7813440" y="1657080"/>
            <a:chExt cx="360" cy="2894040"/>
          </a:xfrm>
        </p:grpSpPr>
        <p:sp>
          <p:nvSpPr>
            <p:cNvPr id="532" name="直接连接符 95251"/>
            <p:cNvSpPr/>
            <p:nvPr/>
          </p:nvSpPr>
          <p:spPr>
            <a:xfrm flipV="1">
              <a:off x="7813800" y="1657080"/>
              <a:ext cx="0" cy="2894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 rot="10800000">
              <a:off x="7813440" y="1657080"/>
              <a:ext cx="360" cy="289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棱台 95252"/>
          <p:cNvSpPr/>
          <p:nvPr/>
        </p:nvSpPr>
        <p:spPr>
          <a:xfrm>
            <a:off x="1177920" y="4122720"/>
            <a:ext cx="2208240" cy="42876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5a90c2"/>
              </a:gs>
              <a:gs pos="100000">
                <a:srgbClr val="a1bf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棱台 95253"/>
          <p:cNvSpPr/>
          <p:nvPr/>
        </p:nvSpPr>
        <p:spPr>
          <a:xfrm>
            <a:off x="3394080" y="3621240"/>
            <a:ext cx="2206800" cy="93024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8ac246"/>
              </a:gs>
              <a:gs pos="100000">
                <a:srgbClr val="c0de9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棱台 95254"/>
          <p:cNvSpPr/>
          <p:nvPr/>
        </p:nvSpPr>
        <p:spPr>
          <a:xfrm>
            <a:off x="5600880" y="3048120"/>
            <a:ext cx="2207880" cy="150336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efc821"/>
              </a:gs>
              <a:gs pos="100000">
                <a:srgbClr val="f5dc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95255"/>
          <p:cNvSpPr/>
          <p:nvPr/>
        </p:nvSpPr>
        <p:spPr>
          <a:xfrm>
            <a:off x="1177920" y="3021120"/>
            <a:ext cx="21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95256"/>
          <p:cNvSpPr/>
          <p:nvPr/>
        </p:nvSpPr>
        <p:spPr>
          <a:xfrm>
            <a:off x="3419640" y="2546280"/>
            <a:ext cx="2149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95257"/>
          <p:cNvSpPr/>
          <p:nvPr/>
        </p:nvSpPr>
        <p:spPr>
          <a:xfrm>
            <a:off x="5626080" y="1973160"/>
            <a:ext cx="21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95258"/>
          <p:cNvSpPr/>
          <p:nvPr/>
        </p:nvSpPr>
        <p:spPr>
          <a:xfrm>
            <a:off x="1393920" y="4124160"/>
            <a:ext cx="17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95259"/>
          <p:cNvSpPr/>
          <p:nvPr/>
        </p:nvSpPr>
        <p:spPr>
          <a:xfrm>
            <a:off x="1502640" y="5086440"/>
            <a:ext cx="246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95260"/>
          <p:cNvSpPr/>
          <p:nvPr/>
        </p:nvSpPr>
        <p:spPr>
          <a:xfrm>
            <a:off x="4941360" y="5086440"/>
            <a:ext cx="246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95261"/>
          <p:cNvSpPr/>
          <p:nvPr/>
        </p:nvSpPr>
        <p:spPr>
          <a:xfrm>
            <a:off x="1219320" y="5526000"/>
            <a:ext cx="305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95262"/>
          <p:cNvSpPr/>
          <p:nvPr/>
        </p:nvSpPr>
        <p:spPr>
          <a:xfrm>
            <a:off x="4648320" y="5526000"/>
            <a:ext cx="305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95263"/>
          <p:cNvSpPr/>
          <p:nvPr/>
        </p:nvSpPr>
        <p:spPr>
          <a:xfrm>
            <a:off x="3613320" y="3906720"/>
            <a:ext cx="17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95264"/>
          <p:cNvSpPr/>
          <p:nvPr/>
        </p:nvSpPr>
        <p:spPr>
          <a:xfrm>
            <a:off x="5802480" y="3654360"/>
            <a:ext cx="17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Text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2T07:45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55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