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627-F5C2-42AE-9E2B-5E9DE009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65E-E262-435C-ADBF-D75CA7DE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5969-F10F-4E78-B0B5-30962B51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249-B2DA-4588-9F49-C32BBF89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B3DF-73BA-4261-AF2F-993808A2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0B7-2DF8-4A1F-9A8F-6C3F2E50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359C-A69D-4EC4-AED5-5379FC13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474B-734C-4743-BBA3-94737D68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88D1-2A9F-45F4-A912-502E164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6913-FBF1-4D77-A90C-BE87D96B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E447-676D-452A-9B7D-245B29D3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54A-CCF6-44AC-AC75-C6908E4C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9454-049F-40E1-B901-D0D32D8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4E0E-1DA4-4978-ACD5-50AA96C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D253-BFB9-4BCA-A4B1-75566765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FDCD-9F6C-47F2-872C-AA400E46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549F-BE90-4498-AAD6-8C8D5D47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B22B-EA6D-467B-B3D7-7C1D1F4B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2DA1-7B79-482F-90CC-36E5F9CE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B05FA-B6D6-4E22-B3A6-C2E7E048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A840F-A9D5-4692-9D02-2045235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EC80-8304-4D70-9275-D03171EF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B69-9DCD-4801-BAA3-32A749D1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4188-34CB-41E6-9399-01319D48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91C7-B24A-43FE-AD60-98B258A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7430-340D-4926-B487-E1FCC403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C5E2-1E72-4BC1-9086-5ED529F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8E82-BA87-42C9-AB94-07BD9473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32BE-B262-4CC4-B430-546B8782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00098-D3ED-4CBE-A549-D3A8AD44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870-8CB3-42D8-A6B4-A9DB67CA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473-C530-40DB-929E-A300397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9EF-E347-47EC-93FC-015136E1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A5B-868C-43EF-A94A-A7052220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600-D7BB-4A6F-AF56-F59E0C1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9A0-A4BA-4A0E-ACBF-4DE8E26F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7877-A0A0-4C47-B540-21031EF08342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67F4-AD3D-4B8A-839C-E2997A9AAC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D590-5B57-4D76-8006-3DDA72377A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237-E62D-4A09-B46D-62EA1ACF7038}" type="slidenum">
              <a:rPr b="1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3733560"/>
            <a:ext cx="6095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Impact"/>
                <a:ea typeface="宋体"/>
              </a:rPr>
              <a:t>APACHE SUNS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90360" y="4952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Impact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939680" y="189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军事报告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3504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320" y="762120"/>
            <a:ext cx="624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Impact"/>
                <a:ea typeface="宋体"/>
              </a:rPr>
              <a:t>     </a:t>
            </a:r>
            <a:r>
              <a:rPr b="0" lang="en-US" sz="1600" spc="-1" strike="noStrike">
                <a:solidFill>
                  <a:srgbClr val="ffff00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78DA-91A7-4CC6-ABBA-7BC1EEAFD8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  <a:ea typeface="宋体"/>
              </a:rPr>
              <a:t>Your Topic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08:3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