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E78-97EF-43A1-806B-A5EC7238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0F7-C66E-4917-88F2-6960BEB7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778-7F5F-45B7-995C-2501A246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031-C980-4185-BEE6-B06469E6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E0D1-4549-484E-9BF0-D612CCC1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9E9E-C61B-43DA-A6BE-3F7A2E22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54D6-57CD-43BC-8208-77B51791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960D-0C8F-4AE3-BF63-BE6C3E52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E574-0D7B-4400-B3F4-D54FF1E7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57240" y="990360"/>
            <a:ext cx="52578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4700-006B-45EA-BB12-B02242C4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F411-05EA-4B99-AE6B-C4FF0BCE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B97-85FC-446E-8D2D-AC5B1A57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04C1-8DC8-48BC-97A1-F8010C51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0199-BF5C-4D33-A79D-18F4396D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2100-B59C-4D4D-9AA6-C546874D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EF0C-3B7D-4076-A586-D3AC1312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FD2F-D7A0-4850-A03C-663C542A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B0E5-9431-4556-AF60-AC2D9EB2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07A2-F4C8-4FAF-BC15-983D74C8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3D6A7-4EAA-4A5E-9477-1C4BAA65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9A49-EE1B-451E-A2F3-A9AE94DC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10FC-662A-4A10-A9E2-8CF3FE26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656-D13A-4231-AAAF-C3E2415D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657240" y="990360"/>
            <a:ext cx="52578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E5E1-38D1-461D-9EE6-A6BCC7AB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8963-B524-40AD-A693-D6B9BA20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B5F69-47C5-4E72-B934-7FBD9A9D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E21E-CCF2-4A84-8F39-948A86F3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D5A5C-5621-4586-A5FC-3A6D4DBC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31B7-703A-499A-9B84-72E2A1E0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A6A93-FC06-408B-8043-4048F235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5F5A1-A3CC-48EE-B155-80A342F6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897F4-CD42-4E77-98F6-661A15E2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3B576-DD5A-42B6-B1F7-25DDCAF1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1E3-2E00-4E64-B35D-97CA4F64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0CCD5-F600-4FFC-BD8F-4A4BD9D1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CCCDB-5678-4CBE-95A4-36BD2652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657240" y="990360"/>
            <a:ext cx="52578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32324-F303-43A7-80B2-2B0F2EE4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3734-BFE5-4E6F-8543-63C6E25B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21FDE-B712-41FC-A793-ADBB47FE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3A721-75F8-4EA0-B3FD-F0BB9EB1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CF578-A4CE-4BE5-A50C-8122A115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7DE1F-14FF-479D-9C36-C642246C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7BE86-E551-4E2B-ADA0-7452541E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1345E-C463-4C5B-A9BE-F16D7927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BAB-7D70-4C58-AC24-FB7399C4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1BF00-D942-465E-93A0-C0753FCA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ACF6E-6DEF-437F-A61A-AAE4352F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D4456-3FF5-47AF-A8B8-E2F60FA8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018A9-7859-477F-8807-B2925913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657240" y="990360"/>
            <a:ext cx="52578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FDED6-F658-4D23-BDFA-FF749985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C4CBE-B549-4927-9F50-60D07B31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7F477-2251-4E9B-9EF6-4ED9E758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EE1AB-C9CF-4A69-908C-6DE4A582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5652B-709C-4721-9101-C792ED6D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CE8B1-2270-4F0B-9D37-CD991D11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7240" y="990360"/>
            <a:ext cx="52578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1F6-6CC4-4063-8375-91AC73A0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55CAB-1459-410F-BC31-D3BF0B62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23A-6752-471A-A0CE-DBC520D3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5B9-65AC-45B8-B181-93B33763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AFA-7E62-4508-9AE5-A02589C6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9880" y="2666520"/>
            <a:ext cx="5181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33920" y="44197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20" indent="-6372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800" indent="-1278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7BED-6F87-43AE-9D1C-1F98A75F63CD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0199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66880" y="1676520"/>
            <a:ext cx="60199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425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425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425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608B-7007-440C-8BC0-89B480D2D98F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680" y="533520"/>
            <a:ext cx="64771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45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13D5-4704-45F7-81B6-D0712B11BCB8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7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46B4-B12B-4833-BA7F-2D21FBB3BC92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A962-348F-4758-8FE9-FA4C4BD0CC4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9656-3174-4F52-909E-DA43443802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741760" y="3596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7760" indent="-347760"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微软雅黑"/>
              <a:buChar char="•"/>
            </a:pPr>
            <a:r>
              <a:rPr b="1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放置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370160" y="240192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微软雅黑"/>
                <a:ea typeface="微软雅黑"/>
              </a:rPr>
              <a:t>金色时尚报告</a:t>
            </a:r>
            <a:r>
              <a:rPr b="0" lang="en-US" sz="4000" spc="-1" strike="noStrike">
                <a:solidFill>
                  <a:srgbClr val="ffcc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cc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0199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放置主题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2209320"/>
            <a:ext cx="2057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7760" indent="-34776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微软雅黑"/>
              <a:buChar char="•"/>
            </a:pPr>
            <a:r>
              <a:rPr b="0" i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键入副标题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666880" y="1676520"/>
            <a:ext cx="60199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微软雅黑"/>
              <a:buChar char="•"/>
            </a:pPr>
            <a:r>
              <a:rPr b="0" i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键入说明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0E37-4CAD-4BBA-9765-FA753992D2CF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09680" y="533520"/>
            <a:ext cx="64771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zh-CN" sz="2500" spc="-1" strike="noStrike">
                <a:solidFill>
                  <a:srgbClr val="ffcc00"/>
                </a:solidFill>
                <a:latin typeface="微软雅黑"/>
                <a:ea typeface="微软雅黑"/>
              </a:rPr>
              <a:t>在此处放置主题</a:t>
            </a:r>
            <a:endParaRPr b="0" lang="en-US" sz="2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776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键入说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69FC-CBE4-4074-8366-6845DAB3D2CA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D43B-CD76-4A0E-AF29-E6162D0588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zh-CN" sz="3700" spc="-1" strike="noStrike">
                <a:solidFill>
                  <a:srgbClr val="ffcc00"/>
                </a:solidFill>
                <a:latin typeface="微软雅黑"/>
                <a:ea typeface="微软雅黑"/>
              </a:rPr>
              <a:t>过渡页</a:t>
            </a: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ADE7-82E3-41F8-82CB-CEBD3E08F815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21:4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48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_TemplateID">
    <vt:lpwstr>TC019517589991</vt:lpwstr>
  </property>
</Properties>
</file>