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C16-30EE-42BB-AE0A-C3454726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C33-D5CE-49D2-B02B-C2218B0B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8E2-3395-4F20-96C4-A41971BC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878-232D-4D85-9997-E6A515D2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175-B3A2-40B4-8639-76FB3971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93C-7A63-478F-881F-01B55A63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386-6150-4D31-AAD0-0DAD412D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541-C348-4AF8-9A55-C17AEF03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FBD-2DC6-4800-B8AF-90055CB7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28E-D3E9-4E81-A781-EE9B057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96F-E92C-41B4-B2FF-AA4B193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F31-6E81-40FE-AAE1-E0637CF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D506-5B41-476B-8AE2-E7649538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image" Target="../media/image17.jpe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未标题-1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7911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"/>
          <p:cNvSpPr/>
          <p:nvPr/>
        </p:nvSpPr>
        <p:spPr>
          <a:xfrm>
            <a:off x="468360" y="404640"/>
            <a:ext cx="81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甲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流感预防治疗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863640" y="2452680"/>
            <a:ext cx="8280360" cy="3506760"/>
          </a:xfrm>
          <a:prstGeom prst="rect">
            <a:avLst/>
          </a:prstGeom>
          <a:solidFill>
            <a:srgbClr val="ffffff">
              <a:alpha val="80000"/>
            </a:srgbClr>
          </a:solidFill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仅有一般性流感症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其他并发症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流感高危人群的甲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确诊病例可以实行居家隔离治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高危人群是指易发生严重并发症甚至死亡的人群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感高危人群如感染甲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住院治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情况必须居家隔离治疗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密切监测病情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旦出现病情变化须及时转至定点医院诊治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患者发病后至少需在家中隔离观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至流感症状消失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两者之间较长者为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童有可能超过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隔离观察期间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应尽量避免离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需离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到医院就诊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戴外科口罩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332000" y="1125360"/>
            <a:ext cx="72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如果患有甲型流感，应该怎么办 ？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6"/>
          <p:cNvSpPr/>
          <p:nvPr/>
        </p:nvSpPr>
        <p:spPr>
          <a:xfrm>
            <a:off x="395280" y="1844640"/>
            <a:ext cx="8459640" cy="3141000"/>
          </a:xfrm>
          <a:prstGeom prst="rect">
            <a:avLst/>
          </a:prstGeom>
          <a:solidFill>
            <a:srgbClr val="ffffff">
              <a:alpha val="80000"/>
            </a:srgbClr>
          </a:solid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鸡蛋或疫苗中任何其他成分（包括辅料、甲醛、裂解液等），特别是卵清蛋白过敏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患急性疾病、严重慢性疾病、慢性疾病的急性发病期、感冒和发热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格林巴利综合症患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未控制的癫痫和患其他进行性神经系统疾病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严重过敏体质者，对硫酸庆大霉素过敏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年龄小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医生认为不适合接种的其他人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2071440" y="112536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以下人群不能接种甲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H1N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流感疫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0767-B2C2-4682-9F08-9DE76587F17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F200910301303113257227280"/>
          <p:cNvPicPr/>
          <p:nvPr/>
        </p:nvPicPr>
        <p:blipFill>
          <a:blip r:embed="rId1"/>
          <a:stretch/>
        </p:blipFill>
        <p:spPr>
          <a:xfrm>
            <a:off x="3525840" y="-5948208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200910301303122650517014"/>
          <p:cNvPicPr/>
          <p:nvPr/>
        </p:nvPicPr>
        <p:blipFill>
          <a:blip r:embed="rId2"/>
          <a:stretch/>
        </p:blipFill>
        <p:spPr>
          <a:xfrm>
            <a:off x="3708360" y="-5948208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F200910301303122298628821"/>
          <p:cNvPicPr/>
          <p:nvPr/>
        </p:nvPicPr>
        <p:blipFill>
          <a:blip r:embed="rId3"/>
          <a:stretch/>
        </p:blipFill>
        <p:spPr>
          <a:xfrm>
            <a:off x="3525840" y="-3918744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F200910301303129812138001"/>
          <p:cNvPicPr/>
          <p:nvPr/>
        </p:nvPicPr>
        <p:blipFill>
          <a:blip r:embed="rId4"/>
          <a:stretch/>
        </p:blipFill>
        <p:spPr>
          <a:xfrm>
            <a:off x="3708360" y="-3918744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F200910301303121451578203"/>
          <p:cNvPicPr/>
          <p:nvPr/>
        </p:nvPicPr>
        <p:blipFill>
          <a:blip r:embed="rId5"/>
          <a:stretch/>
        </p:blipFill>
        <p:spPr>
          <a:xfrm>
            <a:off x="3525840" y="-1597824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F200910301303121654820952"/>
          <p:cNvPicPr/>
          <p:nvPr/>
        </p:nvPicPr>
        <p:blipFill>
          <a:blip r:embed="rId6"/>
          <a:stretch/>
        </p:blipFill>
        <p:spPr>
          <a:xfrm>
            <a:off x="3708360" y="-1597824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F200910301303122474126381"/>
          <p:cNvPicPr/>
          <p:nvPr/>
        </p:nvPicPr>
        <p:blipFill>
          <a:blip r:embed="rId7"/>
          <a:stretch/>
        </p:blipFill>
        <p:spPr>
          <a:xfrm>
            <a:off x="2195640" y="3500280"/>
            <a:ext cx="2000160" cy="129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F200910301303122629169512"/>
          <p:cNvPicPr/>
          <p:nvPr/>
        </p:nvPicPr>
        <p:blipFill>
          <a:blip r:embed="rId8"/>
          <a:stretch/>
        </p:blipFill>
        <p:spPr>
          <a:xfrm>
            <a:off x="4643280" y="3429000"/>
            <a:ext cx="2000520" cy="136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F200910301303121054985941"/>
          <p:cNvPicPr/>
          <p:nvPr/>
        </p:nvPicPr>
        <p:blipFill>
          <a:blip r:embed="rId9"/>
          <a:stretch/>
        </p:blipFill>
        <p:spPr>
          <a:xfrm>
            <a:off x="3525840" y="2845908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0" descr="F200910301303123248263206"/>
          <p:cNvPicPr/>
          <p:nvPr/>
        </p:nvPicPr>
        <p:blipFill>
          <a:blip r:embed="rId10"/>
          <a:stretch/>
        </p:blipFill>
        <p:spPr>
          <a:xfrm>
            <a:off x="3708360" y="2845908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4" descr="F200910301303121846325792"/>
          <p:cNvPicPr/>
          <p:nvPr/>
        </p:nvPicPr>
        <p:blipFill>
          <a:blip r:embed="rId11"/>
          <a:stretch/>
        </p:blipFill>
        <p:spPr>
          <a:xfrm>
            <a:off x="3525840" y="49230000"/>
            <a:ext cx="2000160" cy="113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6" descr="F200910301303126748185122"/>
          <p:cNvPicPr/>
          <p:nvPr/>
        </p:nvPicPr>
        <p:blipFill>
          <a:blip r:embed="rId12"/>
          <a:stretch/>
        </p:blipFill>
        <p:spPr>
          <a:xfrm>
            <a:off x="3708360" y="49230000"/>
            <a:ext cx="2000160" cy="113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9" descr="F200910301303113257227280"/>
          <p:cNvPicPr/>
          <p:nvPr/>
        </p:nvPicPr>
        <p:blipFill>
          <a:blip r:embed="rId13"/>
          <a:stretch/>
        </p:blipFill>
        <p:spPr>
          <a:xfrm>
            <a:off x="2195640" y="0"/>
            <a:ext cx="2000160" cy="139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1" descr="F200910301303122650517014"/>
          <p:cNvPicPr/>
          <p:nvPr/>
        </p:nvPicPr>
        <p:blipFill>
          <a:blip r:embed="rId14"/>
          <a:stretch/>
        </p:blipFill>
        <p:spPr>
          <a:xfrm>
            <a:off x="4572000" y="0"/>
            <a:ext cx="2000160" cy="139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3" descr="F200910301303122298628821"/>
          <p:cNvPicPr/>
          <p:nvPr/>
        </p:nvPicPr>
        <p:blipFill>
          <a:blip r:embed="rId15"/>
          <a:stretch/>
        </p:blipFill>
        <p:spPr>
          <a:xfrm>
            <a:off x="6948360" y="0"/>
            <a:ext cx="2000520" cy="141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5" descr="F200910301303129812138001"/>
          <p:cNvPicPr/>
          <p:nvPr/>
        </p:nvPicPr>
        <p:blipFill>
          <a:blip r:embed="rId16"/>
          <a:stretch/>
        </p:blipFill>
        <p:spPr>
          <a:xfrm>
            <a:off x="2124000" y="1700280"/>
            <a:ext cx="2000160" cy="14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9" descr="F200910301303121451578203"/>
          <p:cNvPicPr/>
          <p:nvPr/>
        </p:nvPicPr>
        <p:blipFill>
          <a:blip r:embed="rId17"/>
          <a:stretch/>
        </p:blipFill>
        <p:spPr>
          <a:xfrm>
            <a:off x="4572000" y="1700280"/>
            <a:ext cx="200016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3" descr="F200910301303121654820952"/>
          <p:cNvPicPr/>
          <p:nvPr/>
        </p:nvPicPr>
        <p:blipFill>
          <a:blip r:embed="rId18"/>
          <a:stretch/>
        </p:blipFill>
        <p:spPr>
          <a:xfrm>
            <a:off x="7020000" y="1700280"/>
            <a:ext cx="2000160" cy="144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7" descr="F200910301303121054985941"/>
          <p:cNvPicPr/>
          <p:nvPr/>
        </p:nvPicPr>
        <p:blipFill>
          <a:blip r:embed="rId19"/>
          <a:stretch/>
        </p:blipFill>
        <p:spPr>
          <a:xfrm>
            <a:off x="7020000" y="3284640"/>
            <a:ext cx="2000160" cy="143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8" descr="F200910301303123248263206"/>
          <p:cNvPicPr/>
          <p:nvPr/>
        </p:nvPicPr>
        <p:blipFill>
          <a:blip r:embed="rId20"/>
          <a:stretch/>
        </p:blipFill>
        <p:spPr>
          <a:xfrm>
            <a:off x="2195640" y="4869000"/>
            <a:ext cx="2000160" cy="172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9" descr="F200910301303121846325792"/>
          <p:cNvPicPr/>
          <p:nvPr/>
        </p:nvPicPr>
        <p:blipFill>
          <a:blip r:embed="rId21"/>
          <a:stretch/>
        </p:blipFill>
        <p:spPr>
          <a:xfrm>
            <a:off x="4643280" y="5013360"/>
            <a:ext cx="200052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0" descr="F200910301303126748185122"/>
          <p:cNvPicPr/>
          <p:nvPr/>
        </p:nvPicPr>
        <p:blipFill>
          <a:blip r:embed="rId22"/>
          <a:stretch/>
        </p:blipFill>
        <p:spPr>
          <a:xfrm>
            <a:off x="7143840" y="4941720"/>
            <a:ext cx="2000160" cy="1656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7"/>
          <p:cNvSpPr/>
          <p:nvPr/>
        </p:nvSpPr>
        <p:spPr>
          <a:xfrm>
            <a:off x="2471400" y="95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水将手打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8"/>
          <p:cNvSpPr/>
          <p:nvPr/>
        </p:nvSpPr>
        <p:spPr>
          <a:xfrm>
            <a:off x="4893840" y="764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足够多的肥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将手摸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9"/>
          <p:cNvSpPr/>
          <p:nvPr/>
        </p:nvSpPr>
        <p:spPr>
          <a:xfrm>
            <a:off x="7539120" y="54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掌对掌搓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1"/>
          <p:cNvSpPr/>
          <p:nvPr/>
        </p:nvSpPr>
        <p:spPr>
          <a:xfrm>
            <a:off x="4572000" y="2628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掌对掌，十指交叉揉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2"/>
          <p:cNvSpPr/>
          <p:nvPr/>
        </p:nvSpPr>
        <p:spPr>
          <a:xfrm>
            <a:off x="7993080" y="219024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十指相扣，指背在相对的手掌上揉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3"/>
          <p:cNvSpPr/>
          <p:nvPr/>
        </p:nvSpPr>
        <p:spPr>
          <a:xfrm>
            <a:off x="2340000" y="3847320"/>
            <a:ext cx="18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右手掌握住左拇指旋转揉搓然后左右手交换以同样方式揉搓右拇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4"/>
          <p:cNvSpPr/>
          <p:nvPr/>
        </p:nvSpPr>
        <p:spPr>
          <a:xfrm>
            <a:off x="4716360" y="3853080"/>
            <a:ext cx="19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右手指紧握在左手掌中来回摩搓，然后左右手交换做同样摩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5"/>
          <p:cNvSpPr/>
          <p:nvPr/>
        </p:nvSpPr>
        <p:spPr>
          <a:xfrm>
            <a:off x="7511760" y="378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水冲洗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6"/>
          <p:cNvSpPr/>
          <p:nvPr/>
        </p:nvSpPr>
        <p:spPr>
          <a:xfrm>
            <a:off x="2124000" y="585612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一次性纸巾将两手彻底擦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7"/>
          <p:cNvSpPr/>
          <p:nvPr/>
        </p:nvSpPr>
        <p:spPr>
          <a:xfrm>
            <a:off x="4572000" y="58705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纸巾将水龙头关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8"/>
          <p:cNvSpPr/>
          <p:nvPr/>
        </p:nvSpPr>
        <p:spPr>
          <a:xfrm>
            <a:off x="7236000" y="5876280"/>
            <a:ext cx="14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现在你的双手是安全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9"/>
          <p:cNvSpPr/>
          <p:nvPr/>
        </p:nvSpPr>
        <p:spPr>
          <a:xfrm>
            <a:off x="1042920" y="1014480"/>
            <a:ext cx="7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正确洗手时间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40-6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秒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8"/>
          <p:cNvSpPr/>
          <p:nvPr/>
        </p:nvSpPr>
        <p:spPr>
          <a:xfrm>
            <a:off x="2195640" y="211860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右手掌盖在左手背上十指交叉揉搓，然后左右手交换做同样的动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QQ截图15"/>
          <p:cNvPicPr/>
          <p:nvPr/>
        </p:nvPicPr>
        <p:blipFill>
          <a:blip r:embed="rId1"/>
          <a:stretch/>
        </p:blipFill>
        <p:spPr>
          <a:xfrm>
            <a:off x="0" y="973080"/>
            <a:ext cx="9144000" cy="588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shouhu网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187280" y="1268280"/>
            <a:ext cx="7490160" cy="3347640"/>
          </a:xfrm>
          <a:prstGeom prst="rect">
            <a:avLst/>
          </a:prstGeom>
          <a:solidFill>
            <a:srgbClr val="ffffff">
              <a:alpha val="81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卫生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甲流高峰将持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         来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华网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卫生部应急办副主任梁万年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接受记者采访时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甲型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高峰在某一个城市持续一段时间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另一个城市出现。从全国范围来看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峰持续期可能在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611280" y="1341360"/>
            <a:ext cx="7921440" cy="142020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目前中国甲流疫情九成六爆发于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五月十一日中国内地报告首例甲流确诊病例以来，截至十月二十八日，内地三十一个省区直辖市已经累计报告确诊病例四万两千余例，其中境内感染约四万例，占病例总数的接近百分之九十五。与此同时，内地聚集性甲流疫情一千五百零二起，其中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百分之九十六点四是发生在学校相关的聚集性疫情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8199"/>
          <p:cNvSpPr/>
          <p:nvPr/>
        </p:nvSpPr>
        <p:spPr>
          <a:xfrm>
            <a:off x="2771640" y="191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971640" y="3573360"/>
            <a:ext cx="7200720" cy="1068840"/>
          </a:xfrm>
          <a:prstGeom prst="rect">
            <a:avLst/>
          </a:prstGeom>
          <a:solidFill>
            <a:srgbClr val="ffffff">
              <a:alpha val="8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热、咳嗽、头痛、肌肉和关节痛、咽痛和流鼻涕，有时会呕吐和腹泻。与普通流感相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须通过实验室比对确定。</a:t>
            </a:r>
            <a:r>
              <a:rPr b="0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2071440" y="158436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类感染甲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H1N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流感的最明显症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340000" y="2205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新魏"/>
              </a:rPr>
              <a:t>发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587760" y="2205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新魏"/>
              </a:rPr>
              <a:t>咳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835520" y="2205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新魏"/>
              </a:rPr>
              <a:t>头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6084720" y="2205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新魏"/>
              </a:rPr>
              <a:t>呕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9"/>
          <p:cNvSpPr/>
          <p:nvPr/>
        </p:nvSpPr>
        <p:spPr>
          <a:xfrm>
            <a:off x="2700360" y="1125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它是如何传播的？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971640" y="1989000"/>
            <a:ext cx="8172360" cy="1323000"/>
          </a:xfrm>
          <a:prstGeom prst="rect">
            <a:avLst/>
          </a:prstGeom>
          <a:solidFill>
            <a:srgbClr val="ffffff">
              <a:alpha val="80000"/>
            </a:srgbClr>
          </a:solid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感染者说话、咳嗽或打喷嚏等方式将病毒散播到空气中，易感者吸入后就会被感染。人群拥挤、空气不流通的公用场所传播最快。还可能通过被病毒污染的玩具、茶具、餐具、毛巾等方式间接传播，通过手接触最多，所以要勤洗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主要途径是通过讲话、打喷嚏或咳嗽时呼吸道产生的飞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1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971640" y="2041560"/>
            <a:ext cx="8172360" cy="3780360"/>
          </a:xfrm>
          <a:prstGeom prst="rect">
            <a:avLst/>
          </a:prstGeom>
          <a:solidFill>
            <a:srgbClr val="ffffff">
              <a:alpha val="80000"/>
            </a:srgbClr>
          </a:solid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触摸口鼻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和水彻底清洗双手，或者定期使用含酒精的手擦清结双手（触摸口鼻或接触有可能污染的表面时尤其予以注意）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密切接触可能生病的人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量减少在人多的地方逗留的时间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窗通风，增加室内空气流动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良好的卫生习惯，包括睡眠充足，膳食营养和坚持锻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366920" y="888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怎样才能保护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免于感染甲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H1N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流感？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755640" y="2060640"/>
            <a:ext cx="8388360" cy="3018600"/>
          </a:xfrm>
          <a:prstGeom prst="rect">
            <a:avLst/>
          </a:prstGeom>
          <a:solidFill>
            <a:srgbClr val="ffffff">
              <a:alpha val="80000"/>
            </a:srgbClr>
          </a:solidFill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如感不适，应留在家中，不去人员密集的地方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多休息，喝大量的水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咳嗽或打喷嚏时，用一次性纸巾遮掩住嘴和鼻子，用完后的纸巾应处理妥当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勤洗手，每次都用肥皂彻底清洗，尤其咳嗽打喷嚏后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将自己的症状告诉家人朋友，尽量避免与他人接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11600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如果感觉自己感染了流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应该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9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539640" y="2349360"/>
            <a:ext cx="8172720" cy="2043720"/>
          </a:xfrm>
          <a:prstGeom prst="rect">
            <a:avLst/>
          </a:prstGeom>
          <a:solidFill>
            <a:srgbClr val="ffffff">
              <a:alpha val="80000"/>
            </a:srgbClr>
          </a:solid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去医疗机构之前，应该首先与医护人员进行联系，报告自己的症状，解释为何会认为自己感染了甲型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没法提前与医护人员联系，那么当抵达医院寻求诊断时，一定尽快把怀疑自己感染甲型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的想法告知医生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去医院途中，用口罩或其他东西遮盖住嘴和鼻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1042920" y="1052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如果自己认为需要医学治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应该怎么办 ？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8199"/>
          <p:cNvSpPr/>
          <p:nvPr/>
        </p:nvSpPr>
        <p:spPr>
          <a:xfrm>
            <a:off x="2484360" y="580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09:31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8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