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589-470A-4CC4-AF78-2D1E2C79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BC7-D8DE-4B0B-B983-53B4A45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DAC-EA9F-4117-AA3B-DAA7CB67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6DB-022B-4A63-A291-921D716F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BAA9-05CE-43A7-BEF0-CDA245C1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7DA0-4E18-4F75-BA38-CC3317D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2833-2AF7-4B14-BF1C-5553540E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C27D-08BF-4CB6-8BE1-C272319C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13F-A550-44FC-BB69-39FD3041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DC7A-A239-4AF9-8486-8E2EA00B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41A-A0B7-4EA6-BF97-0005F5A6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F9E-E853-46F9-96DF-017AC9FB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30CA-81FF-40E5-86E9-90A5BB8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FF41-819E-468B-8398-FAE8E17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3DBE-0DDD-4953-A4AF-E04E0F1C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C363-2806-4F28-8C42-6C9FE881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13B7-990B-4831-B2E3-9C6D88AB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2EC-46DF-4493-AAE8-5747DB45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3B3-8238-4A69-9654-37860E3F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C5A-F4BC-45CB-9D94-63834F6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FC1-B194-49A8-80F6-DBD5B7A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2E2-0624-4C32-8949-3F36FF2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9AE-6369-4BA2-8EC4-E81DBFF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F3B-D682-40EC-97B0-0E81143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d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6ECE-B658-4F53-98E2-5539FD9F886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B4F4-A75A-4D3C-90D7-E1DCE745A0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6C0-7E14-47CE-BCAF-573DA313AD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7928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21964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211640" y="40464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  <a:ea typeface="宋体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17928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01200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5"/>
          <p:cNvGrpSpPr/>
          <p:nvPr/>
        </p:nvGrpSpPr>
        <p:grpSpPr>
          <a:xfrm>
            <a:off x="3592440" y="3108240"/>
            <a:ext cx="1874880" cy="1217520"/>
            <a:chOff x="3592440" y="3108240"/>
            <a:chExt cx="1874880" cy="1217520"/>
          </a:xfrm>
        </p:grpSpPr>
        <p:sp>
          <p:nvSpPr>
            <p:cNvPr id="90" name="梯形 12"/>
            <p:cNvSpPr/>
            <p:nvPr/>
          </p:nvSpPr>
          <p:spPr>
            <a:xfrm>
              <a:off x="3592440" y="417132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3"/>
            <p:cNvGrpSpPr/>
            <p:nvPr/>
          </p:nvGrpSpPr>
          <p:grpSpPr>
            <a:xfrm>
              <a:off x="3716640" y="3108240"/>
              <a:ext cx="1626120" cy="1063080"/>
              <a:chOff x="3716640" y="3108240"/>
              <a:chExt cx="1626120" cy="1063080"/>
            </a:xfrm>
          </p:grpSpPr>
          <p:sp>
            <p:nvSpPr>
              <p:cNvPr id="92" name="圆角矩形 10"/>
              <p:cNvSpPr/>
              <p:nvPr/>
            </p:nvSpPr>
            <p:spPr>
              <a:xfrm>
                <a:off x="3716640" y="310824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11"/>
              <p:cNvSpPr/>
              <p:nvPr/>
            </p:nvSpPr>
            <p:spPr>
              <a:xfrm>
                <a:off x="3807000" y="321444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圆角矩形 14"/>
            <p:cNvSpPr/>
            <p:nvPr/>
          </p:nvSpPr>
          <p:spPr>
            <a:xfrm>
              <a:off x="4405680" y="409500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682560" y="1530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INFOGRAPHI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3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97" name="组合 19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98" name="梯形 17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8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矩形 20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1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27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05" name="组合 29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06" name="梯形 33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34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矩形 30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1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32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3763800" y="3500280"/>
            <a:ext cx="15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DESIG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3132000" y="45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INFOGRAPHIC,LETDATA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5"/>
          <p:cNvSpPr/>
          <p:nvPr/>
        </p:nvSpPr>
        <p:spPr>
          <a:xfrm>
            <a:off x="1913760" y="117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简约工作报告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空心弧 28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空心弧 29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"/>
          <p:cNvGrpSpPr/>
          <p:nvPr/>
        </p:nvGrpSpPr>
        <p:grpSpPr>
          <a:xfrm>
            <a:off x="0" y="0"/>
            <a:ext cx="5364000" cy="6858000"/>
            <a:chOff x="0" y="0"/>
            <a:chExt cx="5364000" cy="6858000"/>
          </a:xfrm>
        </p:grpSpPr>
        <p:sp>
          <p:nvSpPr>
            <p:cNvPr id="381" name="矩形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4"/>
            <p:cNvSpPr/>
            <p:nvPr/>
          </p:nvSpPr>
          <p:spPr>
            <a:xfrm rot="5400000">
              <a:off x="4392000" y="2529000"/>
              <a:ext cx="864000" cy="1080000"/>
            </a:xfrm>
            <a:prstGeom prst="triangle">
              <a:avLst>
                <a:gd name="adj" fmla="val 50000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384" name="直接连接符 6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7"/>
          <p:cNvSpPr/>
          <p:nvPr/>
        </p:nvSpPr>
        <p:spPr>
          <a:xfrm>
            <a:off x="581040" y="3068640"/>
            <a:ext cx="1184400" cy="112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3"/>
          <p:cNvGrpSpPr/>
          <p:nvPr/>
        </p:nvGrpSpPr>
        <p:grpSpPr>
          <a:xfrm>
            <a:off x="920880" y="3304800"/>
            <a:ext cx="504720" cy="649800"/>
            <a:chOff x="920880" y="3304800"/>
            <a:chExt cx="504720" cy="649800"/>
          </a:xfrm>
        </p:grpSpPr>
        <p:sp>
          <p:nvSpPr>
            <p:cNvPr id="388" name="圆角矩形 8"/>
            <p:cNvSpPr/>
            <p:nvPr/>
          </p:nvSpPr>
          <p:spPr>
            <a:xfrm>
              <a:off x="920880" y="3305160"/>
              <a:ext cx="504720" cy="649440"/>
            </a:xfrm>
            <a:custGeom>
              <a:avLst/>
              <a:gdLst>
                <a:gd name="textAreaLeft" fmla="*/ 41760 w 504720"/>
                <a:gd name="textAreaRight" fmla="*/ 462960 w 504720"/>
                <a:gd name="textAreaTop" fmla="*/ 41760 h 649440"/>
                <a:gd name="textAreaBottom" fmla="*/ 607680 h 649440"/>
              </a:gdLst>
              <a:ahLst/>
              <a:rect l="textAreaLeft" t="textAreaTop" r="textAreaRight" b="textAreaBottom"/>
              <a:pathLst>
                <a:path w="21600" h="27789">
                  <a:moveTo>
                    <a:pt x="6113" y="0"/>
                  </a:moveTo>
                  <a:arcTo wR="6113" hR="6113" stAng="16200000" swAng="-5400000"/>
                  <a:lnTo>
                    <a:pt x="0" y="21676"/>
                  </a:lnTo>
                  <a:arcTo wR="6113" hR="6113" stAng="10800000" swAng="-5400000"/>
                  <a:lnTo>
                    <a:pt x="15487" y="27789"/>
                  </a:lnTo>
                  <a:arcTo wR="6113" hR="6113" stAng="5400000" swAng="-5400000"/>
                  <a:lnTo>
                    <a:pt x="21600" y="6113"/>
                  </a:lnTo>
                  <a:arcTo wR="6113" hR="6113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圆角矩形 9"/>
            <p:cNvSpPr/>
            <p:nvPr/>
          </p:nvSpPr>
          <p:spPr>
            <a:xfrm>
              <a:off x="1117080" y="3404880"/>
              <a:ext cx="111960" cy="199800"/>
            </a:xfrm>
            <a:custGeom>
              <a:avLst/>
              <a:gdLst>
                <a:gd name="textAreaLeft" fmla="*/ 16200 w 111960"/>
                <a:gd name="textAreaRight" fmla="*/ 95760 w 111960"/>
                <a:gd name="textAreaTop" fmla="*/ 16200 h 199800"/>
                <a:gd name="textAreaBottom" fmla="*/ 183600 h 199800"/>
              </a:gdLst>
              <a:ahLst/>
              <a:rect l="textAreaLeft" t="textAreaTop" r="textAreaRight" b="textAreaBottom"/>
              <a:pathLst>
                <a:path w="21600" h="38492">
                  <a:moveTo>
                    <a:pt x="10800" y="0"/>
                  </a:moveTo>
                  <a:arcTo wR="10800" hR="10800" stAng="16200000" swAng="-5400000"/>
                  <a:lnTo>
                    <a:pt x="0" y="27692"/>
                  </a:lnTo>
                  <a:arcTo wR="10800" hR="10800" stAng="10800000" swAng="-5400000"/>
                  <a:lnTo>
                    <a:pt x="10800" y="384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172880" y="3304800"/>
              <a:ext cx="360" cy="99720"/>
              <a:chOff x="1172880" y="3304800"/>
              <a:chExt cx="360" cy="99720"/>
            </a:xfrm>
          </p:grpSpPr>
          <p:sp>
            <p:nvSpPr>
              <p:cNvPr id="391" name="直接连接符 11"/>
              <p:cNvSpPr/>
              <p:nvPr/>
            </p:nvSpPr>
            <p:spPr>
              <a:xfrm flipV="1">
                <a:off x="1173240" y="330480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 rot="10800000">
                <a:off x="1172880" y="330480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72880" y="3604680"/>
              <a:ext cx="360" cy="99720"/>
              <a:chOff x="1172880" y="3604680"/>
              <a:chExt cx="360" cy="99720"/>
            </a:xfrm>
          </p:grpSpPr>
          <p:sp>
            <p:nvSpPr>
              <p:cNvPr id="394" name="直接连接符 12"/>
              <p:cNvSpPr/>
              <p:nvPr/>
            </p:nvSpPr>
            <p:spPr>
              <a:xfrm flipV="1">
                <a:off x="1173240" y="360468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 rot="10800000">
                <a:off x="1172880" y="360468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椭圆 14"/>
          <p:cNvSpPr/>
          <p:nvPr/>
        </p:nvSpPr>
        <p:spPr>
          <a:xfrm>
            <a:off x="2771640" y="5013360"/>
            <a:ext cx="1184400" cy="1120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2038320" y="3487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标注 21"/>
          <p:cNvSpPr/>
          <p:nvPr/>
        </p:nvSpPr>
        <p:spPr>
          <a:xfrm>
            <a:off x="3022560" y="5345280"/>
            <a:ext cx="682560" cy="455400"/>
          </a:xfrm>
          <a:prstGeom prst="wedgeRoundRectCallout">
            <a:avLst>
              <a:gd name="adj1" fmla="val -20833"/>
              <a:gd name="adj2" fmla="val 86300"/>
              <a:gd name="adj3" fmla="val 16667"/>
            </a:avLst>
          </a:prstGeom>
          <a:noFill/>
          <a:ln w="2556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2"/>
          <p:cNvSpPr/>
          <p:nvPr/>
        </p:nvSpPr>
        <p:spPr>
          <a:xfrm>
            <a:off x="230040" y="53452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3"/>
          <p:cNvSpPr/>
          <p:nvPr/>
        </p:nvSpPr>
        <p:spPr>
          <a:xfrm>
            <a:off x="179280" y="333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NO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64000" y="2924280"/>
            <a:ext cx="3529080" cy="1440"/>
            <a:chOff x="5364000" y="2924280"/>
            <a:chExt cx="3529080" cy="1440"/>
          </a:xfrm>
        </p:grpSpPr>
        <p:sp>
          <p:nvSpPr>
            <p:cNvPr id="402" name="直接连接符 24"/>
            <p:cNvSpPr/>
            <p:nvPr/>
          </p:nvSpPr>
          <p:spPr>
            <a:xfrm>
              <a:off x="5364000" y="2924280"/>
              <a:ext cx="35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364000" y="2924280"/>
              <a:ext cx="35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26"/>
          <p:cNvSpPr/>
          <p:nvPr/>
        </p:nvSpPr>
        <p:spPr>
          <a:xfrm>
            <a:off x="5219640" y="170820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5219640" y="442116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空心弧 30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f3f3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空心弧 31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5254560" y="3049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5219640" y="340524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DDA0-44C2-4894-8A49-0C137A9200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882720" y="22892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T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A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N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K 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Y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</a:t>
            </a:r>
            <a:r>
              <a:rPr b="1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4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416" name="组合 5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417" name="梯形 9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矩形 10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矩形 6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7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8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2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424" name="组合 13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425" name="梯形 17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矩形 18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矩形 14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6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0"/>
          <p:cNvSpPr/>
          <p:nvPr/>
        </p:nvSpPr>
        <p:spPr>
          <a:xfrm>
            <a:off x="3419640" y="3718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Brush Script MT"/>
                <a:ea typeface="微软雅黑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"/>
          <p:cNvSpPr/>
          <p:nvPr/>
        </p:nvSpPr>
        <p:spPr>
          <a:xfrm>
            <a:off x="0" y="3933720"/>
            <a:ext cx="9144000" cy="2924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18" name="组合 5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19" name="梯形 9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0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矩形 6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7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8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13"/>
          <p:cNvSpPr/>
          <p:nvPr/>
        </p:nvSpPr>
        <p:spPr>
          <a:xfrm>
            <a:off x="4861080" y="3560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PLEASE ADD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828720" y="328464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"/>
          <p:cNvSpPr/>
          <p:nvPr/>
        </p:nvSpPr>
        <p:spPr>
          <a:xfrm flipH="1" rot="2064000">
            <a:off x="-453960" y="1428480"/>
            <a:ext cx="9659880" cy="1500120"/>
          </a:xfrm>
          <a:custGeom>
            <a:avLst/>
            <a:gdLst/>
            <a:ahLst/>
            <a:rect l="l" t="t" r="r" b="b"/>
            <a:pathLst>
              <a:path w="10016038" h="1489890">
                <a:moveTo>
                  <a:pt x="0" y="985646"/>
                </a:moveTo>
                <a:lnTo>
                  <a:pt x="7850300" y="0"/>
                </a:lnTo>
                <a:lnTo>
                  <a:pt x="10016038" y="1416751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196"/>
          <p:cNvSpPr/>
          <p:nvPr/>
        </p:nvSpPr>
        <p:spPr>
          <a:xfrm>
            <a:off x="1260360" y="5229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椭圆 9"/>
          <p:cNvSpPr/>
          <p:nvPr/>
        </p:nvSpPr>
        <p:spPr>
          <a:xfrm>
            <a:off x="5361120" y="3645000"/>
            <a:ext cx="1368360" cy="122400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19640" y="2924280"/>
            <a:ext cx="5329080" cy="1440"/>
            <a:chOff x="3419640" y="2924280"/>
            <a:chExt cx="5329080" cy="1440"/>
          </a:xfrm>
        </p:grpSpPr>
        <p:sp>
          <p:nvSpPr>
            <p:cNvPr id="130" name="直接连接符 4"/>
            <p:cNvSpPr/>
            <p:nvPr/>
          </p:nvSpPr>
          <p:spPr>
            <a:xfrm>
              <a:off x="3419640" y="2924280"/>
              <a:ext cx="53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419640" y="2924280"/>
              <a:ext cx="53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椭圆 5"/>
          <p:cNvSpPr/>
          <p:nvPr/>
        </p:nvSpPr>
        <p:spPr>
          <a:xfrm>
            <a:off x="3419640" y="1123920"/>
            <a:ext cx="136836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6"/>
          <p:cNvSpPr/>
          <p:nvPr/>
        </p:nvSpPr>
        <p:spPr>
          <a:xfrm>
            <a:off x="5400720" y="1123920"/>
            <a:ext cx="1368360" cy="122544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7308720" y="1123920"/>
            <a:ext cx="136872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8"/>
          <p:cNvSpPr/>
          <p:nvPr/>
        </p:nvSpPr>
        <p:spPr>
          <a:xfrm>
            <a:off x="3419640" y="3645000"/>
            <a:ext cx="136836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7308720" y="3645000"/>
            <a:ext cx="136872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4"/>
          <p:cNvGrpSpPr/>
          <p:nvPr/>
        </p:nvGrpSpPr>
        <p:grpSpPr>
          <a:xfrm>
            <a:off x="7753320" y="4049640"/>
            <a:ext cx="477720" cy="414360"/>
            <a:chOff x="7753320" y="4049640"/>
            <a:chExt cx="477720" cy="414360"/>
          </a:xfrm>
        </p:grpSpPr>
        <p:sp>
          <p:nvSpPr>
            <p:cNvPr id="138" name="椭圆 11"/>
            <p:cNvSpPr/>
            <p:nvPr/>
          </p:nvSpPr>
          <p:spPr>
            <a:xfrm>
              <a:off x="7753320" y="4049640"/>
              <a:ext cx="307080" cy="281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8015400" y="4290120"/>
              <a:ext cx="215640" cy="173880"/>
              <a:chOff x="8015400" y="4290120"/>
              <a:chExt cx="215640" cy="173880"/>
            </a:xfrm>
          </p:grpSpPr>
          <p:sp>
            <p:nvSpPr>
              <p:cNvPr id="140" name="直接连接符 13"/>
              <p:cNvSpPr/>
              <p:nvPr/>
            </p:nvSpPr>
            <p:spPr>
              <a:xfrm>
                <a:off x="8015400" y="4290120"/>
                <a:ext cx="215640" cy="17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8015400" y="4290120"/>
                <a:ext cx="21564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组合 19"/>
          <p:cNvGrpSpPr/>
          <p:nvPr/>
        </p:nvGrpSpPr>
        <p:grpSpPr>
          <a:xfrm>
            <a:off x="5749200" y="3809160"/>
            <a:ext cx="720360" cy="929160"/>
            <a:chOff x="5749200" y="3809160"/>
            <a:chExt cx="720360" cy="929160"/>
          </a:xfrm>
        </p:grpSpPr>
        <p:sp>
          <p:nvSpPr>
            <p:cNvPr id="143" name="矩形 16"/>
            <p:cNvSpPr/>
            <p:nvPr/>
          </p:nvSpPr>
          <p:spPr>
            <a:xfrm rot="1299600">
              <a:off x="5769000" y="404568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6"/>
            <p:cNvSpPr/>
            <p:nvPr/>
          </p:nvSpPr>
          <p:spPr>
            <a:xfrm flipH="1" rot="1299600">
              <a:off x="6128280" y="419112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15"/>
            <p:cNvSpPr/>
            <p:nvPr/>
          </p:nvSpPr>
          <p:spPr>
            <a:xfrm rot="1299600">
              <a:off x="6028920" y="3814560"/>
              <a:ext cx="168840" cy="729000"/>
            </a:xfrm>
            <a:custGeom>
              <a:avLst/>
              <a:gdLst>
                <a:gd name="textAreaLeft" fmla="*/ 24480 w 168840"/>
                <a:gd name="textAreaRight" fmla="*/ 144360 w 168840"/>
                <a:gd name="textAreaTop" fmla="*/ 24480 h 729000"/>
                <a:gd name="textAreaBottom" fmla="*/ 704520 h 729000"/>
              </a:gdLst>
              <a:ahLst/>
              <a:rect l="textAreaLeft" t="textAreaTop" r="textAreaRight" b="textAreaBottom"/>
              <a:pathLst>
                <a:path w="21600" h="93110">
                  <a:moveTo>
                    <a:pt x="10800" y="0"/>
                  </a:moveTo>
                  <a:arcTo wR="10800" hR="10800" stAng="16200000" swAng="-5400000"/>
                  <a:lnTo>
                    <a:pt x="0" y="82310"/>
                  </a:lnTo>
                  <a:arcTo wR="10800" hR="10800" stAng="10800000" swAng="-5400000"/>
                  <a:lnTo>
                    <a:pt x="10800" y="931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燕尾形 18"/>
            <p:cNvSpPr/>
            <p:nvPr/>
          </p:nvSpPr>
          <p:spPr>
            <a:xfrm rot="17500200">
              <a:off x="5836680" y="4443840"/>
              <a:ext cx="235800" cy="2700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3"/>
          <p:cNvGrpSpPr/>
          <p:nvPr/>
        </p:nvGrpSpPr>
        <p:grpSpPr>
          <a:xfrm>
            <a:off x="3780000" y="3922560"/>
            <a:ext cx="844560" cy="735120"/>
            <a:chOff x="3780000" y="3922560"/>
            <a:chExt cx="844560" cy="735120"/>
          </a:xfrm>
        </p:grpSpPr>
        <p:sp>
          <p:nvSpPr>
            <p:cNvPr id="148" name="空心弧 22"/>
            <p:cNvSpPr/>
            <p:nvPr/>
          </p:nvSpPr>
          <p:spPr>
            <a:xfrm rot="5577000">
              <a:off x="4166280" y="3963600"/>
              <a:ext cx="398520" cy="4978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862" y="10800"/>
                  </a:moveTo>
                  <a:cubicBezTo>
                    <a:pt x="1862" y="5864"/>
                    <a:pt x="5864" y="1862"/>
                    <a:pt x="10800" y="1862"/>
                  </a:cubicBezTo>
                  <a:cubicBezTo>
                    <a:pt x="15736" y="1862"/>
                    <a:pt x="19738" y="5864"/>
                    <a:pt x="19738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剪去同侧角的矩形 20"/>
            <p:cNvSpPr/>
            <p:nvPr/>
          </p:nvSpPr>
          <p:spPr>
            <a:xfrm>
              <a:off x="3780000" y="3922560"/>
              <a:ext cx="630360" cy="735120"/>
            </a:xfrm>
            <a:custGeom>
              <a:avLst/>
              <a:gdLst/>
              <a:ahLst/>
              <a:rect l="l" t="t" r="r" b="b"/>
              <a:pathLst>
                <a:path w="936104" h="1092834">
                  <a:moveTo>
                    <a:pt x="0" y="0"/>
                  </a:moveTo>
                  <a:lnTo>
                    <a:pt x="936104" y="0"/>
                  </a:lnTo>
                  <a:lnTo>
                    <a:pt x="936104" y="0"/>
                  </a:lnTo>
                  <a:lnTo>
                    <a:pt x="936104" y="935268"/>
                  </a:lnTo>
                  <a:lnTo>
                    <a:pt x="778538" y="1092834"/>
                  </a:lnTo>
                  <a:lnTo>
                    <a:pt x="157565" y="1092834"/>
                  </a:lnTo>
                  <a:lnTo>
                    <a:pt x="0" y="935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21"/>
            <p:cNvSpPr/>
            <p:nvPr/>
          </p:nvSpPr>
          <p:spPr>
            <a:xfrm>
              <a:off x="3876840" y="4015080"/>
              <a:ext cx="436320" cy="85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7"/>
          <p:cNvGrpSpPr/>
          <p:nvPr/>
        </p:nvGrpSpPr>
        <p:grpSpPr>
          <a:xfrm>
            <a:off x="7615080" y="1554120"/>
            <a:ext cx="801720" cy="365040"/>
            <a:chOff x="7615080" y="1554120"/>
            <a:chExt cx="801720" cy="365040"/>
          </a:xfrm>
        </p:grpSpPr>
        <p:sp>
          <p:nvSpPr>
            <p:cNvPr id="152" name="矩形 24"/>
            <p:cNvSpPr/>
            <p:nvPr/>
          </p:nvSpPr>
          <p:spPr>
            <a:xfrm>
              <a:off x="7716600" y="1554120"/>
              <a:ext cx="700200" cy="365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25"/>
            <p:cNvSpPr/>
            <p:nvPr/>
          </p:nvSpPr>
          <p:spPr>
            <a:xfrm>
              <a:off x="7794720" y="1596960"/>
              <a:ext cx="548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26"/>
            <p:cNvSpPr/>
            <p:nvPr/>
          </p:nvSpPr>
          <p:spPr>
            <a:xfrm>
              <a:off x="7615080" y="1596960"/>
              <a:ext cx="896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0840" y="2924280"/>
            <a:ext cx="911160" cy="1440"/>
            <a:chOff x="420840" y="2924280"/>
            <a:chExt cx="911160" cy="1440"/>
          </a:xfrm>
        </p:grpSpPr>
        <p:sp>
          <p:nvSpPr>
            <p:cNvPr id="156" name="直接连接符 28"/>
            <p:cNvSpPr/>
            <p:nvPr/>
          </p:nvSpPr>
          <p:spPr>
            <a:xfrm>
              <a:off x="420840" y="292428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20840" y="292428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30"/>
          <p:cNvSpPr/>
          <p:nvPr/>
        </p:nvSpPr>
        <p:spPr>
          <a:xfrm>
            <a:off x="420840" y="12762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HI THERE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1"/>
          <p:cNvSpPr/>
          <p:nvPr/>
        </p:nvSpPr>
        <p:spPr>
          <a:xfrm>
            <a:off x="420840" y="1960560"/>
            <a:ext cx="29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TITLE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34"/>
          <p:cNvGrpSpPr/>
          <p:nvPr/>
        </p:nvGrpSpPr>
        <p:grpSpPr>
          <a:xfrm>
            <a:off x="3889440" y="1433520"/>
            <a:ext cx="428400" cy="606240"/>
            <a:chOff x="3889440" y="1433520"/>
            <a:chExt cx="428400" cy="606240"/>
          </a:xfrm>
        </p:grpSpPr>
        <p:sp>
          <p:nvSpPr>
            <p:cNvPr id="161" name="椭圆 32"/>
            <p:cNvSpPr/>
            <p:nvPr/>
          </p:nvSpPr>
          <p:spPr>
            <a:xfrm>
              <a:off x="3978000" y="1433520"/>
              <a:ext cx="250920" cy="25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流程图: 延期 33"/>
            <p:cNvSpPr/>
            <p:nvPr/>
          </p:nvSpPr>
          <p:spPr>
            <a:xfrm rot="16200000">
              <a:off x="3977640" y="1699560"/>
              <a:ext cx="252000" cy="428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8"/>
          <p:cNvGrpSpPr/>
          <p:nvPr/>
        </p:nvGrpSpPr>
        <p:grpSpPr>
          <a:xfrm>
            <a:off x="5487480" y="1131480"/>
            <a:ext cx="1116720" cy="1125000"/>
            <a:chOff x="5487480" y="1131480"/>
            <a:chExt cx="1116720" cy="1125000"/>
          </a:xfrm>
        </p:grpSpPr>
        <p:sp>
          <p:nvSpPr>
            <p:cNvPr id="164" name="空心弧 35"/>
            <p:cNvSpPr/>
            <p:nvPr/>
          </p:nvSpPr>
          <p:spPr>
            <a:xfrm rot="9242400">
              <a:off x="5631120" y="1269720"/>
              <a:ext cx="829080" cy="8478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4358" y="10800"/>
                  </a:moveTo>
                  <a:cubicBezTo>
                    <a:pt x="4358" y="7242"/>
                    <a:pt x="7242" y="4358"/>
                    <a:pt x="10800" y="4358"/>
                  </a:cubicBezTo>
                  <a:cubicBezTo>
                    <a:pt x="14358" y="4358"/>
                    <a:pt x="17242" y="7242"/>
                    <a:pt x="17242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6"/>
            <p:cNvSpPr/>
            <p:nvPr/>
          </p:nvSpPr>
          <p:spPr>
            <a:xfrm rot="9242400">
              <a:off x="6204240" y="143352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37"/>
            <p:cNvSpPr/>
            <p:nvPr/>
          </p:nvSpPr>
          <p:spPr>
            <a:xfrm rot="9242400">
              <a:off x="5596200" y="172944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39"/>
          <p:cNvSpPr/>
          <p:nvPr/>
        </p:nvSpPr>
        <p:spPr>
          <a:xfrm>
            <a:off x="3419640" y="239868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540072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733428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733428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3"/>
          <p:cNvSpPr/>
          <p:nvPr/>
        </p:nvSpPr>
        <p:spPr>
          <a:xfrm>
            <a:off x="538164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4"/>
          <p:cNvSpPr/>
          <p:nvPr/>
        </p:nvSpPr>
        <p:spPr>
          <a:xfrm>
            <a:off x="3419640" y="49039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5651640" y="692280"/>
            <a:ext cx="2592360" cy="1440"/>
            <a:chOff x="5651640" y="692280"/>
            <a:chExt cx="2592360" cy="1440"/>
          </a:xfrm>
        </p:grpSpPr>
        <p:sp>
          <p:nvSpPr>
            <p:cNvPr id="174" name="直接连接符 3"/>
            <p:cNvSpPr/>
            <p:nvPr/>
          </p:nvSpPr>
          <p:spPr>
            <a:xfrm>
              <a:off x="565164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65164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00000" y="692280"/>
            <a:ext cx="2592360" cy="1440"/>
            <a:chOff x="900000" y="692280"/>
            <a:chExt cx="2592360" cy="1440"/>
          </a:xfrm>
        </p:grpSpPr>
        <p:sp>
          <p:nvSpPr>
            <p:cNvPr id="177" name="直接连接符 6"/>
            <p:cNvSpPr/>
            <p:nvPr/>
          </p:nvSpPr>
          <p:spPr>
            <a:xfrm>
              <a:off x="90000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0000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7"/>
          <p:cNvSpPr/>
          <p:nvPr/>
        </p:nvSpPr>
        <p:spPr>
          <a:xfrm>
            <a:off x="349236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I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5292720" y="2421000"/>
            <a:ext cx="3527280" cy="2448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9"/>
          <p:cNvSpPr/>
          <p:nvPr/>
        </p:nvSpPr>
        <p:spPr>
          <a:xfrm rot="16200000">
            <a:off x="3563640" y="3139920"/>
            <a:ext cx="2448000" cy="1009800"/>
          </a:xfrm>
          <a:prstGeom prst="triangle">
            <a:avLst>
              <a:gd name="adj" fmla="val 50000"/>
            </a:avLst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0"/>
          <p:cNvSpPr/>
          <p:nvPr/>
        </p:nvSpPr>
        <p:spPr>
          <a:xfrm>
            <a:off x="4788000" y="342576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5634000" y="2629080"/>
            <a:ext cx="2970360" cy="20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6516720" y="4149720"/>
            <a:ext cx="1440000" cy="43164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表 13" descr=""/>
          <p:cNvPicPr/>
          <p:nvPr/>
        </p:nvPicPr>
        <p:blipFill>
          <a:blip r:embed="rId1"/>
          <a:stretch/>
        </p:blipFill>
        <p:spPr>
          <a:xfrm>
            <a:off x="6108840" y="2770200"/>
            <a:ext cx="22557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23"/>
          <p:cNvGrpSpPr/>
          <p:nvPr/>
        </p:nvGrpSpPr>
        <p:grpSpPr>
          <a:xfrm>
            <a:off x="539640" y="1917720"/>
            <a:ext cx="3168720" cy="287280"/>
            <a:chOff x="539640" y="1917720"/>
            <a:chExt cx="3168720" cy="287280"/>
          </a:xfrm>
        </p:grpSpPr>
        <p:sp>
          <p:nvSpPr>
            <p:cNvPr id="187" name="椭圆 14"/>
            <p:cNvSpPr/>
            <p:nvPr/>
          </p:nvSpPr>
          <p:spPr>
            <a:xfrm>
              <a:off x="53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5"/>
            <p:cNvSpPr/>
            <p:nvPr/>
          </p:nvSpPr>
          <p:spPr>
            <a:xfrm>
              <a:off x="89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6"/>
            <p:cNvSpPr/>
            <p:nvPr/>
          </p:nvSpPr>
          <p:spPr>
            <a:xfrm>
              <a:off x="125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7"/>
            <p:cNvSpPr/>
            <p:nvPr/>
          </p:nvSpPr>
          <p:spPr>
            <a:xfrm>
              <a:off x="162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8"/>
            <p:cNvSpPr/>
            <p:nvPr/>
          </p:nvSpPr>
          <p:spPr>
            <a:xfrm>
              <a:off x="198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9"/>
            <p:cNvSpPr/>
            <p:nvPr/>
          </p:nvSpPr>
          <p:spPr>
            <a:xfrm>
              <a:off x="234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0"/>
            <p:cNvSpPr/>
            <p:nvPr/>
          </p:nvSpPr>
          <p:spPr>
            <a:xfrm>
              <a:off x="270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21"/>
            <p:cNvSpPr/>
            <p:nvPr/>
          </p:nvSpPr>
          <p:spPr>
            <a:xfrm>
              <a:off x="306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22"/>
            <p:cNvSpPr/>
            <p:nvPr/>
          </p:nvSpPr>
          <p:spPr>
            <a:xfrm>
              <a:off x="342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4"/>
          <p:cNvGrpSpPr/>
          <p:nvPr/>
        </p:nvGrpSpPr>
        <p:grpSpPr>
          <a:xfrm>
            <a:off x="539640" y="2340000"/>
            <a:ext cx="3168720" cy="289080"/>
            <a:chOff x="539640" y="2340000"/>
            <a:chExt cx="3168720" cy="289080"/>
          </a:xfrm>
        </p:grpSpPr>
        <p:sp>
          <p:nvSpPr>
            <p:cNvPr id="197" name="椭圆 25"/>
            <p:cNvSpPr/>
            <p:nvPr/>
          </p:nvSpPr>
          <p:spPr>
            <a:xfrm>
              <a:off x="53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26"/>
            <p:cNvSpPr/>
            <p:nvPr/>
          </p:nvSpPr>
          <p:spPr>
            <a:xfrm>
              <a:off x="89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7"/>
            <p:cNvSpPr/>
            <p:nvPr/>
          </p:nvSpPr>
          <p:spPr>
            <a:xfrm>
              <a:off x="125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28"/>
            <p:cNvSpPr/>
            <p:nvPr/>
          </p:nvSpPr>
          <p:spPr>
            <a:xfrm>
              <a:off x="162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29"/>
            <p:cNvSpPr/>
            <p:nvPr/>
          </p:nvSpPr>
          <p:spPr>
            <a:xfrm>
              <a:off x="198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30"/>
            <p:cNvSpPr/>
            <p:nvPr/>
          </p:nvSpPr>
          <p:spPr>
            <a:xfrm>
              <a:off x="234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31"/>
            <p:cNvSpPr/>
            <p:nvPr/>
          </p:nvSpPr>
          <p:spPr>
            <a:xfrm>
              <a:off x="270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32"/>
            <p:cNvSpPr/>
            <p:nvPr/>
          </p:nvSpPr>
          <p:spPr>
            <a:xfrm>
              <a:off x="306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33"/>
            <p:cNvSpPr/>
            <p:nvPr/>
          </p:nvSpPr>
          <p:spPr>
            <a:xfrm>
              <a:off x="342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34"/>
          <p:cNvGrpSpPr/>
          <p:nvPr/>
        </p:nvGrpSpPr>
        <p:grpSpPr>
          <a:xfrm>
            <a:off x="539640" y="2708280"/>
            <a:ext cx="3168720" cy="289080"/>
            <a:chOff x="539640" y="2708280"/>
            <a:chExt cx="3168720" cy="289080"/>
          </a:xfrm>
        </p:grpSpPr>
        <p:sp>
          <p:nvSpPr>
            <p:cNvPr id="207" name="椭圆 35"/>
            <p:cNvSpPr/>
            <p:nvPr/>
          </p:nvSpPr>
          <p:spPr>
            <a:xfrm>
              <a:off x="53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36"/>
            <p:cNvSpPr/>
            <p:nvPr/>
          </p:nvSpPr>
          <p:spPr>
            <a:xfrm>
              <a:off x="89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7"/>
            <p:cNvSpPr/>
            <p:nvPr/>
          </p:nvSpPr>
          <p:spPr>
            <a:xfrm>
              <a:off x="125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38"/>
            <p:cNvSpPr/>
            <p:nvPr/>
          </p:nvSpPr>
          <p:spPr>
            <a:xfrm>
              <a:off x="162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39"/>
            <p:cNvSpPr/>
            <p:nvPr/>
          </p:nvSpPr>
          <p:spPr>
            <a:xfrm>
              <a:off x="198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40"/>
            <p:cNvSpPr/>
            <p:nvPr/>
          </p:nvSpPr>
          <p:spPr>
            <a:xfrm>
              <a:off x="234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41"/>
            <p:cNvSpPr/>
            <p:nvPr/>
          </p:nvSpPr>
          <p:spPr>
            <a:xfrm>
              <a:off x="270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42"/>
            <p:cNvSpPr/>
            <p:nvPr/>
          </p:nvSpPr>
          <p:spPr>
            <a:xfrm>
              <a:off x="306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43"/>
            <p:cNvSpPr/>
            <p:nvPr/>
          </p:nvSpPr>
          <p:spPr>
            <a:xfrm>
              <a:off x="342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44"/>
          <p:cNvGrpSpPr/>
          <p:nvPr/>
        </p:nvGrpSpPr>
        <p:grpSpPr>
          <a:xfrm>
            <a:off x="539640" y="3137040"/>
            <a:ext cx="3168720" cy="288720"/>
            <a:chOff x="539640" y="3137040"/>
            <a:chExt cx="3168720" cy="288720"/>
          </a:xfrm>
        </p:grpSpPr>
        <p:sp>
          <p:nvSpPr>
            <p:cNvPr id="217" name="椭圆 45"/>
            <p:cNvSpPr/>
            <p:nvPr/>
          </p:nvSpPr>
          <p:spPr>
            <a:xfrm>
              <a:off x="53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46"/>
            <p:cNvSpPr/>
            <p:nvPr/>
          </p:nvSpPr>
          <p:spPr>
            <a:xfrm>
              <a:off x="89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47"/>
            <p:cNvSpPr/>
            <p:nvPr/>
          </p:nvSpPr>
          <p:spPr>
            <a:xfrm>
              <a:off x="125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48"/>
            <p:cNvSpPr/>
            <p:nvPr/>
          </p:nvSpPr>
          <p:spPr>
            <a:xfrm>
              <a:off x="162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49"/>
            <p:cNvSpPr/>
            <p:nvPr/>
          </p:nvSpPr>
          <p:spPr>
            <a:xfrm>
              <a:off x="198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50"/>
            <p:cNvSpPr/>
            <p:nvPr/>
          </p:nvSpPr>
          <p:spPr>
            <a:xfrm>
              <a:off x="234000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51"/>
            <p:cNvSpPr/>
            <p:nvPr/>
          </p:nvSpPr>
          <p:spPr>
            <a:xfrm>
              <a:off x="270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52"/>
            <p:cNvSpPr/>
            <p:nvPr/>
          </p:nvSpPr>
          <p:spPr>
            <a:xfrm>
              <a:off x="306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53"/>
            <p:cNvSpPr/>
            <p:nvPr/>
          </p:nvSpPr>
          <p:spPr>
            <a:xfrm>
              <a:off x="342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54"/>
          <p:cNvGrpSpPr/>
          <p:nvPr/>
        </p:nvGrpSpPr>
        <p:grpSpPr>
          <a:xfrm>
            <a:off x="539640" y="3500280"/>
            <a:ext cx="3168720" cy="289080"/>
            <a:chOff x="539640" y="3500280"/>
            <a:chExt cx="3168720" cy="289080"/>
          </a:xfrm>
        </p:grpSpPr>
        <p:sp>
          <p:nvSpPr>
            <p:cNvPr id="227" name="椭圆 55"/>
            <p:cNvSpPr/>
            <p:nvPr/>
          </p:nvSpPr>
          <p:spPr>
            <a:xfrm>
              <a:off x="53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56"/>
            <p:cNvSpPr/>
            <p:nvPr/>
          </p:nvSpPr>
          <p:spPr>
            <a:xfrm>
              <a:off x="89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57"/>
            <p:cNvSpPr/>
            <p:nvPr/>
          </p:nvSpPr>
          <p:spPr>
            <a:xfrm>
              <a:off x="125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58"/>
            <p:cNvSpPr/>
            <p:nvPr/>
          </p:nvSpPr>
          <p:spPr>
            <a:xfrm>
              <a:off x="162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59"/>
            <p:cNvSpPr/>
            <p:nvPr/>
          </p:nvSpPr>
          <p:spPr>
            <a:xfrm>
              <a:off x="198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60"/>
            <p:cNvSpPr/>
            <p:nvPr/>
          </p:nvSpPr>
          <p:spPr>
            <a:xfrm>
              <a:off x="234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61"/>
            <p:cNvSpPr/>
            <p:nvPr/>
          </p:nvSpPr>
          <p:spPr>
            <a:xfrm>
              <a:off x="270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62"/>
            <p:cNvSpPr/>
            <p:nvPr/>
          </p:nvSpPr>
          <p:spPr>
            <a:xfrm>
              <a:off x="306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63"/>
            <p:cNvSpPr/>
            <p:nvPr/>
          </p:nvSpPr>
          <p:spPr>
            <a:xfrm>
              <a:off x="342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64"/>
          <p:cNvSpPr/>
          <p:nvPr/>
        </p:nvSpPr>
        <p:spPr>
          <a:xfrm>
            <a:off x="53964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5"/>
          <p:cNvSpPr/>
          <p:nvPr/>
        </p:nvSpPr>
        <p:spPr>
          <a:xfrm>
            <a:off x="622440" y="4076640"/>
            <a:ext cx="215640" cy="216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6"/>
          <p:cNvSpPr/>
          <p:nvPr/>
        </p:nvSpPr>
        <p:spPr>
          <a:xfrm>
            <a:off x="75564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73"/>
          <p:cNvGrpSpPr/>
          <p:nvPr/>
        </p:nvGrpSpPr>
        <p:grpSpPr>
          <a:xfrm>
            <a:off x="1619280" y="4005360"/>
            <a:ext cx="1009800" cy="360360"/>
            <a:chOff x="1619280" y="4005360"/>
            <a:chExt cx="1009800" cy="360360"/>
          </a:xfrm>
        </p:grpSpPr>
        <p:sp>
          <p:nvSpPr>
            <p:cNvPr id="240" name="矩形 67"/>
            <p:cNvSpPr/>
            <p:nvPr/>
          </p:nvSpPr>
          <p:spPr>
            <a:xfrm>
              <a:off x="1619280" y="4005360"/>
              <a:ext cx="86580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68"/>
            <p:cNvSpPr/>
            <p:nvPr/>
          </p:nvSpPr>
          <p:spPr>
            <a:xfrm>
              <a:off x="1702080" y="4077360"/>
              <a:ext cx="216360" cy="216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69"/>
            <p:cNvSpPr/>
            <p:nvPr/>
          </p:nvSpPr>
          <p:spPr>
            <a:xfrm>
              <a:off x="1835640" y="402660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tem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70"/>
          <p:cNvSpPr/>
          <p:nvPr/>
        </p:nvSpPr>
        <p:spPr>
          <a:xfrm>
            <a:off x="270036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1"/>
          <p:cNvSpPr/>
          <p:nvPr/>
        </p:nvSpPr>
        <p:spPr>
          <a:xfrm>
            <a:off x="2782800" y="4076640"/>
            <a:ext cx="216000" cy="216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2"/>
          <p:cNvSpPr/>
          <p:nvPr/>
        </p:nvSpPr>
        <p:spPr>
          <a:xfrm>
            <a:off x="291636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74"/>
          <p:cNvSpPr/>
          <p:nvPr/>
        </p:nvSpPr>
        <p:spPr>
          <a:xfrm>
            <a:off x="539640" y="4878360"/>
            <a:ext cx="316872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5"/>
          <p:cNvSpPr/>
          <p:nvPr/>
        </p:nvSpPr>
        <p:spPr>
          <a:xfrm>
            <a:off x="1390680" y="48736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9"/>
          <p:cNvGrpSpPr/>
          <p:nvPr/>
        </p:nvGrpSpPr>
        <p:grpSpPr>
          <a:xfrm>
            <a:off x="333000" y="339840"/>
            <a:ext cx="701640" cy="699480"/>
            <a:chOff x="333000" y="339840"/>
            <a:chExt cx="701640" cy="699480"/>
          </a:xfrm>
        </p:grpSpPr>
        <p:sp>
          <p:nvSpPr>
            <p:cNvPr id="249" name="椭圆 3"/>
            <p:cNvSpPr/>
            <p:nvPr/>
          </p:nvSpPr>
          <p:spPr>
            <a:xfrm>
              <a:off x="378360" y="339840"/>
              <a:ext cx="245160" cy="23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87880" y="524880"/>
              <a:ext cx="342360" cy="267480"/>
              <a:chOff x="587880" y="524880"/>
              <a:chExt cx="342360" cy="267480"/>
            </a:xfrm>
          </p:grpSpPr>
          <p:sp>
            <p:nvSpPr>
              <p:cNvPr id="251" name="直接连接符 5"/>
              <p:cNvSpPr/>
              <p:nvPr/>
            </p:nvSpPr>
            <p:spPr>
              <a:xfrm>
                <a:off x="587880" y="524880"/>
                <a:ext cx="3423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587880" y="524880"/>
                <a:ext cx="3423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00760" y="397800"/>
              <a:ext cx="342720" cy="387720"/>
              <a:chOff x="500760" y="397800"/>
              <a:chExt cx="342720" cy="387720"/>
            </a:xfrm>
          </p:grpSpPr>
          <p:sp>
            <p:nvSpPr>
              <p:cNvPr id="254" name="直接连接符 6"/>
              <p:cNvSpPr/>
              <p:nvPr/>
            </p:nvSpPr>
            <p:spPr>
              <a:xfrm flipV="1">
                <a:off x="501120" y="397800"/>
                <a:ext cx="34236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 rot="10800000">
                <a:off x="500760" y="397800"/>
                <a:ext cx="342360" cy="38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25480" y="396720"/>
              <a:ext cx="209160" cy="168120"/>
              <a:chOff x="825480" y="396720"/>
              <a:chExt cx="209160" cy="168120"/>
            </a:xfrm>
          </p:grpSpPr>
          <p:sp>
            <p:nvSpPr>
              <p:cNvPr id="257" name="直接连接符 8"/>
              <p:cNvSpPr/>
              <p:nvPr/>
            </p:nvSpPr>
            <p:spPr>
              <a:xfrm flipH="1" flipV="1">
                <a:off x="825480" y="396720"/>
                <a:ext cx="209160" cy="16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 rot="10800000">
                <a:off x="825480" y="396720"/>
                <a:ext cx="20916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000" y="610200"/>
              <a:ext cx="209160" cy="161640"/>
              <a:chOff x="333000" y="610200"/>
              <a:chExt cx="209160" cy="161640"/>
            </a:xfrm>
          </p:grpSpPr>
          <p:sp>
            <p:nvSpPr>
              <p:cNvPr id="260" name="直接连接符 11"/>
              <p:cNvSpPr/>
              <p:nvPr/>
            </p:nvSpPr>
            <p:spPr>
              <a:xfrm flipH="1" flipV="1">
                <a:off x="333000" y="610200"/>
                <a:ext cx="209160" cy="16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333000" y="610200"/>
                <a:ext cx="209160" cy="16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58880" y="771840"/>
              <a:ext cx="148320" cy="267480"/>
              <a:chOff x="758880" y="771840"/>
              <a:chExt cx="148320" cy="267480"/>
            </a:xfrm>
          </p:grpSpPr>
          <p:sp>
            <p:nvSpPr>
              <p:cNvPr id="263" name="直接连接符 13"/>
              <p:cNvSpPr/>
              <p:nvPr/>
            </p:nvSpPr>
            <p:spPr>
              <a:xfrm flipV="1">
                <a:off x="759240" y="771840"/>
                <a:ext cx="1479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 rot="10800000">
                <a:off x="758880" y="771840"/>
                <a:ext cx="1479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44840" y="1026360"/>
              <a:ext cx="275760" cy="360"/>
              <a:chOff x="744840" y="1026360"/>
              <a:chExt cx="275760" cy="360"/>
            </a:xfrm>
          </p:grpSpPr>
          <p:sp>
            <p:nvSpPr>
              <p:cNvPr id="266" name="直接连接符 15"/>
              <p:cNvSpPr/>
              <p:nvPr/>
            </p:nvSpPr>
            <p:spPr>
              <a:xfrm>
                <a:off x="744840" y="1026360"/>
                <a:ext cx="275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744840" y="102636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Box 20"/>
          <p:cNvSpPr/>
          <p:nvPr/>
        </p:nvSpPr>
        <p:spPr>
          <a:xfrm>
            <a:off x="942840" y="5256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 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942840" y="1127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271" name="直接连接符 22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23"/>
          <p:cNvSpPr/>
          <p:nvPr/>
        </p:nvSpPr>
        <p:spPr>
          <a:xfrm>
            <a:off x="415620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4660920" y="2276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570564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9"/>
          <p:cNvGrpSpPr/>
          <p:nvPr/>
        </p:nvGrpSpPr>
        <p:grpSpPr>
          <a:xfrm>
            <a:off x="6661080" y="1700280"/>
            <a:ext cx="2016360" cy="2016000"/>
            <a:chOff x="6661080" y="1700280"/>
            <a:chExt cx="2016360" cy="2016000"/>
          </a:xfrm>
        </p:grpSpPr>
        <p:sp>
          <p:nvSpPr>
            <p:cNvPr id="277" name="椭圆 26"/>
            <p:cNvSpPr/>
            <p:nvPr/>
          </p:nvSpPr>
          <p:spPr>
            <a:xfrm>
              <a:off x="6661080" y="1700280"/>
              <a:ext cx="2016360" cy="2016000"/>
            </a:xfrm>
            <a:prstGeom prst="ellipse">
              <a:avLst/>
            </a:prstGeom>
            <a:noFill/>
            <a:ln w="25560">
              <a:solidFill>
                <a:srgbClr val="e1daa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圆角矩形 27"/>
            <p:cNvSpPr/>
            <p:nvPr/>
          </p:nvSpPr>
          <p:spPr>
            <a:xfrm>
              <a:off x="7165080" y="2931480"/>
              <a:ext cx="1080360" cy="720000"/>
            </a:xfrm>
            <a:prstGeom prst="roundRect">
              <a:avLst>
                <a:gd name="adj" fmla="val 16667"/>
              </a:avLst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28"/>
            <p:cNvSpPr/>
            <p:nvPr/>
          </p:nvSpPr>
          <p:spPr>
            <a:xfrm>
              <a:off x="7417080" y="2313720"/>
              <a:ext cx="504000" cy="4363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30"/>
          <p:cNvGrpSpPr/>
          <p:nvPr/>
        </p:nvGrpSpPr>
        <p:grpSpPr>
          <a:xfrm>
            <a:off x="758880" y="3214800"/>
            <a:ext cx="1874880" cy="1217520"/>
            <a:chOff x="758880" y="3214800"/>
            <a:chExt cx="1874880" cy="1217520"/>
          </a:xfrm>
        </p:grpSpPr>
        <p:sp>
          <p:nvSpPr>
            <p:cNvPr id="281" name="梯形 31"/>
            <p:cNvSpPr/>
            <p:nvPr/>
          </p:nvSpPr>
          <p:spPr>
            <a:xfrm>
              <a:off x="758880" y="427788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组合 32"/>
            <p:cNvGrpSpPr/>
            <p:nvPr/>
          </p:nvGrpSpPr>
          <p:grpSpPr>
            <a:xfrm>
              <a:off x="883080" y="3214800"/>
              <a:ext cx="1626120" cy="1063080"/>
              <a:chOff x="883080" y="3214800"/>
              <a:chExt cx="1626120" cy="1063080"/>
            </a:xfrm>
          </p:grpSpPr>
          <p:sp>
            <p:nvSpPr>
              <p:cNvPr id="283" name="圆角矩形 34"/>
              <p:cNvSpPr/>
              <p:nvPr/>
            </p:nvSpPr>
            <p:spPr>
              <a:xfrm>
                <a:off x="883080" y="321480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35"/>
              <p:cNvSpPr/>
              <p:nvPr/>
            </p:nvSpPr>
            <p:spPr>
              <a:xfrm>
                <a:off x="973440" y="332100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圆角矩形 33"/>
            <p:cNvSpPr/>
            <p:nvPr/>
          </p:nvSpPr>
          <p:spPr>
            <a:xfrm>
              <a:off x="1572120" y="420156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36"/>
          <p:cNvSpPr/>
          <p:nvPr/>
        </p:nvSpPr>
        <p:spPr>
          <a:xfrm>
            <a:off x="1017720" y="360684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FO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4660920" y="42991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397-6155-4D11-A7DE-C8FE7D27B0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直角三角形 3"/>
          <p:cNvSpPr/>
          <p:nvPr/>
        </p:nvSpPr>
        <p:spPr>
          <a:xfrm flipH="1">
            <a:off x="0" y="0"/>
            <a:ext cx="9129600" cy="685800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39640" y="69228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5148360" y="43052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-11160"/>
            <a:ext cx="9144000" cy="920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2195640" y="227664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82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3627360" y="2486160"/>
            <a:ext cx="5408640" cy="504720"/>
          </a:xfrm>
          <a:prstGeom prst="rect">
            <a:avLst/>
          </a:prstGeom>
          <a:noFill/>
          <a:ln w="255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3627360" y="2486160"/>
            <a:ext cx="3969000" cy="504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195640" y="357336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  <a:ea typeface="Calibri"/>
              </a:rPr>
              <a:t>5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8"/>
          <p:cNvSpPr/>
          <p:nvPr/>
        </p:nvSpPr>
        <p:spPr>
          <a:xfrm>
            <a:off x="3627360" y="3782880"/>
            <a:ext cx="5408640" cy="503280"/>
          </a:xfrm>
          <a:prstGeom prst="rect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3627360" y="3782880"/>
            <a:ext cx="2887920" cy="50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34920" y="263700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流程图: 手动操作 3"/>
          <p:cNvSpPr/>
          <p:nvPr/>
        </p:nvSpPr>
        <p:spPr>
          <a:xfrm flipV="1">
            <a:off x="0" y="0"/>
            <a:ext cx="550872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8000" y="10000"/>
                </a:lnTo>
                <a:lnTo>
                  <a:pt x="10" y="10000"/>
                </a:lnTo>
                <a:cubicBezTo>
                  <a:pt x="7" y="6667"/>
                  <a:pt x="3" y="3333"/>
                  <a:pt x="0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3060720" y="263700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5796000" y="4365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4"/>
          <p:cNvGrpSpPr/>
          <p:nvPr/>
        </p:nvGrpSpPr>
        <p:grpSpPr>
          <a:xfrm>
            <a:off x="752760" y="5229000"/>
            <a:ext cx="538560" cy="811440"/>
            <a:chOff x="752760" y="5229000"/>
            <a:chExt cx="538560" cy="811440"/>
          </a:xfrm>
        </p:grpSpPr>
        <p:grpSp>
          <p:nvGrpSpPr>
            <p:cNvPr id="304" name="组合 15"/>
            <p:cNvGrpSpPr/>
            <p:nvPr/>
          </p:nvGrpSpPr>
          <p:grpSpPr>
            <a:xfrm>
              <a:off x="752760" y="5229000"/>
              <a:ext cx="538560" cy="595800"/>
              <a:chOff x="752760" y="5229000"/>
              <a:chExt cx="538560" cy="595800"/>
            </a:xfrm>
          </p:grpSpPr>
          <p:sp>
            <p:nvSpPr>
              <p:cNvPr id="305" name="梯形 19"/>
              <p:cNvSpPr/>
              <p:nvPr/>
            </p:nvSpPr>
            <p:spPr>
              <a:xfrm rot="3175200">
                <a:off x="751320" y="5429160"/>
                <a:ext cx="498960" cy="2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20"/>
              <p:cNvSpPr/>
              <p:nvPr/>
            </p:nvSpPr>
            <p:spPr>
              <a:xfrm rot="3220200">
                <a:off x="876240" y="5422320"/>
                <a:ext cx="50076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矩形 16"/>
            <p:cNvSpPr/>
            <p:nvPr/>
          </p:nvSpPr>
          <p:spPr>
            <a:xfrm>
              <a:off x="1005480" y="5663880"/>
              <a:ext cx="45720" cy="29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 rot="5400000">
              <a:off x="990360" y="5749920"/>
              <a:ext cx="74880" cy="34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 rot="5400000">
              <a:off x="991080" y="5740920"/>
              <a:ext cx="74880" cy="52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24"/>
          <p:cNvSpPr/>
          <p:nvPr/>
        </p:nvSpPr>
        <p:spPr>
          <a:xfrm rot="19566000">
            <a:off x="88920" y="1631520"/>
            <a:ext cx="9575640" cy="1395360"/>
          </a:xfrm>
          <a:custGeom>
            <a:avLst/>
            <a:gdLst/>
            <a:ahLst/>
            <a:rect l="l" t="t" r="r" b="b"/>
            <a:pathLst>
              <a:path w="9509923" h="1556211">
                <a:moveTo>
                  <a:pt x="0" y="1051967"/>
                </a:moveTo>
                <a:lnTo>
                  <a:pt x="7883522" y="0"/>
                </a:lnTo>
                <a:lnTo>
                  <a:pt x="9509923" y="1256066"/>
                </a:lnTo>
                <a:lnTo>
                  <a:pt x="0" y="1556211"/>
                </a:lnTo>
                <a:lnTo>
                  <a:pt x="0" y="1051967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1116000" y="404640"/>
            <a:ext cx="6912000" cy="935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 ADD TITLE 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5"/>
          <p:cNvGrpSpPr/>
          <p:nvPr/>
        </p:nvGrpSpPr>
        <p:grpSpPr>
          <a:xfrm>
            <a:off x="1393920" y="1844640"/>
            <a:ext cx="6638760" cy="3340080"/>
            <a:chOff x="1393920" y="1844640"/>
            <a:chExt cx="6638760" cy="3340080"/>
          </a:xfrm>
        </p:grpSpPr>
        <p:grpSp>
          <p:nvGrpSpPr>
            <p:cNvPr id="313" name="组合 27"/>
            <p:cNvGrpSpPr/>
            <p:nvPr/>
          </p:nvGrpSpPr>
          <p:grpSpPr>
            <a:xfrm>
              <a:off x="1393920" y="1844640"/>
              <a:ext cx="6638760" cy="2084400"/>
              <a:chOff x="1393920" y="1844640"/>
              <a:chExt cx="6638760" cy="2084400"/>
            </a:xfrm>
          </p:grpSpPr>
          <p:grpSp>
            <p:nvGrpSpPr>
              <p:cNvPr id="314" name="组合 16"/>
              <p:cNvGrpSpPr/>
              <p:nvPr/>
            </p:nvGrpSpPr>
            <p:grpSpPr>
              <a:xfrm>
                <a:off x="1393920" y="1844640"/>
                <a:ext cx="6638760" cy="1476000"/>
                <a:chOff x="1393920" y="1844640"/>
                <a:chExt cx="6638760" cy="1476000"/>
              </a:xfrm>
            </p:grpSpPr>
            <p:sp>
              <p:nvSpPr>
                <p:cNvPr id="315" name="椭圆 4"/>
                <p:cNvSpPr/>
                <p:nvPr/>
              </p:nvSpPr>
              <p:spPr>
                <a:xfrm>
                  <a:off x="1393920" y="184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1568520" y="2052000"/>
                  <a:ext cx="1980000" cy="1160640"/>
                  <a:chOff x="1568520" y="2052000"/>
                  <a:chExt cx="1980000" cy="1160640"/>
                </a:xfrm>
              </p:grpSpPr>
              <p:sp>
                <p:nvSpPr>
                  <p:cNvPr id="317" name="直接连接符 6"/>
                  <p:cNvSpPr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 txBox="1"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椭圆 8"/>
                <p:cNvSpPr/>
                <p:nvPr/>
              </p:nvSpPr>
              <p:spPr>
                <a:xfrm>
                  <a:off x="3440880" y="310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3548880" y="2348640"/>
                  <a:ext cx="2102400" cy="864000"/>
                  <a:chOff x="3548880" y="2348640"/>
                  <a:chExt cx="2102400" cy="864000"/>
                </a:xfrm>
              </p:grpSpPr>
              <p:sp>
                <p:nvSpPr>
                  <p:cNvPr id="321" name="直接连接符 9"/>
                  <p:cNvSpPr/>
                  <p:nvPr/>
                </p:nvSpPr>
                <p:spPr>
                  <a:xfrm flipV="1">
                    <a:off x="3548880" y="2348640"/>
                    <a:ext cx="2102400" cy="864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 rot="10800000">
                    <a:off x="3548880" y="2348640"/>
                    <a:ext cx="2102400" cy="86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椭圆 12"/>
                <p:cNvSpPr/>
                <p:nvPr/>
              </p:nvSpPr>
              <p:spPr>
                <a:xfrm>
                  <a:off x="5543640" y="2240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5651640" y="2348640"/>
                  <a:ext cx="2232000" cy="756000"/>
                  <a:chOff x="5651640" y="2348640"/>
                  <a:chExt cx="2232000" cy="756000"/>
                </a:xfrm>
              </p:grpSpPr>
              <p:sp>
                <p:nvSpPr>
                  <p:cNvPr id="325" name="直接连接符 13"/>
                  <p:cNvSpPr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椭圆 15"/>
                <p:cNvSpPr/>
                <p:nvPr/>
              </p:nvSpPr>
              <p:spPr>
                <a:xfrm>
                  <a:off x="7816680" y="301320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椭圆 18"/>
              <p:cNvSpPr/>
              <p:nvPr/>
            </p:nvSpPr>
            <p:spPr>
              <a:xfrm>
                <a:off x="1393920" y="2216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568520" y="2423520"/>
                <a:ext cx="1980000" cy="1397520"/>
                <a:chOff x="1568520" y="2423520"/>
                <a:chExt cx="1980000" cy="1397520"/>
              </a:xfrm>
            </p:grpSpPr>
            <p:sp>
              <p:nvSpPr>
                <p:cNvPr id="330" name="直接连接符 19"/>
                <p:cNvSpPr/>
                <p:nvPr/>
              </p:nvSpPr>
              <p:spPr>
                <a:xfrm>
                  <a:off x="1568520" y="2423520"/>
                  <a:ext cx="1980000" cy="139752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1568520" y="2423520"/>
                  <a:ext cx="1980000" cy="139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椭圆 20"/>
              <p:cNvSpPr/>
              <p:nvPr/>
            </p:nvSpPr>
            <p:spPr>
              <a:xfrm>
                <a:off x="3440880" y="371304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548880" y="2720160"/>
                <a:ext cx="2102400" cy="1100880"/>
                <a:chOff x="3548880" y="2720160"/>
                <a:chExt cx="2102400" cy="1100880"/>
              </a:xfrm>
            </p:grpSpPr>
            <p:sp>
              <p:nvSpPr>
                <p:cNvPr id="334" name="直接连接符 21"/>
                <p:cNvSpPr/>
                <p:nvPr/>
              </p:nvSpPr>
              <p:spPr>
                <a:xfrm flipV="1">
                  <a:off x="3548880" y="2720160"/>
                  <a:ext cx="2102400" cy="110088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 rot="10800000">
                  <a:off x="3548880" y="2720160"/>
                  <a:ext cx="2102400" cy="11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椭圆 22"/>
              <p:cNvSpPr/>
              <p:nvPr/>
            </p:nvSpPr>
            <p:spPr>
              <a:xfrm>
                <a:off x="5543640" y="2612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5651640" y="2720160"/>
                <a:ext cx="2232000" cy="756000"/>
                <a:chOff x="5651640" y="2720160"/>
                <a:chExt cx="2232000" cy="756000"/>
              </a:xfrm>
            </p:grpSpPr>
            <p:sp>
              <p:nvSpPr>
                <p:cNvPr id="338" name="直接连接符 23"/>
                <p:cNvSpPr/>
                <p:nvPr/>
              </p:nvSpPr>
              <p:spPr>
                <a:xfrm>
                  <a:off x="5651640" y="2720160"/>
                  <a:ext cx="2232000" cy="75600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>
                  <a:off x="5651640" y="2720160"/>
                  <a:ext cx="2232000" cy="75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椭圆 24"/>
              <p:cNvSpPr/>
              <p:nvPr/>
            </p:nvSpPr>
            <p:spPr>
              <a:xfrm>
                <a:off x="7816680" y="338508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548880" y="3324600"/>
              <a:ext cx="360" cy="388080"/>
              <a:chOff x="3548880" y="3324600"/>
              <a:chExt cx="360" cy="388080"/>
            </a:xfrm>
          </p:grpSpPr>
          <p:sp>
            <p:nvSpPr>
              <p:cNvPr id="342" name="直接连接符 29"/>
              <p:cNvSpPr/>
              <p:nvPr/>
            </p:nvSpPr>
            <p:spPr>
              <a:xfrm>
                <a:off x="3548880" y="3324600"/>
                <a:ext cx="0" cy="3880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3548880" y="3324600"/>
                <a:ext cx="360" cy="38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51640" y="2438280"/>
              <a:ext cx="360" cy="173880"/>
              <a:chOff x="5651640" y="2438280"/>
              <a:chExt cx="360" cy="173880"/>
            </a:xfrm>
          </p:grpSpPr>
          <p:sp>
            <p:nvSpPr>
              <p:cNvPr id="345" name="直接连接符 31"/>
              <p:cNvSpPr/>
              <p:nvPr/>
            </p:nvSpPr>
            <p:spPr>
              <a:xfrm>
                <a:off x="5651640" y="243828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5651640" y="243828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30440" y="3198960"/>
              <a:ext cx="360" cy="173880"/>
              <a:chOff x="7930440" y="3198960"/>
              <a:chExt cx="360" cy="173880"/>
            </a:xfrm>
          </p:grpSpPr>
          <p:sp>
            <p:nvSpPr>
              <p:cNvPr id="348" name="直接连接符 33"/>
              <p:cNvSpPr/>
              <p:nvPr/>
            </p:nvSpPr>
            <p:spPr>
              <a:xfrm>
                <a:off x="7930440" y="319896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7930440" y="319896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501920" y="2066400"/>
              <a:ext cx="360" cy="173880"/>
              <a:chOff x="1501920" y="2066400"/>
              <a:chExt cx="360" cy="173880"/>
            </a:xfrm>
          </p:grpSpPr>
          <p:sp>
            <p:nvSpPr>
              <p:cNvPr id="351" name="直接连接符 34"/>
              <p:cNvSpPr/>
              <p:nvPr/>
            </p:nvSpPr>
            <p:spPr>
              <a:xfrm>
                <a:off x="1501920" y="206640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1501920" y="206640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01920" y="3286080"/>
              <a:ext cx="360" cy="718560"/>
              <a:chOff x="1501920" y="3286080"/>
              <a:chExt cx="360" cy="718560"/>
            </a:xfrm>
          </p:grpSpPr>
          <p:sp>
            <p:nvSpPr>
              <p:cNvPr id="354" name="直接连接符 36"/>
              <p:cNvSpPr/>
              <p:nvPr/>
            </p:nvSpPr>
            <p:spPr>
              <a:xfrm>
                <a:off x="1501920" y="328608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1501920" y="328608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548880" y="4466160"/>
              <a:ext cx="360" cy="718560"/>
              <a:chOff x="3548880" y="4466160"/>
              <a:chExt cx="360" cy="718560"/>
            </a:xfrm>
          </p:grpSpPr>
          <p:sp>
            <p:nvSpPr>
              <p:cNvPr id="357" name="直接连接符 67"/>
              <p:cNvSpPr/>
              <p:nvPr/>
            </p:nvSpPr>
            <p:spPr>
              <a:xfrm>
                <a:off x="3548880" y="44661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3548880" y="44661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651640" y="3373200"/>
              <a:ext cx="360" cy="718560"/>
              <a:chOff x="5651640" y="3373200"/>
              <a:chExt cx="360" cy="718560"/>
            </a:xfrm>
          </p:grpSpPr>
          <p:sp>
            <p:nvSpPr>
              <p:cNvPr id="360" name="直接连接符 69"/>
              <p:cNvSpPr/>
              <p:nvPr/>
            </p:nvSpPr>
            <p:spPr>
              <a:xfrm>
                <a:off x="5651640" y="337320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5651640" y="337320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930440" y="4091760"/>
              <a:ext cx="360" cy="718560"/>
              <a:chOff x="7930440" y="4091760"/>
              <a:chExt cx="360" cy="718560"/>
            </a:xfrm>
          </p:grpSpPr>
          <p:sp>
            <p:nvSpPr>
              <p:cNvPr id="363" name="直接连接符 94"/>
              <p:cNvSpPr/>
              <p:nvPr/>
            </p:nvSpPr>
            <p:spPr>
              <a:xfrm>
                <a:off x="7930440" y="40917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930440" y="40917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TextBox 38"/>
          <p:cNvSpPr/>
          <p:nvPr/>
        </p:nvSpPr>
        <p:spPr>
          <a:xfrm>
            <a:off x="1177920" y="1482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6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9"/>
          <p:cNvSpPr/>
          <p:nvPr/>
        </p:nvSpPr>
        <p:spPr>
          <a:xfrm>
            <a:off x="1136520" y="2825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3117960" y="2549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31179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2"/>
          <p:cNvSpPr/>
          <p:nvPr/>
        </p:nvSpPr>
        <p:spPr>
          <a:xfrm>
            <a:off x="5219640" y="17226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3"/>
          <p:cNvSpPr/>
          <p:nvPr/>
        </p:nvSpPr>
        <p:spPr>
          <a:xfrm>
            <a:off x="7493040" y="2401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4"/>
          <p:cNvSpPr/>
          <p:nvPr/>
        </p:nvSpPr>
        <p:spPr>
          <a:xfrm>
            <a:off x="7493040" y="3692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8"/>
          <p:cNvSpPr/>
          <p:nvPr/>
        </p:nvSpPr>
        <p:spPr>
          <a:xfrm>
            <a:off x="5234040" y="2981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95"/>
          <p:cNvSpPr/>
          <p:nvPr/>
        </p:nvSpPr>
        <p:spPr>
          <a:xfrm>
            <a:off x="3162240" y="508464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96"/>
          <p:cNvSpPr/>
          <p:nvPr/>
        </p:nvSpPr>
        <p:spPr>
          <a:xfrm>
            <a:off x="7537320" y="447516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97"/>
          <p:cNvSpPr/>
          <p:nvPr/>
        </p:nvSpPr>
        <p:spPr>
          <a:xfrm>
            <a:off x="5276880" y="3868560"/>
            <a:ext cx="777960" cy="72108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98"/>
          <p:cNvSpPr/>
          <p:nvPr/>
        </p:nvSpPr>
        <p:spPr>
          <a:xfrm>
            <a:off x="1114560" y="3821040"/>
            <a:ext cx="777600" cy="72072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196"/>
          <p:cNvSpPr/>
          <p:nvPr/>
        </p:nvSpPr>
        <p:spPr>
          <a:xfrm>
            <a:off x="1476360" y="404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8:5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4-03-31T09:18:00Z</cp:lastPrinted>
  <dcterms:modified xsi:type="dcterms:W3CDTF">2015-12-12T07:16:19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