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290-617E-47FD-8BF4-96CAA6C1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045-4B46-46FC-98F1-FEB7407D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C94-931B-4366-A4F6-78AC14C4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C58-66E8-4CFC-8A53-7381C2D0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347-F2AC-4A40-B240-866B80B4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43B-E633-4899-9FE1-EA1A4EA6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BB1-6A7D-42D5-9A16-B0056CE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BC4-2678-4A00-9315-B88DAC36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FE6-B1FE-4130-9B0E-DF2F09E5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56F-ECAB-439A-91AA-6E89B1E3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1E3-24C9-42E1-9E38-ADBCB805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E67-5E79-4394-87B0-0D36179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665E-D161-457A-83D8-2657879A6D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097"/>
          <p:cNvSpPr/>
          <p:nvPr/>
        </p:nvSpPr>
        <p:spPr>
          <a:xfrm>
            <a:off x="4991400" y="21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098"/>
          <p:cNvSpPr/>
          <p:nvPr/>
        </p:nvSpPr>
        <p:spPr>
          <a:xfrm>
            <a:off x="5063040" y="371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099"/>
          <p:cNvSpPr/>
          <p:nvPr/>
        </p:nvSpPr>
        <p:spPr>
          <a:xfrm>
            <a:off x="523764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3"/>
          <p:cNvSpPr/>
          <p:nvPr/>
        </p:nvSpPr>
        <p:spPr>
          <a:xfrm>
            <a:off x="2124000" y="549360"/>
            <a:ext cx="690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可爱卡通玩偶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5121"/>
          <p:cNvSpPr/>
          <p:nvPr/>
        </p:nvSpPr>
        <p:spPr>
          <a:xfrm>
            <a:off x="1463400" y="38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122"/>
          <p:cNvSpPr/>
          <p:nvPr/>
        </p:nvSpPr>
        <p:spPr>
          <a:xfrm>
            <a:off x="4127400" y="392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3"/>
          <p:cNvSpPr/>
          <p:nvPr/>
        </p:nvSpPr>
        <p:spPr>
          <a:xfrm>
            <a:off x="6721200" y="39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1B84-3DAE-4EFE-91C8-FDE1675B53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6145"/>
          <p:cNvSpPr/>
          <p:nvPr/>
        </p:nvSpPr>
        <p:spPr>
          <a:xfrm>
            <a:off x="3624120" y="256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46"/>
          <p:cNvSpPr/>
          <p:nvPr/>
        </p:nvSpPr>
        <p:spPr>
          <a:xfrm>
            <a:off x="35524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147"/>
          <p:cNvSpPr/>
          <p:nvPr/>
        </p:nvSpPr>
        <p:spPr>
          <a:xfrm>
            <a:off x="3552480" y="4076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5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