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552-4712-48A1-A899-748D6C84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601-9AB7-47A8-B00C-5871A9F8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520-ED29-4CB3-AFFC-553C0730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2B9-1AD5-4B55-9CB9-24D03E37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EEA2-3156-45FB-ADD3-FCE5165B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F01B-6DF6-453A-894B-7E8F15B2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C3FD-E09E-49CC-AA6B-C16A94BE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05C6-9A80-45BA-88F7-8882F78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3D30-1DF0-4749-A699-608AA2E9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70D0-C491-420A-84BB-8499D5DE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24C5-CD37-44D6-905B-A52EF2B1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358-F813-4EA2-AEE8-7938344D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4D81-0162-4A25-A716-7307403E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E7A5-C249-43C8-B293-F9ACEFB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EF2B-8CC9-461C-8DBD-47D85F84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C9A2-182E-4FDA-81AC-A36CB679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1F8A-1921-4860-9C5F-A1E7C46D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4AF-BB98-42F8-BD97-169DE875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DB4-7777-4A91-A1C1-9D14C1BC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76D-28F7-4038-9FDC-147C3BB2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131-1F3B-44EF-A241-FC6BB3DD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E53-3A47-4AB5-96E1-1BC06219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346-DC3E-42FA-B393-FF504492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A0F-4998-42DC-AE91-A013785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BAA4-59F0-4590-8653-AE60F670DB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C297-8A38-4C1D-B4CB-3FF4C35A006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A957-E7A2-4F87-8926-625B50577A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6500880" y="412920"/>
            <a:ext cx="25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康少女文字W5"/>
                <a:ea typeface="华康少女文字W5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3569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3569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356904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3640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611280" y="1917720"/>
            <a:ext cx="79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摩丝娃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1420920" y="357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康少女文字W5"/>
                <a:ea typeface="华康少女文字W5"/>
              </a:rPr>
              <a:t>添加文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283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9980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3140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50695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B295-66DA-456A-8453-E57EC5E1C2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542664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1492560" y="4287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康少女文字W5"/>
                <a:ea typeface="华康少女文字W5"/>
              </a:rPr>
              <a:t>添加文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355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58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