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C07EC-EDB0-46D8-92D0-70D86C2DC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51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D1E41-7B14-4390-A1C2-DEDB33076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EFD4A-0DC7-4FF5-9B03-0D6A75758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366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366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51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51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51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528F5-FB39-41E4-A024-819E07BA0C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2D7E8-2BD0-400E-8445-62EA33DE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97FB8-5289-4F17-8EB3-481ED442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66B9B-EF6C-4191-BC51-10FE1AB3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8E9C8-4698-4E28-B1FC-87D1B095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9280E-4127-4C7A-9467-E47FE751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DB282-7B4D-4766-A368-1617343A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60E74-53B7-4F2F-A3D8-D6EDC1AF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9213C-0627-4B72-BD8B-84B7BFB927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21318-6B28-4AA6-9C46-9829F2D9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51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873DF-D62F-4333-B699-8E6C6D96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51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EF55F-89E8-4A61-A94C-B1618F81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2E067-B15F-4FD9-9279-2FBEAFDB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366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366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51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51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51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A482F-EC02-4F1B-A8F5-5AF8F5FD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24E1F-27FC-4FBB-ADD1-B42485D8FE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51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51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366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366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51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51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51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EFE48-D54C-4316-B031-A75D82E904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20E2C-E5F0-44AF-B5FE-19745CE37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26A03-7DAC-4F2D-907E-08877475D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3538C-D0DA-491A-B345-C4EE71764C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7F545-D034-4350-9DF8-018D88765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51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9F4C4-F9EF-44B8-9DCD-7B4485F36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对象 1038" descr=""/>
          <p:cNvPicPr/>
          <p:nvPr/>
        </p:nvPicPr>
        <p:blipFill>
          <a:blip r:embed="rId2"/>
          <a:stretch/>
        </p:blipFill>
        <p:spPr>
          <a:xfrm>
            <a:off x="38160" y="81000"/>
            <a:ext cx="9037440" cy="1109520"/>
          </a:xfrm>
          <a:prstGeom prst="rect">
            <a:avLst/>
          </a:prstGeom>
          <a:ln w="0">
            <a:noFill/>
          </a:ln>
        </p:spPr>
      </p:pic>
      <p:sp>
        <p:nvSpPr>
          <p:cNvPr id="1" name="矩形 1039"/>
          <p:cNvSpPr/>
          <p:nvPr/>
        </p:nvSpPr>
        <p:spPr>
          <a:xfrm>
            <a:off x="0" y="6453360"/>
            <a:ext cx="9129600" cy="404640"/>
          </a:xfrm>
          <a:prstGeom prst="rect">
            <a:avLst/>
          </a:prstGeom>
          <a:solidFill>
            <a:srgbClr val="1d7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63244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509760" y="6443640"/>
            <a:ext cx="9144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BA24-F22D-4E67-83C9-D31275952258}" type="slidenum"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组合 1040"/>
          <p:cNvGrpSpPr/>
          <p:nvPr/>
        </p:nvGrpSpPr>
        <p:grpSpPr>
          <a:xfrm>
            <a:off x="-15840" y="0"/>
            <a:ext cx="9165960" cy="6859440"/>
            <a:chOff x="-15840" y="0"/>
            <a:chExt cx="9165960" cy="6859440"/>
          </a:xfrm>
        </p:grpSpPr>
        <p:sp>
          <p:nvSpPr>
            <p:cNvPr id="6" name="圆角矩形 1041"/>
            <p:cNvSpPr/>
            <p:nvPr/>
          </p:nvSpPr>
          <p:spPr>
            <a:xfrm>
              <a:off x="27000" y="38160"/>
              <a:ext cx="908316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" name="任意多边形 1042"/>
            <p:cNvSpPr/>
            <p:nvPr/>
          </p:nvSpPr>
          <p:spPr>
            <a:xfrm>
              <a:off x="-15840" y="0"/>
              <a:ext cx="45792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任意多边形 1043"/>
            <p:cNvSpPr/>
            <p:nvPr/>
          </p:nvSpPr>
          <p:spPr>
            <a:xfrm>
              <a:off x="-7560" y="6326280"/>
              <a:ext cx="38772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任意多边形 1044"/>
            <p:cNvSpPr/>
            <p:nvPr/>
          </p:nvSpPr>
          <p:spPr>
            <a:xfrm>
              <a:off x="8748000" y="6396120"/>
              <a:ext cx="40212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任意多边形 1045"/>
            <p:cNvSpPr/>
            <p:nvPr/>
          </p:nvSpPr>
          <p:spPr>
            <a:xfrm>
              <a:off x="8685720" y="0"/>
              <a:ext cx="45792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" name="矩形 1046"/>
          <p:cNvSpPr/>
          <p:nvPr/>
        </p:nvSpPr>
        <p:spPr>
          <a:xfrm>
            <a:off x="100080" y="1198440"/>
            <a:ext cx="8948520" cy="100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3AF3-05DE-4CB2-914F-E7C5F480B6F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B625-3B37-49C9-95A1-3327660DEC8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3085"/>
          <p:cNvSpPr/>
          <p:nvPr/>
        </p:nvSpPr>
        <p:spPr>
          <a:xfrm>
            <a:off x="7226280" y="5958000"/>
            <a:ext cx="15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Verdana"/>
                <a:ea typeface="Arial"/>
              </a:rPr>
              <a:t>LOG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矩形 3088"/>
          <p:cNvSpPr/>
          <p:nvPr/>
        </p:nvSpPr>
        <p:spPr>
          <a:xfrm>
            <a:off x="57240" y="28440"/>
            <a:ext cx="6276960" cy="2257560"/>
          </a:xfrm>
          <a:prstGeom prst="rect">
            <a:avLst/>
          </a:prstGeom>
          <a:solidFill>
            <a:srgbClr val="1d7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2" name="组合 3089"/>
          <p:cNvGrpSpPr/>
          <p:nvPr/>
        </p:nvGrpSpPr>
        <p:grpSpPr>
          <a:xfrm>
            <a:off x="-15840" y="0"/>
            <a:ext cx="9165960" cy="6859440"/>
            <a:chOff x="-15840" y="0"/>
            <a:chExt cx="9165960" cy="6859440"/>
          </a:xfrm>
        </p:grpSpPr>
        <p:sp>
          <p:nvSpPr>
            <p:cNvPr id="93" name="圆角矩形 3090"/>
            <p:cNvSpPr/>
            <p:nvPr/>
          </p:nvSpPr>
          <p:spPr>
            <a:xfrm>
              <a:off x="27000" y="38160"/>
              <a:ext cx="908316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" name="任意多边形 3091"/>
            <p:cNvSpPr/>
            <p:nvPr/>
          </p:nvSpPr>
          <p:spPr>
            <a:xfrm>
              <a:off x="-15840" y="0"/>
              <a:ext cx="45792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" name="任意多边形 3092"/>
            <p:cNvSpPr/>
            <p:nvPr/>
          </p:nvSpPr>
          <p:spPr>
            <a:xfrm>
              <a:off x="-7560" y="6326280"/>
              <a:ext cx="38772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" name="任意多边形 3093"/>
            <p:cNvSpPr/>
            <p:nvPr/>
          </p:nvSpPr>
          <p:spPr>
            <a:xfrm>
              <a:off x="8748000" y="6396120"/>
              <a:ext cx="40212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" name="任意多边形 3094"/>
            <p:cNvSpPr/>
            <p:nvPr/>
          </p:nvSpPr>
          <p:spPr>
            <a:xfrm>
              <a:off x="8685720" y="0"/>
              <a:ext cx="45792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213920"/>
            <a:ext cx="761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科技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工作幻灯片在在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66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66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圆角矩形 87041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圆角矩形 87042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圆角矩形 87043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燕尾形 87045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9" y="0"/>
                </a:lnTo>
                <a:lnTo>
                  <a:pt x="21600" y="10800"/>
                </a:lnTo>
                <a:lnTo>
                  <a:pt x="10259" y="21600"/>
                </a:lnTo>
                <a:lnTo>
                  <a:pt x="0" y="21600"/>
                </a:lnTo>
                <a:lnTo>
                  <a:pt x="11341" y="10800"/>
                </a:lnTo>
                <a:close/>
              </a:path>
            </a:pathLst>
          </a:custGeom>
          <a:solidFill>
            <a:srgbClr val="189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燕尾形 87046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9" y="0"/>
                </a:lnTo>
                <a:lnTo>
                  <a:pt x="21600" y="10800"/>
                </a:lnTo>
                <a:lnTo>
                  <a:pt x="10259" y="21600"/>
                </a:lnTo>
                <a:lnTo>
                  <a:pt x="0" y="21600"/>
                </a:lnTo>
                <a:lnTo>
                  <a:pt x="11341" y="10800"/>
                </a:lnTo>
                <a:close/>
              </a:path>
            </a:pathLst>
          </a:custGeom>
          <a:solidFill>
            <a:srgbClr val="5aa5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椭圆 87047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a5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椭圆 8704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5aa5de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椭圆 87049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15978"/>
              </a:gs>
              <a:gs pos="50000">
                <a:srgbClr val="5aa5de"/>
              </a:gs>
              <a:gs pos="100000">
                <a:srgbClr val="3159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椭圆 87050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9698d"/>
              </a:gs>
              <a:gs pos="100000">
                <a:srgbClr val="5aa5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椭圆 87051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椭圆 87052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885a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椭圆 8705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885a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椭圆 87054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24858"/>
              </a:gs>
              <a:gs pos="50000">
                <a:srgbClr val="9885a3"/>
              </a:gs>
              <a:gs pos="100000">
                <a:srgbClr val="52485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椭圆 87055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615468"/>
              </a:gs>
              <a:gs pos="100000">
                <a:srgbClr val="9885a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椭圆 87056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18" name="组合 87057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319" name="椭圆 87058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0" name="椭圆 87059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1" name="椭圆 87060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2" name="椭圆 87061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23" name="椭圆 87062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189e8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椭圆 8706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189e8e">
                  <a:alpha val="32156"/>
                </a:srgbClr>
              </a:gs>
              <a:gs pos="100000">
                <a:srgbClr val="0b494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椭圆 87064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0d564d"/>
              </a:gs>
              <a:gs pos="50000">
                <a:srgbClr val="189e8e"/>
              </a:gs>
              <a:gs pos="100000">
                <a:srgbClr val="0d564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椭圆 87065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0f645a"/>
              </a:gs>
              <a:gs pos="100000">
                <a:srgbClr val="189e8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椭圆 87066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28" name="组合 87067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329" name="椭圆 87068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0" name="椭圆 87069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1" name="椭圆 87070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2" name="椭圆 87071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33" name="组合 87072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34" name="椭圆 87073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5" name="椭圆 87074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6" name="椭圆 87075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7" name="椭圆 87076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38" name="文本框 87077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文本框 87078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文本框 87079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任意多边形 92162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aa5de"/>
              </a:gs>
              <a:gs pos="100000">
                <a:srgbClr val="189e8e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文本框 92191"/>
          <p:cNvSpPr/>
          <p:nvPr/>
        </p:nvSpPr>
        <p:spPr>
          <a:xfrm>
            <a:off x="594360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Add Your Tit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椭圆 92193"/>
          <p:cNvSpPr/>
          <p:nvPr/>
        </p:nvSpPr>
        <p:spPr>
          <a:xfrm rot="20876400">
            <a:off x="35449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椭圆 92194"/>
          <p:cNvSpPr/>
          <p:nvPr/>
        </p:nvSpPr>
        <p:spPr>
          <a:xfrm>
            <a:off x="34765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椭圆 92195"/>
          <p:cNvSpPr/>
          <p:nvPr/>
        </p:nvSpPr>
        <p:spPr>
          <a:xfrm>
            <a:off x="34974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椭圆 92196"/>
          <p:cNvSpPr/>
          <p:nvPr/>
        </p:nvSpPr>
        <p:spPr>
          <a:xfrm>
            <a:off x="35146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椭圆 92197"/>
          <p:cNvSpPr/>
          <p:nvPr/>
        </p:nvSpPr>
        <p:spPr>
          <a:xfrm>
            <a:off x="36068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文本框 92198"/>
          <p:cNvSpPr/>
          <p:nvPr/>
        </p:nvSpPr>
        <p:spPr>
          <a:xfrm>
            <a:off x="38944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椭圆 92199"/>
          <p:cNvSpPr/>
          <p:nvPr/>
        </p:nvSpPr>
        <p:spPr>
          <a:xfrm rot="20826600">
            <a:off x="17017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1" name="组合 92200"/>
          <p:cNvGrpSpPr/>
          <p:nvPr/>
        </p:nvGrpSpPr>
        <p:grpSpPr>
          <a:xfrm>
            <a:off x="1625760" y="3371760"/>
            <a:ext cx="1371240" cy="1441080"/>
            <a:chOff x="1625760" y="3371760"/>
            <a:chExt cx="1371240" cy="1441080"/>
          </a:xfrm>
        </p:grpSpPr>
        <p:sp>
          <p:nvSpPr>
            <p:cNvPr id="352" name="椭圆 92201"/>
            <p:cNvSpPr/>
            <p:nvPr/>
          </p:nvSpPr>
          <p:spPr>
            <a:xfrm>
              <a:off x="16257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3" name="椭圆 92202"/>
            <p:cNvSpPr/>
            <p:nvPr/>
          </p:nvSpPr>
          <p:spPr>
            <a:xfrm>
              <a:off x="16434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4" name="椭圆 92203"/>
            <p:cNvSpPr/>
            <p:nvPr/>
          </p:nvSpPr>
          <p:spPr>
            <a:xfrm>
              <a:off x="16567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5" name="椭圆 92204"/>
            <p:cNvSpPr/>
            <p:nvPr/>
          </p:nvSpPr>
          <p:spPr>
            <a:xfrm>
              <a:off x="17283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6" name="文本框 92205"/>
            <p:cNvSpPr/>
            <p:nvPr/>
          </p:nvSpPr>
          <p:spPr>
            <a:xfrm>
              <a:off x="19062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57" name="椭圆 92206"/>
          <p:cNvSpPr/>
          <p:nvPr/>
        </p:nvSpPr>
        <p:spPr>
          <a:xfrm>
            <a:off x="15238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椭圆 92207"/>
          <p:cNvSpPr/>
          <p:nvPr/>
        </p:nvSpPr>
        <p:spPr>
          <a:xfrm>
            <a:off x="16002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椭圆 92208"/>
          <p:cNvSpPr/>
          <p:nvPr/>
        </p:nvSpPr>
        <p:spPr>
          <a:xfrm>
            <a:off x="16128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0" name="椭圆 92209"/>
          <p:cNvSpPr/>
          <p:nvPr/>
        </p:nvSpPr>
        <p:spPr>
          <a:xfrm>
            <a:off x="16239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椭圆 92210"/>
          <p:cNvSpPr/>
          <p:nvPr/>
        </p:nvSpPr>
        <p:spPr>
          <a:xfrm>
            <a:off x="16779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文本框 92211"/>
          <p:cNvSpPr/>
          <p:nvPr/>
        </p:nvSpPr>
        <p:spPr>
          <a:xfrm>
            <a:off x="17971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椭圆 92212"/>
          <p:cNvSpPr/>
          <p:nvPr/>
        </p:nvSpPr>
        <p:spPr>
          <a:xfrm>
            <a:off x="27907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椭圆 92213"/>
          <p:cNvSpPr/>
          <p:nvPr/>
        </p:nvSpPr>
        <p:spPr>
          <a:xfrm>
            <a:off x="29131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椭圆 92214"/>
          <p:cNvSpPr/>
          <p:nvPr/>
        </p:nvSpPr>
        <p:spPr>
          <a:xfrm>
            <a:off x="29224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椭圆 92215"/>
          <p:cNvSpPr/>
          <p:nvPr/>
        </p:nvSpPr>
        <p:spPr>
          <a:xfrm>
            <a:off x="29289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椭圆 92216"/>
          <p:cNvSpPr/>
          <p:nvPr/>
        </p:nvSpPr>
        <p:spPr>
          <a:xfrm>
            <a:off x="29653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8" name="文本框 92217"/>
          <p:cNvSpPr/>
          <p:nvPr/>
        </p:nvSpPr>
        <p:spPr>
          <a:xfrm>
            <a:off x="29833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文本框 8198"/>
          <p:cNvSpPr/>
          <p:nvPr/>
        </p:nvSpPr>
        <p:spPr>
          <a:xfrm>
            <a:off x="762120" y="129528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aa5de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5aa5de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1" name="组合 88066"/>
          <p:cNvGrpSpPr/>
          <p:nvPr/>
        </p:nvGrpSpPr>
        <p:grpSpPr>
          <a:xfrm>
            <a:off x="685800" y="1523880"/>
            <a:ext cx="7772040" cy="4329000"/>
            <a:chOff x="685800" y="1523880"/>
            <a:chExt cx="7772040" cy="4329000"/>
          </a:xfrm>
        </p:grpSpPr>
        <p:sp>
          <p:nvSpPr>
            <p:cNvPr id="372" name="椭圆 88067"/>
            <p:cNvSpPr/>
            <p:nvPr/>
          </p:nvSpPr>
          <p:spPr>
            <a:xfrm>
              <a:off x="2664360" y="2211120"/>
              <a:ext cx="3744720" cy="3641760"/>
            </a:xfrm>
            <a:prstGeom prst="ellipse">
              <a:avLst/>
            </a:prstGeom>
            <a:gradFill rotWithShape="0">
              <a:gsLst>
                <a:gs pos="0">
                  <a:srgbClr val="5aa5de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5aa5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73" name="组合 88068"/>
            <p:cNvGrpSpPr/>
            <p:nvPr/>
          </p:nvGrpSpPr>
          <p:grpSpPr>
            <a:xfrm>
              <a:off x="3582720" y="3121200"/>
              <a:ext cx="1907640" cy="1961280"/>
              <a:chOff x="3582720" y="3121200"/>
              <a:chExt cx="1907640" cy="1961280"/>
            </a:xfrm>
          </p:grpSpPr>
          <p:sp>
            <p:nvSpPr>
              <p:cNvPr id="374" name="椭圆 88069"/>
              <p:cNvSpPr/>
              <p:nvPr/>
            </p:nvSpPr>
            <p:spPr>
              <a:xfrm>
                <a:off x="3582720" y="3121200"/>
                <a:ext cx="1907640" cy="19612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5" name="任意多边形 88070"/>
              <p:cNvSpPr/>
              <p:nvPr/>
            </p:nvSpPr>
            <p:spPr>
              <a:xfrm>
                <a:off x="3800520" y="3153600"/>
                <a:ext cx="1471680" cy="7401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76" name="文本框 88071"/>
            <p:cNvSpPr/>
            <p:nvPr/>
          </p:nvSpPr>
          <p:spPr>
            <a:xfrm>
              <a:off x="3875400" y="38919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Concep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77" name="组合 88072"/>
            <p:cNvGrpSpPr/>
            <p:nvPr/>
          </p:nvGrpSpPr>
          <p:grpSpPr>
            <a:xfrm>
              <a:off x="4147920" y="1860480"/>
              <a:ext cx="635760" cy="605520"/>
              <a:chOff x="4147920" y="1860480"/>
              <a:chExt cx="635760" cy="605520"/>
            </a:xfrm>
          </p:grpSpPr>
          <p:grpSp>
            <p:nvGrpSpPr>
              <p:cNvPr id="378" name="组合 88073"/>
              <p:cNvGrpSpPr/>
              <p:nvPr/>
            </p:nvGrpSpPr>
            <p:grpSpPr>
              <a:xfrm>
                <a:off x="4147920" y="1860480"/>
                <a:ext cx="635760" cy="605520"/>
                <a:chOff x="4147920" y="1860480"/>
                <a:chExt cx="635760" cy="605520"/>
              </a:xfrm>
            </p:grpSpPr>
            <p:sp>
              <p:nvSpPr>
                <p:cNvPr id="379" name="椭圆 88074"/>
                <p:cNvSpPr/>
                <p:nvPr/>
              </p:nvSpPr>
              <p:spPr>
                <a:xfrm>
                  <a:off x="4147920" y="1860480"/>
                  <a:ext cx="635760" cy="60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0bb20"/>
                    </a:gs>
                    <a:gs pos="100000">
                      <a:srgbClr val="5f4f0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80" name="任意多边形 88075"/>
                <p:cNvSpPr/>
                <p:nvPr/>
              </p:nvSpPr>
              <p:spPr>
                <a:xfrm>
                  <a:off x="4220640" y="1870200"/>
                  <a:ext cx="490320" cy="228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0bb2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1" name="文本框 88076"/>
              <p:cNvSpPr/>
              <p:nvPr/>
            </p:nvSpPr>
            <p:spPr>
              <a:xfrm>
                <a:off x="4286520" y="195372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82" name="组合 88077"/>
            <p:cNvGrpSpPr/>
            <p:nvPr/>
          </p:nvGrpSpPr>
          <p:grpSpPr>
            <a:xfrm>
              <a:off x="3530880" y="4880880"/>
              <a:ext cx="340200" cy="307080"/>
              <a:chOff x="3530880" y="4880880"/>
              <a:chExt cx="340200" cy="307080"/>
            </a:xfrm>
          </p:grpSpPr>
          <p:sp>
            <p:nvSpPr>
              <p:cNvPr id="383" name="椭圆 88078"/>
              <p:cNvSpPr/>
              <p:nvPr/>
            </p:nvSpPr>
            <p:spPr>
              <a:xfrm rot="18226800">
                <a:off x="3557160" y="5038560"/>
                <a:ext cx="119880" cy="127800"/>
              </a:xfrm>
              <a:prstGeom prst="ellipse">
                <a:avLst/>
              </a:prstGeom>
              <a:gradFill rotWithShape="0">
                <a:gsLst>
                  <a:gs pos="0">
                    <a:srgbClr val="9885a3"/>
                  </a:gs>
                  <a:gs pos="100000">
                    <a:srgbClr val="65596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4" name="椭圆 88079"/>
              <p:cNvSpPr/>
              <p:nvPr/>
            </p:nvSpPr>
            <p:spPr>
              <a:xfrm rot="18226800">
                <a:off x="3724560" y="4902120"/>
                <a:ext cx="119520" cy="127800"/>
              </a:xfrm>
              <a:prstGeom prst="ellipse">
                <a:avLst/>
              </a:prstGeom>
              <a:gradFill rotWithShape="0">
                <a:gsLst>
                  <a:gs pos="0">
                    <a:srgbClr val="9885a3"/>
                  </a:gs>
                  <a:gs pos="100000">
                    <a:srgbClr val="65596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85" name="组合 88080"/>
            <p:cNvGrpSpPr/>
            <p:nvPr/>
          </p:nvGrpSpPr>
          <p:grpSpPr>
            <a:xfrm>
              <a:off x="2946600" y="5148360"/>
              <a:ext cx="635760" cy="630360"/>
              <a:chOff x="2946600" y="5148360"/>
              <a:chExt cx="635760" cy="630360"/>
            </a:xfrm>
          </p:grpSpPr>
          <p:grpSp>
            <p:nvGrpSpPr>
              <p:cNvPr id="386" name="组合 88081"/>
              <p:cNvGrpSpPr/>
              <p:nvPr/>
            </p:nvGrpSpPr>
            <p:grpSpPr>
              <a:xfrm>
                <a:off x="2946600" y="5148360"/>
                <a:ext cx="635760" cy="630360"/>
                <a:chOff x="2946600" y="5148360"/>
                <a:chExt cx="635760" cy="630360"/>
              </a:xfrm>
            </p:grpSpPr>
            <p:sp>
              <p:nvSpPr>
                <p:cNvPr id="387" name="椭圆 88082"/>
                <p:cNvSpPr/>
                <p:nvPr/>
              </p:nvSpPr>
              <p:spPr>
                <a:xfrm>
                  <a:off x="2946600" y="5148360"/>
                  <a:ext cx="635760" cy="63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85a3"/>
                    </a:gs>
                    <a:gs pos="100000">
                      <a:srgbClr val="25202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88" name="任意多边形 88083"/>
                <p:cNvSpPr/>
                <p:nvPr/>
              </p:nvSpPr>
              <p:spPr>
                <a:xfrm>
                  <a:off x="3019320" y="5158800"/>
                  <a:ext cx="490320" cy="237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885a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" name="文本框 88084"/>
              <p:cNvSpPr/>
              <p:nvPr/>
            </p:nvSpPr>
            <p:spPr>
              <a:xfrm>
                <a:off x="3080880" y="526680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E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90" name="组合 88085"/>
            <p:cNvGrpSpPr/>
            <p:nvPr/>
          </p:nvGrpSpPr>
          <p:grpSpPr>
            <a:xfrm>
              <a:off x="6058440" y="3121200"/>
              <a:ext cx="633240" cy="637560"/>
              <a:chOff x="6058440" y="3121200"/>
              <a:chExt cx="633240" cy="637560"/>
            </a:xfrm>
          </p:grpSpPr>
          <p:grpSp>
            <p:nvGrpSpPr>
              <p:cNvPr id="391" name="组合 88086"/>
              <p:cNvGrpSpPr/>
              <p:nvPr/>
            </p:nvGrpSpPr>
            <p:grpSpPr>
              <a:xfrm>
                <a:off x="6058440" y="3121200"/>
                <a:ext cx="633240" cy="637560"/>
                <a:chOff x="6058440" y="3121200"/>
                <a:chExt cx="633240" cy="637560"/>
              </a:xfrm>
            </p:grpSpPr>
            <p:sp>
              <p:nvSpPr>
                <p:cNvPr id="392" name="椭圆 88087"/>
                <p:cNvSpPr/>
                <p:nvPr/>
              </p:nvSpPr>
              <p:spPr>
                <a:xfrm>
                  <a:off x="6058440" y="3121200"/>
                  <a:ext cx="633240" cy="637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a5de"/>
                    </a:gs>
                    <a:gs pos="100000">
                      <a:srgbClr val="38678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93" name="任意多边形 88088"/>
                <p:cNvSpPr/>
                <p:nvPr/>
              </p:nvSpPr>
              <p:spPr>
                <a:xfrm>
                  <a:off x="6130800" y="3131640"/>
                  <a:ext cx="488520" cy="24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aa5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文本框 88089"/>
              <p:cNvSpPr/>
              <p:nvPr/>
            </p:nvSpPr>
            <p:spPr>
              <a:xfrm>
                <a:off x="6180120" y="32086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95" name="组合 88090"/>
            <p:cNvGrpSpPr/>
            <p:nvPr/>
          </p:nvGrpSpPr>
          <p:grpSpPr>
            <a:xfrm>
              <a:off x="5490360" y="5153040"/>
              <a:ext cx="606240" cy="571680"/>
              <a:chOff x="5490360" y="5153040"/>
              <a:chExt cx="606240" cy="571680"/>
            </a:xfrm>
          </p:grpSpPr>
          <p:grpSp>
            <p:nvGrpSpPr>
              <p:cNvPr id="396" name="组合 88091"/>
              <p:cNvGrpSpPr/>
              <p:nvPr/>
            </p:nvGrpSpPr>
            <p:grpSpPr>
              <a:xfrm>
                <a:off x="5490360" y="5153040"/>
                <a:ext cx="606240" cy="571680"/>
                <a:chOff x="5490360" y="5153040"/>
                <a:chExt cx="606240" cy="571680"/>
              </a:xfrm>
            </p:grpSpPr>
            <p:sp>
              <p:nvSpPr>
                <p:cNvPr id="397" name="椭圆 88092"/>
                <p:cNvSpPr/>
                <p:nvPr/>
              </p:nvSpPr>
              <p:spPr>
                <a:xfrm>
                  <a:off x="5490360" y="5153040"/>
                  <a:ext cx="606240" cy="57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98" name="任意多边形 88093"/>
                <p:cNvSpPr/>
                <p:nvPr/>
              </p:nvSpPr>
              <p:spPr>
                <a:xfrm>
                  <a:off x="5559480" y="5162400"/>
                  <a:ext cx="467640" cy="215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9" name="文本框 88094"/>
              <p:cNvSpPr/>
              <p:nvPr/>
            </p:nvSpPr>
            <p:spPr>
              <a:xfrm>
                <a:off x="5621040" y="51836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00" name="组合 88095"/>
            <p:cNvGrpSpPr/>
            <p:nvPr/>
          </p:nvGrpSpPr>
          <p:grpSpPr>
            <a:xfrm>
              <a:off x="2452320" y="3121200"/>
              <a:ext cx="635760" cy="630360"/>
              <a:chOff x="2452320" y="3121200"/>
              <a:chExt cx="635760" cy="630360"/>
            </a:xfrm>
          </p:grpSpPr>
          <p:grpSp>
            <p:nvGrpSpPr>
              <p:cNvPr id="401" name="组合 88096"/>
              <p:cNvGrpSpPr/>
              <p:nvPr/>
            </p:nvGrpSpPr>
            <p:grpSpPr>
              <a:xfrm>
                <a:off x="2452320" y="3121200"/>
                <a:ext cx="635760" cy="630360"/>
                <a:chOff x="2452320" y="3121200"/>
                <a:chExt cx="635760" cy="630360"/>
              </a:xfrm>
            </p:grpSpPr>
            <p:sp>
              <p:nvSpPr>
                <p:cNvPr id="402" name="椭圆 88097"/>
                <p:cNvSpPr/>
                <p:nvPr/>
              </p:nvSpPr>
              <p:spPr>
                <a:xfrm>
                  <a:off x="2452320" y="3121200"/>
                  <a:ext cx="635760" cy="63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89e8e"/>
                    </a:gs>
                    <a:gs pos="100000">
                      <a:srgbClr val="0b48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03" name="任意多边形 88098"/>
                <p:cNvSpPr/>
                <p:nvPr/>
              </p:nvSpPr>
              <p:spPr>
                <a:xfrm>
                  <a:off x="2525040" y="3131640"/>
                  <a:ext cx="490320" cy="237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89e8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4" name="文本框 88099"/>
              <p:cNvSpPr/>
              <p:nvPr/>
            </p:nvSpPr>
            <p:spPr>
              <a:xfrm>
                <a:off x="2587320" y="319104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05" name="椭圆 88100"/>
            <p:cNvSpPr/>
            <p:nvPr/>
          </p:nvSpPr>
          <p:spPr>
            <a:xfrm rot="18226800">
              <a:off x="5421240" y="5005080"/>
              <a:ext cx="119160" cy="1278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6" name="椭圆 88101"/>
            <p:cNvSpPr/>
            <p:nvPr/>
          </p:nvSpPr>
          <p:spPr>
            <a:xfrm rot="18226800">
              <a:off x="5279760" y="4865760"/>
              <a:ext cx="119520" cy="1278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07" name="组合 88102"/>
            <p:cNvGrpSpPr/>
            <p:nvPr/>
          </p:nvGrpSpPr>
          <p:grpSpPr>
            <a:xfrm>
              <a:off x="3136320" y="3516480"/>
              <a:ext cx="384480" cy="240480"/>
              <a:chOff x="3136320" y="3516480"/>
              <a:chExt cx="384480" cy="240480"/>
            </a:xfrm>
          </p:grpSpPr>
          <p:sp>
            <p:nvSpPr>
              <p:cNvPr id="408" name="椭圆 88103"/>
              <p:cNvSpPr/>
              <p:nvPr/>
            </p:nvSpPr>
            <p:spPr>
              <a:xfrm rot="18226800">
                <a:off x="3162600" y="3537720"/>
                <a:ext cx="119520" cy="127800"/>
              </a:xfrm>
              <a:prstGeom prst="ellipse">
                <a:avLst/>
              </a:prstGeom>
              <a:gradFill rotWithShape="0">
                <a:gsLst>
                  <a:gs pos="0">
                    <a:srgbClr val="189e8e"/>
                  </a:gs>
                  <a:gs pos="100000">
                    <a:srgbClr val="0e5b52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9" name="椭圆 88104"/>
              <p:cNvSpPr/>
              <p:nvPr/>
            </p:nvSpPr>
            <p:spPr>
              <a:xfrm rot="18226800">
                <a:off x="3374280" y="3607920"/>
                <a:ext cx="119520" cy="127800"/>
              </a:xfrm>
              <a:prstGeom prst="ellipse">
                <a:avLst/>
              </a:prstGeom>
              <a:gradFill rotWithShape="0">
                <a:gsLst>
                  <a:gs pos="0">
                    <a:srgbClr val="189e8e"/>
                  </a:gs>
                  <a:gs pos="100000">
                    <a:srgbClr val="0c4d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10" name="组合 88105"/>
            <p:cNvGrpSpPr/>
            <p:nvPr/>
          </p:nvGrpSpPr>
          <p:grpSpPr>
            <a:xfrm>
              <a:off x="4408200" y="2576160"/>
              <a:ext cx="172800" cy="430560"/>
              <a:chOff x="4408200" y="2576160"/>
              <a:chExt cx="172800" cy="430560"/>
            </a:xfrm>
          </p:grpSpPr>
          <p:sp>
            <p:nvSpPr>
              <p:cNvPr id="411" name="椭圆 88106"/>
              <p:cNvSpPr/>
              <p:nvPr/>
            </p:nvSpPr>
            <p:spPr>
              <a:xfrm rot="18226800">
                <a:off x="4434840" y="2597040"/>
                <a:ext cx="119520" cy="128160"/>
              </a:xfrm>
              <a:prstGeom prst="ellipse">
                <a:avLst/>
              </a:prstGeom>
              <a:gradFill rotWithShape="0">
                <a:gsLst>
                  <a:gs pos="0">
                    <a:srgbClr val="e0bb20"/>
                  </a:gs>
                  <a:gs pos="100000">
                    <a:srgbClr val="66550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2" name="椭圆 88107"/>
              <p:cNvSpPr/>
              <p:nvPr/>
            </p:nvSpPr>
            <p:spPr>
              <a:xfrm rot="18226800">
                <a:off x="4434840" y="2856960"/>
                <a:ext cx="119520" cy="128160"/>
              </a:xfrm>
              <a:prstGeom prst="ellipse">
                <a:avLst/>
              </a:prstGeom>
              <a:gradFill rotWithShape="0">
                <a:gsLst>
                  <a:gs pos="0">
                    <a:srgbClr val="e0bb20"/>
                  </a:gs>
                  <a:gs pos="100000">
                    <a:srgbClr val="6d5b1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13" name="椭圆 88108"/>
            <p:cNvSpPr/>
            <p:nvPr/>
          </p:nvSpPr>
          <p:spPr>
            <a:xfrm rot="18226800">
              <a:off x="5792040" y="3560040"/>
              <a:ext cx="119160" cy="128160"/>
            </a:xfrm>
            <a:prstGeom prst="ellipse">
              <a:avLst/>
            </a:prstGeom>
            <a:gradFill rotWithShape="0">
              <a:gsLst>
                <a:gs pos="0">
                  <a:srgbClr val="82bbe6"/>
                </a:gs>
                <a:gs pos="100000">
                  <a:srgbClr val="5aa5d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4" name="椭圆 88109"/>
            <p:cNvSpPr/>
            <p:nvPr/>
          </p:nvSpPr>
          <p:spPr>
            <a:xfrm rot="18226800">
              <a:off x="5562360" y="3673800"/>
              <a:ext cx="119160" cy="128160"/>
            </a:xfrm>
            <a:prstGeom prst="ellipse">
              <a:avLst/>
            </a:prstGeom>
            <a:gradFill rotWithShape="0">
              <a:gsLst>
                <a:gs pos="0">
                  <a:srgbClr val="82bbe6"/>
                </a:gs>
                <a:gs pos="100000">
                  <a:srgbClr val="5aa5d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5" name="文本框 88110"/>
            <p:cNvSpPr/>
            <p:nvPr/>
          </p:nvSpPr>
          <p:spPr>
            <a:xfrm>
              <a:off x="685800" y="326160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6" name="文本框 88111"/>
            <p:cNvSpPr/>
            <p:nvPr/>
          </p:nvSpPr>
          <p:spPr>
            <a:xfrm>
              <a:off x="3582720" y="152388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7" name="文本框 88112"/>
            <p:cNvSpPr/>
            <p:nvPr/>
          </p:nvSpPr>
          <p:spPr>
            <a:xfrm>
              <a:off x="6691680" y="3274560"/>
              <a:ext cx="176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8" name="文本框 88113"/>
            <p:cNvSpPr/>
            <p:nvPr/>
          </p:nvSpPr>
          <p:spPr>
            <a:xfrm>
              <a:off x="1038960" y="536292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9" name="文本框 88114"/>
            <p:cNvSpPr/>
            <p:nvPr/>
          </p:nvSpPr>
          <p:spPr>
            <a:xfrm>
              <a:off x="6126120" y="536292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组合 93186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422" name="圆角矩形 93187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3" name="圆角矩形 93188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圆角矩形 93189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5" name="圆角矩形 93190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6" name="圆角矩形 93191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7" name="圆角矩形 93192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28" name="组合 93193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429" name="椭圆 93194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0" name="椭圆 93195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1" name="椭圆 93196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2" name="椭圆 93197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3" name="椭圆 93198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34" name="文本框 93199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5" name="文本框 93200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36" name="组合 93201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437" name="圆角矩形 93202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8" name="圆角矩形 93203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9" name="圆角矩形 93204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0" name="圆角矩形 93205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1" name="椭圆 93206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2" name="椭圆 93207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3" name="椭圆 93208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4" name="椭圆 93209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5" name="椭圆 93210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6" name="文本框 93211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7" name="文本框 93212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8" name="圆角矩形 93213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9" name="圆角矩形 93214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50" name="组合 93215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51" name="圆角矩形 93216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2" name="圆角矩形 93217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3" name="圆角矩形 93218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4" name="圆角矩形 93219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55" name="组合 93220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56" name="椭圆 93221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7" name="椭圆 93222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8" name="椭圆 93223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9" name="椭圆 93224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0" name="椭圆 93225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61" name="文本框 93226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2" name="文本框 93227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3" name="圆角矩形 93228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4" name="圆角矩形 93229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组合 78850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67" name="矩形 78851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8" name="矩形 78852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69" name="组合 78853"/>
          <p:cNvGrpSpPr/>
          <p:nvPr/>
        </p:nvGrpSpPr>
        <p:grpSpPr>
          <a:xfrm>
            <a:off x="4721760" y="3528000"/>
            <a:ext cx="1522080" cy="2421000"/>
            <a:chOff x="4721760" y="3528000"/>
            <a:chExt cx="1522080" cy="2421000"/>
          </a:xfrm>
        </p:grpSpPr>
        <p:grpSp>
          <p:nvGrpSpPr>
            <p:cNvPr id="470" name="组合 78854"/>
            <p:cNvGrpSpPr/>
            <p:nvPr/>
          </p:nvGrpSpPr>
          <p:grpSpPr>
            <a:xfrm>
              <a:off x="4721760" y="3685320"/>
              <a:ext cx="1417320" cy="2263680"/>
              <a:chOff x="4721760" y="3685320"/>
              <a:chExt cx="1417320" cy="2263680"/>
            </a:xfrm>
          </p:grpSpPr>
          <p:sp>
            <p:nvSpPr>
              <p:cNvPr id="471" name="任意多边形 78855"/>
              <p:cNvSpPr/>
              <p:nvPr/>
            </p:nvSpPr>
            <p:spPr>
              <a:xfrm rot="3876600">
                <a:off x="4293720" y="4572000"/>
                <a:ext cx="2273040" cy="4903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2" name="任意多边形 78856"/>
              <p:cNvSpPr/>
              <p:nvPr/>
            </p:nvSpPr>
            <p:spPr>
              <a:xfrm rot="3876600">
                <a:off x="5659560" y="5449680"/>
                <a:ext cx="357120" cy="4010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73" name="组合 78857"/>
            <p:cNvGrpSpPr/>
            <p:nvPr/>
          </p:nvGrpSpPr>
          <p:grpSpPr>
            <a:xfrm>
              <a:off x="5156280" y="3528000"/>
              <a:ext cx="1087560" cy="1737000"/>
              <a:chOff x="5156280" y="3528000"/>
              <a:chExt cx="1087560" cy="1737000"/>
            </a:xfrm>
          </p:grpSpPr>
          <p:sp>
            <p:nvSpPr>
              <p:cNvPr id="474" name="任意多边形 78858"/>
              <p:cNvSpPr/>
              <p:nvPr/>
            </p:nvSpPr>
            <p:spPr>
              <a:xfrm flipV="1" rot="3876600">
                <a:off x="4827960" y="4208040"/>
                <a:ext cx="1744200" cy="376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5" name="任意多边形 78859"/>
              <p:cNvSpPr/>
              <p:nvPr/>
            </p:nvSpPr>
            <p:spPr>
              <a:xfrm flipV="1" rot="3876600">
                <a:off x="5860440" y="4889520"/>
                <a:ext cx="273960" cy="3078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组合 78860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77" name="椭圆 78861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8" name="椭圆 78862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9" name="椭圆 78863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0" name="椭圆 78864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1" name="椭圆 78865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82" name="组合 78866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83" name="椭圆 78867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4" name="椭圆 78868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5" name="椭圆 78869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6" name="椭圆 78870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87" name="组合 78871"/>
          <p:cNvGrpSpPr/>
          <p:nvPr/>
        </p:nvGrpSpPr>
        <p:grpSpPr>
          <a:xfrm>
            <a:off x="6687360" y="3594240"/>
            <a:ext cx="1523880" cy="2422080"/>
            <a:chOff x="6687360" y="3594240"/>
            <a:chExt cx="1523880" cy="2422080"/>
          </a:xfrm>
        </p:grpSpPr>
        <p:grpSp>
          <p:nvGrpSpPr>
            <p:cNvPr id="488" name="组合 78872"/>
            <p:cNvGrpSpPr/>
            <p:nvPr/>
          </p:nvGrpSpPr>
          <p:grpSpPr>
            <a:xfrm>
              <a:off x="6687360" y="3751920"/>
              <a:ext cx="1418760" cy="2264400"/>
              <a:chOff x="6687360" y="3751920"/>
              <a:chExt cx="1418760" cy="2264400"/>
            </a:xfrm>
          </p:grpSpPr>
          <p:sp>
            <p:nvSpPr>
              <p:cNvPr id="489" name="任意多边形 78873"/>
              <p:cNvSpPr/>
              <p:nvPr/>
            </p:nvSpPr>
            <p:spPr>
              <a:xfrm rot="3876600">
                <a:off x="6259680" y="463824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0" name="任意多边形 78874"/>
              <p:cNvSpPr/>
              <p:nvPr/>
            </p:nvSpPr>
            <p:spPr>
              <a:xfrm rot="3876600">
                <a:off x="7625520" y="551664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91" name="组合 78875"/>
            <p:cNvGrpSpPr/>
            <p:nvPr/>
          </p:nvGrpSpPr>
          <p:grpSpPr>
            <a:xfrm>
              <a:off x="7122600" y="3594240"/>
              <a:ext cx="1088640" cy="1737720"/>
              <a:chOff x="7122600" y="3594240"/>
              <a:chExt cx="1088640" cy="1737720"/>
            </a:xfrm>
          </p:grpSpPr>
          <p:sp>
            <p:nvSpPr>
              <p:cNvPr id="492" name="任意多边形 78876"/>
              <p:cNvSpPr/>
              <p:nvPr/>
            </p:nvSpPr>
            <p:spPr>
              <a:xfrm flipV="1" rot="3876600">
                <a:off x="6794280" y="427428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3" name="任意多边形 78877"/>
              <p:cNvSpPr/>
              <p:nvPr/>
            </p:nvSpPr>
            <p:spPr>
              <a:xfrm flipV="1" rot="3876600">
                <a:off x="7827480" y="49546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椭圆 78878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椭圆 78879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椭圆 78880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椭圆 78881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椭圆 78882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99" name="组合 78883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500" name="椭圆 78884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1" name="椭圆 78885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2" name="椭圆 78886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3" name="椭圆 78887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04" name="组合 78888"/>
          <p:cNvGrpSpPr/>
          <p:nvPr/>
        </p:nvGrpSpPr>
        <p:grpSpPr>
          <a:xfrm>
            <a:off x="2915280" y="3527640"/>
            <a:ext cx="1523880" cy="2421720"/>
            <a:chOff x="2915280" y="3527640"/>
            <a:chExt cx="1523880" cy="2421720"/>
          </a:xfrm>
        </p:grpSpPr>
        <p:grpSp>
          <p:nvGrpSpPr>
            <p:cNvPr id="505" name="组合 78889"/>
            <p:cNvGrpSpPr/>
            <p:nvPr/>
          </p:nvGrpSpPr>
          <p:grpSpPr>
            <a:xfrm>
              <a:off x="2915280" y="3685320"/>
              <a:ext cx="1418400" cy="2264040"/>
              <a:chOff x="2915280" y="3685320"/>
              <a:chExt cx="1418400" cy="2264040"/>
            </a:xfrm>
          </p:grpSpPr>
          <p:sp>
            <p:nvSpPr>
              <p:cNvPr id="506" name="任意多边形 78890"/>
              <p:cNvSpPr/>
              <p:nvPr/>
            </p:nvSpPr>
            <p:spPr>
              <a:xfrm rot="3876600">
                <a:off x="2487960" y="4571640"/>
                <a:ext cx="227304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7" name="任意多边形 78891"/>
              <p:cNvSpPr/>
              <p:nvPr/>
            </p:nvSpPr>
            <p:spPr>
              <a:xfrm rot="3876600">
                <a:off x="3853440" y="54496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08" name="组合 78892"/>
            <p:cNvGrpSpPr/>
            <p:nvPr/>
          </p:nvGrpSpPr>
          <p:grpSpPr>
            <a:xfrm>
              <a:off x="3350880" y="3527640"/>
              <a:ext cx="1088280" cy="1737360"/>
              <a:chOff x="3350880" y="3527640"/>
              <a:chExt cx="1088280" cy="1737360"/>
            </a:xfrm>
          </p:grpSpPr>
          <p:sp>
            <p:nvSpPr>
              <p:cNvPr id="509" name="任意多边形 78893"/>
              <p:cNvSpPr/>
              <p:nvPr/>
            </p:nvSpPr>
            <p:spPr>
              <a:xfrm flipV="1" rot="3876600">
                <a:off x="3022920" y="4207680"/>
                <a:ext cx="174420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0" name="任意多边形 78894"/>
              <p:cNvSpPr/>
              <p:nvPr/>
            </p:nvSpPr>
            <p:spPr>
              <a:xfrm flipV="1" rot="3876600">
                <a:off x="4055400" y="48880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511" name="组合 78895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512" name="椭圆 78896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3" name="椭圆 78897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4" name="椭圆 78898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5" name="椭圆 78899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6" name="椭圆 78900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17" name="组合 78901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518" name="椭圆 78902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9" name="椭圆 78903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0" name="椭圆 78904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1" name="椭圆 78905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522" name="组合 78906"/>
          <p:cNvGrpSpPr/>
          <p:nvPr/>
        </p:nvGrpSpPr>
        <p:grpSpPr>
          <a:xfrm>
            <a:off x="1168560" y="3527640"/>
            <a:ext cx="1523880" cy="2421720"/>
            <a:chOff x="1168560" y="3527640"/>
            <a:chExt cx="1523880" cy="2421720"/>
          </a:xfrm>
        </p:grpSpPr>
        <p:grpSp>
          <p:nvGrpSpPr>
            <p:cNvPr id="523" name="组合 78907"/>
            <p:cNvGrpSpPr/>
            <p:nvPr/>
          </p:nvGrpSpPr>
          <p:grpSpPr>
            <a:xfrm>
              <a:off x="1168560" y="3685320"/>
              <a:ext cx="1418400" cy="2264040"/>
              <a:chOff x="1168560" y="3685320"/>
              <a:chExt cx="1418400" cy="2264040"/>
            </a:xfrm>
          </p:grpSpPr>
          <p:sp>
            <p:nvSpPr>
              <p:cNvPr id="524" name="任意多边形 78908"/>
              <p:cNvSpPr/>
              <p:nvPr/>
            </p:nvSpPr>
            <p:spPr>
              <a:xfrm rot="3876600">
                <a:off x="741240" y="4571640"/>
                <a:ext cx="227304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5" name="任意多边形 78909"/>
              <p:cNvSpPr/>
              <p:nvPr/>
            </p:nvSpPr>
            <p:spPr>
              <a:xfrm rot="3876600">
                <a:off x="2106720" y="545004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26" name="组合 78910"/>
            <p:cNvGrpSpPr/>
            <p:nvPr/>
          </p:nvGrpSpPr>
          <p:grpSpPr>
            <a:xfrm>
              <a:off x="1604160" y="3527640"/>
              <a:ext cx="1088280" cy="1737360"/>
              <a:chOff x="1604160" y="3527640"/>
              <a:chExt cx="1088280" cy="1737360"/>
            </a:xfrm>
          </p:grpSpPr>
          <p:sp>
            <p:nvSpPr>
              <p:cNvPr id="527" name="任意多边形 78911"/>
              <p:cNvSpPr/>
              <p:nvPr/>
            </p:nvSpPr>
            <p:spPr>
              <a:xfrm flipV="1" rot="3876600">
                <a:off x="1276200" y="4207680"/>
                <a:ext cx="174420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8" name="任意多边形 78912"/>
              <p:cNvSpPr/>
              <p:nvPr/>
            </p:nvSpPr>
            <p:spPr>
              <a:xfrm flipV="1" rot="3876600">
                <a:off x="2308680" y="488844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529" name="组合 78913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530" name="椭圆 78914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1" name="椭圆 78915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2" name="椭圆 78916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3" name="椭圆 78917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4" name="椭圆 78918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35" name="组合 78919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36" name="椭圆 78920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7" name="椭圆 78921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8" name="椭圆 78922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9" name="椭圆 78923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文本框 78924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r 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文本框 78925"/>
          <p:cNvSpPr/>
          <p:nvPr/>
        </p:nvSpPr>
        <p:spPr>
          <a:xfrm rot="3925800">
            <a:off x="1591200" y="42249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2" name="文本框 78926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r 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文本框 78927"/>
          <p:cNvSpPr/>
          <p:nvPr/>
        </p:nvSpPr>
        <p:spPr>
          <a:xfrm rot="3925800">
            <a:off x="3331080" y="4224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文本框 78928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r 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文本框 78929"/>
          <p:cNvSpPr/>
          <p:nvPr/>
        </p:nvSpPr>
        <p:spPr>
          <a:xfrm rot="3925800">
            <a:off x="5144040" y="4224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文本框 78930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r 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7" name="文本框 78931"/>
          <p:cNvSpPr/>
          <p:nvPr/>
        </p:nvSpPr>
        <p:spPr>
          <a:xfrm rot="3925800">
            <a:off x="7096680" y="4367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48" name="组合 78932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49" name="文本框 78933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7acf"/>
                  </a:solidFill>
                  <a:latin typeface="Verdana"/>
                  <a:ea typeface="Arial"/>
                </a:rPr>
                <a:t>200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0" name="文本框 78934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7acf"/>
                  </a:solidFill>
                  <a:latin typeface="Verdana"/>
                  <a:ea typeface="Arial"/>
                </a:rPr>
                <a:t>200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1" name="文本框 78935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7acf"/>
                  </a:solidFill>
                  <a:latin typeface="Verdana"/>
                  <a:ea typeface="Arial"/>
                </a:rPr>
                <a:t>200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2" name="文本框 78936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d7acf"/>
                  </a:solidFill>
                  <a:latin typeface="Verdana"/>
                  <a:ea typeface="Arial"/>
                </a:rPr>
                <a:t>2004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553" name="直接箭头连接符 78937"/>
            <p:cNvCxnSpPr>
              <a:stCxn id="549" idx="3"/>
              <a:endCxn id="550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1d7acf"/>
              </a:solidFill>
              <a:round/>
              <a:tailEnd len="med" type="triangle" w="med"/>
            </a:ln>
          </p:spPr>
        </p:cxnSp>
        <p:cxnSp>
          <p:nvCxnSpPr>
            <p:cNvPr id="554" name="直接箭头连接符 78938"/>
            <p:cNvCxnSpPr>
              <a:stCxn id="550" idx="3"/>
              <a:endCxn id="551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1d7acf"/>
              </a:solidFill>
              <a:round/>
              <a:tailEnd len="med" type="triangle" w="med"/>
            </a:ln>
          </p:spPr>
        </p:cxnSp>
        <p:cxnSp>
          <p:nvCxnSpPr>
            <p:cNvPr id="555" name="直接箭头连接符 78939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1d7acf"/>
              </a:solidFill>
              <a:round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7" name="组合 91138"/>
          <p:cNvGrpSpPr/>
          <p:nvPr/>
        </p:nvGrpSpPr>
        <p:grpSpPr>
          <a:xfrm>
            <a:off x="1523880" y="1752480"/>
            <a:ext cx="1752840" cy="4267440"/>
            <a:chOff x="1523880" y="1752480"/>
            <a:chExt cx="1752840" cy="4267440"/>
          </a:xfrm>
        </p:grpSpPr>
        <p:sp>
          <p:nvSpPr>
            <p:cNvPr id="558" name="圆角矩形 91139"/>
            <p:cNvSpPr/>
            <p:nvPr/>
          </p:nvSpPr>
          <p:spPr>
            <a:xfrm>
              <a:off x="1600200" y="3352680"/>
              <a:ext cx="1600200" cy="266724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7240"/>
                <a:gd name="textAreaBottom" fmla="*/ 2630160 h 2667240"/>
              </a:gdLst>
              <a:ahLst/>
              <a:rect l="textAreaLeft" t="textAreaTop" r="textAreaRight" b="textAreaBottom"/>
              <a:pathLst>
                <a:path w="21600" h="36000">
                  <a:moveTo>
                    <a:pt x="1714" y="0"/>
                  </a:moveTo>
                  <a:arcTo wR="1714" hR="1714" stAng="16200000" swAng="-5400000"/>
                  <a:lnTo>
                    <a:pt x="0" y="34286"/>
                  </a:lnTo>
                  <a:arcTo wR="1714" hR="1714" stAng="10800000" swAng="-5400000"/>
                  <a:lnTo>
                    <a:pt x="19886" y="3600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816c12"/>
                </a:gs>
                <a:gs pos="100000">
                  <a:srgbClr val="e0bb2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9" name="文本框 91140"/>
            <p:cNvSpPr/>
            <p:nvPr/>
          </p:nvSpPr>
          <p:spPr>
            <a:xfrm>
              <a:off x="1818000" y="40384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her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0" name="圆角矩形 91141"/>
            <p:cNvSpPr/>
            <p:nvPr/>
          </p:nvSpPr>
          <p:spPr>
            <a:xfrm>
              <a:off x="1523880" y="1752480"/>
              <a:ext cx="1752840" cy="2057400"/>
            </a:xfrm>
            <a:custGeom>
              <a:avLst/>
              <a:gdLst>
                <a:gd name="textAreaLeft" fmla="*/ 89640 w 1752840"/>
                <a:gd name="textAreaRight" fmla="*/ 1663200 w 175284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2">
                  <a:moveTo>
                    <a:pt x="3782" y="0"/>
                  </a:moveTo>
                  <a:arcTo wR="3782" hR="3782" stAng="16200000" swAng="-5400000"/>
                  <a:lnTo>
                    <a:pt x="0" y="21570"/>
                  </a:lnTo>
                  <a:arcTo wR="3782" hR="3782" stAng="10800000" swAng="-5400000"/>
                  <a:lnTo>
                    <a:pt x="17818" y="2535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e0b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1" name="圆角矩形 91142"/>
            <p:cNvSpPr/>
            <p:nvPr/>
          </p:nvSpPr>
          <p:spPr>
            <a:xfrm>
              <a:off x="1565280" y="3244680"/>
              <a:ext cx="167652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bb20"/>
                </a:gs>
                <a:gs pos="100000">
                  <a:srgbClr val="f0de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2" name="圆角矩形 91143"/>
            <p:cNvSpPr/>
            <p:nvPr/>
          </p:nvSpPr>
          <p:spPr>
            <a:xfrm>
              <a:off x="1565280" y="1774800"/>
              <a:ext cx="1676520" cy="509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e8b5"/>
                </a:gs>
                <a:gs pos="100000">
                  <a:srgbClr val="e0bb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3" name="文本框 91144"/>
            <p:cNvSpPr/>
            <p:nvPr/>
          </p:nvSpPr>
          <p:spPr>
            <a:xfrm>
              <a:off x="1983240" y="208764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4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4" name="圆角矩形 91145"/>
            <p:cNvSpPr/>
            <p:nvPr/>
          </p:nvSpPr>
          <p:spPr>
            <a:xfrm flipV="1">
              <a:off x="1709640" y="568584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bb20">
                    <a:alpha val="0"/>
                  </a:srgbClr>
                </a:gs>
                <a:gs pos="100000">
                  <a:srgbClr val="eeda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65" name="组合 91146"/>
          <p:cNvGrpSpPr/>
          <p:nvPr/>
        </p:nvGrpSpPr>
        <p:grpSpPr>
          <a:xfrm>
            <a:off x="6059520" y="2438280"/>
            <a:ext cx="1712880" cy="3581640"/>
            <a:chOff x="6059520" y="2438280"/>
            <a:chExt cx="1712880" cy="3581640"/>
          </a:xfrm>
        </p:grpSpPr>
        <p:sp>
          <p:nvSpPr>
            <p:cNvPr id="566" name="圆角矩形 91147"/>
            <p:cNvSpPr/>
            <p:nvPr/>
          </p:nvSpPr>
          <p:spPr>
            <a:xfrm>
              <a:off x="6121440" y="3809880"/>
              <a:ext cx="1600200" cy="221004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10040"/>
                <a:gd name="textAreaBottom" fmla="*/ 2172960 h 2210040"/>
              </a:gdLst>
              <a:ahLst/>
              <a:rect l="textAreaLeft" t="textAreaTop" r="textAreaRight" b="textAreaBottom"/>
              <a:pathLst>
                <a:path w="21600" h="29830">
                  <a:moveTo>
                    <a:pt x="1714" y="0"/>
                  </a:moveTo>
                  <a:arcTo wR="1714" hR="1714" stAng="16200000" swAng="-5400000"/>
                  <a:lnTo>
                    <a:pt x="0" y="28116"/>
                  </a:lnTo>
                  <a:arcTo wR="1714" hR="1714" stAng="10800000" swAng="-5400000"/>
                  <a:lnTo>
                    <a:pt x="19886" y="2983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463e4b"/>
                </a:gs>
                <a:gs pos="100000">
                  <a:srgbClr val="9885a3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文本框 91148"/>
            <p:cNvSpPr/>
            <p:nvPr/>
          </p:nvSpPr>
          <p:spPr>
            <a:xfrm>
              <a:off x="6339240" y="44640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her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68" name="组合 91149"/>
            <p:cNvGrpSpPr/>
            <p:nvPr/>
          </p:nvGrpSpPr>
          <p:grpSpPr>
            <a:xfrm>
              <a:off x="6059520" y="2438280"/>
              <a:ext cx="1712880" cy="1901880"/>
              <a:chOff x="6059520" y="2438280"/>
              <a:chExt cx="1712880" cy="1901880"/>
            </a:xfrm>
          </p:grpSpPr>
          <p:sp>
            <p:nvSpPr>
              <p:cNvPr id="569" name="圆角矩形 91150"/>
              <p:cNvSpPr/>
              <p:nvPr/>
            </p:nvSpPr>
            <p:spPr>
              <a:xfrm>
                <a:off x="6059520" y="2438280"/>
                <a:ext cx="1712880" cy="1901880"/>
              </a:xfrm>
              <a:custGeom>
                <a:avLst/>
                <a:gdLst>
                  <a:gd name="textAreaLeft" fmla="*/ 87840 w 1712880"/>
                  <a:gd name="textAreaRight" fmla="*/ 1625040 w 1712880"/>
                  <a:gd name="textAreaTop" fmla="*/ 87840 h 1901880"/>
                  <a:gd name="textAreaBottom" fmla="*/ 1814040 h 1901880"/>
                </a:gdLst>
                <a:ahLst/>
                <a:rect l="textAreaLeft" t="textAreaTop" r="textAreaRight" b="textAreaBottom"/>
                <a:pathLst>
                  <a:path w="21600" h="23983">
                    <a:moveTo>
                      <a:pt x="3782" y="0"/>
                    </a:moveTo>
                    <a:arcTo wR="3782" hR="3782" stAng="16200000" swAng="-5400000"/>
                    <a:lnTo>
                      <a:pt x="0" y="20201"/>
                    </a:lnTo>
                    <a:arcTo wR="3782" hR="3782" stAng="10800000" swAng="-5400000"/>
                    <a:lnTo>
                      <a:pt x="17818" y="2398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9885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0" name="圆角矩形 91151"/>
              <p:cNvSpPr/>
              <p:nvPr/>
            </p:nvSpPr>
            <p:spPr>
              <a:xfrm>
                <a:off x="6099480" y="3817080"/>
                <a:ext cx="1638720" cy="471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85a3"/>
                  </a:gs>
                  <a:gs pos="100000">
                    <a:srgbClr val="d3cbd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1" name="圆角矩形 91152"/>
              <p:cNvSpPr/>
              <p:nvPr/>
            </p:nvSpPr>
            <p:spPr>
              <a:xfrm>
                <a:off x="6099480" y="2458080"/>
                <a:ext cx="1638720" cy="47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3cbd8"/>
                  </a:gs>
                  <a:gs pos="100000">
                    <a:srgbClr val="9885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72" name="文本框 91153"/>
            <p:cNvSpPr/>
            <p:nvPr/>
          </p:nvSpPr>
          <p:spPr>
            <a:xfrm>
              <a:off x="6555240" y="289548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4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圆角矩形 91154"/>
            <p:cNvSpPr/>
            <p:nvPr/>
          </p:nvSpPr>
          <p:spPr>
            <a:xfrm flipV="1">
              <a:off x="624852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85a3"/>
                </a:gs>
                <a:gs pos="100000">
                  <a:srgbClr val="ece9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74" name="组合 91155"/>
          <p:cNvGrpSpPr/>
          <p:nvPr/>
        </p:nvGrpSpPr>
        <p:grpSpPr>
          <a:xfrm>
            <a:off x="3809880" y="2057400"/>
            <a:ext cx="1727280" cy="3962520"/>
            <a:chOff x="3809880" y="2057400"/>
            <a:chExt cx="1727280" cy="3962520"/>
          </a:xfrm>
        </p:grpSpPr>
        <p:sp>
          <p:nvSpPr>
            <p:cNvPr id="575" name="圆角矩形 91156"/>
            <p:cNvSpPr/>
            <p:nvPr/>
          </p:nvSpPr>
          <p:spPr>
            <a:xfrm>
              <a:off x="3886200" y="3657600"/>
              <a:ext cx="1600200" cy="236232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2320"/>
                <a:gd name="textAreaBottom" fmla="*/ 2325240 h 2362320"/>
              </a:gdLst>
              <a:ahLst/>
              <a:rect l="textAreaLeft" t="textAreaTop" r="textAreaRight" b="textAreaBottom"/>
              <a:pathLst>
                <a:path w="21600" h="31885">
                  <a:moveTo>
                    <a:pt x="1714" y="0"/>
                  </a:moveTo>
                  <a:arcTo wR="1714" hR="1714" stAng="16200000" swAng="-5400000"/>
                  <a:lnTo>
                    <a:pt x="0" y="30171"/>
                  </a:lnTo>
                  <a:arcTo wR="1714" hR="1714" stAng="10800000" swAng="-5400000"/>
                  <a:lnTo>
                    <a:pt x="19886" y="3188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376487"/>
                </a:gs>
                <a:gs pos="100000">
                  <a:srgbClr val="5aa5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76" name="组合 91157"/>
            <p:cNvGrpSpPr/>
            <p:nvPr/>
          </p:nvGrpSpPr>
          <p:grpSpPr>
            <a:xfrm>
              <a:off x="3809880" y="2057400"/>
              <a:ext cx="1727280" cy="1981080"/>
              <a:chOff x="3809880" y="2057400"/>
              <a:chExt cx="1727280" cy="1981080"/>
            </a:xfrm>
          </p:grpSpPr>
          <p:sp>
            <p:nvSpPr>
              <p:cNvPr id="577" name="圆角矩形 91158"/>
              <p:cNvSpPr/>
              <p:nvPr/>
            </p:nvSpPr>
            <p:spPr>
              <a:xfrm>
                <a:off x="3809880" y="2057400"/>
                <a:ext cx="1727280" cy="1981080"/>
              </a:xfrm>
              <a:custGeom>
                <a:avLst/>
                <a:gdLst>
                  <a:gd name="textAreaLeft" fmla="*/ 88560 w 1727280"/>
                  <a:gd name="textAreaRight" fmla="*/ 1638720 w 1727280"/>
                  <a:gd name="textAreaTop" fmla="*/ 88560 h 1981080"/>
                  <a:gd name="textAreaBottom" fmla="*/ 1892520 h 1981080"/>
                </a:gdLst>
                <a:ahLst/>
                <a:rect l="textAreaLeft" t="textAreaTop" r="textAreaRight" b="textAreaBottom"/>
                <a:pathLst>
                  <a:path w="21600" h="24773">
                    <a:moveTo>
                      <a:pt x="3782" y="0"/>
                    </a:moveTo>
                    <a:arcTo wR="3782" hR="3782" stAng="16200000" swAng="-5400000"/>
                    <a:lnTo>
                      <a:pt x="0" y="20991"/>
                    </a:lnTo>
                    <a:arcTo wR="3782" hR="3782" stAng="10800000" swAng="-5400000"/>
                    <a:lnTo>
                      <a:pt x="17818" y="2477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5aa5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8" name="圆角矩形 91159"/>
              <p:cNvSpPr/>
              <p:nvPr/>
            </p:nvSpPr>
            <p:spPr>
              <a:xfrm>
                <a:off x="3850200" y="3495600"/>
                <a:ext cx="1652400" cy="49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aa5de">
                      <a:alpha val="0"/>
                    </a:srgbClr>
                  </a:gs>
                  <a:gs pos="100000">
                    <a:srgbClr val="9bc8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9" name="圆角矩形 91160"/>
              <p:cNvSpPr/>
              <p:nvPr/>
            </p:nvSpPr>
            <p:spPr>
              <a:xfrm>
                <a:off x="3850200" y="2080080"/>
                <a:ext cx="1652400" cy="490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8e1f4"/>
                  </a:gs>
                  <a:gs pos="100000">
                    <a:srgbClr val="5aa5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80" name="文本框 91161"/>
            <p:cNvSpPr/>
            <p:nvPr/>
          </p:nvSpPr>
          <p:spPr>
            <a:xfrm>
              <a:off x="4103640" y="42670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her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1" name="文本框 91162"/>
            <p:cNvSpPr/>
            <p:nvPr/>
          </p:nvSpPr>
          <p:spPr>
            <a:xfrm>
              <a:off x="4268880" y="251460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4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2" name="圆角矩形 91163"/>
            <p:cNvSpPr/>
            <p:nvPr/>
          </p:nvSpPr>
          <p:spPr>
            <a:xfrm flipV="1">
              <a:off x="401292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a5de">
                    <a:alpha val="0"/>
                  </a:srgbClr>
                </a:gs>
                <a:gs pos="100000">
                  <a:srgbClr val="bedc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4" name="组合 89090"/>
          <p:cNvGrpSpPr/>
          <p:nvPr/>
        </p:nvGrpSpPr>
        <p:grpSpPr>
          <a:xfrm>
            <a:off x="152280" y="4975200"/>
            <a:ext cx="6781680" cy="1019160"/>
            <a:chOff x="152280" y="4975200"/>
            <a:chExt cx="6781680" cy="1019160"/>
          </a:xfrm>
        </p:grpSpPr>
        <p:sp>
          <p:nvSpPr>
            <p:cNvPr id="585" name="矩形 89091"/>
            <p:cNvSpPr/>
            <p:nvPr/>
          </p:nvSpPr>
          <p:spPr>
            <a:xfrm>
              <a:off x="152280" y="5237280"/>
              <a:ext cx="6392880" cy="71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85a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86" name="组合 89092"/>
            <p:cNvGrpSpPr/>
            <p:nvPr/>
          </p:nvGrpSpPr>
          <p:grpSpPr>
            <a:xfrm>
              <a:off x="5829840" y="4975200"/>
              <a:ext cx="1104120" cy="1019160"/>
              <a:chOff x="5829840" y="4975200"/>
              <a:chExt cx="1104120" cy="1019160"/>
            </a:xfrm>
          </p:grpSpPr>
          <p:sp>
            <p:nvSpPr>
              <p:cNvPr id="587" name="椭圆 89093"/>
              <p:cNvSpPr/>
              <p:nvPr/>
            </p:nvSpPr>
            <p:spPr>
              <a:xfrm>
                <a:off x="5829840" y="4975200"/>
                <a:ext cx="1104120" cy="1019160"/>
              </a:xfrm>
              <a:prstGeom prst="ellipse">
                <a:avLst/>
              </a:prstGeom>
              <a:gradFill rotWithShape="0">
                <a:gsLst>
                  <a:gs pos="0">
                    <a:srgbClr val="9885a3"/>
                  </a:gs>
                  <a:gs pos="100000">
                    <a:srgbClr val="25202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8" name="任意多边形 89094"/>
              <p:cNvSpPr/>
              <p:nvPr/>
            </p:nvSpPr>
            <p:spPr>
              <a:xfrm>
                <a:off x="5955840" y="4992120"/>
                <a:ext cx="851760" cy="3844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885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89" name="文本框 89095"/>
            <p:cNvSpPr/>
            <p:nvPr/>
          </p:nvSpPr>
          <p:spPr>
            <a:xfrm>
              <a:off x="6280560" y="50414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90" name="组合 89096"/>
          <p:cNvGrpSpPr/>
          <p:nvPr/>
        </p:nvGrpSpPr>
        <p:grpSpPr>
          <a:xfrm>
            <a:off x="152280" y="2879640"/>
            <a:ext cx="5403240" cy="1006200"/>
            <a:chOff x="152280" y="2879640"/>
            <a:chExt cx="5403240" cy="1006200"/>
          </a:xfrm>
        </p:grpSpPr>
        <p:sp>
          <p:nvSpPr>
            <p:cNvPr id="591" name="矩形 89097"/>
            <p:cNvSpPr/>
            <p:nvPr/>
          </p:nvSpPr>
          <p:spPr>
            <a:xfrm>
              <a:off x="152280" y="3131640"/>
              <a:ext cx="4665960" cy="71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89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92" name="组合 89098"/>
            <p:cNvGrpSpPr/>
            <p:nvPr/>
          </p:nvGrpSpPr>
          <p:grpSpPr>
            <a:xfrm>
              <a:off x="4467960" y="2879640"/>
              <a:ext cx="1087560" cy="1006200"/>
              <a:chOff x="4467960" y="2879640"/>
              <a:chExt cx="1087560" cy="1006200"/>
            </a:xfrm>
          </p:grpSpPr>
          <p:grpSp>
            <p:nvGrpSpPr>
              <p:cNvPr id="593" name="组合 89099"/>
              <p:cNvGrpSpPr/>
              <p:nvPr/>
            </p:nvGrpSpPr>
            <p:grpSpPr>
              <a:xfrm>
                <a:off x="4467960" y="2879640"/>
                <a:ext cx="1087560" cy="1006200"/>
                <a:chOff x="4467960" y="2879640"/>
                <a:chExt cx="1087560" cy="1006200"/>
              </a:xfrm>
            </p:grpSpPr>
            <p:sp>
              <p:nvSpPr>
                <p:cNvPr id="594" name="椭圆 89100"/>
                <p:cNvSpPr/>
                <p:nvPr/>
              </p:nvSpPr>
              <p:spPr>
                <a:xfrm>
                  <a:off x="4467960" y="2879640"/>
                  <a:ext cx="1087560" cy="1006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89e8e"/>
                    </a:gs>
                    <a:gs pos="100000">
                      <a:srgbClr val="0730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95" name="任意多边形 89101"/>
                <p:cNvSpPr/>
                <p:nvPr/>
              </p:nvSpPr>
              <p:spPr>
                <a:xfrm>
                  <a:off x="4592160" y="2896200"/>
                  <a:ext cx="839160" cy="379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89e8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6" name="文本框 89102"/>
              <p:cNvSpPr/>
              <p:nvPr/>
            </p:nvSpPr>
            <p:spPr>
              <a:xfrm>
                <a:off x="4810320" y="301788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597" name="组合 89103"/>
          <p:cNvGrpSpPr/>
          <p:nvPr/>
        </p:nvGrpSpPr>
        <p:grpSpPr>
          <a:xfrm>
            <a:off x="152280" y="3886200"/>
            <a:ext cx="6119280" cy="1012320"/>
            <a:chOff x="152280" y="3886200"/>
            <a:chExt cx="6119280" cy="1012320"/>
          </a:xfrm>
        </p:grpSpPr>
        <p:sp>
          <p:nvSpPr>
            <p:cNvPr id="598" name="矩形 89104"/>
            <p:cNvSpPr/>
            <p:nvPr/>
          </p:nvSpPr>
          <p:spPr>
            <a:xfrm>
              <a:off x="152280" y="4167000"/>
              <a:ext cx="568656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aa5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99" name="组合 89105"/>
            <p:cNvGrpSpPr/>
            <p:nvPr/>
          </p:nvGrpSpPr>
          <p:grpSpPr>
            <a:xfrm>
              <a:off x="5173560" y="3886200"/>
              <a:ext cx="1098000" cy="1012320"/>
              <a:chOff x="5173560" y="3886200"/>
              <a:chExt cx="1098000" cy="1012320"/>
            </a:xfrm>
          </p:grpSpPr>
          <p:grpSp>
            <p:nvGrpSpPr>
              <p:cNvPr id="600" name="组合 89106"/>
              <p:cNvGrpSpPr/>
              <p:nvPr/>
            </p:nvGrpSpPr>
            <p:grpSpPr>
              <a:xfrm>
                <a:off x="5173560" y="3886200"/>
                <a:ext cx="1098000" cy="1012320"/>
                <a:chOff x="5173560" y="3886200"/>
                <a:chExt cx="1098000" cy="1012320"/>
              </a:xfrm>
            </p:grpSpPr>
            <p:sp>
              <p:nvSpPr>
                <p:cNvPr id="601" name="椭圆 89107"/>
                <p:cNvSpPr/>
                <p:nvPr/>
              </p:nvSpPr>
              <p:spPr>
                <a:xfrm>
                  <a:off x="5173560" y="3886200"/>
                  <a:ext cx="1098000" cy="101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a5de"/>
                    </a:gs>
                    <a:gs pos="100000">
                      <a:srgbClr val="1628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02" name="任意多边形 89108"/>
                <p:cNvSpPr/>
                <p:nvPr/>
              </p:nvSpPr>
              <p:spPr>
                <a:xfrm>
                  <a:off x="5298840" y="3902760"/>
                  <a:ext cx="847080" cy="381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aa5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" name="文本框 89109"/>
              <p:cNvSpPr/>
              <p:nvPr/>
            </p:nvSpPr>
            <p:spPr>
              <a:xfrm>
                <a:off x="5594040" y="394056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604" name="组合 89110"/>
          <p:cNvGrpSpPr/>
          <p:nvPr/>
        </p:nvGrpSpPr>
        <p:grpSpPr>
          <a:xfrm>
            <a:off x="152280" y="1817640"/>
            <a:ext cx="4766760" cy="1001520"/>
            <a:chOff x="152280" y="1817640"/>
            <a:chExt cx="4766760" cy="1001520"/>
          </a:xfrm>
        </p:grpSpPr>
        <p:sp>
          <p:nvSpPr>
            <p:cNvPr id="605" name="矩形 89111"/>
            <p:cNvSpPr/>
            <p:nvPr/>
          </p:nvSpPr>
          <p:spPr>
            <a:xfrm>
              <a:off x="152280" y="2092320"/>
              <a:ext cx="4222440" cy="71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bb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06" name="组合 89112"/>
            <p:cNvGrpSpPr/>
            <p:nvPr/>
          </p:nvGrpSpPr>
          <p:grpSpPr>
            <a:xfrm>
              <a:off x="3820680" y="1817640"/>
              <a:ext cx="1098360" cy="1001520"/>
              <a:chOff x="3820680" y="1817640"/>
              <a:chExt cx="1098360" cy="1001520"/>
            </a:xfrm>
          </p:grpSpPr>
          <p:grpSp>
            <p:nvGrpSpPr>
              <p:cNvPr id="607" name="组合 89113"/>
              <p:cNvGrpSpPr/>
              <p:nvPr/>
            </p:nvGrpSpPr>
            <p:grpSpPr>
              <a:xfrm>
                <a:off x="3820680" y="1817640"/>
                <a:ext cx="1098360" cy="1001520"/>
                <a:chOff x="3820680" y="1817640"/>
                <a:chExt cx="1098360" cy="1001520"/>
              </a:xfrm>
            </p:grpSpPr>
            <p:sp>
              <p:nvSpPr>
                <p:cNvPr id="608" name="椭圆 89114"/>
                <p:cNvSpPr/>
                <p:nvPr/>
              </p:nvSpPr>
              <p:spPr>
                <a:xfrm>
                  <a:off x="3820680" y="1817640"/>
                  <a:ext cx="1098360" cy="100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0bb20"/>
                    </a:gs>
                    <a:gs pos="100000">
                      <a:srgbClr val="5849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09" name="任意多边形 89115"/>
                <p:cNvSpPr/>
                <p:nvPr/>
              </p:nvSpPr>
              <p:spPr>
                <a:xfrm>
                  <a:off x="3945960" y="1834200"/>
                  <a:ext cx="847440" cy="378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0bb2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文本框 89116"/>
              <p:cNvSpPr/>
              <p:nvPr/>
            </p:nvSpPr>
            <p:spPr>
              <a:xfrm>
                <a:off x="4198320" y="192888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611" name="文本框 89117"/>
          <p:cNvSpPr/>
          <p:nvPr/>
        </p:nvSpPr>
        <p:spPr>
          <a:xfrm>
            <a:off x="457200" y="224784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7ac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文本框 89118"/>
          <p:cNvSpPr/>
          <p:nvPr/>
        </p:nvSpPr>
        <p:spPr>
          <a:xfrm>
            <a:off x="685800" y="3352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7ac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文本框 89119"/>
          <p:cNvSpPr/>
          <p:nvPr/>
        </p:nvSpPr>
        <p:spPr>
          <a:xfrm>
            <a:off x="914400" y="4343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7ac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文本框 89120"/>
          <p:cNvSpPr/>
          <p:nvPr/>
        </p:nvSpPr>
        <p:spPr>
          <a:xfrm>
            <a:off x="762120" y="542772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7ac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圆角矩形标注 89121"/>
          <p:cNvSpPr/>
          <p:nvPr/>
        </p:nvSpPr>
        <p:spPr>
          <a:xfrm>
            <a:off x="6324480" y="1752480"/>
            <a:ext cx="2514600" cy="1981440"/>
          </a:xfrm>
          <a:prstGeom prst="wedgeRoundRectCallout">
            <a:avLst>
              <a:gd name="adj1" fmla="val -44759"/>
              <a:gd name="adj2" fmla="val 84694"/>
              <a:gd name="adj3" fmla="val 16667"/>
            </a:avLst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You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xt he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838080" y="2394000"/>
          <a:ext cx="746748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5aa5de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5aa5de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5aa5de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5aa5de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5aa5de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5aa5de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5aa5de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5aa5de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5aa5de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5aa5de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5aa5de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5aa5de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组合 90114"/>
          <p:cNvGrpSpPr/>
          <p:nvPr/>
        </p:nvGrpSpPr>
        <p:grpSpPr>
          <a:xfrm>
            <a:off x="1066680" y="1981080"/>
            <a:ext cx="6782040" cy="4006440"/>
            <a:chOff x="1066680" y="1981080"/>
            <a:chExt cx="6782040" cy="4006440"/>
          </a:xfrm>
        </p:grpSpPr>
        <p:sp>
          <p:nvSpPr>
            <p:cNvPr id="620" name="圆角矩形 90115"/>
            <p:cNvSpPr/>
            <p:nvPr/>
          </p:nvSpPr>
          <p:spPr>
            <a:xfrm>
              <a:off x="10666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e0bb20"/>
                </a:gs>
                <a:gs pos="100000">
                  <a:srgbClr val="fbf7e4"/>
                </a:gs>
              </a:gsLst>
              <a:lin ang="5400000"/>
            </a:gradFill>
            <a:ln w="25560">
              <a:solidFill>
                <a:srgbClr val="9885a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621" name="对象 90116" descr=""/>
            <p:cNvPicPr/>
            <p:nvPr/>
          </p:nvPicPr>
          <p:blipFill>
            <a:blip r:embed="rId1"/>
            <a:stretch/>
          </p:blipFill>
          <p:spPr>
            <a:xfrm>
              <a:off x="1251360" y="259740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圆角矩形 90117"/>
            <p:cNvSpPr/>
            <p:nvPr/>
          </p:nvSpPr>
          <p:spPr>
            <a:xfrm>
              <a:off x="137484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8570f"/>
                </a:gs>
                <a:gs pos="50000">
                  <a:srgbClr val="e0bb20"/>
                </a:gs>
                <a:gs pos="100000">
                  <a:srgbClr val="6857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3" name="八边形 90118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4" name="八边形 90119"/>
            <p:cNvSpPr/>
            <p:nvPr/>
          </p:nvSpPr>
          <p:spPr>
            <a:xfrm>
              <a:off x="384084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5" name="圆角矩形 90120"/>
            <p:cNvSpPr/>
            <p:nvPr/>
          </p:nvSpPr>
          <p:spPr>
            <a:xfrm>
              <a:off x="451944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189e8e"/>
                </a:gs>
                <a:gs pos="100000">
                  <a:srgbClr val="c0e4e0"/>
                </a:gs>
              </a:gsLst>
              <a:lin ang="5400000"/>
            </a:gradFill>
            <a:ln w="25560">
              <a:solidFill>
                <a:srgbClr val="189e8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626" name="对象 90121" descr=""/>
            <p:cNvPicPr/>
            <p:nvPr/>
          </p:nvPicPr>
          <p:blipFill>
            <a:blip r:embed="rId2"/>
            <a:stretch/>
          </p:blipFill>
          <p:spPr>
            <a:xfrm>
              <a:off x="4704120" y="2597400"/>
              <a:ext cx="292824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圆角矩形 90122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b4942"/>
                </a:gs>
                <a:gs pos="50000">
                  <a:srgbClr val="189e8e"/>
                </a:gs>
                <a:gs pos="100000">
                  <a:srgbClr val="0b49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8" name="八边形 90123"/>
            <p:cNvSpPr/>
            <p:nvPr/>
          </p:nvSpPr>
          <p:spPr>
            <a:xfrm>
              <a:off x="495072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9" name="八边形 90124"/>
            <p:cNvSpPr/>
            <p:nvPr/>
          </p:nvSpPr>
          <p:spPr>
            <a:xfrm>
              <a:off x="72936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30" name="文本框 8198"/>
          <p:cNvSpPr/>
          <p:nvPr/>
        </p:nvSpPr>
        <p:spPr>
          <a:xfrm>
            <a:off x="914400" y="13716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aa5de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5aa5de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椭圆 94211"/>
          <p:cNvSpPr/>
          <p:nvPr/>
        </p:nvSpPr>
        <p:spPr>
          <a:xfrm>
            <a:off x="2138400" y="446580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7f9f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椭圆 94212"/>
          <p:cNvSpPr/>
          <p:nvPr/>
        </p:nvSpPr>
        <p:spPr>
          <a:xfrm rot="20601600">
            <a:off x="1413000" y="235224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50000">
                <a:srgbClr val="aeaeae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椭圆 94213"/>
          <p:cNvSpPr/>
          <p:nvPr/>
        </p:nvSpPr>
        <p:spPr>
          <a:xfrm rot="20601600">
            <a:off x="1469520" y="219024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2791bb"/>
              </a:gs>
              <a:gs pos="100000">
                <a:srgbClr val="000000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4" name="任意多边形 94214"/>
          <p:cNvSpPr/>
          <p:nvPr/>
        </p:nvSpPr>
        <p:spPr>
          <a:xfrm rot="20601600">
            <a:off x="4125960" y="2079360"/>
            <a:ext cx="2849400" cy="1966680"/>
          </a:xfrm>
          <a:custGeom>
            <a:avLst/>
            <a:gdLst/>
            <a:ahLst/>
            <a:rect l="l" t="t" r="r" b="b"/>
            <a:pathLst>
              <a:path fill="none" w="21600" h="29046">
                <a:moveTo>
                  <a:pt x="13190" y="0"/>
                </a:moveTo>
                <a:cubicBezTo>
                  <a:pt x="18306" y="3949"/>
                  <a:pt x="21600" y="10143"/>
                  <a:pt x="21600" y="17105"/>
                </a:cubicBezTo>
                <a:cubicBezTo>
                  <a:pt x="21600" y="21521"/>
                  <a:pt x="20275" y="25628"/>
                  <a:pt x="18001" y="29048"/>
                </a:cubicBezTo>
              </a:path>
              <a:path stroke="0" w="21600" h="29046">
                <a:moveTo>
                  <a:pt x="17998" y="29046"/>
                </a:moveTo>
                <a:cubicBezTo>
                  <a:pt x="18365" y="28558"/>
                  <a:pt x="18753" y="28299"/>
                  <a:pt x="19155" y="28299"/>
                </a:cubicBezTo>
                <a:cubicBezTo>
                  <a:pt x="21477" y="28299"/>
                  <a:pt x="23360" y="36963"/>
                  <a:pt x="23360" y="47651"/>
                </a:cubicBezTo>
                <a:cubicBezTo>
                  <a:pt x="23360" y="48518"/>
                  <a:pt x="23348" y="49372"/>
                  <a:pt x="23324" y="50203"/>
                </a:cubicBezTo>
                <a:lnTo>
                  <a:pt x="13190" y="0"/>
                </a:lnTo>
                <a:close/>
              </a:path>
            </a:pathLst>
          </a:custGeom>
          <a:gradFill rotWithShape="0">
            <a:gsLst>
              <a:gs pos="0">
                <a:srgbClr val="5aa5de"/>
              </a:gs>
              <a:gs pos="100000">
                <a:srgbClr val="96c6ea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任意多边形 94215"/>
          <p:cNvSpPr/>
          <p:nvPr/>
        </p:nvSpPr>
        <p:spPr>
          <a:xfrm flipH="1" rot="20602200">
            <a:off x="1713600" y="3954600"/>
            <a:ext cx="3281040" cy="1476720"/>
          </a:xfrm>
          <a:custGeom>
            <a:avLst/>
            <a:gdLst/>
            <a:ahLst/>
            <a:rect l="l" t="t" r="r" b="b"/>
            <a:pathLst>
              <a:path fill="none" w="25114" h="21600">
                <a:moveTo>
                  <a:pt x="25114" y="2496"/>
                </a:moveTo>
                <a:cubicBezTo>
                  <a:pt x="23874" y="13254"/>
                  <a:pt x="14741" y="21600"/>
                  <a:pt x="3659" y="21600"/>
                </a:cubicBezTo>
                <a:cubicBezTo>
                  <a:pt x="2408" y="21600"/>
                  <a:pt x="1182" y="21494"/>
                  <a:pt x="-4" y="21291"/>
                </a:cubicBezTo>
              </a:path>
              <a:path stroke="0" w="25114" h="21600">
                <a:moveTo>
                  <a:pt x="0" y="21287"/>
                </a:moveTo>
                <a:cubicBezTo>
                  <a:pt x="0" y="21295"/>
                  <a:pt x="0" y="21304"/>
                  <a:pt x="0" y="21313"/>
                </a:cubicBezTo>
                <a:cubicBezTo>
                  <a:pt x="0" y="21332"/>
                  <a:pt x="0" y="21351"/>
                  <a:pt x="0" y="21369"/>
                </a:cubicBezTo>
                <a:lnTo>
                  <a:pt x="25114" y="2496"/>
                </a:lnTo>
                <a:close/>
              </a:path>
            </a:pathLst>
          </a:custGeom>
          <a:gradFill rotWithShape="0">
            <a:gsLst>
              <a:gs pos="0">
                <a:srgbClr val="116e63"/>
              </a:gs>
              <a:gs pos="100000">
                <a:srgbClr val="189e8e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任意多边形 94216"/>
          <p:cNvSpPr/>
          <p:nvPr/>
        </p:nvSpPr>
        <p:spPr>
          <a:xfrm rot="20601600">
            <a:off x="2722680" y="2125440"/>
            <a:ext cx="3228840" cy="1417680"/>
          </a:xfrm>
          <a:custGeom>
            <a:avLst/>
            <a:gdLst/>
            <a:ahLst/>
            <a:rect l="l" t="t" r="r" b="b"/>
            <a:pathLst>
              <a:path fill="none" w="24549" h="21600">
                <a:moveTo>
                  <a:pt x="0" y="2372"/>
                </a:moveTo>
                <a:cubicBezTo>
                  <a:pt x="2949" y="854"/>
                  <a:pt x="6296" y="-1"/>
                  <a:pt x="9843" y="-1"/>
                </a:cubicBezTo>
                <a:cubicBezTo>
                  <a:pt x="15524" y="-1"/>
                  <a:pt x="20693" y="2192"/>
                  <a:pt x="24549" y="5778"/>
                </a:cubicBezTo>
              </a:path>
              <a:path stroke="0" w="24549" h="21600">
                <a:moveTo>
                  <a:pt x="24549" y="5779"/>
                </a:moveTo>
                <a:cubicBezTo>
                  <a:pt x="20365" y="2111"/>
                  <a:pt x="17615" y="-4102"/>
                  <a:pt x="17615" y="-11149"/>
                </a:cubicBezTo>
                <a:cubicBezTo>
                  <a:pt x="17615" y="-22423"/>
                  <a:pt x="24654" y="-31563"/>
                  <a:pt x="33336" y="-31563"/>
                </a:cubicBezTo>
                <a:cubicBezTo>
                  <a:pt x="42018" y="-31563"/>
                  <a:pt x="49057" y="-22423"/>
                  <a:pt x="49057" y="-11149"/>
                </a:cubicBezTo>
                <a:cubicBezTo>
                  <a:pt x="49057" y="-7103"/>
                  <a:pt x="48150" y="-3332"/>
                  <a:pt x="46587" y="-160"/>
                </a:cubicBezTo>
                <a:lnTo>
                  <a:pt x="0" y="2372"/>
                </a:lnTo>
                <a:close/>
              </a:path>
            </a:pathLst>
          </a:custGeom>
          <a:gradFill rotWithShape="0">
            <a:gsLst>
              <a:gs pos="0">
                <a:srgbClr val="189e8e"/>
              </a:gs>
              <a:gs pos="100000">
                <a:srgbClr val="9dd6cf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7" name="任意多边形 94217"/>
          <p:cNvSpPr/>
          <p:nvPr/>
        </p:nvSpPr>
        <p:spPr>
          <a:xfrm flipH="1" rot="20602200">
            <a:off x="1370520" y="2719440"/>
            <a:ext cx="2851200" cy="2066400"/>
          </a:xfrm>
          <a:custGeom>
            <a:avLst/>
            <a:gdLst/>
            <a:ahLst/>
            <a:rect l="l" t="t" r="r" b="b"/>
            <a:pathLst>
              <a:path fill="none" w="21600" h="30468">
                <a:moveTo>
                  <a:pt x="8292" y="0"/>
                </a:moveTo>
                <a:cubicBezTo>
                  <a:pt x="16110" y="3250"/>
                  <a:pt x="21600" y="10956"/>
                  <a:pt x="21600" y="19945"/>
                </a:cubicBezTo>
                <a:cubicBezTo>
                  <a:pt x="21600" y="23767"/>
                  <a:pt x="20607" y="27358"/>
                  <a:pt x="18866" y="30471"/>
                </a:cubicBezTo>
              </a:path>
              <a:path stroke="0" w="21600" h="30468">
                <a:moveTo>
                  <a:pt x="18863" y="30468"/>
                </a:moveTo>
                <a:cubicBezTo>
                  <a:pt x="20082" y="25675"/>
                  <a:pt x="21965" y="22602"/>
                  <a:pt x="24077" y="22602"/>
                </a:cubicBezTo>
                <a:cubicBezTo>
                  <a:pt x="27752" y="22602"/>
                  <a:pt x="30731" y="31902"/>
                  <a:pt x="30731" y="43374"/>
                </a:cubicBezTo>
                <a:cubicBezTo>
                  <a:pt x="30731" y="44748"/>
                  <a:pt x="30688" y="46091"/>
                  <a:pt x="30607" y="47385"/>
                </a:cubicBezTo>
                <a:lnTo>
                  <a:pt x="8292" y="0"/>
                </a:lnTo>
                <a:close/>
              </a:path>
            </a:pathLst>
          </a:custGeom>
          <a:gradFill rotWithShape="0">
            <a:gsLst>
              <a:gs pos="0">
                <a:srgbClr val="e0bb20"/>
              </a:gs>
              <a:gs pos="100000">
                <a:srgbClr val="68570f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椭圆 94218"/>
          <p:cNvSpPr/>
          <p:nvPr/>
        </p:nvSpPr>
        <p:spPr>
          <a:xfrm rot="20601600">
            <a:off x="2930400" y="290484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9" name="文本框 94219"/>
          <p:cNvSpPr/>
          <p:nvPr/>
        </p:nvSpPr>
        <p:spPr>
          <a:xfrm>
            <a:off x="1921320" y="35845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Text1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0" name="文本框 94220"/>
          <p:cNvSpPr/>
          <p:nvPr/>
        </p:nvSpPr>
        <p:spPr>
          <a:xfrm>
            <a:off x="3826440" y="23652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Text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1" name="文本框 94221"/>
          <p:cNvSpPr/>
          <p:nvPr/>
        </p:nvSpPr>
        <p:spPr>
          <a:xfrm>
            <a:off x="5655240" y="26701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Text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文本框 94222"/>
          <p:cNvSpPr/>
          <p:nvPr/>
        </p:nvSpPr>
        <p:spPr>
          <a:xfrm>
            <a:off x="3140640" y="457524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Text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3" name="任意多边形 94223"/>
          <p:cNvSpPr/>
          <p:nvPr/>
        </p:nvSpPr>
        <p:spPr>
          <a:xfrm>
            <a:off x="4419720" y="4191120"/>
            <a:ext cx="863640" cy="1079280"/>
          </a:xfrm>
          <a:custGeom>
            <a:avLst/>
            <a:gdLst/>
            <a:ahLst/>
            <a:rect l="l" t="t" r="r" b="b"/>
            <a:pathLst>
              <a:path w="544" h="680">
                <a:moveTo>
                  <a:pt x="0" y="16"/>
                </a:moveTo>
                <a:lnTo>
                  <a:pt x="256" y="528"/>
                </a:lnTo>
                <a:lnTo>
                  <a:pt x="264" y="680"/>
                </a:lnTo>
                <a:lnTo>
                  <a:pt x="448" y="624"/>
                </a:lnTo>
                <a:lnTo>
                  <a:pt x="544" y="576"/>
                </a:lnTo>
                <a:lnTo>
                  <a:pt x="112" y="0"/>
                </a:lnTo>
                <a:lnTo>
                  <a:pt x="0" y="16"/>
                </a:lnTo>
                <a:close/>
              </a:path>
            </a:pathLst>
          </a:custGeom>
          <a:gradFill rotWithShape="0">
            <a:gsLst>
              <a:gs pos="0">
                <a:srgbClr val="9885a3"/>
              </a:gs>
              <a:gs pos="100000">
                <a:srgbClr val="4a41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4" name="任意多边形 94224"/>
          <p:cNvSpPr/>
          <p:nvPr/>
        </p:nvSpPr>
        <p:spPr>
          <a:xfrm>
            <a:off x="5356080" y="3506760"/>
            <a:ext cx="1773360" cy="1776600"/>
          </a:xfrm>
          <a:custGeom>
            <a:avLst/>
            <a:gdLst/>
            <a:ahLst/>
            <a:rect l="l" t="t" r="r" b="b"/>
            <a:pathLst>
              <a:path w="1117" h="1119">
                <a:moveTo>
                  <a:pt x="21" y="888"/>
                </a:moveTo>
                <a:lnTo>
                  <a:pt x="1117" y="0"/>
                </a:lnTo>
                <a:lnTo>
                  <a:pt x="1093" y="256"/>
                </a:lnTo>
                <a:cubicBezTo>
                  <a:pt x="1026" y="373"/>
                  <a:pt x="896" y="560"/>
                  <a:pt x="717" y="704"/>
                </a:cubicBezTo>
                <a:cubicBezTo>
                  <a:pt x="538" y="848"/>
                  <a:pt x="133" y="1088"/>
                  <a:pt x="17" y="1119"/>
                </a:cubicBezTo>
                <a:cubicBezTo>
                  <a:pt x="0" y="1037"/>
                  <a:pt x="21" y="888"/>
                  <a:pt x="21" y="888"/>
                </a:cubicBezTo>
                <a:close/>
              </a:path>
            </a:pathLst>
          </a:custGeom>
          <a:gradFill rotWithShape="0">
            <a:gsLst>
              <a:gs pos="0">
                <a:srgbClr val="6a5d72"/>
              </a:gs>
              <a:gs pos="100000">
                <a:srgbClr val="9885a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5" name="任意多边形 94225"/>
          <p:cNvSpPr/>
          <p:nvPr/>
        </p:nvSpPr>
        <p:spPr>
          <a:xfrm rot="20539200">
            <a:off x="4419720" y="2895480"/>
            <a:ext cx="2728800" cy="1859040"/>
          </a:xfrm>
          <a:custGeom>
            <a:avLst/>
            <a:gdLst/>
            <a:ahLst/>
            <a:rect l="l" t="t" r="r" b="b"/>
            <a:pathLst>
              <a:path fill="none" w="18016" h="21282">
                <a:moveTo>
                  <a:pt x="18016" y="11915"/>
                </a:moveTo>
                <a:cubicBezTo>
                  <a:pt x="14798" y="16775"/>
                  <a:pt x="9667" y="20255"/>
                  <a:pt x="3705" y="21284"/>
                </a:cubicBezTo>
              </a:path>
              <a:path stroke="0" w="18016" h="21282">
                <a:moveTo>
                  <a:pt x="3694" y="21281"/>
                </a:moveTo>
                <a:cubicBezTo>
                  <a:pt x="3701" y="21445"/>
                  <a:pt x="3704" y="21612"/>
                  <a:pt x="3704" y="21781"/>
                </a:cubicBezTo>
                <a:cubicBezTo>
                  <a:pt x="3704" y="22331"/>
                  <a:pt x="3670" y="22860"/>
                  <a:pt x="3608" y="23352"/>
                </a:cubicBezTo>
                <a:lnTo>
                  <a:pt x="18016" y="11915"/>
                </a:lnTo>
                <a:close/>
              </a:path>
            </a:pathLst>
          </a:custGeom>
          <a:gradFill rotWithShape="0">
            <a:gsLst>
              <a:gs pos="0">
                <a:srgbClr val="9885a3"/>
              </a:gs>
              <a:gs pos="100000">
                <a:srgbClr val="584d5e"/>
              </a:gs>
            </a:gsLst>
            <a:lin ang="10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6" name="任意多边形 94226"/>
          <p:cNvSpPr/>
          <p:nvPr/>
        </p:nvSpPr>
        <p:spPr>
          <a:xfrm>
            <a:off x="4491000" y="3983040"/>
            <a:ext cx="924120" cy="1311120"/>
          </a:xfrm>
          <a:custGeom>
            <a:avLst/>
            <a:gdLst/>
            <a:ahLst/>
            <a:rect l="l" t="t" r="r" b="b"/>
            <a:pathLst>
              <a:path w="582" h="826">
                <a:moveTo>
                  <a:pt x="582" y="572"/>
                </a:moveTo>
                <a:lnTo>
                  <a:pt x="562" y="826"/>
                </a:lnTo>
                <a:lnTo>
                  <a:pt x="0" y="42"/>
                </a:lnTo>
                <a:lnTo>
                  <a:pt x="90" y="0"/>
                </a:lnTo>
                <a:lnTo>
                  <a:pt x="582" y="572"/>
                </a:lnTo>
                <a:close/>
              </a:path>
            </a:pathLst>
          </a:custGeom>
          <a:gradFill rotWithShape="0">
            <a:gsLst>
              <a:gs pos="0">
                <a:srgbClr val="9885a3"/>
              </a:gs>
              <a:gs pos="100000">
                <a:srgbClr val="73657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7" name="椭圆 94227"/>
          <p:cNvSpPr/>
          <p:nvPr/>
        </p:nvSpPr>
        <p:spPr>
          <a:xfrm rot="20601600">
            <a:off x="3032280" y="3157560"/>
            <a:ext cx="2585880" cy="1090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文本框 94228"/>
          <p:cNvSpPr/>
          <p:nvPr/>
        </p:nvSpPr>
        <p:spPr>
          <a:xfrm>
            <a:off x="5383800" y="39006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Text4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组合 86061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40" name="圆角矩形 86062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f1d0"/>
                </a:gs>
                <a:gs pos="100000">
                  <a:srgbClr val="e0bb20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" name="菱形 86063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e0bb2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" name="文本框 86064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文本框 86065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4" name="组合 86081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45" name="圆角矩形 86082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eeae7"/>
                </a:gs>
                <a:gs pos="100000">
                  <a:srgbClr val="189e8e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菱形 86083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189e8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文本框 86084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文本框 86085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9" name="组合 86086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50" name="圆角矩形 86087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fe3f5"/>
                </a:gs>
                <a:gs pos="100000">
                  <a:srgbClr val="1d7acf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菱形 86088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5aa5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" name="文本框 86089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文本框 86090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4" name="组合 86091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55" name="圆角矩形 86092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9e5ec"/>
                </a:gs>
                <a:gs pos="100000">
                  <a:srgbClr val="9885a3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" name="菱形 86093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885a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" name="文本框 86094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8" name="文本框 86095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ED05-E492-4A87-847C-58C9594BB304}" type="slidenum">
              <a:rPr b="0" lang="zh-CN" sz="14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1600200" y="2285640"/>
            <a:ext cx="327672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lick to edit company slogan .</a:t>
            </a:r>
            <a:endParaRPr b="1" lang="en-US" sz="1400" spc="-1" strike="noStrike">
              <a:solidFill>
                <a:srgbClr val="1d7acf"/>
              </a:solidFill>
              <a:latin typeface="Arial"/>
            </a:endParaRPr>
          </a:p>
        </p:txBody>
      </p:sp>
      <p:sp>
        <p:nvSpPr>
          <p:cNvPr id="655" name="矩形 84996"/>
          <p:cNvSpPr txBox="1"/>
          <p:nvPr/>
        </p:nvSpPr>
        <p:spPr>
          <a:xfrm>
            <a:off x="1187280" y="1125360"/>
            <a:ext cx="4105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1d7acf"/>
                    </a:gs>
                    <a:gs pos="100000">
                      <a:srgbClr val="189e8e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0000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1d7acf"/>
                  </a:gs>
                  <a:gs pos="100000">
                    <a:srgbClr val="189e8e"/>
                  </a:gs>
                </a:gsLst>
                <a:lin ang="0"/>
              </a:gradFill>
              <a:effectLst>
                <a:outerShdw dist="71785" dir="2700000" blurRad="0" rotWithShape="0">
                  <a:srgbClr val="0000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18840" y="1665000"/>
            <a:ext cx="782460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26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189e8e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189e8e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189e8e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189e8e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26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组合 95234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63" name="任意多边形 95235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" name="椭圆 95236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" name="椭圆 95237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椭圆 95238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7" name="椭圆 95239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" name="椭圆 95240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" name="椭圆 95241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5aa5de"/>
                </a:gs>
                <a:gs pos="100000">
                  <a:srgbClr val="1f39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0" name="椭圆 95242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189e8e"/>
                </a:gs>
                <a:gs pos="100000">
                  <a:srgbClr val="08322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椭圆 95243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e0bb20"/>
                </a:gs>
                <a:gs pos="100000">
                  <a:srgbClr val="5043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椭圆 95244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椭圆 95245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885a3"/>
                </a:gs>
                <a:gs pos="100000">
                  <a:srgbClr val="342e3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文本框 95246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文本框 95247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文本框 95248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文本框 95249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文本框 95250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" name="文本框 95251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Cycle name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2602080" y="2452680"/>
              <a:ext cx="1627200" cy="1251000"/>
              <a:chOff x="2602080" y="2452680"/>
              <a:chExt cx="1627200" cy="1251000"/>
            </a:xfrm>
          </p:grpSpPr>
          <p:sp>
            <p:nvSpPr>
              <p:cNvPr id="181" name="直接连接符 95252"/>
              <p:cNvSpPr/>
              <p:nvPr/>
            </p:nvSpPr>
            <p:spPr>
              <a:xfrm>
                <a:off x="2602080" y="2452680"/>
                <a:ext cx="1627200" cy="1251000"/>
              </a:xfrm>
              <a:prstGeom prst="line">
                <a:avLst/>
              </a:prstGeom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 txBox="1"/>
              <p:nvPr/>
            </p:nvSpPr>
            <p:spPr>
              <a:xfrm>
                <a:off x="2602080" y="245268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cxnSp>
          <p:nvCxnSpPr>
            <p:cNvPr id="183" name="直接箭头连接符 95253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round/>
            </a:ln>
          </p:spPr>
        </p:cxnSp>
        <p:sp>
          <p:nvSpPr>
            <p:cNvPr id="184" name="文本框 95254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5" name="页脚占位符 1"/>
          <p:cNvSpPr/>
          <p:nvPr/>
        </p:nvSpPr>
        <p:spPr>
          <a:xfrm>
            <a:off x="63244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圆角矩形 68610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圆角矩形 68612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文本框 68613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任意多边形 68614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0bb20"/>
              </a:gs>
              <a:gs pos="100000">
                <a:srgbClr val="ebd4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矩形 68615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任意多边形 68616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a5de"/>
              </a:gs>
              <a:gs pos="100000">
                <a:srgbClr val="cbe2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93" name="组合 68617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94" name="组合 68618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95" name="椭圆 68619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aa5de"/>
                  </a:gs>
                  <a:gs pos="100000">
                    <a:srgbClr val="2c506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6" name="椭圆 68620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6d7f0"/>
                  </a:gs>
                  <a:gs pos="100000">
                    <a:srgbClr val="5aa5d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97" name="椭圆 68621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0b4942"/>
                </a:gs>
                <a:gs pos="100000">
                  <a:srgbClr val="189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椭圆 68622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189e8e">
                    <a:alpha val="0"/>
                  </a:srgbClr>
                </a:gs>
                <a:gs pos="100000">
                  <a:srgbClr val="aedd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椭圆 68623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137d70"/>
                </a:gs>
                <a:gs pos="100000">
                  <a:srgbClr val="189e8e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椭圆 68624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89e8e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1" name="文本框 68625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文本框 68626"/>
          <p:cNvSpPr/>
          <p:nvPr/>
        </p:nvSpPr>
        <p:spPr>
          <a:xfrm>
            <a:off x="58104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组合 70658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05" name="圆柱形 70659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3e4b"/>
                </a:gs>
                <a:gs pos="50000">
                  <a:srgbClr val="9885a3"/>
                </a:gs>
                <a:gs pos="100000">
                  <a:srgbClr val="463e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圆柱形 70660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3e4b"/>
                </a:gs>
                <a:gs pos="50000">
                  <a:srgbClr val="9885a3"/>
                </a:gs>
                <a:gs pos="100000">
                  <a:srgbClr val="463e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圆柱形 70661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3e4b"/>
                </a:gs>
                <a:gs pos="50000">
                  <a:srgbClr val="9885a3"/>
                </a:gs>
                <a:gs pos="100000">
                  <a:srgbClr val="463e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文本框 70662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文本框 70663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文本框 70664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" name="左箭头 70665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7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圆角矩形 70666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文本框 70667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圆角矩形 70668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" name="文本框 70669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右箭头 70670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5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圆柱形 70671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b4942"/>
                </a:gs>
                <a:gs pos="50000">
                  <a:srgbClr val="189e8e"/>
                </a:gs>
                <a:gs pos="100000">
                  <a:srgbClr val="0b49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上箭头 70672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24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文本框 70673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圆柱形 70674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a4c67"/>
                </a:gs>
                <a:gs pos="50000">
                  <a:srgbClr val="5aa5de"/>
                </a:gs>
                <a:gs pos="100000">
                  <a:srgbClr val="2a4c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文本框 70675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下箭头 70676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42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23" name="文本框 8198"/>
          <p:cNvSpPr/>
          <p:nvPr/>
        </p:nvSpPr>
        <p:spPr>
          <a:xfrm>
            <a:off x="762120" y="121932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aa5de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5aa5de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组合 71682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26" name="组合 71683"/>
            <p:cNvGrpSpPr/>
            <p:nvPr/>
          </p:nvGrpSpPr>
          <p:grpSpPr>
            <a:xfrm>
              <a:off x="3009240" y="2209680"/>
              <a:ext cx="2899800" cy="2705400"/>
              <a:chOff x="3009240" y="2209680"/>
              <a:chExt cx="2899800" cy="2705400"/>
            </a:xfrm>
          </p:grpSpPr>
          <p:sp>
            <p:nvSpPr>
              <p:cNvPr id="227" name="上箭头 71684"/>
              <p:cNvSpPr/>
              <p:nvPr/>
            </p:nvSpPr>
            <p:spPr>
              <a:xfrm flipH="1" rot="16200000">
                <a:off x="2928240" y="325656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7acf"/>
                  </a:gs>
                  <a:gs pos="100000">
                    <a:srgbClr val="a6cbec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8" name="上箭头 71685"/>
              <p:cNvSpPr/>
              <p:nvPr/>
            </p:nvSpPr>
            <p:spPr>
              <a:xfrm flipH="1" rot="5400000">
                <a:off x="5531040" y="320616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7acf"/>
                  </a:gs>
                  <a:gs pos="100000">
                    <a:srgbClr val="a6cb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9" name="上箭头 71686"/>
              <p:cNvSpPr/>
              <p:nvPr/>
            </p:nvSpPr>
            <p:spPr>
              <a:xfrm flipH="1" rot="10800000">
                <a:off x="42404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7acf"/>
                  </a:gs>
                  <a:gs pos="100000">
                    <a:srgbClr val="a6cbe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0" name="椭圆 71687"/>
              <p:cNvSpPr/>
              <p:nvPr/>
            </p:nvSpPr>
            <p:spPr>
              <a:xfrm>
                <a:off x="330840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1" name="椭圆 71688"/>
              <p:cNvSpPr/>
              <p:nvPr/>
            </p:nvSpPr>
            <p:spPr>
              <a:xfrm>
                <a:off x="344124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2" name="椭圆 71689"/>
              <p:cNvSpPr/>
              <p:nvPr/>
            </p:nvSpPr>
            <p:spPr>
              <a:xfrm>
                <a:off x="35622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aa5de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3" name="椭圆 71690"/>
              <p:cNvSpPr/>
              <p:nvPr/>
            </p:nvSpPr>
            <p:spPr>
              <a:xfrm>
                <a:off x="35622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4" name="椭圆 71691"/>
              <p:cNvSpPr/>
              <p:nvPr/>
            </p:nvSpPr>
            <p:spPr>
              <a:xfrm>
                <a:off x="36817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315978"/>
                  </a:gs>
                  <a:gs pos="50000">
                    <a:srgbClr val="5aa5de"/>
                  </a:gs>
                  <a:gs pos="100000">
                    <a:srgbClr val="31597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5" name="椭圆 71692"/>
              <p:cNvSpPr/>
              <p:nvPr/>
            </p:nvSpPr>
            <p:spPr>
              <a:xfrm>
                <a:off x="36817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36" name="圆柱形 71693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a4c67"/>
                </a:gs>
                <a:gs pos="50000">
                  <a:srgbClr val="5aa5de"/>
                </a:gs>
                <a:gs pos="100000">
                  <a:srgbClr val="2a4c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圆柱形 71694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a4c67"/>
                </a:gs>
                <a:gs pos="50000">
                  <a:srgbClr val="5aa5de"/>
                </a:gs>
                <a:gs pos="100000">
                  <a:srgbClr val="2a4c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圆柱形 71695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a4c67"/>
                </a:gs>
                <a:gs pos="50000">
                  <a:srgbClr val="5aa5de"/>
                </a:gs>
                <a:gs pos="100000">
                  <a:srgbClr val="2a4c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圆柱形 71696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b4942"/>
                </a:gs>
                <a:gs pos="50000">
                  <a:srgbClr val="189e8e"/>
                </a:gs>
                <a:gs pos="100000">
                  <a:srgbClr val="0b49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0" name="圆柱形 71697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b4942"/>
                </a:gs>
                <a:gs pos="50000">
                  <a:srgbClr val="189e8e"/>
                </a:gs>
                <a:gs pos="100000">
                  <a:srgbClr val="0b49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1" name="圆柱形 71698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b4942"/>
                </a:gs>
                <a:gs pos="50000">
                  <a:srgbClr val="189e8e"/>
                </a:gs>
                <a:gs pos="100000">
                  <a:srgbClr val="0b49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2" name="文本框 71699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3" name="圆角矩形 71700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4" name="文本框 71701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5" name="文本框 71702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6" name="文本框 71703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7" name="文本框 71704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8" name="文本框 71705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9" name="文本框 71706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73000" y="5621400"/>
            <a:ext cx="1657440" cy="1440"/>
            <a:chOff x="873000" y="5621400"/>
            <a:chExt cx="1657440" cy="1440"/>
          </a:xfrm>
        </p:grpSpPr>
        <p:sp>
          <p:nvSpPr>
            <p:cNvPr id="252" name="直接连接符 72706"/>
            <p:cNvSpPr/>
            <p:nvPr/>
          </p:nvSpPr>
          <p:spPr>
            <a:xfrm flipH="1">
              <a:off x="873000" y="5621400"/>
              <a:ext cx="1657440" cy="144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873000" y="5621400"/>
              <a:ext cx="1657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73000" y="4782960"/>
            <a:ext cx="2438640" cy="360"/>
            <a:chOff x="873000" y="4782960"/>
            <a:chExt cx="2438640" cy="360"/>
          </a:xfrm>
        </p:grpSpPr>
        <p:sp>
          <p:nvSpPr>
            <p:cNvPr id="255" name="直接连接符 72707"/>
            <p:cNvSpPr/>
            <p:nvPr/>
          </p:nvSpPr>
          <p:spPr>
            <a:xfrm flipH="1">
              <a:off x="873000" y="4782960"/>
              <a:ext cx="243864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873000" y="4782960"/>
              <a:ext cx="2438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873000" y="3952800"/>
            <a:ext cx="3353040" cy="360"/>
            <a:chOff x="873000" y="3952800"/>
            <a:chExt cx="3353040" cy="360"/>
          </a:xfrm>
        </p:grpSpPr>
        <p:sp>
          <p:nvSpPr>
            <p:cNvPr id="258" name="直接连接符 72708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873000" y="3952800"/>
              <a:ext cx="3353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872640" y="3124080"/>
            <a:ext cx="4165920" cy="360"/>
            <a:chOff x="872640" y="3124080"/>
            <a:chExt cx="4165920" cy="360"/>
          </a:xfrm>
        </p:grpSpPr>
        <p:sp>
          <p:nvSpPr>
            <p:cNvPr id="261" name="直接连接符 72709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873000" y="3124080"/>
              <a:ext cx="4165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873000" y="2282400"/>
            <a:ext cx="5034240" cy="360"/>
            <a:chOff x="873000" y="2282400"/>
            <a:chExt cx="5034240" cy="360"/>
          </a:xfrm>
        </p:grpSpPr>
        <p:sp>
          <p:nvSpPr>
            <p:cNvPr id="264" name="直接连接符 72710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 rot="10800000">
              <a:off x="873000" y="2282040"/>
              <a:ext cx="503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025640" y="2276640"/>
            <a:ext cx="360" cy="871200"/>
            <a:chOff x="1025640" y="2276640"/>
            <a:chExt cx="360" cy="871200"/>
          </a:xfrm>
        </p:grpSpPr>
        <p:sp>
          <p:nvSpPr>
            <p:cNvPr id="267" name="直接连接符 72711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00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1025640" y="2276640"/>
              <a:ext cx="360" cy="87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025640" y="3147840"/>
            <a:ext cx="360" cy="817560"/>
            <a:chOff x="1025640" y="3147840"/>
            <a:chExt cx="360" cy="817560"/>
          </a:xfrm>
        </p:grpSpPr>
        <p:sp>
          <p:nvSpPr>
            <p:cNvPr id="270" name="直接连接符 72712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00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1025640" y="3147840"/>
              <a:ext cx="36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025640" y="3965400"/>
            <a:ext cx="360" cy="816120"/>
            <a:chOff x="1025640" y="3965400"/>
            <a:chExt cx="360" cy="816120"/>
          </a:xfrm>
        </p:grpSpPr>
        <p:sp>
          <p:nvSpPr>
            <p:cNvPr id="273" name="直接连接符 72713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00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1025640" y="3965400"/>
              <a:ext cx="360" cy="81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025640" y="4782960"/>
            <a:ext cx="360" cy="816120"/>
            <a:chOff x="1025640" y="4782960"/>
            <a:chExt cx="360" cy="816120"/>
          </a:xfrm>
        </p:grpSpPr>
        <p:sp>
          <p:nvSpPr>
            <p:cNvPr id="276" name="直接连接符 72714"/>
            <p:cNvSpPr/>
            <p:nvPr/>
          </p:nvSpPr>
          <p:spPr>
            <a:xfrm>
              <a:off x="1025640" y="4782960"/>
              <a:ext cx="0" cy="816120"/>
            </a:xfrm>
            <a:prstGeom prst="line">
              <a:avLst/>
            </a:prstGeom>
            <a:ln w="9360">
              <a:solidFill>
                <a:srgbClr val="00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1025640" y="4782960"/>
              <a:ext cx="360" cy="81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78" name="文本框 72715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文本框 72716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文本框 72717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文本框 72718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82" name="组合 72719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83" name="任意多边形 72720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8570f"/>
                </a:gs>
                <a:gs pos="50000">
                  <a:srgbClr val="e0bb20"/>
                </a:gs>
                <a:gs pos="100000">
                  <a:srgbClr val="6857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4" name="任意多边形 72721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e0b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5" name="任意多边形 72722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a4c67"/>
                </a:gs>
                <a:gs pos="50000">
                  <a:srgbClr val="5aa5de"/>
                </a:gs>
                <a:gs pos="100000">
                  <a:srgbClr val="2a4c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6" name="任意多边形 72723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aa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7" name="任意多边形 72724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63e4b"/>
                </a:gs>
                <a:gs pos="50000">
                  <a:srgbClr val="9885a3"/>
                </a:gs>
                <a:gs pos="100000">
                  <a:srgbClr val="463e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8" name="任意多边形 72725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d3860"/>
                </a:gs>
                <a:gs pos="50000">
                  <a:srgbClr val="1d7acf"/>
                </a:gs>
                <a:gs pos="100000">
                  <a:srgbClr val="0d38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9" name="任意多边形 72726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1d7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0" name="任意多边形 72727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矩形 72728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a38817"/>
                </a:gs>
                <a:gs pos="50000">
                  <a:srgbClr val="e0bb20"/>
                </a:gs>
                <a:gs pos="100000">
                  <a:srgbClr val="a388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矩形 72729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178a1"/>
                </a:gs>
                <a:gs pos="50000">
                  <a:srgbClr val="5aa5de"/>
                </a:gs>
                <a:gs pos="100000">
                  <a:srgbClr val="4178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3" name="任意多边形 72730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88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4" name="矩形 72731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e6076"/>
                </a:gs>
                <a:gs pos="50000">
                  <a:srgbClr val="9885a3"/>
                </a:gs>
                <a:gs pos="100000">
                  <a:srgbClr val="6e6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5" name="矩形 72732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155996"/>
                </a:gs>
                <a:gs pos="50000">
                  <a:srgbClr val="1d7acf"/>
                </a:gs>
                <a:gs pos="100000">
                  <a:srgbClr val="1559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右箭头 73730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84"/>
            </a:avLst>
          </a:prstGeom>
          <a:gradFill rotWithShape="0">
            <a:gsLst>
              <a:gs pos="0">
                <a:srgbClr val="ffffff"/>
              </a:gs>
              <a:gs pos="100000">
                <a:srgbClr val="189e8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圆角矩形 73731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0bb20"/>
              </a:gs>
              <a:gs pos="100000">
                <a:srgbClr val="e9d063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圆角矩形 73732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圆角矩形 73733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a5de"/>
              </a:gs>
              <a:gs pos="100000">
                <a:srgbClr val="8cc0e8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圆角矩形 73734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dd Your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it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5:51Z</dcterms:modified>
  <cp:revision>4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