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733-0B6A-4BDC-A370-AC6ADC8A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632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600" y="3948480"/>
            <a:ext cx="632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42B4-1541-490F-B8AE-6D1C84B3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60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568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4FE-1ECC-4A31-93F1-CAFD74B7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60020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600" y="394848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3000" y="394848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394848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C0EB-5CB9-4D35-9339-7EFD7C8C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64AC-3CBB-4CC0-99CE-2C616833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C18D-2CF4-4F89-BD6B-63A1A6DF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D7DF-5A76-45E1-9220-CFF72715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E69F-0E7C-4B90-B5CE-16941575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9C8A-FDDE-4C67-B40E-FE3A41FD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14600" y="30456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AD3F-5299-4CCC-9D86-0F123AFF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60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6FA7-EFAE-4EDB-B99B-BC1F2149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BF36-B107-4DE3-9A65-5974EC30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5568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0A61-CFAA-40A9-9749-40596500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600" y="3948480"/>
            <a:ext cx="632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8690-58C8-4C69-8466-7B86E82D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632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600" y="3948480"/>
            <a:ext cx="632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C6D3-F714-41D5-A42E-55B7507F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60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5568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7650-54E2-4013-B414-E373A184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60020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600" y="394848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3000" y="394848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394848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A25B-408C-4372-BD28-C8C60924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B4024-4BB8-4B86-9B9A-5A1BA53F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2A6F3-6509-4B44-9A21-0E75730A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007C8-7736-488A-9DBE-D01ADB51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9266C-7518-4032-8F31-9136F7AE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1539A-9CE0-4273-AA3F-6FA8025F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F875-FEAD-4951-BC8D-881A1265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514600" y="30456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000A2-7E3E-490A-966E-E0DB9E97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1460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62E47-AD84-424D-A588-8A183371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568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41163-583E-4759-8362-B473C7A0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14600" y="3948480"/>
            <a:ext cx="632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1DFC2-1521-46B9-9C3F-D2E794C9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632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14600" y="3948480"/>
            <a:ext cx="632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3AAC6-E482-4A8F-BCDF-A9D2F7DB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1460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75568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E62CB-C534-434F-90B2-9AFAA115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91400" y="160020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14600" y="394848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53000" y="394848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91400" y="3948480"/>
            <a:ext cx="203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6E1C-9EED-4923-A743-B6A30415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ACB2-F767-4D23-878C-28EBCB7D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5FF-CE9B-4EF2-98D5-41042040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14600" y="30456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F60A-9DD6-429A-BC12-3A3FF375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60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D4A-F615-486B-A7DA-2B2A7FB8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568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F0B-00C0-47B1-ADE5-6F2CA2F3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6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568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600" y="3948480"/>
            <a:ext cx="632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66C-1A09-4DA9-A595-392A331C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43160" indent="443160" algn="r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886680" algn="r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330200" indent="-443160" algn="r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1773720" indent="-886680" algn="r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1773720" indent="-88668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1773720" indent="-88668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BF00-374B-4297-828B-DA909EDD86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75ED-6263-4973-ADD0-E0E216A9D2B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60A4-23B7-4961-8765-28986D8A23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43160" indent="443160" algn="r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886680" algn="r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330200" indent="-443160" algn="r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1773720" indent="-886680" algn="r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1773720" indent="-88668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1773720" indent="-88668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2A93-FADF-438B-8633-608F165AED9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66720" y="1218960"/>
            <a:ext cx="4343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Black"/>
                <a:ea typeface="宋体"/>
              </a:rPr>
              <a:t>Bearing the Cros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343040" y="2743200"/>
            <a:ext cx="42670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宋体"/>
              </a:rPr>
              <a:t>Your Sub Title Here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图片 2052" descr="verse"/>
          <p:cNvPicPr/>
          <p:nvPr/>
        </p:nvPicPr>
        <p:blipFill>
          <a:blip r:embed="rId1"/>
          <a:stretch/>
        </p:blipFill>
        <p:spPr>
          <a:xfrm>
            <a:off x="3533760" y="4276800"/>
            <a:ext cx="5153040" cy="227628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1012320" y="260280"/>
            <a:ext cx="64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卡通版工作报告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Your Main Poi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宋体"/>
              </a:rPr>
              <a:t>Your Sub Points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文本框 8198"/>
          <p:cNvSpPr/>
          <p:nvPr/>
        </p:nvSpPr>
        <p:spPr>
          <a:xfrm>
            <a:off x="1187280" y="4581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24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Your Main Poi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14600" y="1600200"/>
            <a:ext cx="632448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Your Sub Points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0986-75C4-4A87-B8DD-EAD7A232A8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0" y="1371240"/>
            <a:ext cx="6324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  <a:ea typeface="宋体"/>
              </a:rPr>
              <a:t>Transition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Arial"/>
                <a:ea typeface="宋体"/>
              </a:rPr>
              <a:t>Pag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图片 6146" descr="verse"/>
          <p:cNvPicPr/>
          <p:nvPr/>
        </p:nvPicPr>
        <p:blipFill>
          <a:blip r:embed="rId2"/>
          <a:stretch/>
        </p:blipFill>
        <p:spPr>
          <a:xfrm>
            <a:off x="3533760" y="4276800"/>
            <a:ext cx="515304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5:07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5:36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