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7704-7A93-45FE-92B3-368E8E33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8121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5640" y="3699000"/>
            <a:ext cx="8121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426F-5C58-422C-A218-65AC88B5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17600" y="765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640" y="3699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17600" y="3699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3C1D-739C-44E8-99EC-5CA607B6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2615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1720" y="765000"/>
            <a:ext cx="2615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8160" y="765000"/>
            <a:ext cx="2615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5640" y="3699000"/>
            <a:ext cx="2615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1720" y="3699000"/>
            <a:ext cx="2615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8160" y="3699000"/>
            <a:ext cx="2615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6FE1-C6F6-4590-B157-8A6EC19B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1A05-4E3C-4FA6-8B47-DBB0982C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55640" y="765000"/>
            <a:ext cx="812160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0037-E598-4EB7-8A0A-175345B9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8121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5161-44C6-4361-B43B-01440D92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39632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17600" y="765000"/>
            <a:ext cx="39632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6B82-5452-4A65-8602-B00BC900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3319-DE4D-4E5A-AF4F-513A8895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55640" y="189000"/>
            <a:ext cx="8121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8D46-EEC3-4988-93B9-8E9D8CE3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17600" y="765000"/>
            <a:ext cx="39632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55640" y="3699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2B99-1424-403C-8429-2B5DF7D9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5640" y="765000"/>
            <a:ext cx="812160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468A-C1C6-44D7-9FA0-9E60959C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39632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17600" y="765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17600" y="3699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0FBA-51F9-416C-8B13-37299F4A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7600" y="765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55640" y="3699000"/>
            <a:ext cx="8121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2D4E-AA0C-4BFD-BF87-1195805F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8121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55640" y="3699000"/>
            <a:ext cx="8121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F7F8-3E9F-4E7F-88CA-B04A93DE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7600" y="765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55640" y="3699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17600" y="3699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038A-F884-4AA0-BE36-4CD57973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2615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1720" y="765000"/>
            <a:ext cx="2615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48160" y="765000"/>
            <a:ext cx="2615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55640" y="3699000"/>
            <a:ext cx="2615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1720" y="3699000"/>
            <a:ext cx="2615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48160" y="3699000"/>
            <a:ext cx="2615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9116-0A57-4F98-A593-76FF30D2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8121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29A9-BB7F-4DC8-97CC-0300EF97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39632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17600" y="765000"/>
            <a:ext cx="39632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73E7-9C60-4043-A816-9BA190CB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74C0-A26A-4D3A-8D58-FFB4F49A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9000"/>
            <a:ext cx="8121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4B78-947F-445B-A9E6-0FB5450F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7600" y="765000"/>
            <a:ext cx="39632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5640" y="3699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5AF5-ABB4-43B2-97A5-1301F300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39632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7600" y="765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17600" y="3699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8BD5-1D78-4FBB-92AF-E2115C0D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17600" y="765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640" y="3699000"/>
            <a:ext cx="8121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08F2-0E16-4F61-8532-0EDD8BA0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rcRect l="392" t="0" r="588" b="22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56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C37B-6F6D-4892-B2C8-7A44B41F1CDE}" type="slidenum">
              <a:rPr b="0" lang="zh-CN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755640" y="765000"/>
            <a:ext cx="8121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b3b3b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  <a:p>
            <a:pPr lvl="1" marL="457200" indent="-457200">
              <a:lnSpc>
                <a:spcPct val="150000"/>
              </a:lnSpc>
              <a:spcBef>
                <a:spcPts val="451"/>
              </a:spcBef>
              <a:buClr>
                <a:srgbClr val="3b3b3b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451"/>
              </a:spcBef>
              <a:buClr>
                <a:srgbClr val="3b3b3b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  <a:p>
            <a:pPr lvl="3" marL="1371600" indent="-457200">
              <a:lnSpc>
                <a:spcPct val="150000"/>
              </a:lnSpc>
              <a:spcBef>
                <a:spcPts val="451"/>
              </a:spcBef>
              <a:buClr>
                <a:srgbClr val="3b3b3b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  <a:p>
            <a:pPr lvl="4" marL="1828800" indent="-914400">
              <a:lnSpc>
                <a:spcPct val="150000"/>
              </a:lnSpc>
              <a:spcBef>
                <a:spcPts val="451"/>
              </a:spcBef>
              <a:buClr>
                <a:srgbClr val="3b3b3b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  <a:p>
            <a:pPr lvl="5" marL="1828800" indent="-9144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  <a:p>
            <a:pPr lvl="6" marL="1828800" indent="-9144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1126-4912-43D8-8B9A-3346F39D21A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3AB8-7926-4755-94A2-3A10486C2C9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" descr=""/>
          <p:cNvPicPr/>
          <p:nvPr/>
        </p:nvPicPr>
        <p:blipFill>
          <a:blip r:embed="rId1"/>
          <a:srcRect l="244" t="1711" r="13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68080" y="3917520"/>
            <a:ext cx="826452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5677"/>
                </a:solidFill>
                <a:latin typeface="隶书"/>
                <a:ea typeface="隶书"/>
              </a:rPr>
              <a:t>卡通动漫风格彩虹</a:t>
            </a:r>
            <a:r>
              <a:rPr b="1" lang="en-US" sz="4000" spc="-1" strike="noStrike">
                <a:solidFill>
                  <a:srgbClr val="005677"/>
                </a:solidFill>
                <a:latin typeface="隶书"/>
                <a:ea typeface="隶书"/>
              </a:rPr>
              <a:t>PPT</a:t>
            </a:r>
            <a:r>
              <a:rPr b="1" lang="zh-CN" sz="4000" spc="-1" strike="noStrike">
                <a:solidFill>
                  <a:srgbClr val="005677"/>
                </a:solidFill>
                <a:latin typeface="隶书"/>
                <a:ea typeface="隶书"/>
              </a:rPr>
              <a:t>模板在线下载</a:t>
            </a:r>
            <a:endParaRPr b="1" lang="en-US" sz="40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262626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920" y="2204640"/>
            <a:ext cx="5400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005677"/>
                </a:solidFill>
                <a:latin typeface="Arial"/>
              </a:rPr>
              <a:t>Click to add title</a:t>
            </a:r>
            <a:endParaRPr b="1" lang="en-US" sz="4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932560" y="2965320"/>
            <a:ext cx="3423600" cy="302760"/>
          </a:xfrm>
          <a:prstGeom prst="rect">
            <a:avLst/>
          </a:prstGeom>
          <a:gradFill rotWithShape="0">
            <a:gsLst>
              <a:gs pos="0">
                <a:srgbClr val="00648b"/>
              </a:gs>
              <a:gs pos="100000">
                <a:srgbClr val="00ade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here to add your subtitle</a:t>
            </a:r>
            <a:endParaRPr b="0" lang="en-US" sz="14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290F-66F8-4E62-BBC3-6F041CCAC79F}" type="slidenum">
              <a:rPr b="0" lang="zh-CN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C856-5CE6-4565-9878-D3CFCAD8DC31}" type="slidenum">
              <a:rPr b="0" lang="zh-CN" sz="1400" spc="-1" strike="noStrike">
                <a:solidFill>
                  <a:srgbClr val="26262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5677"/>
                </a:solidFill>
                <a:latin typeface="Arial"/>
              </a:rPr>
              <a:t>Click here to add your title</a:t>
            </a: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26920" y="765000"/>
            <a:ext cx="8066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b3b3b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Click to edit Master text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286B-31D1-454F-BEF0-8B4083DB08A3}" type="slidenum">
              <a:rPr b="0" lang="zh-CN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6923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76923c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22:5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4:37Z</dcterms:modified>
  <cp:revision>17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  <property fmtid="{D5CDD505-2E9C-101B-9397-08002B2CF9AE}" pid="3" name="VIP等级">
    <vt:lpwstr>2</vt:lpwstr>
  </property>
  <property fmtid="{D5CDD505-2E9C-101B-9397-08002B2CF9AE}" pid="4" name="价格">
    <vt:lpwstr>20</vt:lpwstr>
  </property>
  <property fmtid="{D5CDD505-2E9C-101B-9397-08002B2CF9AE}" pid="5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6" name="使用软件">
    <vt:lpwstr>ppt</vt:lpwstr>
  </property>
  <property fmtid="{D5CDD505-2E9C-101B-9397-08002B2CF9AE}" pid="7" name="关键字">
    <vt:lpwstr>PPT背景模板 EN PPT 格式 时尚 蓝 蓝色 潮流 炫光 华丽 梦幻 线 线条 抽象 动态 动感 清新 年轻 活力 青春 渐变 背景 V2</vt:lpwstr>
  </property>
  <property fmtid="{D5CDD505-2E9C-101B-9397-08002B2CF9AE}" pid="8" name="操作代码">
    <vt:lpwstr>2</vt:lpwstr>
  </property>
  <property fmtid="{D5CDD505-2E9C-101B-9397-08002B2CF9AE}" pid="9" name="是否可购买">
    <vt:lpwstr>1</vt:lpwstr>
  </property>
  <property fmtid="{D5CDD505-2E9C-101B-9397-08002B2CF9AE}" pid="10" name="显示VIP等级">
    <vt:lpwstr>2</vt:lpwstr>
  </property>
  <property fmtid="{D5CDD505-2E9C-101B-9397-08002B2CF9AE}" pid="11" name="标题">
    <vt:lpwstr>蓝色梦幻圆点</vt:lpwstr>
  </property>
  <property fmtid="{D5CDD505-2E9C-101B-9397-08002B2CF9AE}" pid="12" name="模板ID">
    <vt:lpwstr>A30220130608A12</vt:lpwstr>
  </property>
  <property fmtid="{D5CDD505-2E9C-101B-9397-08002B2CF9AE}" pid="13" name="模板缩略图">
    <vt:lpwstr>A30220130608A12.png</vt:lpwstr>
  </property>
  <property fmtid="{D5CDD505-2E9C-101B-9397-08002B2CF9AE}" pid="14" name="相关案例">
    <vt:lpwstr>854</vt:lpwstr>
  </property>
  <property fmtid="{D5CDD505-2E9C-101B-9397-08002B2CF9AE}" pid="15" name="缩略图标题">
    <vt:lpwstr>蓝色梦幻圆点</vt:lpwstr>
  </property>
  <property fmtid="{D5CDD505-2E9C-101B-9397-08002B2CF9AE}" pid="16" name="适用软件">
    <vt:lpwstr>PowerPoint 2007及以上版本</vt:lpwstr>
  </property>
  <property fmtid="{D5CDD505-2E9C-101B-9397-08002B2CF9AE}" pid="17" name="附件ID">
    <vt:lpwstr>A30220130608A1201</vt:lpwstr>
  </property>
  <property fmtid="{D5CDD505-2E9C-101B-9397-08002B2CF9AE}" pid="18" name="附件缩略图">
    <vt:lpwstr>A30220130608A1201.png</vt:lpwstr>
  </property>
  <property fmtid="{D5CDD505-2E9C-101B-9397-08002B2CF9AE}" pid="19" name="附件路径">
    <vt:lpwstr>A30220130608A1201.pptx</vt:lpwstr>
  </property>
</Properties>
</file>