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7459-2758-48A1-B361-14EB855C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A6C0-E5B0-405E-9079-A854AFB9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E1DB-CD9D-4334-895F-93CC2B10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A37C-474A-4FA1-B326-9C2A5440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0CFA-AC8E-4829-A191-12E9415D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5C08-91A4-468E-9150-C74477EE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4477-116C-4358-BACD-87AF7A0A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56FE-C49B-4964-9FC3-1928EAD0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C842-1B76-4237-91B9-17B45F28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2075-DA51-493D-A877-92900A04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2EF4-78DD-4DDA-8A68-562B5FA4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AF31-8ACA-4888-8B52-6F7C0B18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7162-BCFD-4D33-9766-9C9054EF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9C8E-4D61-4900-8863-A756328F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5B2D-BCC4-444E-A02B-677C369D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1BED-1C67-4280-AC46-CFF6680C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AD23-D001-4DDB-9F9D-AF3CE242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574A-C215-42BA-B090-B452A02C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7692-20FB-40FE-9087-F5AD957C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0081-902E-44CE-98B9-43592651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D61A-C755-40BC-90C3-40D0396B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4C93-76B7-499F-B057-E0BF640B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646E-3336-41B6-8E2F-9433EDB6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5B62-089D-4D5B-A6C0-9FDCB265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arge_zrvi_3334p204234[1]"/>
          <p:cNvPicPr/>
          <p:nvPr/>
        </p:nvPicPr>
        <p:blipFill>
          <a:blip r:embed="rId2"/>
          <a:stretch/>
        </p:blipFill>
        <p:spPr>
          <a:xfrm>
            <a:off x="0" y="3240"/>
            <a:ext cx="9174240" cy="685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FE5D-58C3-44CF-BBA5-D1F7141779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large_vsrH_4521o132014[1]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314C-CC82-4233-8345-079024F8F5D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4"/>
          <p:cNvSpPr/>
          <p:nvPr/>
        </p:nvSpPr>
        <p:spPr>
          <a:xfrm>
            <a:off x="2071440" y="1125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卡通儿童乐园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EC51-893A-45D3-B048-B4A9E9899D63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60360" y="3502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1:25:06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04:36Z</dcterms:modified>
  <cp:revision>3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