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74F-3567-4250-B9F9-7977D4D5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F0F-6EAA-47C0-A68B-5CA73E88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5BD-AF40-40C2-85A1-C8DB7F60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C84-33E4-491A-8FE7-1F9027F7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1A09-3D75-4A9D-B015-B09CA899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ED3F-0CE5-4216-A8E4-473E6B48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A7A0-1A1F-46CB-AE9A-7F9CA6B9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AB2E-370E-4E69-9967-0833A718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9ABA-44DB-449F-B299-D3ADDF6C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3070-F976-4225-A009-9206554C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2211-CF57-44A8-86FA-87080975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471-CC97-438A-91CC-BD8E9966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31A2-652A-4ED8-8750-F079B5C9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5BF1-DE8F-4990-84C1-3C5DFD3B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D187-7098-4CDE-AF89-D8A840FC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E531-F676-4D58-B74B-E47AEB66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48B7-4C1C-483A-B80F-E8A5A26F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DF0-A67E-4E66-A492-58E5B5BF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653-D27C-4CD8-8584-3017981F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AD7-9B30-49B7-8395-7D77C493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6B8-96E4-49CA-9699-434BB732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1CA-54EA-4E38-ABD6-B075D78C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144-6492-4FB6-96B1-B3EF6611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B5F-D913-4E33-AD30-4239E18A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1BBF-3ED0-46DE-98F7-0A714977DE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7031-FCAF-412A-8F17-D55665D22EF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466C-1E1C-40DE-B566-860217C06B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3571920" y="1643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3926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3714840" y="471492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2700360" y="907920"/>
            <a:ext cx="47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卡通粉色小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7"/>
          <p:cNvSpPr/>
          <p:nvPr/>
        </p:nvSpPr>
        <p:spPr>
          <a:xfrm>
            <a:off x="1592280" y="3357720"/>
            <a:ext cx="10033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2008440" y="3357720"/>
            <a:ext cx="12776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2651400" y="3357720"/>
            <a:ext cx="12776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3294360" y="3357720"/>
            <a:ext cx="12776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3881880" y="3357720"/>
            <a:ext cx="127764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4580280" y="3357720"/>
            <a:ext cx="12776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75BE-059C-484E-98EF-68CC067682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4143240" y="192888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5069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5926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6:25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38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