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39B9-E13A-4C78-8987-0FEF3226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10A1-B1D0-488C-8DC8-F8C0CC68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9E9B-7F07-4A61-8C19-E3649A7B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BFA9-DD33-434F-9303-545368EB8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58A1-E9F2-4CC4-97AA-FBE03F8F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0E56-1368-4344-A86F-8AE31C5E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4CAE-0761-4B9F-877B-9848D2DD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2CD4-3309-4481-B4AF-C2F53EE6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9E0B-77FE-404E-8C66-39BE77C3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AF32-6EFA-48C2-B2AF-019F01F2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6B63-596A-4398-B026-99C5CB36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7265-16B8-4038-B25E-A6F4E49C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5600-2DC6-42D8-99C6-D6694E78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79A2-32F2-441B-8529-1E0806B0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71B7-3CA7-4248-86A1-55B2FE15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E602-5DA7-4DC7-90FC-73AE5F794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254B-6F4F-4A36-8C2D-BA347AFD9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2C65-6075-4525-BC2D-667485A9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7F38-D68F-4FDB-B9BC-0D0883C4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8873-7F2C-4E16-B3E8-AE482F1A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A989-FCBD-47A8-AD60-9F547071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2C3D-5506-4A92-BA89-D013E2F5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0802-97C0-4746-BE4E-1AFF0C23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15F3-436C-4B01-969F-53350D3A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01C1-05FA-43C7-9C4D-AD907D4B18A4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1755-B5B3-4A40-A9C3-FC66CB005FB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4369-AF2C-4F55-900D-585D312FA0B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4076280"/>
            <a:ext cx="4248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65"/>
          <p:cNvSpPr/>
          <p:nvPr/>
        </p:nvSpPr>
        <p:spPr>
          <a:xfrm>
            <a:off x="611280" y="4724280"/>
            <a:ext cx="360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br>
              <a:rPr sz="1800"/>
            </a:b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0" y="6237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468360" y="692280"/>
            <a:ext cx="737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卡通工程挖掘机建筑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5738-0C52-48FC-A142-1D70470B57F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05:30Z</dcterms:modified>
  <cp:revision>717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