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3E3-84A5-4F22-A3F8-C6E38294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817-B6E3-485B-B8F6-A163E487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E79-FF27-4D2C-9E7D-CA3286F3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0D4-9770-4F41-9263-55372B4D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AE74-333C-4A52-A2A3-A161AC32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55CE-9AE7-48A5-828C-82E403ED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13E9-C9A2-467D-A97D-178EB090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D2C8-16FF-439D-BBCA-FDE0799F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8A9C-FAF8-41B1-946B-81433D36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AEC4-BEC7-44BD-A183-03513920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A9DD-E778-4603-BE8A-1CF78A89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B3F-E7AF-401B-9E78-58EC4981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B4E9-14F1-4A3D-BD9E-C23D5AA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3D33-2BBC-4E02-A238-1FCA035C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36CB-E200-4A75-B308-1CA95F6C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A0BF-92D9-4A74-8797-49673DE3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3243-EA32-4C8F-A47B-2AF99EE9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82A1-C8F0-42EF-A44A-813AA28C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E5E0-381B-4800-8054-6F71F40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576AD-9DF1-4837-8FDB-FD4B1EE7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4E7D-CE5B-4532-9212-54F6FA3E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811AB-C3EE-4884-8A0E-E33F8CE3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316-55AD-4218-A349-7F7BC554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BB2F-BFD8-4121-BD1B-A301FA69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009CD-5845-49D0-8BE6-835F52B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B11D-BB52-4BF1-B0E4-10F05B90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4799-B8D8-4FE3-8701-61C14D0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767F-8109-4DCC-B6F5-C4BC29EF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D76C-1AB5-4AF2-A710-743F9194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6FB3-A098-488C-B446-6FBA1F63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8C3-6610-4E70-A524-B84A2E82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0FB-8CB9-49E2-9FE2-813983DC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B44-172E-4AED-8439-E2972131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13C-BA2C-4D70-8FA0-935A98A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D1E-632A-4EF1-9422-6B6FD83C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5DA-F8EC-4746-BDA4-594A15F6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1F3E-4CA0-428E-9273-ECCC2FDA1C69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442B-202B-4D6B-9B80-B4D966CE679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DE59-7DBA-4490-967B-4039B64EA5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1126-5A5F-4905-8F82-A84EC99D87AF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6553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ero"/>
              </a:rPr>
              <a:t>LARGE SCA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061"/>
          <p:cNvSpPr/>
          <p:nvPr/>
        </p:nvSpPr>
        <p:spPr>
          <a:xfrm>
            <a:off x="2057400" y="5638680"/>
            <a:ext cx="4724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ero"/>
                <a:ea typeface="Arial"/>
              </a:rPr>
              <a:t>YOUR SUB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846000" y="838080"/>
            <a:ext cx="67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卡通国外工厂剪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ero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239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ero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120" y="579132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ero"/>
              </a:rPr>
              <a:t>TRAN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08F0-FAF6-49EB-8368-66F0CC915F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218960"/>
            <a:ext cx="5791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ero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ero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1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41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