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F1C5A-921E-4D10-BC65-DAA5CCD5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0F697-917F-4863-9692-691BBA05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9EF26-B958-40EA-9606-8ACBE0DD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CD452-FD6D-4FB2-81BF-CBD1EE2D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50257-6C67-4F8B-846D-2DB4275A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5C2A8-1DC6-48C0-81E0-87B252F4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1904D-6DEC-4E13-9AD3-315DD5D0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FB67E-FA16-4E2B-B116-55387BA0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7DB85-4035-4D4D-AE8C-47F07AE1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A3020-194A-41D8-B5A8-595AAD5D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4B06A-1310-479C-B992-33FA0C3C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876B5-5A24-428F-A5F2-A659FCCE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4B135-28EE-4FF4-9BA9-095C9E17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DB5CC-5BBF-4BE9-89F7-4A4808D0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36DBA-C485-4F82-90FD-B203BD4E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02E60-E881-4F58-8A51-3CD371E0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ABFAF-5983-410F-95ED-3D6D109F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352D4-9E05-4637-84E5-D225C790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F527D-DB3E-45A5-AD46-EC11CB4E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A72FD-4C4F-4023-81E5-D77E4085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4EFE0-EF0F-40BF-B0C1-0562F73B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869F0-4963-4DA8-9EDC-81B0AD6D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AC7AD-82FA-4A31-ACC9-17C98D4D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27DDE-7CE8-4722-A0BC-F38BB3A1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9048B-70A8-4A27-8415-EDC6DA6C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3B3EC-DD1D-44D2-8CE1-FE8BBB7E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2D429-3BF9-4A3A-8D31-79023B97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2B5AC-6700-4291-AFFC-71D6D1FF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BC9DC-AA4C-4F06-8D97-616F8726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F53EA-78E3-4AC7-9CCB-F9545896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F1A-E72E-43BC-8AC7-1F552CC7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66CB5-5AE5-4F7B-8975-6A61A7A3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B49CB-7E0B-4E95-AD64-CACD0C92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1C72C-6728-434D-AEBE-E1A655A0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7F9E2-D776-4912-B39B-43311031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96EBC-AE09-483A-A052-C6E14B55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061CE-7B42-4638-8CC3-BFD83ECE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D6AD6-B6B3-442D-97CE-C50EFE5C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E4366-8CF9-44A6-8FCF-09BFDCDA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F5FA2-72E8-4B29-A8E9-1F5C6129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43130-CFE2-453C-B923-32203D59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A776-2AD4-4801-942E-1D9EDF75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6D49D-B81B-4DA8-A7E6-3DAF0E71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617A3-53B4-4782-9D10-FC0082B1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C58E8-3CCA-4B38-8C9F-D268527C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879D2-93FB-4108-A9FC-F147757F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C5719-E5A2-4358-85C5-45E326A9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83C74-4E6C-4ACC-9CCB-000C5AE4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83976-2DC0-46AB-B3FE-8E883F9A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232B9-A666-4360-8082-392B23F5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F61CD-7AED-4F91-BBF7-FD5B4201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EC99D-5096-410E-B467-36628F72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8EC-01F6-4F3F-9CEB-0E45CD08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64FEF-34D1-456E-AF62-9054F6B6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DEBF6-25D6-4A74-86B8-71BB25C1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FD2D3-9CF0-4DDC-AE43-14A11031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38A09-7EE6-45C5-9447-DAFB1CD3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5AB33-52B4-4DD9-AE57-478BD757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04F12-925F-4CF8-B1EC-BF02E8CF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7D231-4C9E-4197-9A94-F87F0EA6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9A30C-D69F-4751-9AB0-B8B403D2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C315E-45BA-4354-95D3-5582D809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22031-F9BF-49A2-BD81-DE5CA86E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1D9-7C4C-40B8-BA9E-4EF84610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C4B2D-A068-487A-AC9E-DC4C56E0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84CC4-4E91-49C0-BB1C-5F46B2EF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9EF20-9E15-4DE0-8EA1-C9DFBA7A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2FE77-47C5-4DFA-9323-E07D89D8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DC921-83AE-4B56-A858-46F370E0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0F090-3E8B-4E67-B9F1-7B10C5E4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E72E5-4D1C-4311-80EB-2AC52587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8E252-A564-4096-85BB-4514D74E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859D3-7233-44D7-9D9B-1144C30B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3FBD2-13AF-42DA-8B3C-0903928B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615-EC59-450B-B39E-8EEBA296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586339-9D46-48B9-BBB8-8A9F2B4A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76960-E0F6-4DE9-BAE7-AC4529B7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10CCE-D866-4E8D-A69C-D8466C8B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10A0D-AAD4-4767-B341-40C4C797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F0678-CD6F-4650-A138-CC9BF2DF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48FA9-F899-468A-9927-CFFCAFD7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1EECD-CD6F-4E89-BEBF-5DA9164C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EC9F2-AC0F-4A0C-A37B-5902B367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EA0F8-0082-4F40-B56C-9E0B162C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37014-3EDC-466E-B275-8A438D6F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5EE-EEE1-488C-9020-BE03174D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54990-009B-4BAB-8FB7-5952537C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805761-C3C8-4C6B-A314-C082B4C7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166167-C105-45FC-B1AE-EBF749F2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55C1A-A5F2-416D-B1D9-B2469C74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80562-D545-444B-94B9-8B97EADC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B78DA-32C9-48A8-9B79-0F47C961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AF4B21-F8FC-4068-A7A4-B65964B8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41C3A-8D3F-482E-9F9C-F54ED276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D194B0-EFD9-42D0-BD04-FF7D0D82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369C2C-65AB-4F8F-A000-42D45E01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4AD-06CE-4196-8A53-B94C90D2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A4ACD-551D-431D-A0CE-80920954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68AB7-161A-43C7-8EA7-9ECF3EAB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434BA5-D020-4CFC-B6D9-82766A9A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F80548-BAFB-47B0-8652-5E43E650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2EA813-CD71-400C-A667-2A1C9E2F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3B9201-8699-42F8-AC45-3C20291B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AE7B99-57D6-417A-A6B9-B126DA4A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A4C436-5149-46ED-8B22-0FEAF6EB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771123-3110-440D-8BE7-E985EED2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B7CCD0-2609-49E5-A6E5-92CF44F0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CE2-1EE6-4D68-8378-F3B6711F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1A1D9D-B160-4476-AD85-B3687C4F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176D89-C6C9-4860-B020-0BA10E1D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C4314-C985-41BE-B27B-46720459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AE92CC-8CEF-40D9-857A-8B7ACFAF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6CBA20-953D-4B8C-AFFE-69413F22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E57237-93DD-4168-9EF8-105233DB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92739B-A2F9-451C-A68B-298E5863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B78332-B880-4EEB-AA46-0022DA04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12546A-CD5D-4CCD-9C6A-7B58E8DC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CB5BB3-A7B4-4098-9EDB-F96F5BBE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9BE-1F65-44CC-922E-7654FD72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F59ADE-103B-4089-90CA-D47FCCAE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1CFAC7-DF72-42E6-A80D-F71C262B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7D085A-E9EC-43AB-9289-02EB7001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7D47BB-DCF9-4F8F-9AF7-68D9216C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C0828F-51FD-4283-A578-6496B70F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9A316D-9E46-4CCE-99DB-E23C1629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9936FF-973C-4541-855F-5FC70D40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1B5DD4-473D-4864-8575-ABAF7B93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BE767E-5E39-4EDF-AAF5-2CEC2FE4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152781-DEE3-4B16-B94D-B5F0FED5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EDD-E99B-4E2B-831D-0C517798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58DFB6-E191-4481-87E8-40D8EBB4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6F52F6-2CBD-4818-ABD4-84A5D7AD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F2F75D-8695-454F-86BE-D6DC42A2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E281E3-1190-48C1-8C78-2863E7DB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A4EAB9-F271-4342-BF6B-B376D793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5185BA-8E97-43D7-9EE5-8BA0D817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5C9091-ED73-4DDF-BF2F-40ECCB22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B3B204-A957-4EB9-B4BB-425799C6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2F62B1-C904-4323-A676-0612F015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BCE144-2A0D-462F-829C-3114D8BC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AADE-ABCA-4A63-9C3C-9F9FFCAB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C86CBE-63C0-45AF-B362-3D3963F3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94AA26-033C-478B-8225-D2ED71B2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40E29F-71A9-4907-8714-CE6C5122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BFC381-99EE-45B7-B214-559875CF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A285F7-2D03-4E53-8A04-11BEE5E4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DD8457-0C3E-41F0-8283-2FB81C8A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61E1F2-1A0A-4653-887D-C6B62028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4E0FAC-1CEC-4056-99A2-E651B546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AD602F-2A37-421B-BD46-84F62CAC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437652-C854-4655-834D-F96577B7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434-A4B3-487B-9AFE-13626C48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8263F4-4741-4DB5-92AB-F7C06EC9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A049E8-0971-4DC7-A853-C39412B4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0049E8-5F51-4006-A646-03981A4B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0B099B-4CFF-41DA-91D8-CD0023F1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A7FB82-53B8-45DA-8E02-95625387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ADC2E7-541F-4525-85B0-C48F1425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A548E5-0DFE-4C9E-BF59-56565CEC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FF96CF-D93B-4B24-BDB6-C6D3BCA2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F64C09-48AB-4950-BB7E-3F5BAE74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A84D8C-C0C9-4ACA-A572-76051637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65F5CE-466E-4221-800C-50330BF0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F6EAD3-2935-47D8-8733-80BEFAE4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95FC13-F836-4F59-9289-633A74E3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71BEBD-C495-4E7C-AB23-263913C6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536ABA-E0ED-4A77-A80D-15D97725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ACDE4B-2D51-4E9B-96EB-6209A2D6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A0C014-AE62-4929-B78F-28B3ECFA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1D72DF-D9A9-4BB9-81FB-1F3169DD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8AC6BD-C24B-42AB-9CF9-6414A134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427872-5F25-41B2-8A03-DF1ACDF8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92E8A7-25A4-4EE0-9A5C-3953AF99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A7854E-4E89-4F81-8A46-08E66D78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501E73-2DDE-41A8-AD80-8E207146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7169F6-F415-404D-8604-3E9DA8B9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68E295-1692-4F3B-B2F1-982F6D18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8A650E-022A-4967-BB1C-14BD5FC7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BAEFFD-D2EA-4387-B1D0-3860DA13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9BED9C-3AFA-4FE1-BBEB-E4FBAC61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0C27D9-0CB9-4E5B-8245-C1FD1D76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F4483E-CEA9-4B6B-B17A-E1B599AD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8D068E-40D1-48FF-83DB-F1F27E5D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663B90-6C95-4246-BFD7-9E5F494B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D68B4D-7228-4EC7-B67D-1BFCE2D7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1BAC6E-1381-483F-AF7E-D3B54383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C10DAD-2667-48D5-9FCB-BC639E6A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294E87-014B-4691-92E5-BAC5C1E0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DE2812-38EA-4753-96E6-45CC94FD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14ECE9-195B-4D58-8BC0-DAF85A45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CF2C96-0BE1-4596-879F-C1A7AC9B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DA70A0-76E4-4B67-8636-1FDF5D25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27B3AE-4F64-4214-BEF0-2057B3CB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AD865D-7BAF-4E81-B810-648DDCBA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6195D3-4C55-4D48-857F-6EFBAFF8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02ED60-A7A1-4646-B7DA-D4F3B6A0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91E5A6-50E8-4595-8F50-AC64E24B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514905-B45F-451C-A1C1-D68EC720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04E41D-988B-4B7A-AB29-83D91AD1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7FB474-1A9F-467B-9717-AA9BFEC9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433488-E9C0-476A-8096-46A7FC3A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BA05-3FA4-4C66-A825-60DDE8F3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EFAE-FF9D-4C7B-BA13-409C098A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2463-8EC4-40BB-8517-D3064275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F811-4D5B-44C2-9CA1-CECD32AD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0E45-E4E0-4949-8B74-1FAF62B7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1C47-839A-4353-BDCD-FC0D60C1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4C7B-60A3-455F-97E4-63DED154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AF03-A6DD-45D1-BE6A-AC772514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2797-0DF7-49DA-911A-70FC09E5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F6A4-B96D-4702-B1FE-A4786750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2DC5-4A50-4464-8A5B-CDF7DC45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BE62-3094-4088-9319-262F410A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9D16F-03A6-43A6-9E5D-F43F294C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2B0FC-76B6-4468-9E76-CDED61D4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0C2EF-6455-4491-8E3E-9CFA2B02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1CD05-0087-4B04-A17A-08E6DFDA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005B1-FF57-4B12-94E5-44CBC62B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A2815-E53C-48F0-A7EE-FF2120E0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D3B48-9592-41AA-BAD6-4383C518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30FE2-2879-4725-8BE7-9280178E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A5A60-7CB3-4B55-A373-B6C57D04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28F9A-D962-4346-AC9F-A48A2974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4C06F-F660-4673-949A-5A0A7853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7BCBA-59BB-44A5-ABFD-9C72E4E9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26B69-5B30-4E57-9090-2EA8A554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31597-3693-4A44-8BCE-EB8F15B1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FEFB4-ECD2-45F4-A72C-70EE2A9B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3823E-C3C1-456C-B9DF-5F6F4631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3920A-D47C-4403-98D8-FFDEE66E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7D0FE-2627-469F-A617-A4201541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201F7-32C0-47E8-99F3-13FD9093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CABCF-081F-440E-BFCB-8D9DC93F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F08EF-01CC-4F6B-B18B-3B062918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0C7C2-E0E4-43CE-AB3F-C49E7606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F3C0E-4896-4194-B964-A5B94C56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81667-0B94-4C7F-B082-40199632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95227-1D53-4B38-801A-68842EE4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007D7-5A63-4782-91D6-FEE385AD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2080A-2D7D-4A08-9FAF-47190EAE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1B727-5470-4F9A-9AE2-382A030E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9F364-1D4F-4939-B31D-12B7C9F2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6E972-74B4-4876-83C6-B2692D84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311E8-32E9-47F9-BAA2-C192849F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BC400-BE82-43F0-AE97-21577AF0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0EDA8-5429-421B-A6E7-6636FA3F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89E0B-95C6-4B42-B54F-C1623C5A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08200-D42A-4B1E-89EA-68E769EA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71B96-A9A8-4B34-86F8-A843BB93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0D259-AAB7-44AD-AEAB-A34A8B94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AA494-67FB-4937-A643-CD54F4ED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D3BBB-5116-43FB-9725-2A7A579D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F69B3-F0F7-4B18-B209-A296229B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1D28F-C522-4755-89F0-1D0E5772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4DA76-9A61-4F60-B406-BC3908C4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E31E4-E6EA-42AE-889F-67F5C092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A3C22-99CC-4C9A-B0D5-0079F412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30556-FB40-494E-902D-36B673C1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DF5AC-7A01-49CE-92AD-0BAD5874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48C52-0C6F-438A-AB64-9607A7D2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37474-4484-4F96-80F1-AEFDE2AC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B3350-8CED-48B7-8960-5AC17249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D67BD-866E-4032-B387-6BD33B2E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9B626-4BE3-4363-A380-517E3081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2168-3E70-459B-976C-31202EBE63A2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649E-92F7-474B-B79B-E29E53998CEB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AD4E-8287-4C88-9935-A8F4B9468FD4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B360-1D2B-48A7-AD10-74688C9CBF94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6B9C-2145-4038-BE68-7979AB367288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0F69-B1B7-43CC-9F64-439BA97D874E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DA6C-F9A4-4F37-8BAA-CA977820862A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396F-0053-4E3F-A554-904929192553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F9C5-C91C-4506-A4C5-0C90F84B4EA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266B-69A7-4E34-99CC-B87294EC174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9B74-EB41-491A-B8C2-4421D041B2C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B36E-BBF0-470C-B27F-E4044727C3D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48A5-4578-4637-9347-7D69B37C91A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5F7E-6B52-43C1-810C-2F54994EF54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603F-50CC-43E2-B43B-76D672EA748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EEF7-C757-4FEA-8565-767FB047272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139B-01CF-42C6-BDD9-E777F15A386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0581-B6A4-4BF5-B461-E17A4286923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4FA0-4B42-47C8-A704-774A25AA7BF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43C9-D73E-4DD4-97D3-C7A9AE1F088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A78C-D95A-4187-A95D-774666250D1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362B-AAE0-478E-9FFB-ABB20412ECB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575C-DAB6-4222-A6E8-5A400F5DD0A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995E-BD3D-4385-BA6B-5E8DBA4455D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D421-CFBC-4AE9-BF49-09E0D454FB3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50B7-568C-4892-84F6-F292482D865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5D86-16C7-4177-A191-7F8A1C83ED8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7360-99C6-4EE3-88F2-1FF74D1F7A9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0182-33D3-4AD2-B3D6-4F7BFFCA84C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9330-7320-47BB-B455-A1A38A6EC8A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FDBE-E9C8-4070-9C6A-19BEF4B3FCD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2465-6F35-409E-AA43-8995434E0E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229A-51EE-445E-BF55-BC81566DC2D0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39AC-FE41-4B9E-8CEB-B696FA8E5727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90A0-FD65-44EA-A2CD-C62B52B78133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3C7B-8EF2-4ABA-A723-ED73F0894763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7C1D-4032-4F5A-885D-A245C25C22A0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0E7F-2C1A-4F5D-8B30-DEB6F62B4891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A939-7EB3-4C0D-888E-56F35041459F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2AF9-FDDC-41A0-B985-6A0D58418C54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0194-E18A-4457-9AC4-3DA12F223929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1467-8641-453E-AC89-4CEA31D232F2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9D8C-3AFC-43AD-B904-D4EE426FBCA3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86B4-D30F-4331-8F52-61A69269C2CA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矩形 5"/>
          <p:cNvSpPr/>
          <p:nvPr/>
        </p:nvSpPr>
        <p:spPr>
          <a:xfrm>
            <a:off x="250920" y="6524640"/>
            <a:ext cx="7207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68d36"/>
                </a:solidFill>
                <a:latin typeface="Arial"/>
              </a:rPr>
              <a:t>ppt.glzy8.com</a:t>
            </a:r>
            <a:r>
              <a:rPr b="0" lang="zh-CN" sz="100" spc="-1" strike="noStrike">
                <a:solidFill>
                  <a:srgbClr val="f68d36"/>
                </a:solidFill>
                <a:latin typeface="Arial"/>
                <a:ea typeface="宋体"/>
              </a:rPr>
              <a:t>海量</a:t>
            </a:r>
            <a:r>
              <a:rPr b="0" lang="en-US" sz="100" spc="-1" strike="noStrike">
                <a:solidFill>
                  <a:srgbClr val="f68d36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68d36"/>
                </a:solidFill>
                <a:latin typeface="Arial"/>
                <a:ea typeface="宋体"/>
              </a:rPr>
              <a:t>模板免费下载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文本框 6155"/>
          <p:cNvSpPr/>
          <p:nvPr/>
        </p:nvSpPr>
        <p:spPr>
          <a:xfrm>
            <a:off x="108000" y="6381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文本框 2"/>
          <p:cNvSpPr/>
          <p:nvPr/>
        </p:nvSpPr>
        <p:spPr>
          <a:xfrm>
            <a:off x="639720" y="404640"/>
            <a:ext cx="81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卡通火红的秋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3D94-50AE-4354-A4A0-12CB58095C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5:34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