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87A2-4DB5-4FA0-8D3E-B8E66E7A6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BA2A-2DF6-4444-836A-9E4BABD5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9C69-30FC-47AD-B402-56A9ED249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312E-9315-4E2C-ADB8-5A99B1BF3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54E60-38E3-4909-870B-FABB380E6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D808-2D13-4686-AA55-0AD463D4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27E8-7BEA-4EB7-82B1-CAEE431D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50A1-80E2-4F3E-9239-4FC65310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3ED9-CD31-4937-90A1-658A9534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D0BA-4514-4123-B687-868DB552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940D-0321-44CE-9B83-FFD12F96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40B8-8530-497D-8198-80059047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28E30-5EF1-4FDD-9189-E142E42B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5D02-6B0A-4F84-A865-F2062D86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BE4D-7E79-4318-8C53-61F2019E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CE38-2D01-499B-A670-DD03FE780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6832-C851-4085-9A75-F999AC69E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530D-0A43-4053-8839-615EA94F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F2C7-7644-48C1-BFC4-CA7ECA88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7491-A26E-4D94-B73A-931BD2A9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1CC8-F863-4749-AEF7-30B0CC6A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7940-608C-4056-B324-3E2BDB28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6FDE-D5A2-4F92-B83F-AFFF9982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30A4-3D95-4FCA-970B-3DDF1F66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E895-CD79-48E5-B5F3-9210D622B9F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38BB-0B5B-41D0-AB3C-35AE51211BF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D495-A6AD-410A-9ED6-529DD3CC281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4" name="图片 3" descr="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文本框 3"/>
          <p:cNvSpPr/>
          <p:nvPr/>
        </p:nvSpPr>
        <p:spPr>
          <a:xfrm>
            <a:off x="2588760" y="278136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卡通猴子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0C69-3B80-481C-8247-8818722BBB9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1" descr="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0400"/>
          </a:xfrm>
          <a:prstGeom prst="rect">
            <a:avLst/>
          </a:prstGeom>
          <a:ln w="0">
            <a:noFill/>
          </a:ln>
        </p:spPr>
      </p:pic>
      <p:pic>
        <p:nvPicPr>
          <p:cNvPr id="92" name="图片 2" descr="22.jpg"/>
          <p:cNvPicPr/>
          <p:nvPr/>
        </p:nvPicPr>
        <p:blipFill>
          <a:blip r:embed="rId2"/>
          <a:stretch/>
        </p:blipFill>
        <p:spPr>
          <a:xfrm>
            <a:off x="0" y="6267600"/>
            <a:ext cx="9144000" cy="590400"/>
          </a:xfrm>
          <a:prstGeom prst="rect">
            <a:avLst/>
          </a:prstGeom>
          <a:ln w="0">
            <a:noFill/>
          </a:ln>
        </p:spPr>
      </p:pic>
      <p:sp>
        <p:nvSpPr>
          <p:cNvPr id="93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09:55:20Z</dcterms:created>
  <dc:creator>幻灯片之家：www.eepp.com</dc:creator>
  <dc:description>幻灯片之家：www.eepp.com</dc:description>
  <cp:keywords>幻灯片之家：www.eepp.com</cp:keywords>
  <dc:language>en-US</dc:language>
  <cp:lastModifiedBy>pc</cp:lastModifiedBy>
  <dcterms:modified xsi:type="dcterms:W3CDTF">2015-12-12T07:05:37Z</dcterms:modified>
  <cp:revision>5</cp:revision>
  <dc:subject>幻灯片之家：www.eepp.com</dc:subject>
  <dc:title>幻灯片之家：www.eepp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