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gif" ContentType="image/gif"/>
  <Override PartName="/ppt/media/image7.png" ContentType="image/png"/>
  <Override PartName="/ppt/media/image4.jpeg" ContentType="image/jpeg"/>
  <Override PartName="/ppt/media/image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FD09-356C-47FE-9826-FE97DB1B8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3BF2-8603-4D5E-83A5-693C48C7A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8937-1487-48F0-A98E-08161DED0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8352-822B-4544-A2F7-2C9001F86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3BAB4-F220-460D-85DA-AEBEB3F1F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F6EC3-19CB-47B0-A2C7-3C8907242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6EC98-531A-4D2B-A4CC-BC4342CCC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01F2C-0420-473A-AD63-B9A189058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8D035-1191-4B38-94EE-3D0CDCFF4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DCEB8-D6C9-4899-9177-187DF6C01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6FF1D-8C14-4385-9946-D31E0796E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2FB2-53A4-42DA-95D3-2D06E2565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0B730-831F-44C0-8049-5F3B37D81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B91CC-EAD3-4453-B0F4-DC3B0FD9C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3486C-FA6B-4191-80E9-F5A7C5493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3D02C-9516-499F-B750-FB81FA251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E9751-577F-4929-B434-A3AFF1EC9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C2F2AB-6BF8-48F3-961F-31A6FA32C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4E7A40-D457-480D-BC77-25C80A2A6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A64818-7D78-4CFF-B469-63EC0FBA9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FA043E-CA84-4981-8628-3C95615D6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306F10-B402-47E4-B064-B2543C7BA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AB9A-720A-40B8-91A8-4701F999D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FF648D-ABD3-430A-94B0-F3E26B8C3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64ECE2-B305-42ED-A451-C5EF9A835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264CC4-2E7A-4477-A84B-6E95C4BA4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50244E-8143-4C10-83DF-433957277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18301F-1860-409D-AB1E-1DB835293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02F918-57BD-44B1-8585-34674DC66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BEE49B-537C-43D6-AB12-3C82CAA25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9961-BBF5-4FFE-9A9F-EEC7F5D4D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1F84-AE07-479B-B514-39394791C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8D75-4D49-4D0F-809B-F9008634E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6D27-D638-44A5-9215-A72044123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9482-B7F3-4F57-B79B-572F5D215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A215-161B-4CE2-AAD2-E621E8E12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452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05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57560" indent="-452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10440" indent="-90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10440" indent="-90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10440" indent="-90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1AE60-25D5-47F0-8D54-D0A2F3FE07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图片 1031" descr=""/>
          <p:cNvPicPr/>
          <p:nvPr/>
        </p:nvPicPr>
        <p:blipFill>
          <a:blip r:embed="rId2"/>
          <a:stretch/>
        </p:blipFill>
        <p:spPr>
          <a:xfrm flipH="1">
            <a:off x="533520" y="3271680"/>
            <a:ext cx="1371600" cy="3586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A3428-CA36-468B-A6D2-A18B3172CBAE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A5F1F-7007-4476-A50E-BC5CA70DB74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452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05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57560" indent="-452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10440" indent="-90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10440" indent="-90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10440" indent="-90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82B53-12C7-4BCD-98A1-ABE27ED210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35053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IMATED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3429000" y="533520"/>
            <a:ext cx="541008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Arial Black"/>
              </a:rPr>
              <a:t>VECTOR</a:t>
            </a:r>
            <a:r>
              <a:rPr b="0" lang="en-US" sz="8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8000" spc="-1" strike="noStrike">
                <a:solidFill>
                  <a:srgbClr val="ffcc66"/>
                </a:solidFill>
                <a:latin typeface="Arial Black"/>
              </a:rPr>
              <a:t>TRAFFIC</a:t>
            </a:r>
            <a:r>
              <a:rPr b="0" lang="en-US" sz="8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8000" spc="-1" strike="noStrike">
                <a:solidFill>
                  <a:srgbClr val="009999"/>
                </a:solidFill>
                <a:latin typeface="Arial Black"/>
              </a:rPr>
              <a:t>LIGHT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图片 2067" descr=""/>
          <p:cNvPicPr/>
          <p:nvPr/>
        </p:nvPicPr>
        <p:blipFill>
          <a:blip r:embed="rId1"/>
          <a:srcRect l="0" t="0" r="0" b="8650"/>
          <a:stretch/>
        </p:blipFill>
        <p:spPr>
          <a:xfrm>
            <a:off x="304920" y="304920"/>
            <a:ext cx="2743200" cy="6553080"/>
          </a:xfrm>
          <a:prstGeom prst="rect">
            <a:avLst/>
          </a:prstGeom>
          <a:ln w="0">
            <a:noFill/>
          </a:ln>
        </p:spPr>
      </p:pic>
      <p:pic>
        <p:nvPicPr>
          <p:cNvPr id="127" name="图片 2068" descr=""/>
          <p:cNvPicPr/>
          <p:nvPr/>
        </p:nvPicPr>
        <p:blipFill>
          <a:blip r:embed="rId2"/>
          <a:stretch/>
        </p:blipFill>
        <p:spPr>
          <a:xfrm>
            <a:off x="1447920" y="685800"/>
            <a:ext cx="1081080" cy="3809880"/>
          </a:xfrm>
          <a:prstGeom prst="rect">
            <a:avLst/>
          </a:prstGeom>
          <a:ln w="0">
            <a:noFill/>
          </a:ln>
        </p:spPr>
      </p:pic>
      <p:sp>
        <p:nvSpPr>
          <p:cNvPr id="128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文本框 1"/>
          <p:cNvSpPr/>
          <p:nvPr/>
        </p:nvSpPr>
        <p:spPr>
          <a:xfrm>
            <a:off x="1858680" y="5184720"/>
            <a:ext cx="537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卡通交通红绿灯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D859B-5B6D-43B0-8EA1-8791177605B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矩形 409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图片 4098" descr="trafficlights_1"/>
          <p:cNvPicPr/>
          <p:nvPr/>
        </p:nvPicPr>
        <p:blipFill>
          <a:blip r:embed="rId1"/>
          <a:stretch/>
        </p:blipFill>
        <p:spPr>
          <a:xfrm>
            <a:off x="228600" y="1312920"/>
            <a:ext cx="2120760" cy="5545080"/>
          </a:xfrm>
          <a:prstGeom prst="rect">
            <a:avLst/>
          </a:prstGeom>
          <a:ln w="0">
            <a:noFill/>
          </a:ln>
        </p:spPr>
      </p:pic>
      <p:pic>
        <p:nvPicPr>
          <p:cNvPr id="136" name="图片 4099" descr="trafficlights_2"/>
          <p:cNvPicPr/>
          <p:nvPr/>
        </p:nvPicPr>
        <p:blipFill>
          <a:blip r:embed="rId2"/>
          <a:stretch/>
        </p:blipFill>
        <p:spPr>
          <a:xfrm>
            <a:off x="228600" y="1312920"/>
            <a:ext cx="2120760" cy="5545080"/>
          </a:xfrm>
          <a:prstGeom prst="rect">
            <a:avLst/>
          </a:prstGeom>
          <a:ln w="0">
            <a:noFill/>
          </a:ln>
        </p:spPr>
      </p:pic>
      <p:pic>
        <p:nvPicPr>
          <p:cNvPr id="137" name="图片 4100" descr="trafficlights_3"/>
          <p:cNvPicPr/>
          <p:nvPr/>
        </p:nvPicPr>
        <p:blipFill>
          <a:blip r:embed="rId3"/>
          <a:stretch/>
        </p:blipFill>
        <p:spPr>
          <a:xfrm>
            <a:off x="228600" y="1312920"/>
            <a:ext cx="2120760" cy="5545080"/>
          </a:xfrm>
          <a:prstGeom prst="rect">
            <a:avLst/>
          </a:prstGeom>
          <a:ln w="0">
            <a:noFill/>
          </a:ln>
        </p:spPr>
      </p:pic>
      <p:sp>
        <p:nvSpPr>
          <p:cNvPr id="138" name="文本框 4102"/>
          <p:cNvSpPr/>
          <p:nvPr/>
        </p:nvSpPr>
        <p:spPr>
          <a:xfrm>
            <a:off x="3048120" y="1523880"/>
            <a:ext cx="5257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ON CLICK ANIMA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文本框 8199"/>
          <p:cNvSpPr/>
          <p:nvPr/>
        </p:nvSpPr>
        <p:spPr>
          <a:xfrm>
            <a:off x="1781280" y="9540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4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5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6T08:08:39Z</dcterms:created>
  <dc:creator>幻灯片之家：www.eepp.com</dc:creator>
  <dc:description>幻灯片之家：www.eepp.com</dc:description>
  <cp:keywords>幻灯片之家：www.eepp.com</cp:keywords>
  <dc:language>en-US</dc:language>
  <cp:lastModifiedBy>pc</cp:lastModifiedBy>
  <dcterms:modified xsi:type="dcterms:W3CDTF">2015-12-12T07:04:35Z</dcterms:modified>
  <cp:revision>12</cp:revision>
  <dc:subject>幻灯片之家：www.eepp.com</dc:subject>
  <dc:title>幻灯片之家：www.eepp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