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E2C-7A30-4755-A12D-EE5BD453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801-F707-4560-9AB5-3AF9E708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F80-A1B7-4B46-9969-776D1A99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2B9-D7FD-4DB3-8F14-E66A763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817-6118-4392-B152-266A1689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D54-8F18-4848-9FBD-99457FD9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681-C1E6-4035-83DD-983E158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BBE-3036-4A27-A2BD-1756EEE5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D4A-94E2-4668-A5D5-565DD2EA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58D-20EB-4CBE-9184-3DE80236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8EE-AB9C-489A-B68A-FABC0C6C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458-EB4F-46E2-B861-7D1DFFCC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1D3-655C-453D-B23A-8257EE09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8255-E698-49C5-BE8E-9B623D0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5E5-4120-4CA1-AB8D-9B06C7E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E3C9-612F-4F9C-99AE-7A7EFDA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3454-A9EC-4743-85AE-9BFC287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16B2-7912-4905-9C0F-B63228C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9BE0-6D31-46A7-BC1C-968BCD25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C76-C882-479B-B3F2-A16DA5D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33A-D934-42F7-8CEA-ECE07800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8DA-0710-4065-B67B-637BFA9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3E5-A3F7-4B76-B1F6-B6DE386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25F-5852-409A-A34D-FB274F8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841-DC27-4E9B-90E0-DC3F2B5B9E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9CE1-F624-498E-8468-FCF38CB595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11B-8951-4A58-BA7E-3C688F209F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90D4-457B-4553-A898-3200E2483C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"/>
          <p:cNvSpPr/>
          <p:nvPr/>
        </p:nvSpPr>
        <p:spPr>
          <a:xfrm>
            <a:off x="1476360" y="134136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可爱彩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199"/>
          <p:cNvSpPr/>
          <p:nvPr/>
        </p:nvSpPr>
        <p:spPr>
          <a:xfrm>
            <a:off x="1979640" y="342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B47-6DC1-44B6-B6A5-159C701E5C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标题 3" descr=""/>
          <p:cNvPicPr/>
          <p:nvPr/>
        </p:nvPicPr>
        <p:blipFill>
          <a:blip r:embed="rId1"/>
          <a:stretch/>
        </p:blipFill>
        <p:spPr>
          <a:xfrm>
            <a:off x="-455760" y="1676520"/>
            <a:ext cx="77835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40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