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8B3-8B61-481D-8987-92727CA6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76960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320" y="3581280"/>
            <a:ext cx="76960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D81-5718-4961-A842-46ECF911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3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201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401-9E73-4DA2-9858-1FC55BB5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78400" y="91440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80480" y="91440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320" y="358128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78400" y="358128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80480" y="358128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586-2356-4F73-A6CE-1A03C778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FFB7-C311-4174-B2FD-89604603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320" y="9144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4BEF-3A93-4E08-BBE6-5FCDC878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0937-4CCA-45CB-9F12-463E8D31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52C6-ACFB-445E-B603-99D9AB14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913D-49F2-44B5-917D-602FA232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BA20-B1A0-4F32-B752-44316B9C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3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6D38-1885-4A36-ABA4-C7A552AE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320" y="9144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32B-7560-414E-BF25-373E6CC4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201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87D0-B0DC-49E8-BA97-10D94010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3581280"/>
            <a:ext cx="76960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B888-2484-4C3E-9951-BB0A7562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76960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320" y="3581280"/>
            <a:ext cx="76960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8306-7F25-49E8-AA12-CDBFFBF7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201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1BEC-BE5A-489E-A880-9D306861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78400" y="91440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80480" y="91440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320" y="358128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678400" y="358128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280480" y="358128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8EF9-7F03-4C4E-B6F1-F0E984D5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CE50-6FDC-43AE-AA5D-2C043196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320" y="9144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ABFE-97A0-4A9E-98BC-89A86C1F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1622-8FDE-45D3-85A3-CF3C0A22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D7B5-BAD8-4F12-A2BA-692B2218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7DE2-53F2-443C-94B2-6348A2F9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F78-2634-4B61-B297-2543002D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1D42-CB71-4192-8636-1E19C9BC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63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E2B1-C03D-433F-8FCE-B1E8BC2E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0201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255E-7FA3-450A-8EA0-9295652E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6320" y="3581280"/>
            <a:ext cx="76960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EC511-14EF-4BE7-862F-AA901713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76960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6320" y="3581280"/>
            <a:ext cx="76960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A532C-960A-4EE8-BAA1-2AA389A9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3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0201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6601-C5A9-498F-B92E-EEDB3EB9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678400" y="91440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80480" y="91440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6320" y="358128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678400" y="358128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280480" y="3581280"/>
            <a:ext cx="24778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7F54-8147-41C8-988E-28022112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0D6-8AFF-412B-96B0-716C6418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72E-3F24-4604-8A65-68AC869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2C1-8EDC-4EF2-A8C3-07EB6E0C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3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9B6-ADAA-430C-8C4A-738E6EA6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20120" y="358128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96D-3EFA-4121-8B24-ACB06430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20120" y="914400"/>
            <a:ext cx="375552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320" y="3581280"/>
            <a:ext cx="769608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EEC-D078-429F-9625-057483BF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Z:\newtek\_backgrounds_1.02\Tim\powerpoint templates\61-80\library\elements\librarian.png"/>
          <p:cNvPicPr/>
          <p:nvPr/>
        </p:nvPicPr>
        <p:blipFill>
          <a:blip r:embed="rId3"/>
          <a:stretch/>
        </p:blipFill>
        <p:spPr>
          <a:xfrm>
            <a:off x="6570720" y="-152280"/>
            <a:ext cx="2878200" cy="784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320" y="9144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0a6192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0a6192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0a6192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0a6192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47DF-35B8-4A46-8501-3A63F707B652}" type="slidenum">
              <a:rPr b="1" lang="en-US" sz="1000" spc="-1" strike="noStrike">
                <a:solidFill>
                  <a:srgbClr val="80808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5487-0646-43D1-888F-6FC1762EE7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8C8F-7B64-4FB7-94D1-94937179FA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Z:\newtek\_backgrounds_1.02\Tim\powerpoint templates\61-80\library\elements\librarian.png"/>
          <p:cNvPicPr/>
          <p:nvPr/>
        </p:nvPicPr>
        <p:blipFill>
          <a:blip r:embed="rId3"/>
          <a:stretch/>
        </p:blipFill>
        <p:spPr>
          <a:xfrm>
            <a:off x="6570720" y="-152280"/>
            <a:ext cx="2878200" cy="7848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6320" y="9144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0a6192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0a6192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0a6192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0a6192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0299-E18D-4106-8360-7736CA8D490D}" type="slidenum">
              <a:rPr b="1" lang="en-US" sz="1000" spc="-1" strike="noStrike">
                <a:solidFill>
                  <a:srgbClr val="80808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Librarian’s Present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0a6192"/>
              </a:solidFill>
              <a:latin typeface="Arial Black"/>
            </a:endParaRPr>
          </a:p>
        </p:txBody>
      </p:sp>
      <p:pic>
        <p:nvPicPr>
          <p:cNvPr id="127" name="Picture 6" descr="Z:\newtek\_backgrounds_1.02\Tim\powerpoint templates\61-80\library\elements\librarian_shhh_quiet_please_hg_clr.gif"/>
          <p:cNvPicPr/>
          <p:nvPr/>
        </p:nvPicPr>
        <p:blipFill>
          <a:blip r:embed="rId1"/>
          <a:stretch/>
        </p:blipFill>
        <p:spPr>
          <a:xfrm>
            <a:off x="76320" y="3657600"/>
            <a:ext cx="2274840" cy="30780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1187280" y="1341360"/>
            <a:ext cx="66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课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320" y="9144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pic>
        <p:nvPicPr>
          <p:cNvPr id="132" name="Picture 8" descr="Z:\newtek\_backgrounds_1.02\Tim\powerpoint templates\61-80\library\elements\librarian_searching_for_book_hg_clr.gif"/>
          <p:cNvPicPr/>
          <p:nvPr/>
        </p:nvPicPr>
        <p:blipFill>
          <a:blip r:embed="rId2"/>
          <a:stretch/>
        </p:blipFill>
        <p:spPr>
          <a:xfrm>
            <a:off x="152280" y="3809880"/>
            <a:ext cx="2138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77D0-F003-4084-B3CD-DC5517D9EF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6320" y="9144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6192"/>
                </a:solidFill>
                <a:latin typeface="Arial Black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a6192"/>
              </a:solidFill>
              <a:latin typeface="Arial Black"/>
            </a:endParaRPr>
          </a:p>
        </p:txBody>
      </p:sp>
      <p:pic>
        <p:nvPicPr>
          <p:cNvPr id="139" name="Picture 4" descr="Z:\newtek\_backgrounds_1.02\Tim\powerpoint templates\61-80\library\elements\librarian_pushing_book_cart_hg_clr.gif"/>
          <p:cNvPicPr/>
          <p:nvPr/>
        </p:nvPicPr>
        <p:blipFill>
          <a:blip r:embed="rId1"/>
          <a:stretch/>
        </p:blipFill>
        <p:spPr>
          <a:xfrm>
            <a:off x="152280" y="3962520"/>
            <a:ext cx="2370240" cy="276516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6T03:41:0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5:46Z</dcterms:modified>
  <cp:revision>5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