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020-A286-430C-B66E-D8EF830C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1B7-D218-4468-A2EC-BBDBB17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81421-AAC2-46A6-AC81-2700C86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5D1F-A2E6-4E9E-8617-BF53E9F8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5CDF9-2609-435C-AA98-CD351DC8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8657-3154-4E2F-810A-C6A8298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663C5-F0E1-46E1-9AD6-9A447A8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85E46-DA63-4E16-9169-3F18AA4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E0E95-7079-4DD7-AE43-9FED1A1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0A6E3-FFB9-4061-9E3C-750251E3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DC033-70C5-404F-956B-0DDFE3C9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0AC8-95DA-4122-B69A-2338046B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DA4-9B24-4358-BD42-19B327B0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35A48-EFC4-4E47-BF5E-79905D9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DFC6-AF6D-4434-8E5D-4C67F20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453F4-172F-472A-8074-F5C5424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1F945-BF44-4F36-8E64-6CB2B9B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FF830-A1D6-4AA1-AED3-B33FB8E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A424-C8D2-423B-AB48-D0F59C8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559FC-063A-478F-A1B6-0041CB8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BB2B-9C17-4839-ADDC-55C6ECA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AB6AE-B773-4D0A-9D82-D0ECEA1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4AAC-487F-4708-BB63-1A0E14B8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415-75A9-406E-8CE9-C381B9C4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BF309-E1A7-4D41-B33D-5BF14D85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FC0DA-C3F2-4981-A70F-C2262428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25FED-06D2-4E17-96C1-98BE312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03B8-0EE8-4DE5-AF1E-B26AF51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13036-FC4E-41C4-A412-4B4176E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AD668-3D0A-47C7-8748-42F94508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32AA-98C1-4F59-9322-A5AAA29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986D3-B8D4-4BBD-9195-AF7DC22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FB10-C2F6-4966-8593-BDF747C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A88FD-392C-4042-9D32-A4777DA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509C-04B8-4D5B-9545-CC012266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3E9E-58F7-419F-8512-3BE641F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0EB86-3FCD-442F-AB91-CE4E6A7B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A7579-5AA9-4B12-8979-B084967E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522C-4EBB-417B-A82E-BB9456E0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345A3-B22B-47BC-A65B-5FD0EB6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843DD-EE28-4F00-B090-65751EBF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64149-1A53-4C92-9A00-795AAB9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C02EA-2DC3-4D73-A2E9-B52B480F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8BB6B-B097-4DE6-A511-9A8B138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AF3D-D64B-4A93-8055-F1508EA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50A1-3736-45ED-95D4-5BD6C030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D8096-D573-4C4B-B76A-880E9F2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1F85C-A264-475B-B9AA-0247E11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0177-FCA4-4579-8683-67E2655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F79D0-03C0-4B7A-93E6-98BB92E7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C853E-614F-410F-AF42-8568DC8A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0D6AF-FF7E-41A3-9C64-2CD35802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BB5E6-CC5D-4E95-A1BD-BF4EF000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DFE72-9799-4641-A983-DCE08BD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2E388-62E0-4B28-9DF3-96DDAF77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0DA62-4ED8-4FC7-BCEE-B71AF9F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03A-984E-4FAC-AE85-C65B5A7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CF0BB-6512-43DD-9983-42FD731E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765E0-5DFB-49A6-BCE6-B5A1CA3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854FB-3879-4277-935B-B1FE9BA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9F2AE-077F-43B8-AE99-04ED56B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87BCE-F8FC-40D8-B0D2-E3234B4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F312C-3DC8-4DFD-8773-118044E9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BE745-9B80-42CF-A144-3879D5D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8DC-826F-4720-9C96-17AADB7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4BCC-FA0B-4075-837F-EFCB349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36D8-D2D3-46D5-996D-9503465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681-A0AE-43C7-9115-542EF81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5FE-C0CA-4D1B-83D3-B80B329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8DE-B761-46B3-9AA7-F0FA7CB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8236-2B5B-4B69-A3CB-5036A1B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07E0-232A-4BD8-8B24-3858AE2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160F-CC55-430E-B076-73CA9A97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98C1-DE09-4297-91F3-65F516DC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24A6-AAF8-453E-A8FE-9BB6F721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0BCA-C6CC-4869-AB4B-A52EB51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209B-5C1F-48EE-91D8-03CD2909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F698-403F-40E5-824B-3E4A524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924D-2F93-45E1-85EC-FCAF966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53A-F178-4A73-8EC0-BD56999D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38E7-34C1-4F3D-8085-A0C9CD3F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2586-C918-47C1-97D1-91554DD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BE8A-5DE9-453A-975C-5888E8F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F283-4DC1-43C7-8A92-9B7F42E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80CE-D884-41CB-A0CA-89A3A80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F17A-6A73-4C46-BE5C-4F6C6895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2277-6212-4F28-ACEE-430ACF06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2945-7954-4D79-A9EC-D482537F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9A2E-8A36-44FD-81A7-18DDECCE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DF7F-CD70-4195-B12C-30879B0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BAD-C18F-40C8-9694-4A20EEA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599C-6061-4FA1-B8E4-C0B4FD02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FFE6-9041-4C67-B3C5-0AFEEBD5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23AF-8B77-4CDE-B28F-F96A29CB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AC1C-B16A-4E05-B24B-D8DE4C5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E2D1-667F-45E4-8224-2CE77A3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7679-CFC4-407A-B41D-1EB3AB1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89D1-E474-4D8E-9549-9284D1ED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0436-9096-4FC0-8D43-D4B94BCA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733D-ABD6-4CB6-A468-9F937A46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4E6B-7DF0-4148-94A5-11E3EF4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624-18A5-41FF-A948-F7C04E7E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A9C0-98F5-47A5-B213-2235AEB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8E2C-B868-4BAE-AB80-10A64DA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F01C-A741-42FD-824E-6E9458C5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F9C9-CB18-4D88-8B3C-09572A2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82842-D7FB-4034-B1AE-F3DFD33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3FCB-1781-4986-95E3-73D4CDB1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F8C2C-8FDC-4B3E-8EDC-265D74A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A22D9-F3DC-4295-B712-D1F85C3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7A6F-7D4A-4EC3-A0F8-DFDC5AA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817B-D8AF-445C-AE70-8575CF0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19F-050C-4816-A6D1-D86B52D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176D-A98C-4CBB-A41B-505F8C15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BD86-B015-4A19-A2B3-BCB069EF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E30AB-F767-4048-9867-CDA9B77C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D87D0-EF8F-440C-83CC-57A1B1F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CEE4-3B77-4CEC-BB2B-993880D3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32E4-5279-40AA-B51E-77D7563D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FD84-D00A-440F-9122-CF933AF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F85B-21C2-4013-B944-F0D7402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9C26-049A-4904-B5A6-CB92FB6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F7F4-3836-4244-A5D7-95C1085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88E-8D60-4ECD-8826-4ABC1C4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9CCE-696F-4422-8ED6-0859CC08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6E6F-6284-4CAC-A59E-3E8BCF08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324E-913E-4939-8751-EC08C9A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7434-5490-4103-AB37-7D2A9EA7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A24C8-7712-4D1B-B10F-9100AC5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DC19-828A-4FC8-9698-44D8697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BECD3-F5A6-40B6-A6E6-7DF45B6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B520-5678-4DF7-AB24-9565BE0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AE81-FAA8-4A71-931B-C8D9F09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881C-477D-4213-898C-0952C52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FDF-9F81-4AAD-B909-F9F0CA7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85649-3899-4C31-A602-74B17F9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E000-D74B-40AE-8E67-A29310D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5AAE-4EC9-4053-A2EB-4A9E59D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1270-F2ED-4E39-A763-A99B9249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200C-4D7B-490B-8F16-1EB05D4D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A23F0-B3EC-435B-AB3F-268C1ADA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22273-C34A-4B2D-8AD9-AB40E84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FF59-0B63-4459-8701-F1BD336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08A0-D39F-40C5-80A6-3E52F0D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3152-957A-45EB-ACA2-C3FFFED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2AD-6DB8-4EA2-9555-52EDD40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F8AF-F974-4803-8A09-C797BF8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5FA6-8844-4D17-B8F2-04B0A52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C712D-1759-450D-950C-1CD3E7B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28A8-A2F7-4CAC-B7CD-E82C9A2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A198-AE63-4A56-8C80-BB2A763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459F-C98C-4740-99F1-97C19791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0ED0-9DC0-4CF3-A1BE-BC5FBC64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AA27F-9C07-4409-A51D-341183DD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69246-C0CA-4A74-824D-E11C00B6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E7570-74B4-4C81-9CAB-90EC9D44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E33-678F-441E-A29C-144EA1809D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875-2A35-4948-A8E3-A1E4AA6C70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CED-56B0-4D9B-95B8-BC927207295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640-B166-468C-8298-776FA01AA9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425-26CB-4901-9093-2F4907711B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3CC9-7C53-44E2-87F8-66BE5AA1AE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5B2-6E9C-47F6-BE1F-C25BACEAD1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25F-D6D7-4E0F-9955-4D7FF6C53D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577-5A05-4056-B8A0-CDE9B6AA6B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333-6136-47F6-9A51-CF8B5E9BFA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4D9-9622-4AE6-B399-02B871493C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BE7E-5170-4335-B535-968AA0A7C9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0AE5-72FA-4C1B-BC6F-11C7B3625B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B161-32AE-41D5-A039-E38958CF65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23CE-656F-4ED5-B3E5-44EBA2AADD5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CBA0-46D4-4F55-9847-790D321A8A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5CD-3CFA-4D0C-9AF3-85703F2CC7D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18C-DB68-4E74-81BC-E89584776D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41D1-0668-49F4-BB70-892D57556B8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7C8-B51C-47B6-93E3-4A925C0A82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CE8-2124-46B1-9865-8482714344F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E046-80C3-4546-A045-255A4C3DEA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7E3-10A7-452B-B8C4-71F62E524FD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922-5669-4F50-931E-4AFA27BC3A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1CA-65EF-424E-96E8-9D4DFDEFA72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461-6291-41AD-BF40-6F1C26C853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93600" y="690120"/>
            <a:ext cx="740268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卡通课件</a:t>
            </a: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632040" y="2265120"/>
            <a:ext cx="67946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7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28880" y="927000"/>
            <a:ext cx="5194080" cy="309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654960" y="736200"/>
            <a:ext cx="421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60520" y="647640"/>
            <a:ext cx="4013280" cy="2425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311880" y="647640"/>
            <a:ext cx="4013280" cy="24256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1261800" y="3720600"/>
            <a:ext cx="449100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090840" y="3720600"/>
            <a:ext cx="447372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8199"/>
          <p:cNvSpPr/>
          <p:nvPr/>
        </p:nvSpPr>
        <p:spPr>
          <a:xfrm>
            <a:off x="2560680" y="511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396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4609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7810200" y="609120"/>
            <a:ext cx="2438280" cy="28069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26180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459320" y="4000320"/>
            <a:ext cx="27655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65792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1180-D09C-47EF-BB67-79C318FDC8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475080" y="1998000"/>
            <a:ext cx="52610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800" spc="-1" strike="noStrike">
              <a:solidFill>
                <a:srgbClr val="0000a5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1600" y="608400"/>
            <a:ext cx="9747000" cy="8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1600" y="1447560"/>
            <a:ext cx="97470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列表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7720" y="1825560"/>
            <a:ext cx="986652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 </a:t>
            </a: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SmartArt </a:t>
            </a: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1" name="内容占位符 3" descr=""/>
          <p:cNvPicPr/>
          <p:nvPr/>
        </p:nvPicPr>
        <p:blipFill>
          <a:blip r:embed="rId1"/>
          <a:stretch/>
        </p:blipFill>
        <p:spPr>
          <a:xfrm>
            <a:off x="833400" y="1816200"/>
            <a:ext cx="9874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表格的两栏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5975280" y="1825560"/>
          <a:ext cx="4724280" cy="1519200"/>
        </p:xfrm>
        <a:graphic>
          <a:graphicData uri="http://schemas.openxmlformats.org/drawingml/2006/table">
            <a:tbl>
              <a:tblPr/>
              <a:tblGrid>
                <a:gridCol w="1574640"/>
                <a:gridCol w="1575000"/>
                <a:gridCol w="1574640"/>
              </a:tblGrid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</a:tbl>
          </a:graphicData>
        </a:graphic>
      </p:graphicFrame>
      <p:sp>
        <p:nvSpPr>
          <p:cNvPr id="54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9752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72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47131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974920" y="1680840"/>
            <a:ext cx="473724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9878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66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3240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15440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46748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3988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15296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465680" y="2505240"/>
            <a:ext cx="3241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内容占位符 1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10033200" cy="33260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标题和图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10:41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41Z</dcterms:modified>
  <cp:revision>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42498939991</vt:lpwstr>
  </property>
</Properties>
</file>