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C1F-D91E-4EA3-8F4F-44BBA1DC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70A-3468-4021-9042-850F98B0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B534-DCBA-48FF-9A51-6731013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172DA-0105-4FB7-B6DB-C0C0BD1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910A9-991F-4E0A-9ACF-B210C43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54326-6CB5-49E4-A2BB-14F2FBF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B44AD-53FE-4895-A3FA-EC67D72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8D68-6DE9-420C-8A58-FBC89E0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40B3F-3D98-40E5-9EA7-E2C1002C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62FF-397B-4CDF-8E05-517D6DC2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E60F3-36AF-4E61-AF5B-0B7D20DB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9AD-7221-4FE9-83C7-18A24218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3E6-0642-446B-8702-9B1EDD8F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1DD-2C9F-4E71-A1CC-7FF1EF90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6874-67BF-4DCF-99C3-8AAC796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B552-16B2-43AE-B26F-F610E65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090-60CD-4843-8E21-F9DC7EF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E6C8-B6C5-4B3C-8D8D-7A57D15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B88C-EB85-49AE-AADF-0A849F76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223E-F54D-4B1A-BDFF-8B93106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D05-74BC-4DB6-86BC-504B7141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44B-F2B9-485A-BCCB-454AFD2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70D-C0A2-4D1E-A435-98DBEE6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8EB2-3EEC-4696-9AA9-D1DAF6A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261-FBBD-4611-A215-BBDE4561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E777-E6D2-4564-90D8-4B066F52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70FA-E90A-4533-BE5A-D5A5B04E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D7CAE-4FE7-46A7-8F0E-7D552C7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2313-26AC-4326-B942-DC696BF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3600-BFF5-478C-9C62-B7E22BE2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0E52-4C29-4E7C-92A8-710B5D5D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E3C-E4A9-4FF5-80C4-0699CCE9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2589-A55A-401A-A886-70F1E0E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577D-AFBC-43B2-9CA8-6FA21F0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12BD-E849-44C9-95A7-3376D7B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BB36-0CF0-4DB8-89B2-3CE9E9C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40DB-BEE8-4581-96F5-DE92B24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7907-13C1-42F1-93C5-3FA29941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814D-5A3E-4D16-97AB-41E85DF2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4A3C-4DC6-4026-A316-33338BD4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F009-2DAC-411D-933B-C16A559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25BD-41E7-4F71-AB24-35B05160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31D-86A2-4F3B-B870-C37FB3BB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BCA8-D2C7-4EA7-B44B-19227AB7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5CF1-33A7-42AD-8D89-F20B32B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5BC2-C513-4430-A4A9-E79D841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F5CD-E4B6-4B05-9079-F68D140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8F6A-5B41-4327-8D3B-C12C754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BF4D-2586-40B9-B236-79B46DD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1AD9-F579-473E-B06D-87FCC00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FC83-B90F-4BE8-9297-D03D7BE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C136-3E28-4A81-92DC-482B5CC3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AC4F-4C3B-4A12-BC8A-7FCEDB92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9F1-A6EB-47F6-8E3C-FEFC35E0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D7BFA-1FAD-4C77-84B5-D975CD4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66FE-7B0F-4341-9303-C3D12FF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E9022-0973-46E6-A066-BF3FB57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D615-DE91-4F77-A625-33C32C4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C874-558C-4501-9D49-771AC8D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2CEA-D8A5-4E7C-B9E5-879C1B0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C32C-1876-4A26-9DE2-C8B88CF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38C0-7DCF-4194-9AB7-96C574C7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BA4D-00EC-4365-8C67-E31BFC2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D1C9E-49E7-460F-AF19-8ADCFDF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C54-1E79-4296-89A2-B738EBF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FB74-D033-4470-9A9C-27B2DC6F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9308F-4785-41AF-92F3-47787FF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B6FF-AD94-4537-A243-5AE14AC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FAD2-D1CF-47BF-80DE-5FC8706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C227-DB23-4C3B-9986-84638CD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C2A3-F2BC-402C-AA34-06D8A5D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1F998-6417-4241-8C11-F38E4B0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6D6B-8EF2-4459-8806-5D8EE13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E888-C389-4878-B3EA-71ED39D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AFD81-2609-483F-9C8C-94ECA09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A6D-F14D-4A15-9627-A8B1A7B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C525-22DA-479C-BBE5-06A00A19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11B2-AD0E-49F4-A224-3C3D97B2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E334-FF52-49DD-B381-A32154DD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2530-62FE-4D2F-9C4F-F63D9FC8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A1831-91B2-44F2-983F-74E67C0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7CFB-C1CB-41F1-BA89-76D65AAE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8A82-EC1C-43A5-AA82-EA4608B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E3FC-5B49-4600-953D-0097E80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F092-91A3-4E6B-BCAB-5F35842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2E0A-DB65-4555-8065-0344E84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6F8-1110-4438-853F-2DD2937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1561-FDD5-48D3-A7D0-E19EF50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A28E5-D225-4764-A172-92AA976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67CE-43A8-4248-9E20-A5B0A4B3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F923-4AE4-43FF-BBFB-AD84DB78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A289-F42A-41CE-8C2F-AAB081F4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47D9-8864-4CA7-AC73-1A38EA86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683A-1A25-404C-A251-7AB54689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A2DA-2530-4E5A-8063-47E7443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4EBE-73EA-48DC-84B9-B4CB19E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B27E1-81F5-43BD-8AB6-B25679F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07D-351D-44F7-A2E7-91D76C8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83055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5C4DB-9795-4D31-AFFB-F636AFB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DFA9-6F4D-4518-AA9D-DC2A05B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5416-BDEF-482E-98C8-671402B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C63A8-EB3C-4BBE-B78E-462ECC2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95280" y="35211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3BDF-C662-4DC5-B45A-EFBBFB9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3360" y="13716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528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3360" y="35211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7C63E-53DC-40C9-AD81-CEBCCF5C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110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26880" y="13716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952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110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26880" y="35211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18E0-E8E3-419B-A9ED-633F134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EB1D-E285-438F-B1F6-75576DE1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374A-10E6-4F4F-8B92-9ECCB64F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360"/>
            <a:ext cx="830556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E6DC9-78FB-49E6-86CB-DA954D5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CDA8-8298-4519-94BE-78725007007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294-FD75-4AC8-B37B-ED57C853E7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96D-B4C9-4C1B-9E5A-3AEBE6E17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519E-38F6-4E74-8779-FB241453E5E7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BBF-561B-423D-9A03-34F7CA22431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F791-F947-4523-A90C-59E1CAB51953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8074-4740-477E-B03F-19DD4186C8D5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C67-5734-4C8B-8F9A-8809446A495C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B5B2-8EE9-4F80-A070-A92C6B3D166D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a3171e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B13-3EC5-44BA-AF8A-4CDA6DDADBE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0" y="2568600"/>
            <a:ext cx="9144000" cy="73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3171e"/>
                </a:solidFill>
                <a:latin typeface="Tahoma"/>
              </a:rPr>
              <a:t>卡通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小学教育教学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PPT</a:t>
            </a:r>
            <a:r>
              <a:rPr b="1" lang="en-US" sz="4000" spc="-1" strike="noStrike">
                <a:solidFill>
                  <a:srgbClr val="a3171e"/>
                </a:solidFill>
                <a:latin typeface="Tahoma"/>
              </a:rPr>
              <a:t>模板</a:t>
            </a:r>
            <a:r>
              <a:rPr b="1" lang="zh-CN" sz="4000" spc="-1" strike="noStrike">
                <a:solidFill>
                  <a:srgbClr val="a3171e"/>
                </a:solidFill>
                <a:latin typeface="Tahoma"/>
              </a:rPr>
              <a:t>免费下载</a:t>
            </a:r>
            <a:endParaRPr b="1" lang="en-US" sz="4000" spc="-1" strike="noStrike">
              <a:solidFill>
                <a:srgbClr val="a3171e"/>
              </a:solidFill>
              <a:latin typeface="Tahoma"/>
            </a:endParaRPr>
          </a:p>
        </p:txBody>
      </p:sp>
      <p:sp>
        <p:nvSpPr>
          <p:cNvPr id="37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3171e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a3171e"/>
              </a:solidFill>
              <a:latin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95280" y="13716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171e"/>
                </a:solidFill>
                <a:latin typeface="Tahoma"/>
              </a:rPr>
              <a:t>YOUR SUBTOPIC GOES HERE</a:t>
            </a:r>
            <a:endParaRPr b="1" lang="en-US" sz="2400" spc="-1" strike="noStrike">
              <a:solidFill>
                <a:srgbClr val="a3171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4" descr=""/>
          <p:cNvPicPr/>
          <p:nvPr/>
        </p:nvPicPr>
        <p:blipFill>
          <a:blip r:embed="rId1"/>
          <a:stretch/>
        </p:blipFill>
        <p:spPr>
          <a:xfrm>
            <a:off x="838080" y="2143080"/>
            <a:ext cx="777240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D93A-7616-4B21-BA11-C92D1174A0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7"/>
          <p:cNvSpPr/>
          <p:nvPr/>
        </p:nvSpPr>
        <p:spPr>
          <a:xfrm>
            <a:off x="3352680" y="22096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mplate Provided By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590920" y="3733920"/>
            <a:ext cx="396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0,000 Downloadable PowerPoint Templates, Animated Clip Art, Backgrounds and Videos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382" name="Picture 12" descr="af_logo_lon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62040" y="2612880"/>
            <a:ext cx="6019920" cy="766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0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2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103368129990</vt:lpwstr>
  </property>
</Properties>
</file>