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343C-958A-485F-B58B-B80FA6E8BA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" y="4086720"/>
            <a:ext cx="8218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2959-21E2-4E77-83A1-A6C1980A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" y="408672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408672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3926-99FC-43AD-BFDE-0B7636CC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6840" y="134100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34100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000" y="408672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6840" y="408672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408672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08AE4-FD09-432B-874A-42D33D5472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33A75-1962-4DA8-951C-1C644666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134100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D3CA7-C333-4B4C-9A16-197F259A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86E07-7BC9-4932-AD30-93A7925C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10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010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77F42-40C6-47C3-B731-8B209EBD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E513B-D5DD-4F44-9F3B-0ECCACF0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136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2FEBD-2CB5-4369-B5F8-62243690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010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408672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15462-BDA6-4E17-A125-B33DC890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000" y="134100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0037C-F336-43DC-A9B1-68A988D8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10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9280" y="408672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11E03-B906-4828-9785-E31E53BA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" y="4086720"/>
            <a:ext cx="8218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4820C-4D15-4123-BC29-D5B4AEC6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" y="4086720"/>
            <a:ext cx="8218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C7094-FC7C-4B71-B9ED-CD608C88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000" y="408672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9280" y="408672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3F405-EA4B-43E4-AF4F-121F13E5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840" y="134100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5320" y="134100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000" y="408672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840" y="408672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5320" y="408672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78318-C77D-4522-8275-D83A89A2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43FA9-F7B1-4EC0-8DF2-49342C8C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000" y="134100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C2657-C88E-482B-8D03-2AB80578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2C122-124F-4CE0-B339-7AED31F1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10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010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BE60F-43E3-4CBC-AA72-335EB460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F672F-0C0C-4192-89C7-9B6D2DCA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119E0-26AB-468E-9F04-0DB2033B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136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8AA93-088C-4857-B184-D4D9EC07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010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000" y="408672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D7A5B-DCAD-4EB5-8511-EAF88454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10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9280" y="408672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F98E6-8427-42B9-B6F0-B62AAF22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000" y="4086720"/>
            <a:ext cx="8218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DECF9-7F24-4B4C-B4EB-469EF817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000" y="4086720"/>
            <a:ext cx="8218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44911-793F-4671-9851-DB17CB11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000" y="408672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9280" y="408672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0759C-3073-41C2-942C-D0505ABC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46840" y="134100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5320" y="134100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8000" y="408672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46840" y="408672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5320" y="4086720"/>
            <a:ext cx="264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EE925-9EA7-45B5-AC9C-7D67BFB4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10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010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DF5E9-764C-4868-A7C6-BC9DBDE3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C94F-85FB-48AA-972D-11384037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136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AADD-426F-4FA2-B521-6B16C202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010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" y="408672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5EAA3-B88F-43D0-B8FF-F3F9154D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10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408672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05F4-65A3-46A1-BDA0-957357E5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010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" y="4086720"/>
            <a:ext cx="8218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BFC7D-F293-4A5C-AA4C-2BAA8CF7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对象 12347" descr=""/>
          <p:cNvPicPr/>
          <p:nvPr/>
        </p:nvPicPr>
        <p:blipFill>
          <a:blip r:embed="rId2"/>
          <a:stretch/>
        </p:blipFill>
        <p:spPr>
          <a:xfrm>
            <a:off x="395280" y="0"/>
            <a:ext cx="874872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矩形 12344"/>
          <p:cNvSpPr/>
          <p:nvPr/>
        </p:nvSpPr>
        <p:spPr>
          <a:xfrm>
            <a:off x="0" y="907920"/>
            <a:ext cx="395280" cy="422280"/>
          </a:xfrm>
          <a:prstGeom prst="rect">
            <a:avLst/>
          </a:prstGeom>
          <a:solidFill>
            <a:srgbClr val="b13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000" y="134100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085b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5b4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5b4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3085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5b4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b136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5b4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7d78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5b4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5b4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5b4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300360" y="6616440"/>
            <a:ext cx="26132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3564000" y="661644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B920-114F-4D39-B30A-7D3CBD01C406}" type="slidenum">
              <a:rPr b="0" lang="ko-KR" sz="10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矩形 12343"/>
          <p:cNvSpPr/>
          <p:nvPr/>
        </p:nvSpPr>
        <p:spPr>
          <a:xfrm>
            <a:off x="0" y="0"/>
            <a:ext cx="39528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EA17-F822-4C8A-B870-B38E2D3A42D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D593-F3B0-49C7-8477-E0E062F171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3355"/>
          <p:cNvSpPr/>
          <p:nvPr/>
        </p:nvSpPr>
        <p:spPr>
          <a:xfrm>
            <a:off x="380880" y="0"/>
            <a:ext cx="8763120" cy="1847880"/>
          </a:xfrm>
          <a:prstGeom prst="rect">
            <a:avLst/>
          </a:prstGeom>
          <a:solidFill>
            <a:srgbClr val="308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对象 13353" descr=""/>
          <p:cNvPicPr/>
          <p:nvPr/>
        </p:nvPicPr>
        <p:blipFill>
          <a:blip r:embed="rId2"/>
          <a:stretch/>
        </p:blipFill>
        <p:spPr>
          <a:xfrm>
            <a:off x="0" y="2247840"/>
            <a:ext cx="9144000" cy="461016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13347"/>
          <p:cNvSpPr/>
          <p:nvPr/>
        </p:nvSpPr>
        <p:spPr>
          <a:xfrm>
            <a:off x="3456360" y="595008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3354"/>
          <p:cNvSpPr/>
          <p:nvPr/>
        </p:nvSpPr>
        <p:spPr>
          <a:xfrm>
            <a:off x="0" y="0"/>
            <a:ext cx="395280" cy="1852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356"/>
          <p:cNvSpPr/>
          <p:nvPr/>
        </p:nvSpPr>
        <p:spPr>
          <a:xfrm>
            <a:off x="0" y="1849320"/>
            <a:ext cx="395280" cy="422280"/>
          </a:xfrm>
          <a:prstGeom prst="rect">
            <a:avLst/>
          </a:prstGeom>
          <a:solidFill>
            <a:srgbClr val="b13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68000" y="134100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085b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5b4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5b4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3085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5b4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b136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5b4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7d78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5b4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5b4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5b4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1877-B8A5-4235-8D48-209A9EEC7CBD}" type="slidenum">
              <a:rPr b="0" lang="ko-KR" sz="10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705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Verdana"/>
                <a:ea typeface="굴림"/>
              </a:rPr>
              <a:t>PowerPoint</a:t>
            </a:r>
            <a:br>
              <a:rPr sz="2800"/>
            </a:br>
            <a:r>
              <a:rPr b="0" lang="en-US" sz="7200" spc="-1" strike="noStrike">
                <a:solidFill>
                  <a:srgbClr val="ffffff"/>
                </a:solidFill>
                <a:latin typeface="Verdana"/>
                <a:ea typeface="굴림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1571760" y="227664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蓝领工作团队报告</a:t>
            </a:r>
            <a:r>
              <a:rPr b="0" lang="en-US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DB50-0683-4EEA-884D-EBB4E65BC6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43010"/>
          <p:cNvSpPr txBox="1"/>
          <p:nvPr/>
        </p:nvSpPr>
        <p:spPr>
          <a:xfrm>
            <a:off x="1676520" y="2666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3085b4"/>
                    </a:gs>
                    <a:gs pos="100000">
                      <a:srgbClr val="000000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3085b4"/>
                  </a:gs>
                  <a:gs pos="100000">
                    <a:srgbClr val="000000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矩形 43012"/>
          <p:cNvSpPr/>
          <p:nvPr/>
        </p:nvSpPr>
        <p:spPr>
          <a:xfrm>
            <a:off x="1828800" y="3733920"/>
            <a:ext cx="5410080" cy="342720"/>
          </a:xfrm>
          <a:prstGeom prst="rect">
            <a:avLst/>
          </a:prstGeom>
          <a:gradFill rotWithShape="0">
            <a:gsLst>
              <a:gs pos="0">
                <a:srgbClr val="214f69"/>
              </a:gs>
              <a:gs pos="50000">
                <a:srgbClr val="47abe3"/>
              </a:gs>
              <a:gs pos="100000">
                <a:srgbClr val="214f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圆角矩形 39937"/>
          <p:cNvSpPr/>
          <p:nvPr/>
        </p:nvSpPr>
        <p:spPr>
          <a:xfrm>
            <a:off x="2125800" y="2104920"/>
            <a:ext cx="5473440" cy="360360"/>
          </a:xfrm>
          <a:prstGeom prst="roundRect">
            <a:avLst>
              <a:gd name="adj" fmla="val 16667"/>
            </a:avLst>
          </a:prstGeom>
          <a:solidFill>
            <a:srgbClr val="7d7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39938"/>
          <p:cNvSpPr/>
          <p:nvPr/>
        </p:nvSpPr>
        <p:spPr>
          <a:xfrm>
            <a:off x="2139840" y="2962440"/>
            <a:ext cx="5473800" cy="360360"/>
          </a:xfrm>
          <a:prstGeom prst="roundRect">
            <a:avLst>
              <a:gd name="adj" fmla="val 16667"/>
            </a:avLst>
          </a:prstGeom>
          <a:solidFill>
            <a:srgbClr val="b13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39939"/>
          <p:cNvSpPr/>
          <p:nvPr/>
        </p:nvSpPr>
        <p:spPr>
          <a:xfrm>
            <a:off x="2125800" y="3813120"/>
            <a:ext cx="5473440" cy="360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39940"/>
          <p:cNvSpPr/>
          <p:nvPr/>
        </p:nvSpPr>
        <p:spPr>
          <a:xfrm>
            <a:off x="2125800" y="4691160"/>
            <a:ext cx="5473440" cy="36036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圆角矩形 39946"/>
          <p:cNvSpPr/>
          <p:nvPr/>
        </p:nvSpPr>
        <p:spPr>
          <a:xfrm>
            <a:off x="2436840" y="2044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39947"/>
          <p:cNvSpPr/>
          <p:nvPr/>
        </p:nvSpPr>
        <p:spPr>
          <a:xfrm>
            <a:off x="2457360" y="289548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39948"/>
          <p:cNvSpPr/>
          <p:nvPr/>
        </p:nvSpPr>
        <p:spPr>
          <a:xfrm>
            <a:off x="2448000" y="375444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hallenges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39949"/>
          <p:cNvSpPr/>
          <p:nvPr/>
        </p:nvSpPr>
        <p:spPr>
          <a:xfrm>
            <a:off x="2523960" y="462600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菱形 39950"/>
          <p:cNvSpPr/>
          <p:nvPr/>
        </p:nvSpPr>
        <p:spPr>
          <a:xfrm>
            <a:off x="1685880" y="1905120"/>
            <a:ext cx="685800" cy="685800"/>
          </a:xfrm>
          <a:prstGeom prst="diamond">
            <a:avLst/>
          </a:prstGeom>
          <a:solidFill>
            <a:srgbClr val="7d78e2"/>
          </a:solidFill>
          <a:ln w="38160">
            <a:solidFill>
              <a:srgbClr val="ffffff"/>
            </a:solidFill>
            <a:miter/>
          </a:ln>
          <a:effectLst>
            <a:outerShdw dist="115171" dir="37685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菱形 39954"/>
          <p:cNvSpPr/>
          <p:nvPr/>
        </p:nvSpPr>
        <p:spPr>
          <a:xfrm>
            <a:off x="1685880" y="2743200"/>
            <a:ext cx="685800" cy="685800"/>
          </a:xfrm>
          <a:prstGeom prst="diamond">
            <a:avLst/>
          </a:prstGeom>
          <a:solidFill>
            <a:srgbClr val="b13621"/>
          </a:solidFill>
          <a:ln w="38160">
            <a:solidFill>
              <a:srgbClr val="ffffff"/>
            </a:solidFill>
            <a:miter/>
          </a:ln>
          <a:effectLst>
            <a:outerShdw dist="115171" dir="37685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菱形 39955"/>
          <p:cNvSpPr/>
          <p:nvPr/>
        </p:nvSpPr>
        <p:spPr>
          <a:xfrm>
            <a:off x="1685880" y="3657600"/>
            <a:ext cx="685800" cy="685800"/>
          </a:xfrm>
          <a:prstGeom prst="diamond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  <a:effectLst>
            <a:outerShdw dist="115171" dir="37685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菱形 39956"/>
          <p:cNvSpPr/>
          <p:nvPr/>
        </p:nvSpPr>
        <p:spPr>
          <a:xfrm>
            <a:off x="1685880" y="4495680"/>
            <a:ext cx="685800" cy="685800"/>
          </a:xfrm>
          <a:prstGeom prst="diamond">
            <a:avLst/>
          </a:prstGeom>
          <a:solidFill>
            <a:srgbClr val="3085b4"/>
          </a:solidFill>
          <a:ln w="38160">
            <a:solidFill>
              <a:srgbClr val="ffffff"/>
            </a:solidFill>
            <a:miter/>
          </a:ln>
          <a:effectLst>
            <a:outerShdw dist="115171" dir="37685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8200"/>
          <p:cNvSpPr/>
          <p:nvPr/>
        </p:nvSpPr>
        <p:spPr>
          <a:xfrm>
            <a:off x="971640" y="1197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d78e2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owerPoint FAQ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000" y="1987560"/>
            <a:ext cx="82184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085b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5b4"/>
                </a:solidFill>
                <a:latin typeface="Arial"/>
                <a:ea typeface="굴림"/>
              </a:rPr>
              <a:t> </a:t>
            </a:r>
            <a:r>
              <a:rPr b="1" lang="en-US" sz="2800" spc="-1" strike="noStrike">
                <a:solidFill>
                  <a:srgbClr val="3085b4"/>
                </a:solidFill>
                <a:latin typeface="Arial"/>
                <a:ea typeface="굴림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085b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On the </a:t>
            </a:r>
            <a:r>
              <a:rPr b="0" lang="en-US" sz="2400" spc="-1" strike="noStrike">
                <a:solidFill>
                  <a:srgbClr val="b13621"/>
                </a:solidFill>
                <a:latin typeface="Arial"/>
                <a:ea typeface="굴림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 menu, point to </a:t>
            </a:r>
            <a:r>
              <a:rPr b="0" lang="en-US" sz="2400" spc="-1" strike="noStrike">
                <a:solidFill>
                  <a:srgbClr val="b13621"/>
                </a:solidFill>
                <a:latin typeface="Arial"/>
                <a:ea typeface="굴림"/>
              </a:rPr>
              <a:t>[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and then click [Slide Master] or Notes Master.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5b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08120" y="2104920"/>
          <a:ext cx="7578720" cy="3484440"/>
        </p:xfrm>
        <a:graphic>
          <a:graphicData uri="http://schemas.openxmlformats.org/drawingml/2006/table">
            <a:tbl>
              <a:tblPr/>
              <a:tblGrid>
                <a:gridCol w="1515960"/>
                <a:gridCol w="1514520"/>
                <a:gridCol w="1517760"/>
                <a:gridCol w="1514520"/>
                <a:gridCol w="151596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a3869"/>
                        </a:gs>
                        <a:gs pos="100000">
                          <a:srgbClr val="7d78e2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a3869"/>
                        </a:gs>
                        <a:gs pos="100000">
                          <a:srgbClr val="7d78e2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a3869"/>
                        </a:gs>
                        <a:gs pos="100000">
                          <a:srgbClr val="7d78e2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a3869"/>
                        </a:gs>
                        <a:gs pos="100000">
                          <a:srgbClr val="7d78e2"/>
                        </a:gs>
                      </a:gsLst>
                      <a:lin ang="2700000"/>
                    </a:gradFill>
                  </a:tcPr>
                </a:tc>
              </a:tr>
              <a:tr h="74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a3869"/>
                        </a:gs>
                        <a:gs pos="100000">
                          <a:srgbClr val="7d78e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9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3b3b"/>
                        </a:gs>
                        <a:gs pos="100000">
                          <a:srgbClr val="00808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63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63e53"/>
                        </a:gs>
                        <a:gs pos="100000">
                          <a:srgbClr val="3085b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2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100000">
                          <a:srgbClr val="000066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组合 48188"/>
          <p:cNvGrpSpPr/>
          <p:nvPr/>
        </p:nvGrpSpPr>
        <p:grpSpPr>
          <a:xfrm>
            <a:off x="880920" y="1071000"/>
            <a:ext cx="7196400" cy="5339520"/>
            <a:chOff x="880920" y="1071000"/>
            <a:chExt cx="7196400" cy="5339520"/>
          </a:xfrm>
        </p:grpSpPr>
        <p:sp>
          <p:nvSpPr>
            <p:cNvPr id="152" name="椭圆 48186"/>
            <p:cNvSpPr/>
            <p:nvPr/>
          </p:nvSpPr>
          <p:spPr>
            <a:xfrm rot="20239200">
              <a:off x="1218960" y="2209320"/>
              <a:ext cx="6519600" cy="306252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3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48187"/>
            <p:cNvSpPr/>
            <p:nvPr/>
          </p:nvSpPr>
          <p:spPr>
            <a:xfrm rot="20240400">
              <a:off x="1358280" y="2419200"/>
              <a:ext cx="5925600" cy="268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sp>
        <p:nvSpPr>
          <p:cNvPr id="155" name="椭圆 48160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b13621"/>
              </a:gs>
              <a:gs pos="100000">
                <a:srgbClr val="661f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48161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464690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48162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7d78e2"/>
              </a:gs>
              <a:gs pos="100000">
                <a:srgbClr val="2b294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48163"/>
          <p:cNvSpPr/>
          <p:nvPr/>
        </p:nvSpPr>
        <p:spPr>
          <a:xfrm>
            <a:off x="1979640" y="479736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3085b4"/>
              </a:gs>
              <a:gs pos="100000">
                <a:srgbClr val="14384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48164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002e2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8189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sp>
        <p:nvSpPr>
          <p:cNvPr id="162" name="圆角矩形 51206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085b4"/>
              </a:gs>
              <a:gs pos="100000">
                <a:srgbClr val="163e53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51242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13621"/>
              </a:gs>
              <a:gs pos="100000">
                <a:srgbClr val="4b170e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51243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4c763"/>
              </a:gs>
              <a:gs pos="100000">
                <a:srgbClr val="4c542a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燕尾形 51217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0" y="21600"/>
                </a:lnTo>
                <a:lnTo>
                  <a:pt x="3555" y="10800"/>
                </a:lnTo>
                <a:close/>
              </a:path>
            </a:pathLst>
          </a:custGeom>
          <a:gradFill rotWithShape="0">
            <a:gsLst>
              <a:gs pos="0">
                <a:srgbClr val="b4c763"/>
              </a:gs>
              <a:gs pos="100000">
                <a:srgbClr val="e1e9c1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51218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gradFill rotWithShape="0">
            <a:gsLst>
              <a:gs pos="0">
                <a:srgbClr val="b13621"/>
              </a:gs>
              <a:gs pos="100000">
                <a:srgbClr val="e0afa6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51247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gradFill rotWithShape="0">
            <a:gsLst>
              <a:gs pos="0">
                <a:srgbClr val="3085b4"/>
              </a:gs>
              <a:gs pos="100000">
                <a:srgbClr val="c6deea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内容占位符 41986" descr=""/>
          <p:cNvPicPr/>
          <p:nvPr/>
        </p:nvPicPr>
        <p:blipFill>
          <a:blip r:embed="rId1"/>
          <a:stretch/>
        </p:blipFill>
        <p:spPr>
          <a:xfrm>
            <a:off x="1371600" y="2063880"/>
            <a:ext cx="64008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sp>
        <p:nvSpPr>
          <p:cNvPr id="171" name="圆角矩形 53251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53252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53253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53254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53305"/>
          <p:cNvGrpSpPr/>
          <p:nvPr/>
        </p:nvGrpSpPr>
        <p:grpSpPr>
          <a:xfrm>
            <a:off x="1200600" y="1782360"/>
            <a:ext cx="6437160" cy="1387800"/>
            <a:chOff x="1200600" y="1782360"/>
            <a:chExt cx="6437160" cy="1387800"/>
          </a:xfrm>
        </p:grpSpPr>
        <p:sp>
          <p:nvSpPr>
            <p:cNvPr id="176" name="矩形 53286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308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组合 53260"/>
            <p:cNvGrpSpPr/>
            <p:nvPr/>
          </p:nvGrpSpPr>
          <p:grpSpPr>
            <a:xfrm>
              <a:off x="2375280" y="2179080"/>
              <a:ext cx="931680" cy="131760"/>
              <a:chOff x="2375280" y="2179080"/>
              <a:chExt cx="931680" cy="131760"/>
            </a:xfrm>
          </p:grpSpPr>
          <p:sp>
            <p:nvSpPr>
              <p:cNvPr id="178" name="椭圆 53261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矩形 53262"/>
              <p:cNvSpPr/>
              <p:nvPr/>
            </p:nvSpPr>
            <p:spPr>
              <a:xfrm>
                <a:off x="246456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椭圆 53263"/>
              <p:cNvSpPr/>
              <p:nvPr/>
            </p:nvSpPr>
            <p:spPr>
              <a:xfrm>
                <a:off x="316584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椭圆 53264"/>
              <p:cNvSpPr/>
              <p:nvPr/>
            </p:nvSpPr>
            <p:spPr>
              <a:xfrm>
                <a:off x="32418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矩形 53287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组合 53288"/>
            <p:cNvGrpSpPr/>
            <p:nvPr/>
          </p:nvGrpSpPr>
          <p:grpSpPr>
            <a:xfrm>
              <a:off x="4096800" y="2179080"/>
              <a:ext cx="931680" cy="131760"/>
              <a:chOff x="4096800" y="2179080"/>
              <a:chExt cx="931680" cy="131760"/>
            </a:xfrm>
          </p:grpSpPr>
          <p:sp>
            <p:nvSpPr>
              <p:cNvPr id="184" name="椭圆 53289"/>
              <p:cNvSpPr/>
              <p:nvPr/>
            </p:nvSpPr>
            <p:spPr>
              <a:xfrm>
                <a:off x="409680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矩形 53290"/>
              <p:cNvSpPr/>
              <p:nvPr/>
            </p:nvSpPr>
            <p:spPr>
              <a:xfrm>
                <a:off x="418608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椭圆 53291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椭圆 53292"/>
              <p:cNvSpPr/>
              <p:nvPr/>
            </p:nvSpPr>
            <p:spPr>
              <a:xfrm>
                <a:off x="496332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矩形 53293"/>
            <p:cNvSpPr/>
            <p:nvPr/>
          </p:nvSpPr>
          <p:spPr>
            <a:xfrm rot="3418800">
              <a:off x="4781520" y="1941480"/>
              <a:ext cx="924480" cy="1003680"/>
            </a:xfrm>
            <a:prstGeom prst="rect">
              <a:avLst/>
            </a:prstGeom>
            <a:solidFill>
              <a:srgbClr val="308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组合 53294"/>
            <p:cNvGrpSpPr/>
            <p:nvPr/>
          </p:nvGrpSpPr>
          <p:grpSpPr>
            <a:xfrm>
              <a:off x="5817960" y="2179080"/>
              <a:ext cx="1218240" cy="131760"/>
              <a:chOff x="5817960" y="2179080"/>
              <a:chExt cx="1218240" cy="131760"/>
            </a:xfrm>
          </p:grpSpPr>
          <p:sp>
            <p:nvSpPr>
              <p:cNvPr id="190" name="椭圆 53295"/>
              <p:cNvSpPr/>
              <p:nvPr/>
            </p:nvSpPr>
            <p:spPr>
              <a:xfrm>
                <a:off x="5817960" y="21790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矩形 53296"/>
              <p:cNvSpPr/>
              <p:nvPr/>
            </p:nvSpPr>
            <p:spPr>
              <a:xfrm>
                <a:off x="593460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椭圆 53297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53298"/>
              <p:cNvSpPr/>
              <p:nvPr/>
            </p:nvSpPr>
            <p:spPr>
              <a:xfrm>
                <a:off x="695088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矩形 53299"/>
            <p:cNvSpPr/>
            <p:nvPr/>
          </p:nvSpPr>
          <p:spPr>
            <a:xfrm rot="3418800">
              <a:off x="6502680" y="1941480"/>
              <a:ext cx="924480" cy="1003680"/>
            </a:xfrm>
            <a:prstGeom prst="rect">
              <a:avLst/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圆角矩形 53306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 53307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圆角矩形 53308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53309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8200"/>
          <p:cNvSpPr/>
          <p:nvPr/>
        </p:nvSpPr>
        <p:spPr>
          <a:xfrm>
            <a:off x="900000" y="1341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d78e2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sp>
        <p:nvSpPr>
          <p:cNvPr id="201" name="椭圆 54275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54277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54278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54279"/>
          <p:cNvSpPr/>
          <p:nvPr/>
        </p:nvSpPr>
        <p:spPr>
          <a:xfrm rot="20601600">
            <a:off x="4565520" y="298764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3" y="8320"/>
                </a:moveTo>
                <a:cubicBezTo>
                  <a:pt x="17878" y="13250"/>
                  <a:pt x="14049" y="17248"/>
                  <a:pt x="9249" y="19525"/>
                </a:cubicBezTo>
              </a:path>
              <a:path stroke="0" w="19933" h="19523">
                <a:moveTo>
                  <a:pt x="9242" y="19522"/>
                </a:moveTo>
                <a:cubicBezTo>
                  <a:pt x="9243" y="19631"/>
                  <a:pt x="9243" y="19741"/>
                  <a:pt x="9243" y="19851"/>
                </a:cubicBezTo>
                <a:cubicBezTo>
                  <a:pt x="9243" y="20093"/>
                  <a:pt x="9241" y="20333"/>
                  <a:pt x="9238" y="20566"/>
                </a:cubicBezTo>
                <a:lnTo>
                  <a:pt x="19933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54280"/>
          <p:cNvSpPr/>
          <p:nvPr/>
        </p:nvSpPr>
        <p:spPr>
          <a:xfrm rot="20601600">
            <a:off x="4341960" y="1994040"/>
            <a:ext cx="28494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0"/>
                </a:moveTo>
                <a:cubicBezTo>
                  <a:pt x="19544" y="3813"/>
                  <a:pt x="21600" y="8834"/>
                  <a:pt x="21600" y="14335"/>
                </a:cubicBezTo>
                <a:cubicBezTo>
                  <a:pt x="21600" y="17311"/>
                  <a:pt x="20998" y="20146"/>
                  <a:pt x="19911" y="22723"/>
                </a:cubicBezTo>
              </a:path>
              <a:path stroke="0" w="21600" h="22718">
                <a:moveTo>
                  <a:pt x="19906" y="22718"/>
                </a:moveTo>
                <a:cubicBezTo>
                  <a:pt x="20398" y="18083"/>
                  <a:pt x="21213" y="15054"/>
                  <a:pt x="22135" y="15054"/>
                </a:cubicBezTo>
                <a:cubicBezTo>
                  <a:pt x="23638" y="15054"/>
                  <a:pt x="24856" y="23098"/>
                  <a:pt x="24856" y="33021"/>
                </a:cubicBezTo>
                <a:cubicBezTo>
                  <a:pt x="24856" y="33593"/>
                  <a:pt x="24852" y="34158"/>
                  <a:pt x="24844" y="34711"/>
                </a:cubicBezTo>
                <a:lnTo>
                  <a:pt x="16157" y="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任意多边形 54281"/>
          <p:cNvSpPr/>
          <p:nvPr/>
        </p:nvSpPr>
        <p:spPr>
          <a:xfrm flipH="1" rot="20602200">
            <a:off x="1746720" y="3306240"/>
            <a:ext cx="2876760" cy="163044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0"/>
                </a:moveTo>
                <a:cubicBezTo>
                  <a:pt x="21198" y="2176"/>
                  <a:pt x="21600" y="4515"/>
                  <a:pt x="21600" y="6947"/>
                </a:cubicBezTo>
                <a:cubicBezTo>
                  <a:pt x="21600" y="14141"/>
                  <a:pt x="18083" y="20514"/>
                  <a:pt x="12674" y="24440"/>
                </a:cubicBezTo>
              </a:path>
              <a:path stroke="0" w="21600" h="24439">
                <a:moveTo>
                  <a:pt x="12672" y="24438"/>
                </a:moveTo>
                <a:cubicBezTo>
                  <a:pt x="12673" y="24669"/>
                  <a:pt x="12673" y="24902"/>
                  <a:pt x="12673" y="25136"/>
                </a:cubicBezTo>
                <a:cubicBezTo>
                  <a:pt x="12673" y="25267"/>
                  <a:pt x="12673" y="25397"/>
                  <a:pt x="12673" y="25526"/>
                </a:cubicBezTo>
                <a:lnTo>
                  <a:pt x="20452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54282"/>
          <p:cNvSpPr/>
          <p:nvPr/>
        </p:nvSpPr>
        <p:spPr>
          <a:xfrm rot="20601600">
            <a:off x="3600000" y="1730520"/>
            <a:ext cx="2814840" cy="141732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8"/>
                </a:moveTo>
                <a:cubicBezTo>
                  <a:pt x="1553" y="187"/>
                  <a:pt x="3174" y="-1"/>
                  <a:pt x="4839" y="-1"/>
                </a:cubicBezTo>
                <a:cubicBezTo>
                  <a:pt x="11488" y="-1"/>
                  <a:pt x="17435" y="3003"/>
                  <a:pt x="21397" y="7728"/>
                </a:cubicBezTo>
              </a:path>
              <a:path stroke="0" w="21397" h="21600">
                <a:moveTo>
                  <a:pt x="21397" y="7729"/>
                </a:moveTo>
                <a:cubicBezTo>
                  <a:pt x="18811" y="3837"/>
                  <a:pt x="17194" y="-1710"/>
                  <a:pt x="17194" y="-7866"/>
                </a:cubicBezTo>
                <a:cubicBezTo>
                  <a:pt x="17194" y="-19644"/>
                  <a:pt x="23112" y="-29192"/>
                  <a:pt x="30413" y="-29192"/>
                </a:cubicBezTo>
                <a:cubicBezTo>
                  <a:pt x="37714" y="-29192"/>
                  <a:pt x="43632" y="-19644"/>
                  <a:pt x="43632" y="-7866"/>
                </a:cubicBezTo>
                <a:cubicBezTo>
                  <a:pt x="43632" y="-4730"/>
                  <a:pt x="43213" y="-1753"/>
                  <a:pt x="42460" y="926"/>
                </a:cubicBezTo>
                <a:lnTo>
                  <a:pt x="0" y="548"/>
                </a:lnTo>
                <a:close/>
              </a:path>
            </a:pathLst>
          </a:custGeom>
          <a:gradFill rotWithShape="0">
            <a:gsLst>
              <a:gs pos="0">
                <a:srgbClr val="7d78e2"/>
              </a:gs>
              <a:gs pos="100000">
                <a:srgbClr val="3a3869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54283"/>
          <p:cNvSpPr/>
          <p:nvPr/>
        </p:nvSpPr>
        <p:spPr>
          <a:xfrm flipH="1" rot="20602200">
            <a:off x="1561680" y="237456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0"/>
                </a:moveTo>
                <a:cubicBezTo>
                  <a:pt x="12505" y="1681"/>
                  <a:pt x="18923" y="7870"/>
                  <a:pt x="20936" y="15808"/>
                </a:cubicBezTo>
              </a:path>
              <a:path stroke="0" w="20934" h="21142">
                <a:moveTo>
                  <a:pt x="20934" y="15819"/>
                </a:moveTo>
                <a:cubicBezTo>
                  <a:pt x="20723" y="13980"/>
                  <a:pt x="20612" y="12035"/>
                  <a:pt x="20612" y="10026"/>
                </a:cubicBezTo>
                <a:cubicBezTo>
                  <a:pt x="20612" y="-1777"/>
                  <a:pt x="24457" y="-11345"/>
                  <a:pt x="29200" y="-11345"/>
                </a:cubicBezTo>
                <a:cubicBezTo>
                  <a:pt x="33943" y="-11345"/>
                  <a:pt x="37788" y="-1777"/>
                  <a:pt x="37788" y="10026"/>
                </a:cubicBezTo>
                <a:cubicBezTo>
                  <a:pt x="37788" y="11841"/>
                  <a:pt x="37697" y="13604"/>
                  <a:pt x="37526" y="15281"/>
                </a:cubicBezTo>
                <a:lnTo>
                  <a:pt x="4423" y="0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54284"/>
          <p:cNvSpPr/>
          <p:nvPr/>
        </p:nvSpPr>
        <p:spPr>
          <a:xfrm rot="20601600">
            <a:off x="4681440" y="32367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54285"/>
          <p:cNvSpPr/>
          <p:nvPr/>
        </p:nvSpPr>
        <p:spPr>
          <a:xfrm rot="20601600">
            <a:off x="4574880" y="29840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54315"/>
          <p:cNvGrpSpPr/>
          <p:nvPr/>
        </p:nvGrpSpPr>
        <p:grpSpPr>
          <a:xfrm>
            <a:off x="4163400" y="2660760"/>
            <a:ext cx="3251880" cy="2231640"/>
            <a:chOff x="4163400" y="2660760"/>
            <a:chExt cx="3251880" cy="2231640"/>
          </a:xfrm>
        </p:grpSpPr>
        <p:sp>
          <p:nvSpPr>
            <p:cNvPr id="212" name="任意多边形 54287"/>
            <p:cNvSpPr/>
            <p:nvPr/>
          </p:nvSpPr>
          <p:spPr>
            <a:xfrm rot="20712600">
              <a:off x="4276800" y="3015720"/>
              <a:ext cx="2949480" cy="127188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5" y="13336"/>
                    <a:pt x="13997" y="17273"/>
                    <a:pt x="9249" y="19525"/>
                  </a:cubicBezTo>
                </a:path>
                <a:path stroke="0" w="19866" h="19523">
                  <a:moveTo>
                    <a:pt x="9242" y="19522"/>
                  </a:moveTo>
                  <a:cubicBezTo>
                    <a:pt x="9243" y="19634"/>
                    <a:pt x="9243" y="19747"/>
                    <a:pt x="9243" y="19860"/>
                  </a:cubicBezTo>
                  <a:cubicBezTo>
                    <a:pt x="9243" y="20113"/>
                    <a:pt x="9241" y="20363"/>
                    <a:pt x="9237" y="20606"/>
                  </a:cubicBezTo>
                  <a:lnTo>
                    <a:pt x="19866" y="847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54288"/>
            <p:cNvSpPr/>
            <p:nvPr/>
          </p:nvSpPr>
          <p:spPr>
            <a:xfrm rot="20712600">
              <a:off x="4361040" y="3204720"/>
              <a:ext cx="1377720" cy="153684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7d78e2"/>
                </a:gs>
                <a:gs pos="100000">
                  <a:srgbClr val="3230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任意多边形 54286"/>
            <p:cNvSpPr/>
            <p:nvPr/>
          </p:nvSpPr>
          <p:spPr>
            <a:xfrm rot="20712600">
              <a:off x="5736960" y="3373200"/>
              <a:ext cx="1579320" cy="97920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7d78e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任意多边形 54291"/>
          <p:cNvSpPr/>
          <p:nvPr/>
        </p:nvSpPr>
        <p:spPr>
          <a:xfrm rot="20601600">
            <a:off x="6248160" y="327636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dca49a"/>
              </a:gs>
              <a:gs pos="100000">
                <a:srgbClr val="b136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54292"/>
          <p:cNvSpPr/>
          <p:nvPr/>
        </p:nvSpPr>
        <p:spPr>
          <a:xfrm rot="20539200">
            <a:off x="4800240" y="2895120"/>
            <a:ext cx="2905200" cy="1397160"/>
          </a:xfrm>
          <a:custGeom>
            <a:avLst/>
            <a:gdLst/>
            <a:ahLst/>
            <a:rect l="l" t="t" r="r" b="b"/>
            <a:pathLst>
              <a:path fill="none" w="19866" h="19523">
                <a:moveTo>
                  <a:pt x="19866" y="8479"/>
                </a:moveTo>
                <a:cubicBezTo>
                  <a:pt x="17795" y="13336"/>
                  <a:pt x="13997" y="17273"/>
                  <a:pt x="9249" y="19525"/>
                </a:cubicBezTo>
              </a:path>
              <a:path stroke="0" w="19866" h="19523">
                <a:moveTo>
                  <a:pt x="9242" y="19522"/>
                </a:moveTo>
                <a:cubicBezTo>
                  <a:pt x="9243" y="19634"/>
                  <a:pt x="9243" y="19747"/>
                  <a:pt x="9243" y="19860"/>
                </a:cubicBezTo>
                <a:cubicBezTo>
                  <a:pt x="9243" y="20113"/>
                  <a:pt x="9241" y="20363"/>
                  <a:pt x="9237" y="20606"/>
                </a:cubicBezTo>
                <a:lnTo>
                  <a:pt x="19866" y="8479"/>
                </a:lnTo>
                <a:close/>
              </a:path>
            </a:pathLst>
          </a:custGeom>
          <a:gradFill rotWithShape="0">
            <a:gsLst>
              <a:gs pos="0">
                <a:srgbClr val="b13621"/>
              </a:gs>
              <a:gs pos="100000">
                <a:srgbClr val="52190f"/>
              </a:gs>
            </a:gsLst>
            <a:lin ang="64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54293"/>
          <p:cNvSpPr/>
          <p:nvPr/>
        </p:nvSpPr>
        <p:spPr>
          <a:xfrm rot="20601600">
            <a:off x="4933440" y="3187440"/>
            <a:ext cx="1359000" cy="159372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b13621"/>
              </a:gs>
              <a:gs pos="100000">
                <a:srgbClr val="70221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54300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66"/>
              </a:gs>
              <a:gs pos="50000">
                <a:srgbClr val="c1c1da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54301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圆角矩形 54309"/>
          <p:cNvSpPr/>
          <p:nvPr/>
        </p:nvSpPr>
        <p:spPr>
          <a:xfrm>
            <a:off x="2362320" y="2724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54310"/>
          <p:cNvSpPr/>
          <p:nvPr/>
        </p:nvSpPr>
        <p:spPr>
          <a:xfrm>
            <a:off x="4114800" y="1886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54311"/>
          <p:cNvSpPr/>
          <p:nvPr/>
        </p:nvSpPr>
        <p:spPr>
          <a:xfrm>
            <a:off x="5715000" y="2343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54312"/>
          <p:cNvSpPr/>
          <p:nvPr/>
        </p:nvSpPr>
        <p:spPr>
          <a:xfrm>
            <a:off x="5715000" y="333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54313"/>
          <p:cNvSpPr/>
          <p:nvPr/>
        </p:nvSpPr>
        <p:spPr>
          <a:xfrm>
            <a:off x="2209680" y="3943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54314"/>
          <p:cNvSpPr/>
          <p:nvPr/>
        </p:nvSpPr>
        <p:spPr>
          <a:xfrm>
            <a:off x="3886200" y="4172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34:48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8:04Z</dcterms:modified>
  <cp:revision>6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