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E4A-4B58-4FB6-BB22-9E21DF05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0BB-F5AE-4776-BB96-96367B6C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EEB-DDC6-424B-924C-ABD88BC7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F6D-FADB-4C5B-A3EE-B2AC695B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6041-B981-409A-8544-00076C3F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0E20-E5F5-47AE-B812-AA7AD7EA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924E-F63F-4E92-9E29-03D95908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D874-62BD-47EE-8A87-3FA3400A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A288-EDDF-4790-9CDD-5667DA1B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EAD7-E3FF-4B28-8E63-158A43E7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A2A0-ED9E-4376-A6E5-D03AB283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CAB-76C0-4DF0-A239-7A0BAFD9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D3A9-A329-4BB1-91E1-E052EEEE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933B-FF77-4F23-B6EB-F477253A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AB4F-F300-4B49-9E05-87A3EFED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1A7E-36B2-4842-8514-266D488C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EBCF-D479-409B-98EB-50FD146C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920-0F4A-408D-8A14-2AFB5EBF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2D6-10C1-4D9C-B543-95214DD6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B40-98E7-46AC-B68B-3C466692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DEC-3BAA-4DE3-B4B9-F6E25E2A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E77-4D23-43F3-83EF-DA627C79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5F6-0358-4805-A72C-8D0E8B3F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2E04-B541-47A3-9EB9-C9D67885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BE47-EA19-4F7B-8ADC-7856B07574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692D-A9C0-45E8-AA2B-7A6C560D681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789D-DAD9-4131-9A8A-5B58B4C85B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5286240" y="93492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4997880" y="334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4997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50695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5069520" y="477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395280" y="189000"/>
            <a:ext cx="815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浪漫卡通西瓜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2275560" y="8571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5640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49266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51408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62838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8199"/>
          <p:cNvSpPr/>
          <p:nvPr/>
        </p:nvSpPr>
        <p:spPr>
          <a:xfrm>
            <a:off x="755640" y="206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630A-3519-4F66-8DB8-B8C1CE038A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3926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39978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2133000" y="8571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3926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39978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52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