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0AE-6B3C-47E8-8BB8-55F83048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460-6C6B-4DEA-A47B-B2CD127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EA8-3BC9-4523-8FC6-1F16A38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907-192E-4AB5-A6D7-A26124D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D24-C7EF-41CD-ADC1-DE090020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0A3-A8EB-4DA0-A225-85C2D6E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FDE-139B-424C-9C10-3A2D3FC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D6A-A9B5-4A1E-85B4-70D32860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C39-E731-4CF6-9F24-566702E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248-9F81-433C-9909-3FBAF94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76C-B5A1-4EEF-B358-7A2F9BF2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097-7BA8-426D-9880-F37B60AD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w_haloween"/>
          <p:cNvPicPr/>
          <p:nvPr/>
        </p:nvPicPr>
        <p:blipFill>
          <a:blip r:embed="rId2">
            <a:lum bright="72000"/>
          </a:blip>
          <a:srcRect l="7720" t="2088" r="7723" b="2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804-AB38-49C9-B9F1-830A7D87D4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6B0-CF5B-4AFD-989A-78AC8C300E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2" descr="BG"/>
          <p:cNvPicPr/>
          <p:nvPr/>
        </p:nvPicPr>
        <p:blipFill>
          <a:blip r:embed="rId2"/>
          <a:stretch/>
        </p:blipFill>
        <p:spPr>
          <a:xfrm>
            <a:off x="0" y="-6480"/>
            <a:ext cx="9150480" cy="686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3" descr=""/>
          <p:cNvPicPr/>
          <p:nvPr/>
        </p:nvPicPr>
        <p:blipFill>
          <a:blip r:embed="rId3"/>
          <a:stretch/>
        </p:blipFill>
        <p:spPr>
          <a:xfrm>
            <a:off x="5040360" y="1008000"/>
            <a:ext cx="2025720" cy="202572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56"/>
          <p:cNvSpPr/>
          <p:nvPr/>
        </p:nvSpPr>
        <p:spPr>
          <a:xfrm>
            <a:off x="-817560" y="1893960"/>
            <a:ext cx="10807560" cy="5253120"/>
          </a:xfrm>
          <a:custGeom>
            <a:avLst/>
            <a:gdLst/>
            <a:ahLst/>
            <a:rect l="l" t="t" r="r" b="b"/>
            <a:pathLst>
              <a:path w="2882" h="1401">
                <a:moveTo>
                  <a:pt x="2873" y="622"/>
                </a:moveTo>
                <a:cubicBezTo>
                  <a:pt x="2873" y="622"/>
                  <a:pt x="2873" y="622"/>
                  <a:pt x="2873" y="622"/>
                </a:cubicBezTo>
                <a:cubicBezTo>
                  <a:pt x="2863" y="621"/>
                  <a:pt x="2851" y="621"/>
                  <a:pt x="2841" y="622"/>
                </a:cubicBezTo>
                <a:cubicBezTo>
                  <a:pt x="2809" y="623"/>
                  <a:pt x="2809" y="623"/>
                  <a:pt x="2809" y="623"/>
                </a:cubicBezTo>
                <a:cubicBezTo>
                  <a:pt x="2772" y="608"/>
                  <a:pt x="2772" y="608"/>
                  <a:pt x="2772" y="608"/>
                </a:cubicBezTo>
                <a:cubicBezTo>
                  <a:pt x="2760" y="605"/>
                  <a:pt x="2749" y="602"/>
                  <a:pt x="2739" y="599"/>
                </a:cubicBezTo>
                <a:cubicBezTo>
                  <a:pt x="2720" y="596"/>
                  <a:pt x="2689" y="592"/>
                  <a:pt x="2660" y="591"/>
                </a:cubicBezTo>
                <a:cubicBezTo>
                  <a:pt x="2650" y="592"/>
                  <a:pt x="2644" y="592"/>
                  <a:pt x="2641" y="592"/>
                </a:cubicBezTo>
                <a:cubicBezTo>
                  <a:pt x="2631" y="593"/>
                  <a:pt x="2569" y="604"/>
                  <a:pt x="2561" y="605"/>
                </a:cubicBezTo>
                <a:cubicBezTo>
                  <a:pt x="2546" y="611"/>
                  <a:pt x="2498" y="625"/>
                  <a:pt x="2467" y="641"/>
                </a:cubicBezTo>
                <a:cubicBezTo>
                  <a:pt x="2431" y="660"/>
                  <a:pt x="2404" y="680"/>
                  <a:pt x="2395" y="690"/>
                </a:cubicBezTo>
                <a:cubicBezTo>
                  <a:pt x="2386" y="699"/>
                  <a:pt x="2350" y="719"/>
                  <a:pt x="2237" y="768"/>
                </a:cubicBezTo>
                <a:cubicBezTo>
                  <a:pt x="2123" y="817"/>
                  <a:pt x="2066" y="791"/>
                  <a:pt x="2066" y="791"/>
                </a:cubicBezTo>
                <a:cubicBezTo>
                  <a:pt x="1814" y="686"/>
                  <a:pt x="1814" y="686"/>
                  <a:pt x="1814" y="686"/>
                </a:cubicBezTo>
                <a:cubicBezTo>
                  <a:pt x="1652" y="627"/>
                  <a:pt x="1643" y="545"/>
                  <a:pt x="1643" y="545"/>
                </a:cubicBezTo>
                <a:cubicBezTo>
                  <a:pt x="1643" y="538"/>
                  <a:pt x="1644" y="494"/>
                  <a:pt x="1638" y="462"/>
                </a:cubicBezTo>
                <a:cubicBezTo>
                  <a:pt x="1631" y="430"/>
                  <a:pt x="1548" y="391"/>
                  <a:pt x="1548" y="391"/>
                </a:cubicBezTo>
                <a:cubicBezTo>
                  <a:pt x="1547" y="372"/>
                  <a:pt x="1547" y="372"/>
                  <a:pt x="1547" y="372"/>
                </a:cubicBezTo>
                <a:cubicBezTo>
                  <a:pt x="1528" y="350"/>
                  <a:pt x="1528" y="350"/>
                  <a:pt x="1528" y="350"/>
                </a:cubicBezTo>
                <a:cubicBezTo>
                  <a:pt x="1535" y="326"/>
                  <a:pt x="1523" y="320"/>
                  <a:pt x="1523" y="320"/>
                </a:cubicBezTo>
                <a:cubicBezTo>
                  <a:pt x="1519" y="256"/>
                  <a:pt x="1519" y="256"/>
                  <a:pt x="1519" y="256"/>
                </a:cubicBezTo>
                <a:cubicBezTo>
                  <a:pt x="1493" y="210"/>
                  <a:pt x="1493" y="210"/>
                  <a:pt x="1493" y="210"/>
                </a:cubicBezTo>
                <a:cubicBezTo>
                  <a:pt x="1455" y="193"/>
                  <a:pt x="1455" y="193"/>
                  <a:pt x="1455" y="193"/>
                </a:cubicBezTo>
                <a:cubicBezTo>
                  <a:pt x="1454" y="177"/>
                  <a:pt x="1454" y="177"/>
                  <a:pt x="1454" y="177"/>
                </a:cubicBezTo>
                <a:cubicBezTo>
                  <a:pt x="1429" y="141"/>
                  <a:pt x="1429" y="141"/>
                  <a:pt x="1429" y="141"/>
                </a:cubicBezTo>
                <a:cubicBezTo>
                  <a:pt x="1370" y="100"/>
                  <a:pt x="1370" y="100"/>
                  <a:pt x="1370" y="100"/>
                </a:cubicBezTo>
                <a:cubicBezTo>
                  <a:pt x="1345" y="154"/>
                  <a:pt x="1345" y="154"/>
                  <a:pt x="1345" y="154"/>
                </a:cubicBezTo>
                <a:cubicBezTo>
                  <a:pt x="1302" y="122"/>
                  <a:pt x="1302" y="122"/>
                  <a:pt x="1302" y="122"/>
                </a:cubicBezTo>
                <a:cubicBezTo>
                  <a:pt x="1297" y="64"/>
                  <a:pt x="1297" y="64"/>
                  <a:pt x="1297" y="64"/>
                </a:cubicBezTo>
                <a:cubicBezTo>
                  <a:pt x="1288" y="57"/>
                  <a:pt x="1288" y="57"/>
                  <a:pt x="1288" y="57"/>
                </a:cubicBezTo>
                <a:cubicBezTo>
                  <a:pt x="1287" y="46"/>
                  <a:pt x="1287" y="46"/>
                  <a:pt x="1287" y="46"/>
                </a:cubicBezTo>
                <a:cubicBezTo>
                  <a:pt x="1276" y="44"/>
                  <a:pt x="1263" y="0"/>
                  <a:pt x="1263" y="0"/>
                </a:cubicBezTo>
                <a:cubicBezTo>
                  <a:pt x="1260" y="30"/>
                  <a:pt x="1234" y="43"/>
                  <a:pt x="1234" y="43"/>
                </a:cubicBezTo>
                <a:cubicBezTo>
                  <a:pt x="1234" y="56"/>
                  <a:pt x="1234" y="56"/>
                  <a:pt x="1234" y="56"/>
                </a:cubicBezTo>
                <a:cubicBezTo>
                  <a:pt x="1220" y="66"/>
                  <a:pt x="1220" y="66"/>
                  <a:pt x="1220" y="66"/>
                </a:cubicBezTo>
                <a:cubicBezTo>
                  <a:pt x="1211" y="201"/>
                  <a:pt x="1211" y="201"/>
                  <a:pt x="1211" y="201"/>
                </a:cubicBezTo>
                <a:cubicBezTo>
                  <a:pt x="1180" y="176"/>
                  <a:pt x="1180" y="176"/>
                  <a:pt x="1180" y="176"/>
                </a:cubicBezTo>
                <a:cubicBezTo>
                  <a:pt x="1161" y="135"/>
                  <a:pt x="1161" y="135"/>
                  <a:pt x="1161" y="135"/>
                </a:cubicBezTo>
                <a:cubicBezTo>
                  <a:pt x="1135" y="223"/>
                  <a:pt x="1135" y="223"/>
                  <a:pt x="1135" y="223"/>
                </a:cubicBezTo>
                <a:cubicBezTo>
                  <a:pt x="1122" y="223"/>
                  <a:pt x="1122" y="223"/>
                  <a:pt x="1122" y="223"/>
                </a:cubicBezTo>
                <a:cubicBezTo>
                  <a:pt x="1104" y="200"/>
                  <a:pt x="1104" y="200"/>
                  <a:pt x="1104" y="200"/>
                </a:cubicBezTo>
                <a:cubicBezTo>
                  <a:pt x="1088" y="230"/>
                  <a:pt x="1088" y="230"/>
                  <a:pt x="1088" y="230"/>
                </a:cubicBezTo>
                <a:cubicBezTo>
                  <a:pt x="1088" y="243"/>
                  <a:pt x="1088" y="243"/>
                  <a:pt x="1088" y="243"/>
                </a:cubicBezTo>
                <a:cubicBezTo>
                  <a:pt x="1080" y="251"/>
                  <a:pt x="1080" y="251"/>
                  <a:pt x="1080" y="251"/>
                </a:cubicBezTo>
                <a:cubicBezTo>
                  <a:pt x="1081" y="302"/>
                  <a:pt x="1081" y="302"/>
                  <a:pt x="1081" y="302"/>
                </a:cubicBezTo>
                <a:cubicBezTo>
                  <a:pt x="1099" y="323"/>
                  <a:pt x="1099" y="323"/>
                  <a:pt x="1099" y="323"/>
                </a:cubicBezTo>
                <a:cubicBezTo>
                  <a:pt x="1100" y="343"/>
                  <a:pt x="1100" y="343"/>
                  <a:pt x="1100" y="343"/>
                </a:cubicBezTo>
                <a:cubicBezTo>
                  <a:pt x="1058" y="366"/>
                  <a:pt x="1058" y="366"/>
                  <a:pt x="1058" y="366"/>
                </a:cubicBezTo>
                <a:cubicBezTo>
                  <a:pt x="1051" y="373"/>
                  <a:pt x="1051" y="373"/>
                  <a:pt x="1051" y="373"/>
                </a:cubicBezTo>
                <a:cubicBezTo>
                  <a:pt x="1021" y="373"/>
                  <a:pt x="1021" y="373"/>
                  <a:pt x="1021" y="373"/>
                </a:cubicBezTo>
                <a:cubicBezTo>
                  <a:pt x="1004" y="390"/>
                  <a:pt x="1004" y="390"/>
                  <a:pt x="1004" y="390"/>
                </a:cubicBezTo>
                <a:cubicBezTo>
                  <a:pt x="1010" y="484"/>
                  <a:pt x="1010" y="484"/>
                  <a:pt x="1010" y="484"/>
                </a:cubicBezTo>
                <a:cubicBezTo>
                  <a:pt x="1010" y="485"/>
                  <a:pt x="1010" y="485"/>
                  <a:pt x="1010" y="485"/>
                </a:cubicBezTo>
                <a:cubicBezTo>
                  <a:pt x="1010" y="485"/>
                  <a:pt x="996" y="490"/>
                  <a:pt x="995" y="496"/>
                </a:cubicBezTo>
                <a:cubicBezTo>
                  <a:pt x="995" y="503"/>
                  <a:pt x="934" y="604"/>
                  <a:pt x="921" y="613"/>
                </a:cubicBezTo>
                <a:cubicBezTo>
                  <a:pt x="908" y="623"/>
                  <a:pt x="754" y="708"/>
                  <a:pt x="754" y="708"/>
                </a:cubicBezTo>
                <a:cubicBezTo>
                  <a:pt x="711" y="738"/>
                  <a:pt x="556" y="800"/>
                  <a:pt x="556" y="800"/>
                </a:cubicBezTo>
                <a:cubicBezTo>
                  <a:pt x="487" y="826"/>
                  <a:pt x="487" y="826"/>
                  <a:pt x="487" y="826"/>
                </a:cubicBezTo>
                <a:cubicBezTo>
                  <a:pt x="482" y="828"/>
                  <a:pt x="477" y="830"/>
                  <a:pt x="472" y="832"/>
                </a:cubicBezTo>
                <a:cubicBezTo>
                  <a:pt x="438" y="843"/>
                  <a:pt x="438" y="843"/>
                  <a:pt x="438" y="843"/>
                </a:cubicBezTo>
                <a:cubicBezTo>
                  <a:pt x="437" y="844"/>
                  <a:pt x="437" y="844"/>
                  <a:pt x="436" y="844"/>
                </a:cubicBezTo>
                <a:cubicBezTo>
                  <a:pt x="436" y="844"/>
                  <a:pt x="436" y="844"/>
                  <a:pt x="436" y="844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361" y="869"/>
                  <a:pt x="361" y="869"/>
                  <a:pt x="361" y="869"/>
                </a:cubicBezTo>
                <a:cubicBezTo>
                  <a:pt x="359" y="870"/>
                  <a:pt x="357" y="871"/>
                  <a:pt x="354" y="871"/>
                </a:cubicBezTo>
                <a:cubicBezTo>
                  <a:pt x="354" y="871"/>
                  <a:pt x="354" y="871"/>
                  <a:pt x="354" y="871"/>
                </a:cubicBezTo>
                <a:cubicBezTo>
                  <a:pt x="354" y="871"/>
                  <a:pt x="353" y="871"/>
                  <a:pt x="352" y="871"/>
                </a:cubicBezTo>
                <a:cubicBezTo>
                  <a:pt x="351" y="871"/>
                  <a:pt x="351" y="871"/>
                  <a:pt x="350" y="871"/>
                </a:cubicBezTo>
                <a:cubicBezTo>
                  <a:pt x="335" y="869"/>
                  <a:pt x="289" y="862"/>
                  <a:pt x="289" y="862"/>
                </a:cubicBezTo>
                <a:cubicBezTo>
                  <a:pt x="289" y="861"/>
                  <a:pt x="289" y="861"/>
                  <a:pt x="289" y="861"/>
                </a:cubicBezTo>
                <a:cubicBezTo>
                  <a:pt x="286" y="861"/>
                  <a:pt x="285" y="860"/>
                  <a:pt x="284" y="860"/>
                </a:cubicBezTo>
                <a:cubicBezTo>
                  <a:pt x="284" y="860"/>
                  <a:pt x="284" y="860"/>
                  <a:pt x="284" y="860"/>
                </a:cubicBezTo>
                <a:cubicBezTo>
                  <a:pt x="0" y="798"/>
                  <a:pt x="0" y="798"/>
                  <a:pt x="0" y="798"/>
                </a:cubicBezTo>
                <a:cubicBezTo>
                  <a:pt x="0" y="1401"/>
                  <a:pt x="0" y="1401"/>
                  <a:pt x="0" y="1401"/>
                </a:cubicBezTo>
                <a:cubicBezTo>
                  <a:pt x="2882" y="1401"/>
                  <a:pt x="2882" y="1401"/>
                  <a:pt x="2882" y="1401"/>
                </a:cubicBezTo>
                <a:cubicBezTo>
                  <a:pt x="2882" y="623"/>
                  <a:pt x="2882" y="623"/>
                  <a:pt x="2882" y="623"/>
                </a:cubicBezTo>
                <a:lnTo>
                  <a:pt x="2873" y="622"/>
                </a:lnTo>
                <a:close/>
                <a:moveTo>
                  <a:pt x="1019" y="407"/>
                </a:moveTo>
                <a:cubicBezTo>
                  <a:pt x="1018" y="393"/>
                  <a:pt x="1018" y="393"/>
                  <a:pt x="1018" y="393"/>
                </a:cubicBezTo>
                <a:cubicBezTo>
                  <a:pt x="1031" y="393"/>
                  <a:pt x="1031" y="393"/>
                  <a:pt x="1031" y="393"/>
                </a:cubicBezTo>
                <a:cubicBezTo>
                  <a:pt x="1032" y="406"/>
                  <a:pt x="1032" y="406"/>
                  <a:pt x="1032" y="406"/>
                </a:cubicBezTo>
                <a:lnTo>
                  <a:pt x="1019" y="407"/>
                </a:lnTo>
                <a:close/>
                <a:moveTo>
                  <a:pt x="1076" y="386"/>
                </a:moveTo>
                <a:cubicBezTo>
                  <a:pt x="1064" y="386"/>
                  <a:pt x="1064" y="386"/>
                  <a:pt x="1064" y="386"/>
                </a:cubicBezTo>
                <a:cubicBezTo>
                  <a:pt x="1065" y="373"/>
                  <a:pt x="1065" y="373"/>
                  <a:pt x="1065" y="373"/>
                </a:cubicBezTo>
                <a:cubicBezTo>
                  <a:pt x="1078" y="372"/>
                  <a:pt x="1078" y="372"/>
                  <a:pt x="1078" y="372"/>
                </a:cubicBezTo>
                <a:lnTo>
                  <a:pt x="1076" y="386"/>
                </a:lnTo>
                <a:close/>
                <a:moveTo>
                  <a:pt x="1111" y="260"/>
                </a:moveTo>
                <a:cubicBezTo>
                  <a:pt x="1121" y="256"/>
                  <a:pt x="1121" y="256"/>
                  <a:pt x="1121" y="256"/>
                </a:cubicBezTo>
                <a:cubicBezTo>
                  <a:pt x="1122" y="269"/>
                  <a:pt x="1122" y="269"/>
                  <a:pt x="1122" y="269"/>
                </a:cubicBezTo>
                <a:cubicBezTo>
                  <a:pt x="1113" y="271"/>
                  <a:pt x="1113" y="271"/>
                  <a:pt x="1113" y="271"/>
                </a:cubicBezTo>
                <a:lnTo>
                  <a:pt x="1111" y="260"/>
                </a:lnTo>
                <a:close/>
                <a:moveTo>
                  <a:pt x="1127" y="364"/>
                </a:moveTo>
                <a:cubicBezTo>
                  <a:pt x="1115" y="364"/>
                  <a:pt x="1115" y="364"/>
                  <a:pt x="1115" y="364"/>
                </a:cubicBezTo>
                <a:cubicBezTo>
                  <a:pt x="1116" y="351"/>
                  <a:pt x="1116" y="351"/>
                  <a:pt x="1116" y="351"/>
                </a:cubicBezTo>
                <a:cubicBezTo>
                  <a:pt x="1127" y="351"/>
                  <a:pt x="1127" y="351"/>
                  <a:pt x="1127" y="351"/>
                </a:cubicBezTo>
                <a:lnTo>
                  <a:pt x="1127" y="364"/>
                </a:lnTo>
                <a:close/>
                <a:moveTo>
                  <a:pt x="1133" y="266"/>
                </a:moveTo>
                <a:cubicBezTo>
                  <a:pt x="1125" y="268"/>
                  <a:pt x="1125" y="268"/>
                  <a:pt x="1125" y="268"/>
                </a:cubicBezTo>
                <a:cubicBezTo>
                  <a:pt x="1124" y="256"/>
                  <a:pt x="1124" y="256"/>
                  <a:pt x="1124" y="256"/>
                </a:cubicBezTo>
                <a:cubicBezTo>
                  <a:pt x="1133" y="255"/>
                  <a:pt x="1133" y="255"/>
                  <a:pt x="1133" y="255"/>
                </a:cubicBezTo>
                <a:lnTo>
                  <a:pt x="1133" y="266"/>
                </a:lnTo>
                <a:close/>
                <a:moveTo>
                  <a:pt x="1137" y="265"/>
                </a:moveTo>
                <a:cubicBezTo>
                  <a:pt x="1137" y="253"/>
                  <a:pt x="1137" y="253"/>
                  <a:pt x="1137" y="253"/>
                </a:cubicBezTo>
                <a:cubicBezTo>
                  <a:pt x="1145" y="253"/>
                  <a:pt x="1145" y="253"/>
                  <a:pt x="1145" y="253"/>
                </a:cubicBezTo>
                <a:cubicBezTo>
                  <a:pt x="1147" y="265"/>
                  <a:pt x="1147" y="265"/>
                  <a:pt x="1147" y="265"/>
                </a:cubicBezTo>
                <a:lnTo>
                  <a:pt x="1137" y="265"/>
                </a:lnTo>
                <a:close/>
                <a:moveTo>
                  <a:pt x="1150" y="262"/>
                </a:moveTo>
                <a:cubicBezTo>
                  <a:pt x="1149" y="252"/>
                  <a:pt x="1149" y="252"/>
                  <a:pt x="1149" y="252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49" y="251"/>
                  <a:pt x="1149" y="251"/>
                  <a:pt x="1149" y="251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58" y="251"/>
                  <a:pt x="1158" y="251"/>
                  <a:pt x="1158" y="251"/>
                </a:cubicBezTo>
                <a:cubicBezTo>
                  <a:pt x="1159" y="262"/>
                  <a:pt x="1159" y="262"/>
                  <a:pt x="1159" y="262"/>
                </a:cubicBezTo>
                <a:lnTo>
                  <a:pt x="1150" y="262"/>
                </a:lnTo>
                <a:close/>
                <a:moveTo>
                  <a:pt x="1174" y="262"/>
                </a:moveTo>
                <a:cubicBezTo>
                  <a:pt x="1165" y="262"/>
                  <a:pt x="1165" y="262"/>
                  <a:pt x="1165" y="262"/>
                </a:cubicBezTo>
                <a:cubicBezTo>
                  <a:pt x="1163" y="250"/>
                  <a:pt x="1163" y="250"/>
                  <a:pt x="1163" y="250"/>
                </a:cubicBezTo>
                <a:cubicBezTo>
                  <a:pt x="1174" y="251"/>
                  <a:pt x="1174" y="251"/>
                  <a:pt x="1174" y="251"/>
                </a:cubicBezTo>
                <a:lnTo>
                  <a:pt x="1174" y="262"/>
                </a:lnTo>
                <a:close/>
                <a:moveTo>
                  <a:pt x="1196" y="262"/>
                </a:moveTo>
                <a:cubicBezTo>
                  <a:pt x="1187" y="262"/>
                  <a:pt x="1187" y="262"/>
                  <a:pt x="1187" y="262"/>
                </a:cubicBezTo>
                <a:cubicBezTo>
                  <a:pt x="1188" y="252"/>
                  <a:pt x="1188" y="252"/>
                  <a:pt x="1188" y="252"/>
                </a:cubicBezTo>
                <a:cubicBezTo>
                  <a:pt x="1198" y="253"/>
                  <a:pt x="1198" y="253"/>
                  <a:pt x="1198" y="253"/>
                </a:cubicBezTo>
                <a:lnTo>
                  <a:pt x="1196" y="262"/>
                </a:lnTo>
                <a:close/>
                <a:moveTo>
                  <a:pt x="1214" y="270"/>
                </a:moveTo>
                <a:cubicBezTo>
                  <a:pt x="1203" y="270"/>
                  <a:pt x="1203" y="270"/>
                  <a:pt x="1203" y="270"/>
                </a:cubicBezTo>
                <a:cubicBezTo>
                  <a:pt x="1203" y="258"/>
                  <a:pt x="1203" y="258"/>
                  <a:pt x="1203" y="258"/>
                </a:cubicBezTo>
                <a:cubicBezTo>
                  <a:pt x="1214" y="259"/>
                  <a:pt x="1214" y="259"/>
                  <a:pt x="1214" y="259"/>
                </a:cubicBezTo>
                <a:lnTo>
                  <a:pt x="1214" y="270"/>
                </a:lnTo>
                <a:close/>
                <a:moveTo>
                  <a:pt x="1234" y="77"/>
                </a:moveTo>
                <a:cubicBezTo>
                  <a:pt x="1234" y="63"/>
                  <a:pt x="1234" y="63"/>
                  <a:pt x="1234" y="63"/>
                </a:cubicBezTo>
                <a:cubicBezTo>
                  <a:pt x="1245" y="58"/>
                  <a:pt x="1245" y="58"/>
                  <a:pt x="1245" y="58"/>
                </a:cubicBezTo>
                <a:cubicBezTo>
                  <a:pt x="1246" y="71"/>
                  <a:pt x="1246" y="71"/>
                  <a:pt x="1246" y="71"/>
                </a:cubicBezTo>
                <a:lnTo>
                  <a:pt x="1234" y="77"/>
                </a:lnTo>
                <a:close/>
                <a:moveTo>
                  <a:pt x="1249" y="71"/>
                </a:moveTo>
                <a:cubicBezTo>
                  <a:pt x="1248" y="58"/>
                  <a:pt x="1248" y="58"/>
                  <a:pt x="1248" y="58"/>
                </a:cubicBezTo>
                <a:cubicBezTo>
                  <a:pt x="1261" y="55"/>
                  <a:pt x="1261" y="55"/>
                  <a:pt x="1261" y="55"/>
                </a:cubicBezTo>
                <a:cubicBezTo>
                  <a:pt x="1261" y="66"/>
                  <a:pt x="1261" y="66"/>
                  <a:pt x="1261" y="66"/>
                </a:cubicBezTo>
                <a:lnTo>
                  <a:pt x="1249" y="71"/>
                </a:lnTo>
                <a:close/>
                <a:moveTo>
                  <a:pt x="1278" y="65"/>
                </a:moveTo>
                <a:cubicBezTo>
                  <a:pt x="1278" y="64"/>
                  <a:pt x="1278" y="64"/>
                  <a:pt x="1278" y="64"/>
                </a:cubicBezTo>
                <a:cubicBezTo>
                  <a:pt x="1289" y="67"/>
                  <a:pt x="1289" y="67"/>
                  <a:pt x="1289" y="67"/>
                </a:cubicBezTo>
                <a:cubicBezTo>
                  <a:pt x="1288" y="80"/>
                  <a:pt x="1288" y="80"/>
                  <a:pt x="1288" y="80"/>
                </a:cubicBezTo>
                <a:cubicBezTo>
                  <a:pt x="1278" y="77"/>
                  <a:pt x="1278" y="77"/>
                  <a:pt x="1278" y="77"/>
                </a:cubicBezTo>
                <a:lnTo>
                  <a:pt x="1278" y="65"/>
                </a:lnTo>
                <a:close/>
                <a:moveTo>
                  <a:pt x="1266" y="248"/>
                </a:moveTo>
                <a:cubicBezTo>
                  <a:pt x="1281" y="246"/>
                  <a:pt x="1281" y="246"/>
                  <a:pt x="1281" y="246"/>
                </a:cubicBezTo>
                <a:cubicBezTo>
                  <a:pt x="1280" y="260"/>
                  <a:pt x="1280" y="260"/>
                  <a:pt x="1280" y="260"/>
                </a:cubicBezTo>
                <a:cubicBezTo>
                  <a:pt x="1270" y="261"/>
                  <a:pt x="1270" y="261"/>
                  <a:pt x="1270" y="261"/>
                </a:cubicBezTo>
                <a:lnTo>
                  <a:pt x="1266" y="248"/>
                </a:lnTo>
                <a:close/>
                <a:moveTo>
                  <a:pt x="1317" y="407"/>
                </a:moveTo>
                <a:cubicBezTo>
                  <a:pt x="1317" y="407"/>
                  <a:pt x="1301" y="413"/>
                  <a:pt x="1281" y="407"/>
                </a:cubicBezTo>
                <a:cubicBezTo>
                  <a:pt x="1279" y="408"/>
                  <a:pt x="1279" y="408"/>
                  <a:pt x="1279" y="408"/>
                </a:cubicBezTo>
                <a:cubicBezTo>
                  <a:pt x="1279" y="396"/>
                  <a:pt x="1279" y="396"/>
                  <a:pt x="1279" y="396"/>
                </a:cubicBezTo>
                <a:cubicBezTo>
                  <a:pt x="1278" y="371"/>
                  <a:pt x="1278" y="371"/>
                  <a:pt x="1278" y="371"/>
                </a:cubicBezTo>
                <a:cubicBezTo>
                  <a:pt x="1278" y="371"/>
                  <a:pt x="1281" y="366"/>
                  <a:pt x="1286" y="363"/>
                </a:cubicBezTo>
                <a:cubicBezTo>
                  <a:pt x="1290" y="360"/>
                  <a:pt x="1295" y="358"/>
                  <a:pt x="1302" y="360"/>
                </a:cubicBezTo>
                <a:cubicBezTo>
                  <a:pt x="1302" y="360"/>
                  <a:pt x="1302" y="360"/>
                  <a:pt x="1302" y="360"/>
                </a:cubicBezTo>
                <a:cubicBezTo>
                  <a:pt x="1302" y="360"/>
                  <a:pt x="1303" y="360"/>
                  <a:pt x="1303" y="360"/>
                </a:cubicBezTo>
                <a:cubicBezTo>
                  <a:pt x="1308" y="362"/>
                  <a:pt x="1312" y="365"/>
                  <a:pt x="1318" y="372"/>
                </a:cubicBezTo>
                <a:lnTo>
                  <a:pt x="1317" y="407"/>
                </a:lnTo>
                <a:close/>
                <a:moveTo>
                  <a:pt x="1323" y="201"/>
                </a:moveTo>
                <a:cubicBezTo>
                  <a:pt x="1314" y="196"/>
                  <a:pt x="1314" y="196"/>
                  <a:pt x="1314" y="196"/>
                </a:cubicBezTo>
                <a:cubicBezTo>
                  <a:pt x="1315" y="182"/>
                  <a:pt x="1315" y="182"/>
                  <a:pt x="1315" y="182"/>
                </a:cubicBezTo>
                <a:cubicBezTo>
                  <a:pt x="1327" y="188"/>
                  <a:pt x="1327" y="188"/>
                  <a:pt x="1327" y="188"/>
                </a:cubicBezTo>
                <a:lnTo>
                  <a:pt x="1323" y="201"/>
                </a:lnTo>
                <a:close/>
                <a:moveTo>
                  <a:pt x="1345" y="209"/>
                </a:moveTo>
                <a:cubicBezTo>
                  <a:pt x="1334" y="205"/>
                  <a:pt x="1334" y="205"/>
                  <a:pt x="1334" y="205"/>
                </a:cubicBezTo>
                <a:cubicBezTo>
                  <a:pt x="1334" y="192"/>
                  <a:pt x="1334" y="192"/>
                  <a:pt x="1334" y="192"/>
                </a:cubicBezTo>
                <a:cubicBezTo>
                  <a:pt x="1347" y="197"/>
                  <a:pt x="1347" y="197"/>
                  <a:pt x="1347" y="197"/>
                </a:cubicBezTo>
                <a:lnTo>
                  <a:pt x="1345" y="209"/>
                </a:lnTo>
                <a:close/>
                <a:moveTo>
                  <a:pt x="1354" y="162"/>
                </a:moveTo>
                <a:cubicBezTo>
                  <a:pt x="1366" y="161"/>
                  <a:pt x="1366" y="161"/>
                  <a:pt x="1366" y="161"/>
                </a:cubicBezTo>
                <a:cubicBezTo>
                  <a:pt x="1366" y="172"/>
                  <a:pt x="1366" y="172"/>
                  <a:pt x="1366" y="172"/>
                </a:cubicBezTo>
                <a:cubicBezTo>
                  <a:pt x="1356" y="173"/>
                  <a:pt x="1356" y="173"/>
                  <a:pt x="1356" y="173"/>
                </a:cubicBezTo>
                <a:lnTo>
                  <a:pt x="1354" y="162"/>
                </a:lnTo>
                <a:close/>
                <a:moveTo>
                  <a:pt x="1359" y="231"/>
                </a:moveTo>
                <a:cubicBezTo>
                  <a:pt x="1357" y="220"/>
                  <a:pt x="1357" y="220"/>
                  <a:pt x="1357" y="220"/>
                </a:cubicBezTo>
                <a:cubicBezTo>
                  <a:pt x="1368" y="219"/>
                  <a:pt x="1368" y="219"/>
                  <a:pt x="1368" y="219"/>
                </a:cubicBezTo>
                <a:cubicBezTo>
                  <a:pt x="1368" y="232"/>
                  <a:pt x="1368" y="232"/>
                  <a:pt x="1368" y="232"/>
                </a:cubicBezTo>
                <a:lnTo>
                  <a:pt x="1359" y="231"/>
                </a:lnTo>
                <a:close/>
                <a:moveTo>
                  <a:pt x="1443" y="192"/>
                </a:moveTo>
                <a:cubicBezTo>
                  <a:pt x="1442" y="206"/>
                  <a:pt x="1442" y="206"/>
                  <a:pt x="1442" y="206"/>
                </a:cubicBezTo>
                <a:cubicBezTo>
                  <a:pt x="1432" y="199"/>
                  <a:pt x="1432" y="199"/>
                  <a:pt x="1432" y="199"/>
                </a:cubicBezTo>
                <a:cubicBezTo>
                  <a:pt x="1432" y="188"/>
                  <a:pt x="1432" y="188"/>
                  <a:pt x="1432" y="188"/>
                </a:cubicBezTo>
                <a:lnTo>
                  <a:pt x="1443" y="192"/>
                </a:lnTo>
                <a:close/>
                <a:moveTo>
                  <a:pt x="1444" y="237"/>
                </a:moveTo>
                <a:cubicBezTo>
                  <a:pt x="1444" y="249"/>
                  <a:pt x="1444" y="249"/>
                  <a:pt x="1444" y="249"/>
                </a:cubicBezTo>
                <a:cubicBezTo>
                  <a:pt x="1432" y="247"/>
                  <a:pt x="1432" y="247"/>
                  <a:pt x="1432" y="247"/>
                </a:cubicBezTo>
                <a:cubicBezTo>
                  <a:pt x="1431" y="236"/>
                  <a:pt x="1431" y="236"/>
                  <a:pt x="1431" y="236"/>
                </a:cubicBezTo>
                <a:lnTo>
                  <a:pt x="1444" y="237"/>
                </a:lnTo>
                <a:close/>
                <a:moveTo>
                  <a:pt x="1432" y="218"/>
                </a:moveTo>
                <a:cubicBezTo>
                  <a:pt x="1443" y="221"/>
                  <a:pt x="1443" y="221"/>
                  <a:pt x="1443" y="221"/>
                </a:cubicBezTo>
                <a:cubicBezTo>
                  <a:pt x="1443" y="233"/>
                  <a:pt x="1443" y="233"/>
                  <a:pt x="1443" y="233"/>
                </a:cubicBezTo>
                <a:cubicBezTo>
                  <a:pt x="1430" y="229"/>
                  <a:pt x="1430" y="229"/>
                  <a:pt x="1430" y="229"/>
                </a:cubicBezTo>
                <a:lnTo>
                  <a:pt x="1432" y="218"/>
                </a:lnTo>
                <a:close/>
                <a:moveTo>
                  <a:pt x="1432" y="288"/>
                </a:moveTo>
                <a:cubicBezTo>
                  <a:pt x="1442" y="290"/>
                  <a:pt x="1442" y="290"/>
                  <a:pt x="1442" y="290"/>
                </a:cubicBezTo>
                <a:cubicBezTo>
                  <a:pt x="1441" y="302"/>
                  <a:pt x="1441" y="302"/>
                  <a:pt x="1441" y="302"/>
                </a:cubicBezTo>
                <a:cubicBezTo>
                  <a:pt x="1430" y="299"/>
                  <a:pt x="1430" y="299"/>
                  <a:pt x="1430" y="299"/>
                </a:cubicBezTo>
                <a:lnTo>
                  <a:pt x="1432" y="288"/>
                </a:lnTo>
                <a:close/>
                <a:moveTo>
                  <a:pt x="1407" y="172"/>
                </a:moveTo>
                <a:cubicBezTo>
                  <a:pt x="1418" y="175"/>
                  <a:pt x="1418" y="175"/>
                  <a:pt x="1418" y="175"/>
                </a:cubicBezTo>
                <a:cubicBezTo>
                  <a:pt x="1417" y="186"/>
                  <a:pt x="1417" y="186"/>
                  <a:pt x="1417" y="186"/>
                </a:cubicBezTo>
                <a:cubicBezTo>
                  <a:pt x="1405" y="184"/>
                  <a:pt x="1405" y="184"/>
                  <a:pt x="1405" y="184"/>
                </a:cubicBezTo>
                <a:lnTo>
                  <a:pt x="1407" y="172"/>
                </a:lnTo>
                <a:close/>
                <a:moveTo>
                  <a:pt x="1405" y="206"/>
                </a:moveTo>
                <a:cubicBezTo>
                  <a:pt x="1417" y="209"/>
                  <a:pt x="1417" y="209"/>
                  <a:pt x="1417" y="209"/>
                </a:cubicBezTo>
                <a:cubicBezTo>
                  <a:pt x="1415" y="222"/>
                  <a:pt x="1415" y="222"/>
                  <a:pt x="1415" y="222"/>
                </a:cubicBezTo>
                <a:cubicBezTo>
                  <a:pt x="1405" y="218"/>
                  <a:pt x="1405" y="218"/>
                  <a:pt x="1405" y="218"/>
                </a:cubicBezTo>
                <a:lnTo>
                  <a:pt x="1405" y="206"/>
                </a:lnTo>
                <a:close/>
                <a:moveTo>
                  <a:pt x="1384" y="160"/>
                </a:moveTo>
                <a:cubicBezTo>
                  <a:pt x="1383" y="171"/>
                  <a:pt x="1383" y="171"/>
                  <a:pt x="1383" y="171"/>
                </a:cubicBezTo>
                <a:cubicBezTo>
                  <a:pt x="1373" y="170"/>
                  <a:pt x="1373" y="170"/>
                  <a:pt x="1373" y="170"/>
                </a:cubicBezTo>
                <a:cubicBezTo>
                  <a:pt x="1373" y="159"/>
                  <a:pt x="1373" y="159"/>
                  <a:pt x="1373" y="159"/>
                </a:cubicBezTo>
                <a:lnTo>
                  <a:pt x="1384" y="160"/>
                </a:lnTo>
                <a:close/>
                <a:moveTo>
                  <a:pt x="1373" y="217"/>
                </a:moveTo>
                <a:cubicBezTo>
                  <a:pt x="1383" y="215"/>
                  <a:pt x="1383" y="215"/>
                  <a:pt x="1383" y="215"/>
                </a:cubicBezTo>
                <a:cubicBezTo>
                  <a:pt x="1385" y="229"/>
                  <a:pt x="1385" y="229"/>
                  <a:pt x="1385" y="229"/>
                </a:cubicBezTo>
                <a:cubicBezTo>
                  <a:pt x="1374" y="229"/>
                  <a:pt x="1374" y="229"/>
                  <a:pt x="1374" y="229"/>
                </a:cubicBezTo>
                <a:lnTo>
                  <a:pt x="1373" y="217"/>
                </a:lnTo>
                <a:close/>
                <a:moveTo>
                  <a:pt x="1387" y="364"/>
                </a:moveTo>
                <a:cubicBezTo>
                  <a:pt x="1375" y="362"/>
                  <a:pt x="1375" y="362"/>
                  <a:pt x="1375" y="362"/>
                </a:cubicBezTo>
                <a:cubicBezTo>
                  <a:pt x="1376" y="352"/>
                  <a:pt x="1376" y="352"/>
                  <a:pt x="1376" y="352"/>
                </a:cubicBezTo>
                <a:cubicBezTo>
                  <a:pt x="1387" y="352"/>
                  <a:pt x="1387" y="352"/>
                  <a:pt x="1387" y="352"/>
                </a:cubicBezTo>
                <a:lnTo>
                  <a:pt x="1387" y="364"/>
                </a:lnTo>
                <a:close/>
                <a:moveTo>
                  <a:pt x="1406" y="225"/>
                </a:moveTo>
                <a:cubicBezTo>
                  <a:pt x="1418" y="228"/>
                  <a:pt x="1418" y="228"/>
                  <a:pt x="1418" y="228"/>
                </a:cubicBezTo>
                <a:cubicBezTo>
                  <a:pt x="1419" y="241"/>
                  <a:pt x="1419" y="241"/>
                  <a:pt x="1419" y="241"/>
                </a:cubicBezTo>
                <a:cubicBezTo>
                  <a:pt x="1405" y="240"/>
                  <a:pt x="1405" y="240"/>
                  <a:pt x="1405" y="240"/>
                </a:cubicBezTo>
                <a:lnTo>
                  <a:pt x="1406" y="225"/>
                </a:lnTo>
                <a:close/>
                <a:moveTo>
                  <a:pt x="1409" y="278"/>
                </a:moveTo>
                <a:cubicBezTo>
                  <a:pt x="1420" y="281"/>
                  <a:pt x="1420" y="281"/>
                  <a:pt x="1420" y="281"/>
                </a:cubicBezTo>
                <a:cubicBezTo>
                  <a:pt x="1418" y="291"/>
                  <a:pt x="1418" y="291"/>
                  <a:pt x="1418" y="291"/>
                </a:cubicBezTo>
                <a:cubicBezTo>
                  <a:pt x="1408" y="288"/>
                  <a:pt x="1408" y="288"/>
                  <a:pt x="1408" y="288"/>
                </a:cubicBezTo>
                <a:lnTo>
                  <a:pt x="1409" y="278"/>
                </a:lnTo>
                <a:close/>
                <a:moveTo>
                  <a:pt x="1420" y="336"/>
                </a:moveTo>
                <a:cubicBezTo>
                  <a:pt x="1410" y="334"/>
                  <a:pt x="1410" y="334"/>
                  <a:pt x="1410" y="334"/>
                </a:cubicBezTo>
                <a:cubicBezTo>
                  <a:pt x="1412" y="323"/>
                  <a:pt x="1412" y="323"/>
                  <a:pt x="1412" y="323"/>
                </a:cubicBezTo>
                <a:cubicBezTo>
                  <a:pt x="1422" y="326"/>
                  <a:pt x="1422" y="326"/>
                  <a:pt x="1422" y="326"/>
                </a:cubicBezTo>
                <a:lnTo>
                  <a:pt x="1420" y="336"/>
                </a:lnTo>
                <a:close/>
                <a:moveTo>
                  <a:pt x="1424" y="373"/>
                </a:moveTo>
                <a:cubicBezTo>
                  <a:pt x="1424" y="361"/>
                  <a:pt x="1424" y="361"/>
                  <a:pt x="1424" y="361"/>
                </a:cubicBezTo>
                <a:cubicBezTo>
                  <a:pt x="1436" y="362"/>
                  <a:pt x="1436" y="362"/>
                  <a:pt x="1436" y="362"/>
                </a:cubicBezTo>
                <a:cubicBezTo>
                  <a:pt x="1437" y="373"/>
                  <a:pt x="1437" y="373"/>
                  <a:pt x="1437" y="373"/>
                </a:cubicBezTo>
                <a:lnTo>
                  <a:pt x="1424" y="373"/>
                </a:lnTo>
                <a:close/>
                <a:moveTo>
                  <a:pt x="1442" y="346"/>
                </a:moveTo>
                <a:cubicBezTo>
                  <a:pt x="1432" y="342"/>
                  <a:pt x="1432" y="342"/>
                  <a:pt x="1432" y="342"/>
                </a:cubicBezTo>
                <a:cubicBezTo>
                  <a:pt x="1434" y="332"/>
                  <a:pt x="1434" y="332"/>
                  <a:pt x="1434" y="332"/>
                </a:cubicBezTo>
                <a:cubicBezTo>
                  <a:pt x="1446" y="336"/>
                  <a:pt x="1446" y="336"/>
                  <a:pt x="1446" y="336"/>
                </a:cubicBezTo>
                <a:lnTo>
                  <a:pt x="1442" y="346"/>
                </a:lnTo>
                <a:close/>
                <a:moveTo>
                  <a:pt x="1481" y="248"/>
                </a:moveTo>
                <a:cubicBezTo>
                  <a:pt x="1491" y="252"/>
                  <a:pt x="1491" y="252"/>
                  <a:pt x="1491" y="252"/>
                </a:cubicBezTo>
                <a:cubicBezTo>
                  <a:pt x="1491" y="263"/>
                  <a:pt x="1491" y="263"/>
                  <a:pt x="1491" y="263"/>
                </a:cubicBezTo>
                <a:cubicBezTo>
                  <a:pt x="1480" y="260"/>
                  <a:pt x="1480" y="260"/>
                  <a:pt x="1480" y="260"/>
                </a:cubicBezTo>
                <a:lnTo>
                  <a:pt x="1481" y="248"/>
                </a:lnTo>
                <a:close/>
                <a:moveTo>
                  <a:pt x="1483" y="284"/>
                </a:moveTo>
                <a:cubicBezTo>
                  <a:pt x="1493" y="286"/>
                  <a:pt x="1493" y="286"/>
                  <a:pt x="1493" y="286"/>
                </a:cubicBezTo>
                <a:cubicBezTo>
                  <a:pt x="1494" y="299"/>
                  <a:pt x="1494" y="299"/>
                  <a:pt x="1494" y="299"/>
                </a:cubicBezTo>
                <a:cubicBezTo>
                  <a:pt x="1481" y="294"/>
                  <a:pt x="1481" y="294"/>
                  <a:pt x="1481" y="294"/>
                </a:cubicBezTo>
                <a:lnTo>
                  <a:pt x="1483" y="284"/>
                </a:lnTo>
                <a:close/>
                <a:moveTo>
                  <a:pt x="1502" y="391"/>
                </a:moveTo>
                <a:cubicBezTo>
                  <a:pt x="1490" y="391"/>
                  <a:pt x="1490" y="391"/>
                  <a:pt x="1490" y="391"/>
                </a:cubicBezTo>
                <a:cubicBezTo>
                  <a:pt x="1491" y="381"/>
                  <a:pt x="1491" y="381"/>
                  <a:pt x="1491" y="381"/>
                </a:cubicBezTo>
                <a:cubicBezTo>
                  <a:pt x="1503" y="381"/>
                  <a:pt x="1503" y="381"/>
                  <a:pt x="1503" y="381"/>
                </a:cubicBezTo>
                <a:lnTo>
                  <a:pt x="1502" y="391"/>
                </a:lnTo>
                <a:close/>
                <a:moveTo>
                  <a:pt x="1510" y="304"/>
                </a:moveTo>
                <a:cubicBezTo>
                  <a:pt x="1499" y="302"/>
                  <a:pt x="1499" y="302"/>
                  <a:pt x="1499" y="302"/>
                </a:cubicBezTo>
                <a:cubicBezTo>
                  <a:pt x="1498" y="290"/>
                  <a:pt x="1498" y="290"/>
                  <a:pt x="1498" y="290"/>
                </a:cubicBezTo>
                <a:cubicBezTo>
                  <a:pt x="1511" y="292"/>
                  <a:pt x="1511" y="292"/>
                  <a:pt x="1511" y="292"/>
                </a:cubicBezTo>
                <a:lnTo>
                  <a:pt x="1510" y="304"/>
                </a:lnTo>
                <a:close/>
                <a:moveTo>
                  <a:pt x="1511" y="271"/>
                </a:moveTo>
                <a:cubicBezTo>
                  <a:pt x="1498" y="267"/>
                  <a:pt x="1498" y="267"/>
                  <a:pt x="1498" y="267"/>
                </a:cubicBezTo>
                <a:cubicBezTo>
                  <a:pt x="1499" y="258"/>
                  <a:pt x="1499" y="258"/>
                  <a:pt x="1499" y="258"/>
                </a:cubicBezTo>
                <a:cubicBezTo>
                  <a:pt x="1512" y="261"/>
                  <a:pt x="1512" y="261"/>
                  <a:pt x="1512" y="261"/>
                </a:cubicBezTo>
                <a:lnTo>
                  <a:pt x="1511" y="271"/>
                </a:lnTo>
                <a:close/>
                <a:moveTo>
                  <a:pt x="1588" y="439"/>
                </a:moveTo>
                <a:cubicBezTo>
                  <a:pt x="1580" y="438"/>
                  <a:pt x="1580" y="438"/>
                  <a:pt x="1580" y="438"/>
                </a:cubicBezTo>
                <a:cubicBezTo>
                  <a:pt x="1580" y="430"/>
                  <a:pt x="1580" y="430"/>
                  <a:pt x="1580" y="430"/>
                </a:cubicBezTo>
                <a:cubicBezTo>
                  <a:pt x="1588" y="431"/>
                  <a:pt x="1588" y="431"/>
                  <a:pt x="1588" y="431"/>
                </a:cubicBezTo>
                <a:lnTo>
                  <a:pt x="1588" y="4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7"/>
          <p:cNvSpPr/>
          <p:nvPr/>
        </p:nvSpPr>
        <p:spPr>
          <a:xfrm>
            <a:off x="5106960" y="350676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8"/>
                </a:moveTo>
                <a:lnTo>
                  <a:pt x="19" y="21"/>
                </a:lnTo>
                <a:lnTo>
                  <a:pt x="19" y="2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14"/>
          <p:cNvGrpSpPr/>
          <p:nvPr/>
        </p:nvGrpSpPr>
        <p:grpSpPr>
          <a:xfrm>
            <a:off x="6867360" y="3567240"/>
            <a:ext cx="1271520" cy="1436400"/>
            <a:chOff x="6867360" y="3567240"/>
            <a:chExt cx="1271520" cy="1436400"/>
          </a:xfrm>
        </p:grpSpPr>
        <p:sp>
          <p:nvSpPr>
            <p:cNvPr id="85" name="Freeform 255"/>
            <p:cNvSpPr/>
            <p:nvPr/>
          </p:nvSpPr>
          <p:spPr>
            <a:xfrm>
              <a:off x="6867360" y="3567240"/>
              <a:ext cx="1271520" cy="1436400"/>
            </a:xfrm>
            <a:custGeom>
              <a:avLst/>
              <a:gdLst/>
              <a:ahLst/>
              <a:rect l="l" t="t" r="r" b="b"/>
              <a:pathLst>
                <a:path w="339" h="383">
                  <a:moveTo>
                    <a:pt x="300" y="151"/>
                  </a:moveTo>
                  <a:cubicBezTo>
                    <a:pt x="312" y="190"/>
                    <a:pt x="258" y="203"/>
                    <a:pt x="244" y="206"/>
                  </a:cubicBezTo>
                  <a:cubicBezTo>
                    <a:pt x="209" y="182"/>
                    <a:pt x="138" y="153"/>
                    <a:pt x="138" y="153"/>
                  </a:cubicBezTo>
                  <a:cubicBezTo>
                    <a:pt x="118" y="143"/>
                    <a:pt x="109" y="70"/>
                    <a:pt x="109" y="70"/>
                  </a:cubicBezTo>
                  <a:cubicBezTo>
                    <a:pt x="110" y="43"/>
                    <a:pt x="92" y="30"/>
                    <a:pt x="92" y="3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7" y="32"/>
                    <a:pt x="67" y="32"/>
                    <a:pt x="67" y="32"/>
                  </a:cubicBezTo>
                  <a:cubicBezTo>
                    <a:pt x="61" y="31"/>
                    <a:pt x="61" y="31"/>
                    <a:pt x="61" y="31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2" y="62"/>
                    <a:pt x="37" y="76"/>
                    <a:pt x="29" y="101"/>
                  </a:cubicBezTo>
                  <a:cubicBezTo>
                    <a:pt x="21" y="126"/>
                    <a:pt x="32" y="158"/>
                    <a:pt x="32" y="158"/>
                  </a:cubicBezTo>
                  <a:cubicBezTo>
                    <a:pt x="55" y="221"/>
                    <a:pt x="55" y="221"/>
                    <a:pt x="55" y="221"/>
                  </a:cubicBezTo>
                  <a:cubicBezTo>
                    <a:pt x="55" y="221"/>
                    <a:pt x="40" y="314"/>
                    <a:pt x="40" y="321"/>
                  </a:cubicBezTo>
                  <a:cubicBezTo>
                    <a:pt x="40" y="328"/>
                    <a:pt x="26" y="346"/>
                    <a:pt x="23" y="347"/>
                  </a:cubicBezTo>
                  <a:cubicBezTo>
                    <a:pt x="20" y="348"/>
                    <a:pt x="10" y="351"/>
                    <a:pt x="6" y="355"/>
                  </a:cubicBezTo>
                  <a:cubicBezTo>
                    <a:pt x="3" y="358"/>
                    <a:pt x="2" y="360"/>
                    <a:pt x="2" y="361"/>
                  </a:cubicBezTo>
                  <a:cubicBezTo>
                    <a:pt x="1" y="362"/>
                    <a:pt x="0" y="364"/>
                    <a:pt x="1" y="365"/>
                  </a:cubicBezTo>
                  <a:cubicBezTo>
                    <a:pt x="13" y="363"/>
                    <a:pt x="38" y="359"/>
                    <a:pt x="56" y="356"/>
                  </a:cubicBezTo>
                  <a:cubicBezTo>
                    <a:pt x="57" y="355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53" y="279"/>
                    <a:pt x="153" y="279"/>
                    <a:pt x="153" y="279"/>
                  </a:cubicBezTo>
                  <a:cubicBezTo>
                    <a:pt x="153" y="279"/>
                    <a:pt x="147" y="294"/>
                    <a:pt x="194" y="327"/>
                  </a:cubicBezTo>
                  <a:cubicBezTo>
                    <a:pt x="194" y="327"/>
                    <a:pt x="211" y="342"/>
                    <a:pt x="190" y="364"/>
                  </a:cubicBezTo>
                  <a:cubicBezTo>
                    <a:pt x="190" y="364"/>
                    <a:pt x="190" y="364"/>
                    <a:pt x="190" y="364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5" y="366"/>
                    <a:pt x="199" y="368"/>
                    <a:pt x="204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8"/>
                    <a:pt x="205" y="368"/>
                    <a:pt x="205" y="368"/>
                  </a:cubicBezTo>
                  <a:cubicBezTo>
                    <a:pt x="222" y="331"/>
                    <a:pt x="222" y="331"/>
                    <a:pt x="222" y="331"/>
                  </a:cubicBezTo>
                  <a:cubicBezTo>
                    <a:pt x="222" y="331"/>
                    <a:pt x="202" y="314"/>
                    <a:pt x="210" y="297"/>
                  </a:cubicBezTo>
                  <a:cubicBezTo>
                    <a:pt x="252" y="329"/>
                    <a:pt x="252" y="329"/>
                    <a:pt x="252" y="329"/>
                  </a:cubicBezTo>
                  <a:cubicBezTo>
                    <a:pt x="252" y="329"/>
                    <a:pt x="252" y="329"/>
                    <a:pt x="252" y="330"/>
                  </a:cubicBezTo>
                  <a:cubicBezTo>
                    <a:pt x="262" y="336"/>
                    <a:pt x="269" y="342"/>
                    <a:pt x="273" y="346"/>
                  </a:cubicBezTo>
                  <a:cubicBezTo>
                    <a:pt x="273" y="345"/>
                    <a:pt x="273" y="345"/>
                    <a:pt x="273" y="344"/>
                  </a:cubicBezTo>
                  <a:cubicBezTo>
                    <a:pt x="273" y="344"/>
                    <a:pt x="291" y="359"/>
                    <a:pt x="291" y="382"/>
                  </a:cubicBezTo>
                  <a:cubicBezTo>
                    <a:pt x="290" y="382"/>
                    <a:pt x="290" y="382"/>
                    <a:pt x="290" y="382"/>
                  </a:cubicBezTo>
                  <a:cubicBezTo>
                    <a:pt x="291" y="383"/>
                    <a:pt x="291" y="383"/>
                    <a:pt x="291" y="383"/>
                  </a:cubicBezTo>
                  <a:cubicBezTo>
                    <a:pt x="296" y="383"/>
                    <a:pt x="301" y="383"/>
                    <a:pt x="306" y="383"/>
                  </a:cubicBezTo>
                  <a:cubicBezTo>
                    <a:pt x="307" y="340"/>
                    <a:pt x="307" y="340"/>
                    <a:pt x="307" y="340"/>
                  </a:cubicBezTo>
                  <a:cubicBezTo>
                    <a:pt x="307" y="340"/>
                    <a:pt x="265" y="324"/>
                    <a:pt x="261" y="288"/>
                  </a:cubicBezTo>
                  <a:cubicBezTo>
                    <a:pt x="259" y="262"/>
                    <a:pt x="268" y="244"/>
                    <a:pt x="260" y="226"/>
                  </a:cubicBezTo>
                  <a:cubicBezTo>
                    <a:pt x="268" y="225"/>
                    <a:pt x="277" y="222"/>
                    <a:pt x="290" y="218"/>
                  </a:cubicBezTo>
                  <a:cubicBezTo>
                    <a:pt x="339" y="201"/>
                    <a:pt x="300" y="151"/>
                    <a:pt x="300" y="1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8"/>
            <p:cNvSpPr/>
            <p:nvPr/>
          </p:nvSpPr>
          <p:spPr>
            <a:xfrm>
              <a:off x="6872040" y="3638160"/>
              <a:ext cx="262080" cy="1296720"/>
            </a:xfrm>
            <a:custGeom>
              <a:avLst/>
              <a:gdLst/>
              <a:ahLst/>
              <a:rect l="l" t="t" r="r" b="b"/>
              <a:pathLst>
                <a:path w="70" h="346">
                  <a:moveTo>
                    <a:pt x="50" y="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20" y="88"/>
                    <a:pt x="24" y="115"/>
                  </a:cubicBezTo>
                  <a:cubicBezTo>
                    <a:pt x="28" y="142"/>
                    <a:pt x="54" y="202"/>
                    <a:pt x="54" y="202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7" y="306"/>
                    <a:pt x="25" y="326"/>
                    <a:pt x="22" y="328"/>
                  </a:cubicBezTo>
                  <a:cubicBezTo>
                    <a:pt x="19" y="330"/>
                    <a:pt x="1" y="332"/>
                    <a:pt x="0" y="346"/>
                  </a:cubicBezTo>
                  <a:cubicBezTo>
                    <a:pt x="14" y="340"/>
                    <a:pt x="14" y="340"/>
                    <a:pt x="14" y="340"/>
                  </a:cubicBezTo>
                  <a:cubicBezTo>
                    <a:pt x="42" y="312"/>
                    <a:pt x="42" y="312"/>
                    <a:pt x="42" y="312"/>
                  </a:cubicBezTo>
                  <a:cubicBezTo>
                    <a:pt x="70" y="206"/>
                    <a:pt x="70" y="206"/>
                    <a:pt x="70" y="206"/>
                  </a:cubicBezTo>
                  <a:cubicBezTo>
                    <a:pt x="70" y="206"/>
                    <a:pt x="34" y="133"/>
                    <a:pt x="54" y="51"/>
                  </a:cubicBezTo>
                  <a:cubicBezTo>
                    <a:pt x="56" y="16"/>
                    <a:pt x="56" y="16"/>
                    <a:pt x="56" y="16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9"/>
            <p:cNvSpPr/>
            <p:nvPr/>
          </p:nvSpPr>
          <p:spPr>
            <a:xfrm>
              <a:off x="7117920" y="3567240"/>
              <a:ext cx="79560" cy="12024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5" y="28"/>
                  </a:moveTo>
                  <a:lnTo>
                    <a:pt x="43" y="0"/>
                  </a:lnTo>
                  <a:lnTo>
                    <a:pt x="50" y="33"/>
                  </a:lnTo>
                  <a:lnTo>
                    <a:pt x="24" y="40"/>
                  </a:lnTo>
                  <a:lnTo>
                    <a:pt x="15" y="73"/>
                  </a:lnTo>
                  <a:lnTo>
                    <a:pt x="0" y="76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0"/>
            <p:cNvSpPr/>
            <p:nvPr/>
          </p:nvSpPr>
          <p:spPr>
            <a:xfrm>
              <a:off x="7430760" y="4613040"/>
              <a:ext cx="262080" cy="33300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" y="0"/>
                  </a:moveTo>
                  <a:cubicBezTo>
                    <a:pt x="3" y="0"/>
                    <a:pt x="0" y="26"/>
                    <a:pt x="44" y="48"/>
                  </a:cubicBezTo>
                  <a:cubicBezTo>
                    <a:pt x="44" y="48"/>
                    <a:pt x="59" y="62"/>
                    <a:pt x="39" y="86"/>
                  </a:cubicBezTo>
                  <a:cubicBezTo>
                    <a:pt x="49" y="89"/>
                    <a:pt x="49" y="89"/>
                    <a:pt x="49" y="89"/>
                  </a:cubicBezTo>
                  <a:cubicBezTo>
                    <a:pt x="49" y="89"/>
                    <a:pt x="70" y="56"/>
                    <a:pt x="57" y="45"/>
                  </a:cubicBezTo>
                  <a:cubicBezTo>
                    <a:pt x="43" y="34"/>
                    <a:pt x="14" y="18"/>
                    <a:pt x="15" y="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61"/>
            <p:cNvSpPr/>
            <p:nvPr/>
          </p:nvSpPr>
          <p:spPr>
            <a:xfrm>
              <a:off x="7530840" y="4422600"/>
              <a:ext cx="473040" cy="58068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114" y="155"/>
                  </a:moveTo>
                  <a:cubicBezTo>
                    <a:pt x="113" y="147"/>
                    <a:pt x="116" y="128"/>
                    <a:pt x="70" y="99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0" y="32"/>
                    <a:pt x="18" y="16"/>
                  </a:cubicBezTo>
                  <a:cubicBezTo>
                    <a:pt x="36" y="0"/>
                    <a:pt x="34" y="31"/>
                    <a:pt x="34" y="31"/>
                  </a:cubicBezTo>
                  <a:cubicBezTo>
                    <a:pt x="34" y="31"/>
                    <a:pt x="29" y="47"/>
                    <a:pt x="47" y="65"/>
                  </a:cubicBezTo>
                  <a:cubicBezTo>
                    <a:pt x="65" y="82"/>
                    <a:pt x="108" y="113"/>
                    <a:pt x="108" y="113"/>
                  </a:cubicBezTo>
                  <a:cubicBezTo>
                    <a:pt x="108" y="113"/>
                    <a:pt x="126" y="126"/>
                    <a:pt x="122" y="155"/>
                  </a:cubicBezTo>
                  <a:lnTo>
                    <a:pt x="114" y="1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62"/>
            <p:cNvSpPr/>
            <p:nvPr/>
          </p:nvSpPr>
          <p:spPr>
            <a:xfrm>
              <a:off x="7021080" y="4312800"/>
              <a:ext cx="314640" cy="53964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" y="131"/>
                  </a:moveTo>
                  <a:cubicBezTo>
                    <a:pt x="36" y="27"/>
                    <a:pt x="36" y="27"/>
                    <a:pt x="36" y="27"/>
                  </a:cubicBezTo>
                  <a:cubicBezTo>
                    <a:pt x="36" y="27"/>
                    <a:pt x="45" y="0"/>
                    <a:pt x="64" y="1"/>
                  </a:cubicBezTo>
                  <a:cubicBezTo>
                    <a:pt x="84" y="2"/>
                    <a:pt x="84" y="20"/>
                    <a:pt x="72" y="20"/>
                  </a:cubicBezTo>
                  <a:cubicBezTo>
                    <a:pt x="60" y="20"/>
                    <a:pt x="55" y="16"/>
                    <a:pt x="46" y="33"/>
                  </a:cubicBezTo>
                  <a:cubicBezTo>
                    <a:pt x="38" y="50"/>
                    <a:pt x="11" y="132"/>
                    <a:pt x="11" y="132"/>
                  </a:cubicBezTo>
                  <a:cubicBezTo>
                    <a:pt x="0" y="144"/>
                    <a:pt x="0" y="144"/>
                    <a:pt x="0" y="144"/>
                  </a:cubicBezTo>
                  <a:lnTo>
                    <a:pt x="6" y="13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3"/>
            <p:cNvSpPr/>
            <p:nvPr/>
          </p:nvSpPr>
          <p:spPr>
            <a:xfrm>
              <a:off x="7783200" y="4133520"/>
              <a:ext cx="311040" cy="2250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56" y="0"/>
                  </a:moveTo>
                  <a:cubicBezTo>
                    <a:pt x="56" y="0"/>
                    <a:pt x="73" y="37"/>
                    <a:pt x="0" y="55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83" y="45"/>
                    <a:pt x="56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16"/>
          <p:cNvGrpSpPr/>
          <p:nvPr/>
        </p:nvGrpSpPr>
        <p:grpSpPr>
          <a:xfrm>
            <a:off x="3322800" y="1893960"/>
            <a:ext cx="1555560" cy="960480"/>
            <a:chOff x="3322800" y="1893960"/>
            <a:chExt cx="1555560" cy="960480"/>
          </a:xfrm>
        </p:grpSpPr>
        <p:sp>
          <p:nvSpPr>
            <p:cNvPr id="93" name="Freeform 297"/>
            <p:cNvSpPr/>
            <p:nvPr/>
          </p:nvSpPr>
          <p:spPr>
            <a:xfrm>
              <a:off x="3919680" y="1893960"/>
              <a:ext cx="126720" cy="23976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0" y="0"/>
                  </a:moveTo>
                  <a:cubicBezTo>
                    <a:pt x="0" y="0"/>
                    <a:pt x="15" y="46"/>
                    <a:pt x="24" y="45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48"/>
                    <a:pt x="7" y="53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>
              <a:off x="3537000" y="24004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0"/>
                  </a:moveTo>
                  <a:lnTo>
                    <a:pt x="45" y="97"/>
                  </a:lnTo>
                  <a:lnTo>
                    <a:pt x="118" y="156"/>
                  </a:lnTo>
                  <a:lnTo>
                    <a:pt x="99" y="186"/>
                  </a:lnTo>
                  <a:lnTo>
                    <a:pt x="26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>
              <a:off x="3322800" y="2643120"/>
              <a:ext cx="68040" cy="90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0"/>
                  </a:moveTo>
                  <a:lnTo>
                    <a:pt x="43" y="55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>
              <a:off x="4065480" y="235116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0"/>
                  </a:moveTo>
                  <a:lnTo>
                    <a:pt x="101" y="76"/>
                  </a:lnTo>
                  <a:lnTo>
                    <a:pt x="116" y="106"/>
                  </a:lnTo>
                  <a:lnTo>
                    <a:pt x="2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>
              <a:off x="4319640" y="2268360"/>
              <a:ext cx="315720" cy="289080"/>
            </a:xfrm>
            <a:custGeom>
              <a:avLst/>
              <a:gdLst/>
              <a:ahLst/>
              <a:rect l="l" t="t" r="r" b="b"/>
              <a:pathLst>
                <a:path w="199" h="182">
                  <a:moveTo>
                    <a:pt x="0" y="0"/>
                  </a:moveTo>
                  <a:lnTo>
                    <a:pt x="140" y="97"/>
                  </a:lnTo>
                  <a:lnTo>
                    <a:pt x="199" y="182"/>
                  </a:lnTo>
                  <a:lnTo>
                    <a:pt x="59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>
              <a:off x="4638600" y="261792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0"/>
                  </a:moveTo>
                  <a:lnTo>
                    <a:pt x="90" y="40"/>
                  </a:lnTo>
                  <a:lnTo>
                    <a:pt x="151" y="149"/>
                  </a:lnTo>
                  <a:lnTo>
                    <a:pt x="3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303"/>
          <p:cNvSpPr/>
          <p:nvPr/>
        </p:nvSpPr>
        <p:spPr>
          <a:xfrm>
            <a:off x="5137200" y="1990800"/>
            <a:ext cx="1376280" cy="704880"/>
          </a:xfrm>
          <a:custGeom>
            <a:avLst/>
            <a:gdLst/>
            <a:ahLst/>
            <a:rect l="l" t="t" r="r" b="b"/>
            <a:pathLst>
              <a:path w="367" h="188">
                <a:moveTo>
                  <a:pt x="47" y="83"/>
                </a:moveTo>
                <a:cubicBezTo>
                  <a:pt x="47" y="83"/>
                  <a:pt x="69" y="63"/>
                  <a:pt x="86" y="81"/>
                </a:cubicBezTo>
                <a:cubicBezTo>
                  <a:pt x="103" y="100"/>
                  <a:pt x="99" y="122"/>
                  <a:pt x="162" y="107"/>
                </a:cubicBezTo>
                <a:cubicBezTo>
                  <a:pt x="162" y="107"/>
                  <a:pt x="169" y="104"/>
                  <a:pt x="169" y="97"/>
                </a:cubicBezTo>
                <a:cubicBezTo>
                  <a:pt x="169" y="97"/>
                  <a:pt x="167" y="91"/>
                  <a:pt x="168" y="88"/>
                </a:cubicBezTo>
                <a:cubicBezTo>
                  <a:pt x="168" y="86"/>
                  <a:pt x="167" y="84"/>
                  <a:pt x="167" y="84"/>
                </a:cubicBezTo>
                <a:cubicBezTo>
                  <a:pt x="170" y="67"/>
                  <a:pt x="170" y="67"/>
                  <a:pt x="170" y="67"/>
                </a:cubicBezTo>
                <a:cubicBezTo>
                  <a:pt x="181" y="78"/>
                  <a:pt x="181" y="78"/>
                  <a:pt x="181" y="78"/>
                </a:cubicBezTo>
                <a:cubicBezTo>
                  <a:pt x="181" y="78"/>
                  <a:pt x="190" y="75"/>
                  <a:pt x="192" y="76"/>
                </a:cubicBezTo>
                <a:cubicBezTo>
                  <a:pt x="197" y="57"/>
                  <a:pt x="197" y="57"/>
                  <a:pt x="197" y="57"/>
                </a:cubicBezTo>
                <a:cubicBezTo>
                  <a:pt x="217" y="86"/>
                  <a:pt x="217" y="86"/>
                  <a:pt x="217" y="86"/>
                </a:cubicBezTo>
                <a:cubicBezTo>
                  <a:pt x="217" y="86"/>
                  <a:pt x="253" y="82"/>
                  <a:pt x="269" y="64"/>
                </a:cubicBezTo>
                <a:cubicBezTo>
                  <a:pt x="285" y="45"/>
                  <a:pt x="277" y="1"/>
                  <a:pt x="326" y="0"/>
                </a:cubicBezTo>
                <a:cubicBezTo>
                  <a:pt x="326" y="0"/>
                  <a:pt x="314" y="6"/>
                  <a:pt x="313" y="9"/>
                </a:cubicBezTo>
                <a:cubicBezTo>
                  <a:pt x="313" y="9"/>
                  <a:pt x="362" y="2"/>
                  <a:pt x="367" y="3"/>
                </a:cubicBezTo>
                <a:cubicBezTo>
                  <a:pt x="367" y="3"/>
                  <a:pt x="321" y="25"/>
                  <a:pt x="360" y="54"/>
                </a:cubicBezTo>
                <a:cubicBezTo>
                  <a:pt x="360" y="54"/>
                  <a:pt x="296" y="75"/>
                  <a:pt x="326" y="118"/>
                </a:cubicBezTo>
                <a:cubicBezTo>
                  <a:pt x="326" y="118"/>
                  <a:pt x="309" y="110"/>
                  <a:pt x="294" y="119"/>
                </a:cubicBezTo>
                <a:cubicBezTo>
                  <a:pt x="279" y="128"/>
                  <a:pt x="258" y="143"/>
                  <a:pt x="264" y="149"/>
                </a:cubicBezTo>
                <a:cubicBezTo>
                  <a:pt x="264" y="149"/>
                  <a:pt x="218" y="145"/>
                  <a:pt x="221" y="185"/>
                </a:cubicBezTo>
                <a:cubicBezTo>
                  <a:pt x="221" y="185"/>
                  <a:pt x="200" y="147"/>
                  <a:pt x="170" y="182"/>
                </a:cubicBezTo>
                <a:cubicBezTo>
                  <a:pt x="170" y="182"/>
                  <a:pt x="129" y="148"/>
                  <a:pt x="92" y="188"/>
                </a:cubicBezTo>
                <a:cubicBezTo>
                  <a:pt x="92" y="188"/>
                  <a:pt x="77" y="124"/>
                  <a:pt x="30" y="158"/>
                </a:cubicBezTo>
                <a:cubicBezTo>
                  <a:pt x="30" y="158"/>
                  <a:pt x="46" y="107"/>
                  <a:pt x="0" y="117"/>
                </a:cubicBezTo>
                <a:cubicBezTo>
                  <a:pt x="0" y="117"/>
                  <a:pt x="116" y="72"/>
                  <a:pt x="47" y="83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4"/>
          <p:cNvSpPr/>
          <p:nvPr/>
        </p:nvSpPr>
        <p:spPr>
          <a:xfrm>
            <a:off x="5656320" y="2695680"/>
            <a:ext cx="776160" cy="396720"/>
          </a:xfrm>
          <a:custGeom>
            <a:avLst/>
            <a:gdLst/>
            <a:ahLst/>
            <a:rect l="l" t="t" r="r" b="b"/>
            <a:pathLst>
              <a:path w="207" h="106">
                <a:moveTo>
                  <a:pt x="26" y="47"/>
                </a:moveTo>
                <a:cubicBezTo>
                  <a:pt x="26" y="47"/>
                  <a:pt x="39" y="36"/>
                  <a:pt x="48" y="46"/>
                </a:cubicBezTo>
                <a:cubicBezTo>
                  <a:pt x="58" y="56"/>
                  <a:pt x="56" y="69"/>
                  <a:pt x="91" y="61"/>
                </a:cubicBezTo>
                <a:cubicBezTo>
                  <a:pt x="91" y="61"/>
                  <a:pt x="95" y="59"/>
                  <a:pt x="95" y="55"/>
                </a:cubicBezTo>
                <a:cubicBezTo>
                  <a:pt x="95" y="55"/>
                  <a:pt x="94" y="51"/>
                  <a:pt x="94" y="50"/>
                </a:cubicBezTo>
                <a:cubicBezTo>
                  <a:pt x="95" y="49"/>
                  <a:pt x="94" y="48"/>
                  <a:pt x="94" y="48"/>
                </a:cubicBezTo>
                <a:cubicBezTo>
                  <a:pt x="96" y="38"/>
                  <a:pt x="96" y="38"/>
                  <a:pt x="96" y="38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7" y="42"/>
                  <a:pt x="108" y="4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22" y="48"/>
                  <a:pt x="122" y="48"/>
                  <a:pt x="122" y="48"/>
                </a:cubicBezTo>
                <a:cubicBezTo>
                  <a:pt x="122" y="48"/>
                  <a:pt x="142" y="47"/>
                  <a:pt x="152" y="36"/>
                </a:cubicBezTo>
                <a:cubicBezTo>
                  <a:pt x="161" y="26"/>
                  <a:pt x="156" y="1"/>
                  <a:pt x="184" y="0"/>
                </a:cubicBezTo>
                <a:cubicBezTo>
                  <a:pt x="184" y="0"/>
                  <a:pt x="177" y="3"/>
                  <a:pt x="176" y="5"/>
                </a:cubicBezTo>
                <a:cubicBezTo>
                  <a:pt x="176" y="5"/>
                  <a:pt x="204" y="1"/>
                  <a:pt x="207" y="2"/>
                </a:cubicBezTo>
                <a:cubicBezTo>
                  <a:pt x="207" y="2"/>
                  <a:pt x="181" y="14"/>
                  <a:pt x="203" y="31"/>
                </a:cubicBezTo>
                <a:cubicBezTo>
                  <a:pt x="203" y="31"/>
                  <a:pt x="167" y="42"/>
                  <a:pt x="184" y="67"/>
                </a:cubicBezTo>
                <a:cubicBezTo>
                  <a:pt x="184" y="67"/>
                  <a:pt x="174" y="62"/>
                  <a:pt x="166" y="67"/>
                </a:cubicBezTo>
                <a:cubicBezTo>
                  <a:pt x="157" y="73"/>
                  <a:pt x="145" y="81"/>
                  <a:pt x="149" y="84"/>
                </a:cubicBezTo>
                <a:cubicBezTo>
                  <a:pt x="149" y="84"/>
                  <a:pt x="123" y="82"/>
                  <a:pt x="124" y="104"/>
                </a:cubicBezTo>
                <a:cubicBezTo>
                  <a:pt x="124" y="104"/>
                  <a:pt x="113" y="83"/>
                  <a:pt x="96" y="103"/>
                </a:cubicBezTo>
                <a:cubicBezTo>
                  <a:pt x="96" y="103"/>
                  <a:pt x="73" y="84"/>
                  <a:pt x="52" y="106"/>
                </a:cubicBezTo>
                <a:cubicBezTo>
                  <a:pt x="52" y="106"/>
                  <a:pt x="43" y="70"/>
                  <a:pt x="17" y="89"/>
                </a:cubicBezTo>
                <a:cubicBezTo>
                  <a:pt x="17" y="89"/>
                  <a:pt x="26" y="61"/>
                  <a:pt x="0" y="66"/>
                </a:cubicBezTo>
                <a:cubicBezTo>
                  <a:pt x="0" y="66"/>
                  <a:pt x="65" y="41"/>
                  <a:pt x="26" y="47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05"/>
          <p:cNvSpPr/>
          <p:nvPr/>
        </p:nvSpPr>
        <p:spPr>
          <a:xfrm flipH="1">
            <a:off x="5261760" y="3048120"/>
            <a:ext cx="520920" cy="266760"/>
          </a:xfrm>
          <a:custGeom>
            <a:avLst/>
            <a:gdLst/>
            <a:ahLst/>
            <a:rect l="l" t="t" r="r" b="b"/>
            <a:pathLst>
              <a:path w="139" h="71">
                <a:moveTo>
                  <a:pt x="18" y="31"/>
                </a:moveTo>
                <a:cubicBezTo>
                  <a:pt x="18" y="31"/>
                  <a:pt x="26" y="24"/>
                  <a:pt x="33" y="31"/>
                </a:cubicBezTo>
                <a:cubicBezTo>
                  <a:pt x="39" y="38"/>
                  <a:pt x="38" y="46"/>
                  <a:pt x="61" y="40"/>
                </a:cubicBezTo>
                <a:cubicBezTo>
                  <a:pt x="61" y="40"/>
                  <a:pt x="64" y="39"/>
                  <a:pt x="64" y="36"/>
                </a:cubicBezTo>
                <a:cubicBezTo>
                  <a:pt x="64" y="36"/>
                  <a:pt x="63" y="34"/>
                  <a:pt x="64" y="33"/>
                </a:cubicBezTo>
                <a:cubicBezTo>
                  <a:pt x="64" y="32"/>
                  <a:pt x="63" y="32"/>
                  <a:pt x="63" y="32"/>
                </a:cubicBezTo>
                <a:cubicBezTo>
                  <a:pt x="64" y="25"/>
                  <a:pt x="64" y="25"/>
                  <a:pt x="64" y="25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9"/>
                  <a:pt x="72" y="28"/>
                  <a:pt x="73" y="28"/>
                </a:cubicBezTo>
                <a:cubicBezTo>
                  <a:pt x="75" y="21"/>
                  <a:pt x="75" y="21"/>
                  <a:pt x="75" y="2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96" y="31"/>
                  <a:pt x="102" y="24"/>
                </a:cubicBezTo>
                <a:cubicBezTo>
                  <a:pt x="108" y="17"/>
                  <a:pt x="105" y="0"/>
                  <a:pt x="124" y="0"/>
                </a:cubicBezTo>
                <a:cubicBezTo>
                  <a:pt x="124" y="0"/>
                  <a:pt x="119" y="2"/>
                  <a:pt x="119" y="3"/>
                </a:cubicBezTo>
                <a:cubicBezTo>
                  <a:pt x="119" y="3"/>
                  <a:pt x="137" y="0"/>
                  <a:pt x="139" y="1"/>
                </a:cubicBezTo>
                <a:cubicBezTo>
                  <a:pt x="139" y="1"/>
                  <a:pt x="122" y="9"/>
                  <a:pt x="137" y="20"/>
                </a:cubicBezTo>
                <a:cubicBezTo>
                  <a:pt x="137" y="20"/>
                  <a:pt x="112" y="28"/>
                  <a:pt x="124" y="45"/>
                </a:cubicBezTo>
                <a:cubicBezTo>
                  <a:pt x="124" y="45"/>
                  <a:pt x="117" y="41"/>
                  <a:pt x="112" y="45"/>
                </a:cubicBezTo>
                <a:cubicBezTo>
                  <a:pt x="106" y="48"/>
                  <a:pt x="98" y="54"/>
                  <a:pt x="100" y="56"/>
                </a:cubicBezTo>
                <a:cubicBezTo>
                  <a:pt x="100" y="56"/>
                  <a:pt x="83" y="55"/>
                  <a:pt x="84" y="70"/>
                </a:cubicBezTo>
                <a:cubicBezTo>
                  <a:pt x="84" y="70"/>
                  <a:pt x="76" y="55"/>
                  <a:pt x="64" y="69"/>
                </a:cubicBezTo>
                <a:cubicBezTo>
                  <a:pt x="64" y="69"/>
                  <a:pt x="49" y="56"/>
                  <a:pt x="35" y="71"/>
                </a:cubicBezTo>
                <a:cubicBezTo>
                  <a:pt x="35" y="71"/>
                  <a:pt x="29" y="47"/>
                  <a:pt x="11" y="60"/>
                </a:cubicBezTo>
                <a:cubicBezTo>
                  <a:pt x="11" y="60"/>
                  <a:pt x="17" y="41"/>
                  <a:pt x="0" y="44"/>
                </a:cubicBezTo>
                <a:cubicBezTo>
                  <a:pt x="0" y="44"/>
                  <a:pt x="44" y="27"/>
                  <a:pt x="18" y="31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1" descr="weg"/>
          <p:cNvPicPr/>
          <p:nvPr/>
        </p:nvPicPr>
        <p:blipFill>
          <a:blip r:embed="rId4"/>
          <a:stretch/>
        </p:blipFill>
        <p:spPr>
          <a:xfrm>
            <a:off x="3457440" y="3384720"/>
            <a:ext cx="5454720" cy="37591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15"/>
          <p:cNvGrpSpPr/>
          <p:nvPr/>
        </p:nvGrpSpPr>
        <p:grpSpPr>
          <a:xfrm>
            <a:off x="852480" y="3914640"/>
            <a:ext cx="922320" cy="1101960"/>
            <a:chOff x="852480" y="3914640"/>
            <a:chExt cx="922320" cy="1101960"/>
          </a:xfrm>
        </p:grpSpPr>
        <p:sp>
          <p:nvSpPr>
            <p:cNvPr id="104" name="Freeform 265"/>
            <p:cNvSpPr/>
            <p:nvPr/>
          </p:nvSpPr>
          <p:spPr>
            <a:xfrm>
              <a:off x="1500120" y="4091040"/>
              <a:ext cx="274680" cy="66816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3" y="164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72" y="153"/>
                    <a:pt x="72" y="153"/>
                    <a:pt x="72" y="153"/>
                  </a:cubicBezTo>
                  <a:cubicBezTo>
                    <a:pt x="57" y="149"/>
                    <a:pt x="57" y="149"/>
                    <a:pt x="57" y="149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72" y="126"/>
                    <a:pt x="72" y="126"/>
                    <a:pt x="72" y="126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6" y="87"/>
                    <a:pt x="66" y="87"/>
                    <a:pt x="66" y="87"/>
                  </a:cubicBezTo>
                  <a:cubicBezTo>
                    <a:pt x="71" y="79"/>
                    <a:pt x="57" y="71"/>
                    <a:pt x="57" y="71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60" y="62"/>
                    <a:pt x="60" y="62"/>
                    <a:pt x="60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2" y="53"/>
                    <a:pt x="62" y="53"/>
                    <a:pt x="62" y="53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55" y="37"/>
                    <a:pt x="55" y="37"/>
                    <a:pt x="55" y="37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7" y="19"/>
                    <a:pt x="57" y="11"/>
                    <a:pt x="52" y="11"/>
                  </a:cubicBezTo>
                  <a:cubicBezTo>
                    <a:pt x="48" y="11"/>
                    <a:pt x="39" y="0"/>
                    <a:pt x="39" y="0"/>
                  </a:cubicBezTo>
                  <a:cubicBezTo>
                    <a:pt x="38" y="13"/>
                    <a:pt x="25" y="16"/>
                    <a:pt x="25" y="16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9" y="60"/>
                    <a:pt x="10" y="64"/>
                  </a:cubicBezTo>
                  <a:cubicBezTo>
                    <a:pt x="10" y="67"/>
                    <a:pt x="15" y="62"/>
                    <a:pt x="16" y="72"/>
                  </a:cubicBezTo>
                  <a:cubicBezTo>
                    <a:pt x="18" y="82"/>
                    <a:pt x="10" y="96"/>
                    <a:pt x="10" y="96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5" y="145"/>
                    <a:pt x="5" y="145"/>
                    <a:pt x="5" y="145"/>
                  </a:cubicBezTo>
                  <a:cubicBezTo>
                    <a:pt x="15" y="148"/>
                    <a:pt x="15" y="148"/>
                    <a:pt x="15" y="148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18" y="163"/>
                    <a:pt x="18" y="163"/>
                    <a:pt x="18" y="16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33" y="178"/>
                    <a:pt x="33" y="178"/>
                    <a:pt x="33" y="178"/>
                  </a:cubicBezTo>
                  <a:cubicBezTo>
                    <a:pt x="35" y="178"/>
                    <a:pt x="37" y="177"/>
                    <a:pt x="39" y="176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55" y="169"/>
                    <a:pt x="55" y="169"/>
                    <a:pt x="55" y="169"/>
                  </a:cubicBezTo>
                  <a:cubicBezTo>
                    <a:pt x="54" y="169"/>
                    <a:pt x="54" y="169"/>
                    <a:pt x="54" y="169"/>
                  </a:cubicBezTo>
                  <a:cubicBezTo>
                    <a:pt x="56" y="169"/>
                    <a:pt x="57" y="170"/>
                    <a:pt x="59" y="170"/>
                  </a:cubicBezTo>
                  <a:cubicBezTo>
                    <a:pt x="59" y="170"/>
                    <a:pt x="59" y="170"/>
                    <a:pt x="59" y="170"/>
                  </a:cubicBezTo>
                  <a:cubicBezTo>
                    <a:pt x="63" y="170"/>
                    <a:pt x="63" y="170"/>
                    <a:pt x="63" y="170"/>
                  </a:cubicBezTo>
                  <a:cubicBezTo>
                    <a:pt x="63" y="168"/>
                    <a:pt x="63" y="168"/>
                    <a:pt x="63" y="168"/>
                  </a:cubicBezTo>
                  <a:cubicBezTo>
                    <a:pt x="64" y="167"/>
                    <a:pt x="64" y="167"/>
                    <a:pt x="64" y="167"/>
                  </a:cubicBezTo>
                  <a:cubicBezTo>
                    <a:pt x="64" y="166"/>
                    <a:pt x="64" y="166"/>
                    <a:pt x="64" y="166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6"/>
            <p:cNvSpPr/>
            <p:nvPr/>
          </p:nvSpPr>
          <p:spPr>
            <a:xfrm>
              <a:off x="1158840" y="3914640"/>
              <a:ext cx="349200" cy="971640"/>
            </a:xfrm>
            <a:custGeom>
              <a:avLst/>
              <a:gdLst/>
              <a:ahLst/>
              <a:rect l="l" t="t" r="r" b="b"/>
              <a:pathLst>
                <a:path w="93" h="259">
                  <a:moveTo>
                    <a:pt x="82" y="176"/>
                  </a:moveTo>
                  <a:cubicBezTo>
                    <a:pt x="92" y="173"/>
                    <a:pt x="92" y="173"/>
                    <a:pt x="92" y="173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82" y="149"/>
                    <a:pt x="82" y="149"/>
                    <a:pt x="82" y="149"/>
                  </a:cubicBezTo>
                  <a:cubicBezTo>
                    <a:pt x="91" y="137"/>
                    <a:pt x="91" y="137"/>
                    <a:pt x="91" y="137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7" y="119"/>
                    <a:pt x="87" y="119"/>
                    <a:pt x="87" y="119"/>
                  </a:cubicBezTo>
                  <a:cubicBezTo>
                    <a:pt x="88" y="113"/>
                    <a:pt x="88" y="113"/>
                    <a:pt x="88" y="113"/>
                  </a:cubicBezTo>
                  <a:cubicBezTo>
                    <a:pt x="85" y="104"/>
                    <a:pt x="85" y="104"/>
                    <a:pt x="85" y="104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2" y="83"/>
                    <a:pt x="82" y="83"/>
                    <a:pt x="82" y="83"/>
                  </a:cubicBezTo>
                  <a:cubicBezTo>
                    <a:pt x="82" y="74"/>
                    <a:pt x="82" y="74"/>
                    <a:pt x="82" y="7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2" y="55"/>
                    <a:pt x="82" y="55"/>
                    <a:pt x="82" y="55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78" y="36"/>
                    <a:pt x="78" y="36"/>
                    <a:pt x="78" y="36"/>
                  </a:cubicBezTo>
                  <a:cubicBezTo>
                    <a:pt x="78" y="36"/>
                    <a:pt x="77" y="33"/>
                    <a:pt x="74" y="31"/>
                  </a:cubicBezTo>
                  <a:cubicBezTo>
                    <a:pt x="70" y="29"/>
                    <a:pt x="75" y="16"/>
                    <a:pt x="66" y="16"/>
                  </a:cubicBezTo>
                  <a:cubicBezTo>
                    <a:pt x="56" y="15"/>
                    <a:pt x="48" y="0"/>
                    <a:pt x="48" y="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8" y="87"/>
                    <a:pt x="8" y="87"/>
                    <a:pt x="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4" y="118"/>
                    <a:pt x="14" y="118"/>
                    <a:pt x="14" y="118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0" y="133"/>
                    <a:pt x="10" y="133"/>
                    <a:pt x="10" y="133"/>
                  </a:cubicBezTo>
                  <a:cubicBezTo>
                    <a:pt x="12" y="135"/>
                    <a:pt x="14" y="137"/>
                    <a:pt x="15" y="139"/>
                  </a:cubicBezTo>
                  <a:cubicBezTo>
                    <a:pt x="18" y="142"/>
                    <a:pt x="13" y="144"/>
                    <a:pt x="12" y="144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3" y="150"/>
                    <a:pt x="3" y="150"/>
                    <a:pt x="3" y="150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1" y="190"/>
                    <a:pt x="11" y="190"/>
                    <a:pt x="11" y="190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3" y="196"/>
                    <a:pt x="3" y="196"/>
                    <a:pt x="3" y="196"/>
                  </a:cubicBezTo>
                  <a:cubicBezTo>
                    <a:pt x="10" y="200"/>
                    <a:pt x="10" y="200"/>
                    <a:pt x="10" y="200"/>
                  </a:cubicBezTo>
                  <a:cubicBezTo>
                    <a:pt x="15" y="199"/>
                    <a:pt x="18" y="200"/>
                    <a:pt x="17" y="203"/>
                  </a:cubicBezTo>
                  <a:cubicBezTo>
                    <a:pt x="16" y="207"/>
                    <a:pt x="11" y="208"/>
                    <a:pt x="5" y="207"/>
                  </a:cubicBezTo>
                  <a:cubicBezTo>
                    <a:pt x="13" y="221"/>
                    <a:pt x="13" y="221"/>
                    <a:pt x="13" y="221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40" y="232"/>
                    <a:pt x="40" y="232"/>
                    <a:pt x="40" y="232"/>
                  </a:cubicBezTo>
                  <a:cubicBezTo>
                    <a:pt x="40" y="232"/>
                    <a:pt x="41" y="258"/>
                    <a:pt x="40" y="259"/>
                  </a:cubicBezTo>
                  <a:cubicBezTo>
                    <a:pt x="43" y="259"/>
                    <a:pt x="45" y="258"/>
                    <a:pt x="47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49" y="231"/>
                    <a:pt x="49" y="231"/>
                    <a:pt x="49" y="231"/>
                  </a:cubicBezTo>
                  <a:cubicBezTo>
                    <a:pt x="87" y="240"/>
                    <a:pt x="87" y="240"/>
                    <a:pt x="87" y="240"/>
                  </a:cubicBezTo>
                  <a:cubicBezTo>
                    <a:pt x="93" y="234"/>
                    <a:pt x="93" y="234"/>
                    <a:pt x="93" y="234"/>
                  </a:cubicBezTo>
                  <a:cubicBezTo>
                    <a:pt x="82" y="225"/>
                    <a:pt x="82" y="225"/>
                    <a:pt x="82" y="225"/>
                  </a:cubicBezTo>
                  <a:cubicBezTo>
                    <a:pt x="92" y="223"/>
                    <a:pt x="92" y="223"/>
                    <a:pt x="92" y="223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71" y="206"/>
                    <a:pt x="71" y="206"/>
                    <a:pt x="71" y="206"/>
                  </a:cubicBezTo>
                  <a:cubicBezTo>
                    <a:pt x="89" y="197"/>
                    <a:pt x="89" y="197"/>
                    <a:pt x="89" y="197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89"/>
                    <a:pt x="89" y="189"/>
                    <a:pt x="89" y="189"/>
                  </a:cubicBezTo>
                  <a:lnTo>
                    <a:pt x="8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7"/>
            <p:cNvSpPr/>
            <p:nvPr/>
          </p:nvSpPr>
          <p:spPr>
            <a:xfrm>
              <a:off x="852480" y="4184640"/>
              <a:ext cx="339840" cy="83196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69" y="178"/>
                  </a:moveTo>
                  <a:cubicBezTo>
                    <a:pt x="69" y="177"/>
                    <a:pt x="69" y="177"/>
                    <a:pt x="69" y="177"/>
                  </a:cubicBezTo>
                  <a:cubicBezTo>
                    <a:pt x="69" y="177"/>
                    <a:pt x="77" y="174"/>
                    <a:pt x="84" y="173"/>
                  </a:cubicBezTo>
                  <a:cubicBezTo>
                    <a:pt x="77" y="169"/>
                    <a:pt x="77" y="169"/>
                    <a:pt x="77" y="169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85" y="163"/>
                    <a:pt x="85" y="163"/>
                    <a:pt x="85" y="163"/>
                  </a:cubicBezTo>
                  <a:cubicBezTo>
                    <a:pt x="90" y="156"/>
                    <a:pt x="90" y="156"/>
                    <a:pt x="90" y="156"/>
                  </a:cubicBezTo>
                  <a:cubicBezTo>
                    <a:pt x="74" y="146"/>
                    <a:pt x="74" y="146"/>
                    <a:pt x="74" y="146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42"/>
                    <a:pt x="86" y="142"/>
                    <a:pt x="86" y="142"/>
                  </a:cubicBezTo>
                  <a:cubicBezTo>
                    <a:pt x="84" y="131"/>
                    <a:pt x="84" y="131"/>
                    <a:pt x="84" y="131"/>
                  </a:cubicBezTo>
                  <a:cubicBezTo>
                    <a:pt x="88" y="129"/>
                    <a:pt x="88" y="129"/>
                    <a:pt x="88" y="129"/>
                  </a:cubicBezTo>
                  <a:cubicBezTo>
                    <a:pt x="77" y="123"/>
                    <a:pt x="77" y="123"/>
                    <a:pt x="77" y="123"/>
                  </a:cubicBezTo>
                  <a:cubicBezTo>
                    <a:pt x="85" y="119"/>
                    <a:pt x="85" y="119"/>
                    <a:pt x="85" y="119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17"/>
                    <a:pt x="86" y="118"/>
                    <a:pt x="86" y="118"/>
                  </a:cubicBezTo>
                  <a:cubicBezTo>
                    <a:pt x="77" y="108"/>
                    <a:pt x="77" y="108"/>
                    <a:pt x="77" y="108"/>
                  </a:cubicBezTo>
                  <a:cubicBezTo>
                    <a:pt x="78" y="103"/>
                    <a:pt x="81" y="104"/>
                    <a:pt x="84" y="106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3" y="94"/>
                    <a:pt x="83" y="94"/>
                    <a:pt x="83" y="94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79" y="46"/>
                    <a:pt x="79" y="46"/>
                    <a:pt x="79" y="46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59" y="13"/>
                    <a:pt x="49" y="0"/>
                    <a:pt x="49" y="0"/>
                  </a:cubicBezTo>
                  <a:cubicBezTo>
                    <a:pt x="49" y="9"/>
                    <a:pt x="34" y="17"/>
                    <a:pt x="34" y="17"/>
                  </a:cubicBezTo>
                  <a:cubicBezTo>
                    <a:pt x="38" y="24"/>
                    <a:pt x="38" y="24"/>
                    <a:pt x="38" y="24"/>
                  </a:cubicBezTo>
                  <a:cubicBezTo>
                    <a:pt x="29" y="38"/>
                    <a:pt x="16" y="75"/>
                    <a:pt x="16" y="75"/>
                  </a:cubicBezTo>
                  <a:cubicBezTo>
                    <a:pt x="22" y="84"/>
                    <a:pt x="22" y="84"/>
                    <a:pt x="22" y="84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1" y="130"/>
                    <a:pt x="11" y="130"/>
                    <a:pt x="11" y="130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19" y="163"/>
                    <a:pt x="19" y="163"/>
                    <a:pt x="19" y="163"/>
                  </a:cubicBezTo>
                  <a:cubicBezTo>
                    <a:pt x="11" y="172"/>
                    <a:pt x="11" y="172"/>
                    <a:pt x="11" y="172"/>
                  </a:cubicBezTo>
                  <a:cubicBezTo>
                    <a:pt x="23" y="174"/>
                    <a:pt x="23" y="174"/>
                    <a:pt x="23" y="174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94"/>
                    <a:pt x="26" y="194"/>
                    <a:pt x="26" y="19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34" y="199"/>
                    <a:pt x="34" y="199"/>
                    <a:pt x="34" y="199"/>
                  </a:cubicBezTo>
                  <a:cubicBezTo>
                    <a:pt x="43" y="200"/>
                    <a:pt x="43" y="200"/>
                    <a:pt x="43" y="200"/>
                  </a:cubicBezTo>
                  <a:cubicBezTo>
                    <a:pt x="44" y="221"/>
                    <a:pt x="44" y="221"/>
                    <a:pt x="44" y="221"/>
                  </a:cubicBezTo>
                  <a:cubicBezTo>
                    <a:pt x="45" y="221"/>
                    <a:pt x="46" y="222"/>
                    <a:pt x="49" y="222"/>
                  </a:cubicBezTo>
                  <a:cubicBezTo>
                    <a:pt x="51" y="198"/>
                    <a:pt x="51" y="198"/>
                    <a:pt x="51" y="198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87" y="200"/>
                    <a:pt x="87" y="200"/>
                    <a:pt x="87" y="200"/>
                  </a:cubicBezTo>
                  <a:cubicBezTo>
                    <a:pt x="81" y="194"/>
                    <a:pt x="81" y="194"/>
                    <a:pt x="81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79" y="180"/>
                    <a:pt x="79" y="180"/>
                    <a:pt x="79" y="180"/>
                  </a:cubicBezTo>
                  <a:cubicBezTo>
                    <a:pt x="74" y="179"/>
                    <a:pt x="69" y="178"/>
                    <a:pt x="69" y="1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8"/>
            <p:cNvSpPr/>
            <p:nvPr/>
          </p:nvSpPr>
          <p:spPr>
            <a:xfrm>
              <a:off x="1646280" y="4091040"/>
              <a:ext cx="82440" cy="968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cubicBezTo>
                    <a:pt x="0" y="0"/>
                    <a:pt x="8" y="11"/>
                    <a:pt x="14" y="11"/>
                  </a:cubicBezTo>
                  <a:cubicBezTo>
                    <a:pt x="14" y="11"/>
                    <a:pt x="18" y="11"/>
                    <a:pt x="18" y="19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5"/>
                    <a:pt x="10" y="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9"/>
            <p:cNvSpPr/>
            <p:nvPr/>
          </p:nvSpPr>
          <p:spPr>
            <a:xfrm>
              <a:off x="1616040" y="4140360"/>
              <a:ext cx="3024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7" y="0"/>
                    <a:pt x="5" y="4"/>
                    <a:pt x="3" y="4"/>
                  </a:cubicBezTo>
                  <a:cubicBezTo>
                    <a:pt x="0" y="4"/>
                    <a:pt x="5" y="7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70"/>
            <p:cNvSpPr/>
            <p:nvPr/>
          </p:nvSpPr>
          <p:spPr>
            <a:xfrm>
              <a:off x="1684440" y="419256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1" y="14"/>
                  </a:lnTo>
                  <a:lnTo>
                    <a:pt x="1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71"/>
            <p:cNvSpPr/>
            <p:nvPr/>
          </p:nvSpPr>
          <p:spPr>
            <a:xfrm>
              <a:off x="1654200" y="4233960"/>
              <a:ext cx="19080" cy="52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5" y="0"/>
                  </a:moveTo>
                  <a:lnTo>
                    <a:pt x="12" y="16"/>
                  </a:lnTo>
                  <a:lnTo>
                    <a:pt x="5" y="23"/>
                  </a:lnTo>
                  <a:lnTo>
                    <a:pt x="12" y="3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2"/>
            <p:cNvSpPr/>
            <p:nvPr/>
          </p:nvSpPr>
          <p:spPr>
            <a:xfrm>
              <a:off x="1698480" y="4319640"/>
              <a:ext cx="71640" cy="982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3" y="0"/>
                  </a:moveTo>
                  <a:cubicBezTo>
                    <a:pt x="3" y="1"/>
                    <a:pt x="4" y="10"/>
                    <a:pt x="4" y="10"/>
                  </a:cubicBezTo>
                  <a:cubicBezTo>
                    <a:pt x="4" y="10"/>
                    <a:pt x="19" y="18"/>
                    <a:pt x="13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73"/>
            <p:cNvSpPr/>
            <p:nvPr/>
          </p:nvSpPr>
          <p:spPr>
            <a:xfrm>
              <a:off x="1684440" y="4465800"/>
              <a:ext cx="90360" cy="982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7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26"/>
                    <a:pt x="23" y="26"/>
                  </a:cubicBezTo>
                  <a:cubicBezTo>
                    <a:pt x="24" y="26"/>
                    <a:pt x="23" y="26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4"/>
            <p:cNvSpPr/>
            <p:nvPr/>
          </p:nvSpPr>
          <p:spPr>
            <a:xfrm>
              <a:off x="1703520" y="462744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0"/>
                  </a:moveTo>
                  <a:lnTo>
                    <a:pt x="7" y="14"/>
                  </a:lnTo>
                  <a:lnTo>
                    <a:pt x="42" y="23"/>
                  </a:lnTo>
                  <a:lnTo>
                    <a:pt x="45" y="28"/>
                  </a:lnTo>
                  <a:lnTo>
                    <a:pt x="26" y="31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5"/>
            <p:cNvSpPr/>
            <p:nvPr/>
          </p:nvSpPr>
          <p:spPr>
            <a:xfrm>
              <a:off x="1609560" y="4529160"/>
              <a:ext cx="4788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9" y="15"/>
                  </a:moveTo>
                  <a:lnTo>
                    <a:pt x="28" y="33"/>
                  </a:lnTo>
                  <a:lnTo>
                    <a:pt x="19" y="38"/>
                  </a:lnTo>
                  <a:lnTo>
                    <a:pt x="30" y="48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4" y="5"/>
                  </a:lnTo>
                  <a:lnTo>
                    <a:pt x="7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6"/>
            <p:cNvSpPr/>
            <p:nvPr/>
          </p:nvSpPr>
          <p:spPr>
            <a:xfrm>
              <a:off x="1582560" y="44290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5" y="9"/>
                  </a:lnTo>
                  <a:lnTo>
                    <a:pt x="19" y="16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77"/>
            <p:cNvSpPr/>
            <p:nvPr/>
          </p:nvSpPr>
          <p:spPr>
            <a:xfrm>
              <a:off x="1440000" y="436896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0"/>
                  </a:moveTo>
                  <a:lnTo>
                    <a:pt x="38" y="38"/>
                  </a:lnTo>
                  <a:lnTo>
                    <a:pt x="29" y="49"/>
                  </a:lnTo>
                  <a:lnTo>
                    <a:pt x="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8"/>
            <p:cNvSpPr/>
            <p:nvPr/>
          </p:nvSpPr>
          <p:spPr>
            <a:xfrm>
              <a:off x="1406520" y="42480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10" y="12"/>
                  </a:moveTo>
                  <a:lnTo>
                    <a:pt x="45" y="36"/>
                  </a:lnTo>
                  <a:lnTo>
                    <a:pt x="50" y="45"/>
                  </a:lnTo>
                  <a:lnTo>
                    <a:pt x="31" y="45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9"/>
            <p:cNvSpPr/>
            <p:nvPr/>
          </p:nvSpPr>
          <p:spPr>
            <a:xfrm>
              <a:off x="1398600" y="409428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" y="0"/>
                  </a:moveTo>
                  <a:lnTo>
                    <a:pt x="5" y="10"/>
                  </a:lnTo>
                  <a:lnTo>
                    <a:pt x="43" y="17"/>
                  </a:lnTo>
                  <a:lnTo>
                    <a:pt x="41" y="26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80"/>
            <p:cNvSpPr/>
            <p:nvPr/>
          </p:nvSpPr>
          <p:spPr>
            <a:xfrm>
              <a:off x="1376280" y="403056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12" y="12"/>
                  </a:moveTo>
                  <a:lnTo>
                    <a:pt x="12" y="22"/>
                  </a:lnTo>
                  <a:lnTo>
                    <a:pt x="50" y="33"/>
                  </a:lnTo>
                  <a:lnTo>
                    <a:pt x="38" y="40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81"/>
            <p:cNvSpPr/>
            <p:nvPr/>
          </p:nvSpPr>
          <p:spPr>
            <a:xfrm>
              <a:off x="1339920" y="3914640"/>
              <a:ext cx="88920" cy="860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9" y="15"/>
                    <a:pt x="16" y="15"/>
                  </a:cubicBezTo>
                  <a:cubicBezTo>
                    <a:pt x="16" y="15"/>
                    <a:pt x="21" y="15"/>
                    <a:pt x="23" y="19"/>
                  </a:cubicBezTo>
                  <a:cubicBezTo>
                    <a:pt x="24" y="22"/>
                    <a:pt x="22" y="21"/>
                    <a:pt x="22" y="21"/>
                  </a:cubicBezTo>
                  <a:cubicBezTo>
                    <a:pt x="22" y="21"/>
                    <a:pt x="17" y="23"/>
                    <a:pt x="13" y="19"/>
                  </a:cubicBezTo>
                  <a:cubicBezTo>
                    <a:pt x="9" y="1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82"/>
            <p:cNvSpPr/>
            <p:nvPr/>
          </p:nvSpPr>
          <p:spPr>
            <a:xfrm>
              <a:off x="1274760" y="4200480"/>
              <a:ext cx="65160" cy="525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5" y="3"/>
                  </a:moveTo>
                  <a:cubicBezTo>
                    <a:pt x="8" y="5"/>
                    <a:pt x="12" y="3"/>
                    <a:pt x="12" y="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83"/>
            <p:cNvSpPr/>
            <p:nvPr/>
          </p:nvSpPr>
          <p:spPr>
            <a:xfrm>
              <a:off x="1357200" y="444672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2" y="12"/>
                  </a:moveTo>
                  <a:lnTo>
                    <a:pt x="48" y="26"/>
                  </a:lnTo>
                  <a:lnTo>
                    <a:pt x="48" y="41"/>
                  </a:lnTo>
                  <a:lnTo>
                    <a:pt x="22" y="36"/>
                  </a:lnTo>
                  <a:lnTo>
                    <a:pt x="0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84"/>
            <p:cNvSpPr/>
            <p:nvPr/>
          </p:nvSpPr>
          <p:spPr>
            <a:xfrm>
              <a:off x="1414440" y="4672080"/>
              <a:ext cx="90360" cy="572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" y="0"/>
                  </a:moveTo>
                  <a:lnTo>
                    <a:pt x="7" y="10"/>
                  </a:lnTo>
                  <a:lnTo>
                    <a:pt x="57" y="26"/>
                  </a:lnTo>
                  <a:lnTo>
                    <a:pt x="57" y="36"/>
                  </a:lnTo>
                  <a:lnTo>
                    <a:pt x="0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5"/>
            <p:cNvSpPr/>
            <p:nvPr/>
          </p:nvSpPr>
          <p:spPr>
            <a:xfrm>
              <a:off x="1309680" y="4630680"/>
              <a:ext cx="25560" cy="38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3" y="4"/>
                    <a:pt x="7" y="9"/>
                    <a:pt x="7" y="9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6"/>
            <p:cNvSpPr/>
            <p:nvPr/>
          </p:nvSpPr>
          <p:spPr>
            <a:xfrm>
              <a:off x="1114560" y="4484520"/>
              <a:ext cx="5544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2" y="0"/>
                  </a:moveTo>
                  <a:lnTo>
                    <a:pt x="7" y="12"/>
                  </a:lnTo>
                  <a:lnTo>
                    <a:pt x="21" y="19"/>
                  </a:lnTo>
                  <a:lnTo>
                    <a:pt x="35" y="43"/>
                  </a:lnTo>
                  <a:lnTo>
                    <a:pt x="33" y="61"/>
                  </a:lnTo>
                  <a:lnTo>
                    <a:pt x="16" y="50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7"/>
            <p:cNvSpPr/>
            <p:nvPr/>
          </p:nvSpPr>
          <p:spPr>
            <a:xfrm>
              <a:off x="1031760" y="4533840"/>
              <a:ext cx="41400" cy="745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8"/>
                  </a:moveTo>
                  <a:cubicBezTo>
                    <a:pt x="2" y="9"/>
                    <a:pt x="6" y="15"/>
                    <a:pt x="6" y="1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88"/>
            <p:cNvSpPr/>
            <p:nvPr/>
          </p:nvSpPr>
          <p:spPr>
            <a:xfrm>
              <a:off x="1136520" y="4646520"/>
              <a:ext cx="446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cubicBezTo>
                    <a:pt x="8" y="3"/>
                    <a:pt x="12" y="6"/>
                    <a:pt x="12" y="6"/>
                  </a:cubicBezTo>
                  <a:cubicBezTo>
                    <a:pt x="7" y="10"/>
                    <a:pt x="7" y="10"/>
                    <a:pt x="7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9"/>
            <p:cNvSpPr/>
            <p:nvPr/>
          </p:nvSpPr>
          <p:spPr>
            <a:xfrm>
              <a:off x="1122480" y="4721400"/>
              <a:ext cx="6660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" y="0"/>
                  </a:moveTo>
                  <a:lnTo>
                    <a:pt x="4" y="7"/>
                  </a:lnTo>
                  <a:lnTo>
                    <a:pt x="42" y="31"/>
                  </a:lnTo>
                  <a:lnTo>
                    <a:pt x="26" y="3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90"/>
            <p:cNvSpPr/>
            <p:nvPr/>
          </p:nvSpPr>
          <p:spPr>
            <a:xfrm>
              <a:off x="971640" y="471024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0"/>
                  </a:moveTo>
                  <a:lnTo>
                    <a:pt x="10" y="1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91"/>
            <p:cNvSpPr/>
            <p:nvPr/>
          </p:nvSpPr>
          <p:spPr>
            <a:xfrm>
              <a:off x="1128600" y="48974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7" y="9"/>
                  </a:moveTo>
                  <a:lnTo>
                    <a:pt x="26" y="19"/>
                  </a:lnTo>
                  <a:lnTo>
                    <a:pt x="17" y="21"/>
                  </a:lnTo>
                  <a:lnTo>
                    <a:pt x="0" y="9"/>
                  </a:lnTo>
                  <a:lnTo>
                    <a:pt x="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92"/>
            <p:cNvSpPr/>
            <p:nvPr/>
          </p:nvSpPr>
          <p:spPr>
            <a:xfrm>
              <a:off x="1103400" y="483696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" y="0"/>
                  </a:moveTo>
                  <a:lnTo>
                    <a:pt x="5" y="10"/>
                  </a:lnTo>
                  <a:lnTo>
                    <a:pt x="28" y="14"/>
                  </a:lnTo>
                  <a:lnTo>
                    <a:pt x="33" y="2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3"/>
            <p:cNvSpPr/>
            <p:nvPr/>
          </p:nvSpPr>
          <p:spPr>
            <a:xfrm>
              <a:off x="1062000" y="4770360"/>
              <a:ext cx="25560" cy="47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9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0" y="10"/>
                    <a:pt x="0" y="10"/>
                  </a:cubicBezTo>
                  <a:cubicBezTo>
                    <a:pt x="0" y="10"/>
                    <a:pt x="3" y="0"/>
                    <a:pt x="3" y="0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94"/>
            <p:cNvSpPr/>
            <p:nvPr/>
          </p:nvSpPr>
          <p:spPr>
            <a:xfrm>
              <a:off x="1081080" y="4294080"/>
              <a:ext cx="63360" cy="478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1" y="9"/>
                  </a:moveTo>
                  <a:lnTo>
                    <a:pt x="28" y="23"/>
                  </a:lnTo>
                  <a:lnTo>
                    <a:pt x="40" y="23"/>
                  </a:lnTo>
                  <a:lnTo>
                    <a:pt x="28" y="30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5"/>
            <p:cNvSpPr/>
            <p:nvPr/>
          </p:nvSpPr>
          <p:spPr>
            <a:xfrm>
              <a:off x="1035000" y="4184640"/>
              <a:ext cx="76320" cy="60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5"/>
                    <a:pt x="19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6"/>
            <p:cNvSpPr/>
            <p:nvPr/>
          </p:nvSpPr>
          <p:spPr>
            <a:xfrm>
              <a:off x="1009800" y="429408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9" y="0"/>
                  </a:moveTo>
                  <a:lnTo>
                    <a:pt x="19" y="28"/>
                  </a:lnTo>
                  <a:lnTo>
                    <a:pt x="0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264"/>
          <p:cNvSpPr/>
          <p:nvPr/>
        </p:nvSpPr>
        <p:spPr>
          <a:xfrm>
            <a:off x="3000240" y="2100240"/>
            <a:ext cx="1852920" cy="1341360"/>
          </a:xfrm>
          <a:custGeom>
            <a:avLst/>
            <a:gdLst/>
            <a:ahLst/>
            <a:rect l="l" t="t" r="r" b="b"/>
            <a:pathLst>
              <a:path w="494" h="358">
                <a:moveTo>
                  <a:pt x="285" y="305"/>
                </a:moveTo>
                <a:cubicBezTo>
                  <a:pt x="285" y="305"/>
                  <a:pt x="284" y="305"/>
                  <a:pt x="284" y="305"/>
                </a:cubicBezTo>
                <a:cubicBezTo>
                  <a:pt x="284" y="305"/>
                  <a:pt x="284" y="305"/>
                  <a:pt x="284" y="305"/>
                </a:cubicBezTo>
                <a:cubicBezTo>
                  <a:pt x="277" y="303"/>
                  <a:pt x="272" y="305"/>
                  <a:pt x="268" y="308"/>
                </a:cubicBezTo>
                <a:cubicBezTo>
                  <a:pt x="263" y="311"/>
                  <a:pt x="260" y="316"/>
                  <a:pt x="260" y="316"/>
                </a:cubicBezTo>
                <a:cubicBezTo>
                  <a:pt x="261" y="341"/>
                  <a:pt x="261" y="341"/>
                  <a:pt x="261" y="341"/>
                </a:cubicBezTo>
                <a:cubicBezTo>
                  <a:pt x="261" y="353"/>
                  <a:pt x="261" y="353"/>
                  <a:pt x="261" y="353"/>
                </a:cubicBezTo>
                <a:cubicBezTo>
                  <a:pt x="263" y="352"/>
                  <a:pt x="263" y="352"/>
                  <a:pt x="263" y="352"/>
                </a:cubicBezTo>
                <a:cubicBezTo>
                  <a:pt x="283" y="358"/>
                  <a:pt x="299" y="352"/>
                  <a:pt x="299" y="352"/>
                </a:cubicBezTo>
                <a:cubicBezTo>
                  <a:pt x="300" y="317"/>
                  <a:pt x="300" y="317"/>
                  <a:pt x="300" y="317"/>
                </a:cubicBezTo>
                <a:cubicBezTo>
                  <a:pt x="294" y="310"/>
                  <a:pt x="290" y="307"/>
                  <a:pt x="285" y="305"/>
                </a:cubicBezTo>
                <a:close/>
                <a:moveTo>
                  <a:pt x="216" y="8"/>
                </a:moveTo>
                <a:cubicBezTo>
                  <a:pt x="216" y="22"/>
                  <a:pt x="216" y="22"/>
                  <a:pt x="216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7" y="3"/>
                  <a:pt x="227" y="3"/>
                  <a:pt x="227" y="3"/>
                </a:cubicBezTo>
                <a:lnTo>
                  <a:pt x="216" y="8"/>
                </a:lnTo>
                <a:close/>
                <a:moveTo>
                  <a:pt x="230" y="3"/>
                </a:moveTo>
                <a:cubicBezTo>
                  <a:pt x="231" y="16"/>
                  <a:pt x="231" y="16"/>
                  <a:pt x="231" y="16"/>
                </a:cubicBezTo>
                <a:cubicBezTo>
                  <a:pt x="243" y="11"/>
                  <a:pt x="243" y="11"/>
                  <a:pt x="243" y="11"/>
                </a:cubicBezTo>
                <a:cubicBezTo>
                  <a:pt x="243" y="0"/>
                  <a:pt x="243" y="0"/>
                  <a:pt x="243" y="0"/>
                </a:cubicBezTo>
                <a:lnTo>
                  <a:pt x="230" y="3"/>
                </a:lnTo>
                <a:close/>
                <a:moveTo>
                  <a:pt x="271" y="12"/>
                </a:moveTo>
                <a:cubicBezTo>
                  <a:pt x="260" y="9"/>
                  <a:pt x="260" y="9"/>
                  <a:pt x="260" y="9"/>
                </a:cubicBezTo>
                <a:cubicBezTo>
                  <a:pt x="260" y="10"/>
                  <a:pt x="260" y="10"/>
                  <a:pt x="260" y="10"/>
                </a:cubicBezTo>
                <a:cubicBezTo>
                  <a:pt x="260" y="22"/>
                  <a:pt x="260" y="22"/>
                  <a:pt x="260" y="22"/>
                </a:cubicBezTo>
                <a:cubicBezTo>
                  <a:pt x="270" y="25"/>
                  <a:pt x="270" y="25"/>
                  <a:pt x="270" y="25"/>
                </a:cubicBezTo>
                <a:lnTo>
                  <a:pt x="271" y="12"/>
                </a:lnTo>
                <a:close/>
                <a:moveTo>
                  <a:pt x="296" y="141"/>
                </a:moveTo>
                <a:cubicBezTo>
                  <a:pt x="305" y="146"/>
                  <a:pt x="305" y="146"/>
                  <a:pt x="305" y="146"/>
                </a:cubicBezTo>
                <a:cubicBezTo>
                  <a:pt x="309" y="133"/>
                  <a:pt x="309" y="133"/>
                  <a:pt x="309" y="133"/>
                </a:cubicBezTo>
                <a:cubicBezTo>
                  <a:pt x="297" y="127"/>
                  <a:pt x="297" y="127"/>
                  <a:pt x="297" y="127"/>
                </a:cubicBezTo>
                <a:lnTo>
                  <a:pt x="296" y="141"/>
                </a:lnTo>
                <a:close/>
                <a:moveTo>
                  <a:pt x="316" y="150"/>
                </a:moveTo>
                <a:cubicBezTo>
                  <a:pt x="327" y="154"/>
                  <a:pt x="327" y="154"/>
                  <a:pt x="327" y="154"/>
                </a:cubicBezTo>
                <a:cubicBezTo>
                  <a:pt x="329" y="142"/>
                  <a:pt x="329" y="142"/>
                  <a:pt x="329" y="142"/>
                </a:cubicBezTo>
                <a:cubicBezTo>
                  <a:pt x="316" y="137"/>
                  <a:pt x="316" y="137"/>
                  <a:pt x="316" y="137"/>
                </a:cubicBezTo>
                <a:lnTo>
                  <a:pt x="316" y="150"/>
                </a:lnTo>
                <a:close/>
                <a:moveTo>
                  <a:pt x="348" y="106"/>
                </a:moveTo>
                <a:cubicBezTo>
                  <a:pt x="336" y="107"/>
                  <a:pt x="336" y="107"/>
                  <a:pt x="336" y="107"/>
                </a:cubicBezTo>
                <a:cubicBezTo>
                  <a:pt x="338" y="118"/>
                  <a:pt x="338" y="118"/>
                  <a:pt x="338" y="118"/>
                </a:cubicBezTo>
                <a:cubicBezTo>
                  <a:pt x="348" y="117"/>
                  <a:pt x="348" y="117"/>
                  <a:pt x="348" y="117"/>
                </a:cubicBezTo>
                <a:lnTo>
                  <a:pt x="348" y="106"/>
                </a:lnTo>
                <a:close/>
                <a:moveTo>
                  <a:pt x="365" y="116"/>
                </a:moveTo>
                <a:cubicBezTo>
                  <a:pt x="366" y="105"/>
                  <a:pt x="366" y="105"/>
                  <a:pt x="366" y="105"/>
                </a:cubicBezTo>
                <a:cubicBezTo>
                  <a:pt x="355" y="104"/>
                  <a:pt x="355" y="104"/>
                  <a:pt x="355" y="104"/>
                </a:cubicBezTo>
                <a:cubicBezTo>
                  <a:pt x="355" y="115"/>
                  <a:pt x="355" y="115"/>
                  <a:pt x="355" y="115"/>
                </a:cubicBezTo>
                <a:lnTo>
                  <a:pt x="365" y="116"/>
                </a:lnTo>
                <a:close/>
                <a:moveTo>
                  <a:pt x="400" y="120"/>
                </a:moveTo>
                <a:cubicBezTo>
                  <a:pt x="389" y="117"/>
                  <a:pt x="389" y="117"/>
                  <a:pt x="389" y="117"/>
                </a:cubicBezTo>
                <a:cubicBezTo>
                  <a:pt x="387" y="129"/>
                  <a:pt x="387" y="129"/>
                  <a:pt x="387" y="129"/>
                </a:cubicBezTo>
                <a:cubicBezTo>
                  <a:pt x="399" y="131"/>
                  <a:pt x="399" y="131"/>
                  <a:pt x="399" y="131"/>
                </a:cubicBezTo>
                <a:lnTo>
                  <a:pt x="400" y="120"/>
                </a:lnTo>
                <a:close/>
                <a:moveTo>
                  <a:pt x="424" y="151"/>
                </a:moveTo>
                <a:cubicBezTo>
                  <a:pt x="425" y="137"/>
                  <a:pt x="425" y="137"/>
                  <a:pt x="425" y="137"/>
                </a:cubicBezTo>
                <a:cubicBezTo>
                  <a:pt x="414" y="133"/>
                  <a:pt x="414" y="133"/>
                  <a:pt x="414" y="133"/>
                </a:cubicBezTo>
                <a:cubicBezTo>
                  <a:pt x="414" y="144"/>
                  <a:pt x="414" y="144"/>
                  <a:pt x="414" y="144"/>
                </a:cubicBezTo>
                <a:lnTo>
                  <a:pt x="424" y="151"/>
                </a:lnTo>
                <a:close/>
                <a:moveTo>
                  <a:pt x="399" y="154"/>
                </a:moveTo>
                <a:cubicBezTo>
                  <a:pt x="387" y="151"/>
                  <a:pt x="387" y="151"/>
                  <a:pt x="387" y="151"/>
                </a:cubicBezTo>
                <a:cubicBezTo>
                  <a:pt x="387" y="163"/>
                  <a:pt x="387" y="163"/>
                  <a:pt x="387" y="163"/>
                </a:cubicBezTo>
                <a:cubicBezTo>
                  <a:pt x="397" y="167"/>
                  <a:pt x="397" y="167"/>
                  <a:pt x="397" y="167"/>
                </a:cubicBezTo>
                <a:lnTo>
                  <a:pt x="399" y="154"/>
                </a:lnTo>
                <a:close/>
                <a:moveTo>
                  <a:pt x="365" y="160"/>
                </a:moveTo>
                <a:cubicBezTo>
                  <a:pt x="355" y="162"/>
                  <a:pt x="355" y="162"/>
                  <a:pt x="355" y="162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67" y="174"/>
                  <a:pt x="367" y="174"/>
                  <a:pt x="367" y="174"/>
                </a:cubicBezTo>
                <a:lnTo>
                  <a:pt x="365" y="160"/>
                </a:lnTo>
                <a:close/>
                <a:moveTo>
                  <a:pt x="339" y="165"/>
                </a:moveTo>
                <a:cubicBezTo>
                  <a:pt x="341" y="176"/>
                  <a:pt x="341" y="176"/>
                  <a:pt x="341" y="176"/>
                </a:cubicBezTo>
                <a:cubicBezTo>
                  <a:pt x="350" y="177"/>
                  <a:pt x="350" y="177"/>
                  <a:pt x="350" y="177"/>
                </a:cubicBezTo>
                <a:cubicBezTo>
                  <a:pt x="350" y="164"/>
                  <a:pt x="350" y="164"/>
                  <a:pt x="350" y="164"/>
                </a:cubicBezTo>
                <a:lnTo>
                  <a:pt x="339" y="165"/>
                </a:lnTo>
                <a:close/>
                <a:moveTo>
                  <a:pt x="263" y="191"/>
                </a:moveTo>
                <a:cubicBezTo>
                  <a:pt x="248" y="193"/>
                  <a:pt x="248" y="193"/>
                  <a:pt x="248" y="193"/>
                </a:cubicBezTo>
                <a:cubicBezTo>
                  <a:pt x="252" y="206"/>
                  <a:pt x="252" y="206"/>
                  <a:pt x="252" y="206"/>
                </a:cubicBezTo>
                <a:cubicBezTo>
                  <a:pt x="262" y="205"/>
                  <a:pt x="262" y="205"/>
                  <a:pt x="262" y="205"/>
                </a:cubicBezTo>
                <a:lnTo>
                  <a:pt x="263" y="191"/>
                </a:lnTo>
                <a:close/>
                <a:moveTo>
                  <a:pt x="400" y="173"/>
                </a:moveTo>
                <a:cubicBezTo>
                  <a:pt x="388" y="170"/>
                  <a:pt x="388" y="170"/>
                  <a:pt x="388" y="170"/>
                </a:cubicBezTo>
                <a:cubicBezTo>
                  <a:pt x="387" y="185"/>
                  <a:pt x="387" y="185"/>
                  <a:pt x="387" y="185"/>
                </a:cubicBezTo>
                <a:cubicBezTo>
                  <a:pt x="401" y="186"/>
                  <a:pt x="401" y="186"/>
                  <a:pt x="401" y="186"/>
                </a:cubicBezTo>
                <a:lnTo>
                  <a:pt x="400" y="173"/>
                </a:lnTo>
                <a:close/>
                <a:moveTo>
                  <a:pt x="425" y="166"/>
                </a:moveTo>
                <a:cubicBezTo>
                  <a:pt x="414" y="163"/>
                  <a:pt x="414" y="163"/>
                  <a:pt x="414" y="163"/>
                </a:cubicBezTo>
                <a:cubicBezTo>
                  <a:pt x="412" y="174"/>
                  <a:pt x="412" y="174"/>
                  <a:pt x="412" y="174"/>
                </a:cubicBezTo>
                <a:cubicBezTo>
                  <a:pt x="425" y="178"/>
                  <a:pt x="425" y="178"/>
                  <a:pt x="425" y="178"/>
                </a:cubicBezTo>
                <a:lnTo>
                  <a:pt x="425" y="166"/>
                </a:lnTo>
                <a:close/>
                <a:moveTo>
                  <a:pt x="414" y="192"/>
                </a:moveTo>
                <a:cubicBezTo>
                  <a:pt x="426" y="194"/>
                  <a:pt x="426" y="194"/>
                  <a:pt x="426" y="194"/>
                </a:cubicBezTo>
                <a:cubicBezTo>
                  <a:pt x="426" y="182"/>
                  <a:pt x="426" y="182"/>
                  <a:pt x="426" y="182"/>
                </a:cubicBezTo>
                <a:cubicBezTo>
                  <a:pt x="413" y="181"/>
                  <a:pt x="413" y="181"/>
                  <a:pt x="413" y="181"/>
                </a:cubicBezTo>
                <a:lnTo>
                  <a:pt x="414" y="192"/>
                </a:lnTo>
                <a:close/>
                <a:moveTo>
                  <a:pt x="402" y="226"/>
                </a:moveTo>
                <a:cubicBezTo>
                  <a:pt x="391" y="223"/>
                  <a:pt x="391" y="223"/>
                  <a:pt x="391" y="223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400" y="236"/>
                  <a:pt x="400" y="236"/>
                  <a:pt x="400" y="236"/>
                </a:cubicBezTo>
                <a:lnTo>
                  <a:pt x="402" y="226"/>
                </a:lnTo>
                <a:close/>
                <a:moveTo>
                  <a:pt x="424" y="235"/>
                </a:moveTo>
                <a:cubicBezTo>
                  <a:pt x="414" y="233"/>
                  <a:pt x="414" y="233"/>
                  <a:pt x="414" y="233"/>
                </a:cubicBezTo>
                <a:cubicBezTo>
                  <a:pt x="412" y="244"/>
                  <a:pt x="412" y="244"/>
                  <a:pt x="412" y="244"/>
                </a:cubicBezTo>
                <a:cubicBezTo>
                  <a:pt x="423" y="247"/>
                  <a:pt x="423" y="247"/>
                  <a:pt x="423" y="247"/>
                </a:cubicBezTo>
                <a:lnTo>
                  <a:pt x="424" y="235"/>
                </a:lnTo>
                <a:close/>
                <a:moveTo>
                  <a:pt x="392" y="279"/>
                </a:moveTo>
                <a:cubicBezTo>
                  <a:pt x="402" y="281"/>
                  <a:pt x="402" y="281"/>
                  <a:pt x="402" y="281"/>
                </a:cubicBezTo>
                <a:cubicBezTo>
                  <a:pt x="404" y="271"/>
                  <a:pt x="404" y="271"/>
                  <a:pt x="404" y="271"/>
                </a:cubicBezTo>
                <a:cubicBezTo>
                  <a:pt x="394" y="268"/>
                  <a:pt x="394" y="268"/>
                  <a:pt x="394" y="268"/>
                </a:cubicBezTo>
                <a:lnTo>
                  <a:pt x="392" y="279"/>
                </a:lnTo>
                <a:close/>
                <a:moveTo>
                  <a:pt x="414" y="287"/>
                </a:moveTo>
                <a:cubicBezTo>
                  <a:pt x="424" y="291"/>
                  <a:pt x="424" y="291"/>
                  <a:pt x="424" y="291"/>
                </a:cubicBezTo>
                <a:cubicBezTo>
                  <a:pt x="428" y="281"/>
                  <a:pt x="428" y="281"/>
                  <a:pt x="428" y="281"/>
                </a:cubicBezTo>
                <a:cubicBezTo>
                  <a:pt x="416" y="277"/>
                  <a:pt x="416" y="277"/>
                  <a:pt x="416" y="277"/>
                </a:cubicBezTo>
                <a:lnTo>
                  <a:pt x="414" y="287"/>
                </a:lnTo>
                <a:close/>
                <a:moveTo>
                  <a:pt x="406" y="306"/>
                </a:moveTo>
                <a:cubicBezTo>
                  <a:pt x="406" y="318"/>
                  <a:pt x="406" y="318"/>
                  <a:pt x="406" y="318"/>
                </a:cubicBezTo>
                <a:cubicBezTo>
                  <a:pt x="419" y="318"/>
                  <a:pt x="419" y="318"/>
                  <a:pt x="419" y="318"/>
                </a:cubicBezTo>
                <a:cubicBezTo>
                  <a:pt x="418" y="307"/>
                  <a:pt x="418" y="307"/>
                  <a:pt x="418" y="307"/>
                </a:cubicBezTo>
                <a:lnTo>
                  <a:pt x="406" y="306"/>
                </a:lnTo>
                <a:close/>
                <a:moveTo>
                  <a:pt x="357" y="307"/>
                </a:moveTo>
                <a:cubicBezTo>
                  <a:pt x="369" y="309"/>
                  <a:pt x="369" y="309"/>
                  <a:pt x="369" y="309"/>
                </a:cubicBezTo>
                <a:cubicBezTo>
                  <a:pt x="369" y="297"/>
                  <a:pt x="369" y="297"/>
                  <a:pt x="369" y="297"/>
                </a:cubicBezTo>
                <a:cubicBezTo>
                  <a:pt x="358" y="297"/>
                  <a:pt x="358" y="297"/>
                  <a:pt x="358" y="297"/>
                </a:cubicBezTo>
                <a:lnTo>
                  <a:pt x="357" y="307"/>
                </a:lnTo>
                <a:close/>
                <a:moveTo>
                  <a:pt x="472" y="336"/>
                </a:moveTo>
                <a:cubicBezTo>
                  <a:pt x="484" y="336"/>
                  <a:pt x="484" y="336"/>
                  <a:pt x="484" y="336"/>
                </a:cubicBezTo>
                <a:cubicBezTo>
                  <a:pt x="485" y="326"/>
                  <a:pt x="485" y="326"/>
                  <a:pt x="485" y="326"/>
                </a:cubicBezTo>
                <a:cubicBezTo>
                  <a:pt x="473" y="326"/>
                  <a:pt x="473" y="326"/>
                  <a:pt x="473" y="326"/>
                </a:cubicBezTo>
                <a:lnTo>
                  <a:pt x="472" y="336"/>
                </a:lnTo>
                <a:close/>
                <a:moveTo>
                  <a:pt x="475" y="231"/>
                </a:moveTo>
                <a:cubicBezTo>
                  <a:pt x="465" y="229"/>
                  <a:pt x="465" y="229"/>
                  <a:pt x="465" y="229"/>
                </a:cubicBezTo>
                <a:cubicBezTo>
                  <a:pt x="463" y="239"/>
                  <a:pt x="463" y="239"/>
                  <a:pt x="463" y="239"/>
                </a:cubicBezTo>
                <a:cubicBezTo>
                  <a:pt x="476" y="244"/>
                  <a:pt x="476" y="244"/>
                  <a:pt x="476" y="244"/>
                </a:cubicBezTo>
                <a:lnTo>
                  <a:pt x="475" y="231"/>
                </a:lnTo>
                <a:close/>
                <a:moveTo>
                  <a:pt x="481" y="247"/>
                </a:moveTo>
                <a:cubicBezTo>
                  <a:pt x="492" y="249"/>
                  <a:pt x="492" y="249"/>
                  <a:pt x="492" y="249"/>
                </a:cubicBezTo>
                <a:cubicBezTo>
                  <a:pt x="493" y="237"/>
                  <a:pt x="493" y="237"/>
                  <a:pt x="493" y="237"/>
                </a:cubicBezTo>
                <a:cubicBezTo>
                  <a:pt x="480" y="235"/>
                  <a:pt x="480" y="235"/>
                  <a:pt x="480" y="235"/>
                </a:cubicBezTo>
                <a:lnTo>
                  <a:pt x="481" y="247"/>
                </a:lnTo>
                <a:close/>
                <a:moveTo>
                  <a:pt x="480" y="212"/>
                </a:moveTo>
                <a:cubicBezTo>
                  <a:pt x="493" y="216"/>
                  <a:pt x="493" y="216"/>
                  <a:pt x="493" y="216"/>
                </a:cubicBezTo>
                <a:cubicBezTo>
                  <a:pt x="494" y="206"/>
                  <a:pt x="494" y="206"/>
                  <a:pt x="494" y="206"/>
                </a:cubicBezTo>
                <a:cubicBezTo>
                  <a:pt x="481" y="203"/>
                  <a:pt x="481" y="203"/>
                  <a:pt x="481" y="203"/>
                </a:cubicBezTo>
                <a:lnTo>
                  <a:pt x="480" y="212"/>
                </a:lnTo>
                <a:close/>
                <a:moveTo>
                  <a:pt x="473" y="197"/>
                </a:moveTo>
                <a:cubicBezTo>
                  <a:pt x="463" y="193"/>
                  <a:pt x="463" y="193"/>
                  <a:pt x="463" y="193"/>
                </a:cubicBezTo>
                <a:cubicBezTo>
                  <a:pt x="462" y="205"/>
                  <a:pt x="462" y="205"/>
                  <a:pt x="462" y="205"/>
                </a:cubicBezTo>
                <a:cubicBezTo>
                  <a:pt x="473" y="208"/>
                  <a:pt x="473" y="208"/>
                  <a:pt x="473" y="208"/>
                </a:cubicBezTo>
                <a:lnTo>
                  <a:pt x="473" y="197"/>
                </a:lnTo>
                <a:close/>
                <a:moveTo>
                  <a:pt x="185" y="215"/>
                </a:moveTo>
                <a:cubicBezTo>
                  <a:pt x="196" y="215"/>
                  <a:pt x="196" y="215"/>
                  <a:pt x="196" y="215"/>
                </a:cubicBezTo>
                <a:cubicBezTo>
                  <a:pt x="196" y="204"/>
                  <a:pt x="196" y="204"/>
                  <a:pt x="196" y="204"/>
                </a:cubicBezTo>
                <a:cubicBezTo>
                  <a:pt x="185" y="203"/>
                  <a:pt x="185" y="203"/>
                  <a:pt x="185" y="203"/>
                </a:cubicBezTo>
                <a:lnTo>
                  <a:pt x="185" y="215"/>
                </a:lnTo>
                <a:close/>
                <a:moveTo>
                  <a:pt x="169" y="207"/>
                </a:moveTo>
                <a:cubicBezTo>
                  <a:pt x="178" y="207"/>
                  <a:pt x="178" y="207"/>
                  <a:pt x="178" y="207"/>
                </a:cubicBezTo>
                <a:cubicBezTo>
                  <a:pt x="180" y="198"/>
                  <a:pt x="180" y="198"/>
                  <a:pt x="180" y="198"/>
                </a:cubicBezTo>
                <a:cubicBezTo>
                  <a:pt x="170" y="197"/>
                  <a:pt x="170" y="197"/>
                  <a:pt x="170" y="197"/>
                </a:cubicBezTo>
                <a:lnTo>
                  <a:pt x="169" y="207"/>
                </a:lnTo>
                <a:close/>
                <a:moveTo>
                  <a:pt x="147" y="207"/>
                </a:moveTo>
                <a:cubicBezTo>
                  <a:pt x="156" y="207"/>
                  <a:pt x="156" y="207"/>
                  <a:pt x="156" y="207"/>
                </a:cubicBezTo>
                <a:cubicBezTo>
                  <a:pt x="156" y="196"/>
                  <a:pt x="156" y="196"/>
                  <a:pt x="156" y="196"/>
                </a:cubicBezTo>
                <a:cubicBezTo>
                  <a:pt x="145" y="195"/>
                  <a:pt x="145" y="195"/>
                  <a:pt x="145" y="195"/>
                </a:cubicBezTo>
                <a:lnTo>
                  <a:pt x="147" y="207"/>
                </a:lnTo>
                <a:close/>
                <a:moveTo>
                  <a:pt x="131" y="197"/>
                </a:moveTo>
                <a:cubicBezTo>
                  <a:pt x="131" y="197"/>
                  <a:pt x="131" y="197"/>
                  <a:pt x="131" y="197"/>
                </a:cubicBezTo>
                <a:cubicBezTo>
                  <a:pt x="131" y="196"/>
                  <a:pt x="131" y="196"/>
                  <a:pt x="131" y="196"/>
                </a:cubicBezTo>
                <a:lnTo>
                  <a:pt x="131" y="197"/>
                </a:lnTo>
                <a:close/>
                <a:moveTo>
                  <a:pt x="131" y="197"/>
                </a:moveTo>
                <a:cubicBezTo>
                  <a:pt x="132" y="207"/>
                  <a:pt x="132" y="207"/>
                  <a:pt x="132" y="207"/>
                </a:cubicBezTo>
                <a:cubicBezTo>
                  <a:pt x="141" y="207"/>
                  <a:pt x="141" y="207"/>
                  <a:pt x="141" y="207"/>
                </a:cubicBezTo>
                <a:cubicBezTo>
                  <a:pt x="140" y="196"/>
                  <a:pt x="140" y="196"/>
                  <a:pt x="140" y="196"/>
                </a:cubicBezTo>
                <a:lnTo>
                  <a:pt x="131" y="197"/>
                </a:lnTo>
                <a:close/>
                <a:moveTo>
                  <a:pt x="119" y="198"/>
                </a:moveTo>
                <a:cubicBezTo>
                  <a:pt x="119" y="210"/>
                  <a:pt x="119" y="210"/>
                  <a:pt x="119" y="210"/>
                </a:cubicBezTo>
                <a:cubicBezTo>
                  <a:pt x="129" y="210"/>
                  <a:pt x="129" y="210"/>
                  <a:pt x="129" y="210"/>
                </a:cubicBezTo>
                <a:cubicBezTo>
                  <a:pt x="127" y="198"/>
                  <a:pt x="127" y="198"/>
                  <a:pt x="127" y="198"/>
                </a:cubicBezTo>
                <a:lnTo>
                  <a:pt x="119" y="198"/>
                </a:lnTo>
                <a:close/>
                <a:moveTo>
                  <a:pt x="107" y="213"/>
                </a:moveTo>
                <a:cubicBezTo>
                  <a:pt x="115" y="211"/>
                  <a:pt x="115" y="211"/>
                  <a:pt x="115" y="211"/>
                </a:cubicBezTo>
                <a:cubicBezTo>
                  <a:pt x="115" y="200"/>
                  <a:pt x="115" y="200"/>
                  <a:pt x="115" y="200"/>
                </a:cubicBezTo>
                <a:cubicBezTo>
                  <a:pt x="106" y="201"/>
                  <a:pt x="106" y="201"/>
                  <a:pt x="106" y="201"/>
                </a:cubicBezTo>
                <a:lnTo>
                  <a:pt x="107" y="213"/>
                </a:lnTo>
                <a:close/>
                <a:moveTo>
                  <a:pt x="103" y="201"/>
                </a:moveTo>
                <a:cubicBezTo>
                  <a:pt x="93" y="205"/>
                  <a:pt x="93" y="205"/>
                  <a:pt x="93" y="205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104" y="214"/>
                  <a:pt x="104" y="214"/>
                  <a:pt x="104" y="214"/>
                </a:cubicBezTo>
                <a:lnTo>
                  <a:pt x="103" y="201"/>
                </a:lnTo>
                <a:close/>
                <a:moveTo>
                  <a:pt x="97" y="309"/>
                </a:moveTo>
                <a:cubicBezTo>
                  <a:pt x="109" y="309"/>
                  <a:pt x="109" y="309"/>
                  <a:pt x="109" y="309"/>
                </a:cubicBezTo>
                <a:cubicBezTo>
                  <a:pt x="109" y="296"/>
                  <a:pt x="109" y="296"/>
                  <a:pt x="109" y="296"/>
                </a:cubicBezTo>
                <a:cubicBezTo>
                  <a:pt x="98" y="296"/>
                  <a:pt x="98" y="296"/>
                  <a:pt x="98" y="296"/>
                </a:cubicBezTo>
                <a:lnTo>
                  <a:pt x="97" y="309"/>
                </a:lnTo>
                <a:close/>
                <a:moveTo>
                  <a:pt x="46" y="331"/>
                </a:moveTo>
                <a:cubicBezTo>
                  <a:pt x="58" y="331"/>
                  <a:pt x="58" y="331"/>
                  <a:pt x="58" y="331"/>
                </a:cubicBezTo>
                <a:cubicBezTo>
                  <a:pt x="60" y="317"/>
                  <a:pt x="60" y="317"/>
                  <a:pt x="60" y="317"/>
                </a:cubicBezTo>
                <a:cubicBezTo>
                  <a:pt x="47" y="318"/>
                  <a:pt x="47" y="318"/>
                  <a:pt x="47" y="318"/>
                </a:cubicBezTo>
                <a:lnTo>
                  <a:pt x="46" y="331"/>
                </a:lnTo>
                <a:close/>
                <a:moveTo>
                  <a:pt x="0" y="338"/>
                </a:moveTo>
                <a:cubicBezTo>
                  <a:pt x="1" y="352"/>
                  <a:pt x="1" y="352"/>
                  <a:pt x="1" y="352"/>
                </a:cubicBezTo>
                <a:cubicBezTo>
                  <a:pt x="14" y="351"/>
                  <a:pt x="14" y="351"/>
                  <a:pt x="14" y="351"/>
                </a:cubicBezTo>
                <a:cubicBezTo>
                  <a:pt x="13" y="338"/>
                  <a:pt x="13" y="338"/>
                  <a:pt x="13" y="338"/>
                </a:cubicBezTo>
                <a:lnTo>
                  <a:pt x="0" y="33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17"/>
          <p:cNvGrpSpPr/>
          <p:nvPr/>
        </p:nvGrpSpPr>
        <p:grpSpPr>
          <a:xfrm>
            <a:off x="3956040" y="3105000"/>
            <a:ext cx="184320" cy="209520"/>
            <a:chOff x="3956040" y="3105000"/>
            <a:chExt cx="184320" cy="209520"/>
          </a:xfrm>
        </p:grpSpPr>
        <p:grpSp>
          <p:nvGrpSpPr>
            <p:cNvPr id="138" name=""/>
            <p:cNvGrpSpPr/>
            <p:nvPr/>
          </p:nvGrpSpPr>
          <p:grpSpPr>
            <a:xfrm>
              <a:off x="3985920" y="3105000"/>
              <a:ext cx="360" cy="209520"/>
              <a:chOff x="3985920" y="3105000"/>
              <a:chExt cx="360" cy="209520"/>
            </a:xfrm>
          </p:grpSpPr>
          <p:sp>
            <p:nvSpPr>
              <p:cNvPr id="139" name="Line 306"/>
              <p:cNvSpPr/>
              <p:nvPr/>
            </p:nvSpPr>
            <p:spPr>
              <a:xfrm flipV="1">
                <a:off x="3986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 rot="10800000">
                <a:off x="3985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012920" y="3105000"/>
              <a:ext cx="360" cy="209520"/>
              <a:chOff x="4012920" y="3105000"/>
              <a:chExt cx="360" cy="209520"/>
            </a:xfrm>
          </p:grpSpPr>
          <p:sp>
            <p:nvSpPr>
              <p:cNvPr id="142" name="Line 307"/>
              <p:cNvSpPr/>
              <p:nvPr/>
            </p:nvSpPr>
            <p:spPr>
              <a:xfrm flipV="1">
                <a:off x="4013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 rot="10800000">
                <a:off x="4012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038120" y="3105000"/>
              <a:ext cx="360" cy="209520"/>
              <a:chOff x="4038120" y="3105000"/>
              <a:chExt cx="360" cy="209520"/>
            </a:xfrm>
          </p:grpSpPr>
          <p:sp>
            <p:nvSpPr>
              <p:cNvPr id="145" name="Line 308"/>
              <p:cNvSpPr/>
              <p:nvPr/>
            </p:nvSpPr>
            <p:spPr>
              <a:xfrm flipV="1">
                <a:off x="4038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 rot="10800000">
                <a:off x="4038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65120" y="3105000"/>
              <a:ext cx="360" cy="209520"/>
              <a:chOff x="4065120" y="3105000"/>
              <a:chExt cx="360" cy="209520"/>
            </a:xfrm>
          </p:grpSpPr>
          <p:sp>
            <p:nvSpPr>
              <p:cNvPr id="148" name="Line 309"/>
              <p:cNvSpPr/>
              <p:nvPr/>
            </p:nvSpPr>
            <p:spPr>
              <a:xfrm flipV="1">
                <a:off x="4065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 rot="10800000">
                <a:off x="4065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087440" y="3105000"/>
              <a:ext cx="360" cy="209520"/>
              <a:chOff x="4087440" y="3105000"/>
              <a:chExt cx="360" cy="209520"/>
            </a:xfrm>
          </p:grpSpPr>
          <p:sp>
            <p:nvSpPr>
              <p:cNvPr id="151" name="Line 310"/>
              <p:cNvSpPr/>
              <p:nvPr/>
            </p:nvSpPr>
            <p:spPr>
              <a:xfrm flipV="1">
                <a:off x="4087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 rot="10800000">
                <a:off x="4087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14440" y="3105000"/>
              <a:ext cx="360" cy="209520"/>
              <a:chOff x="4114440" y="3105000"/>
              <a:chExt cx="360" cy="209520"/>
            </a:xfrm>
          </p:grpSpPr>
          <p:sp>
            <p:nvSpPr>
              <p:cNvPr id="154" name="Line 311"/>
              <p:cNvSpPr/>
              <p:nvPr/>
            </p:nvSpPr>
            <p:spPr>
              <a:xfrm flipV="1">
                <a:off x="4114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 rot="10800000">
                <a:off x="4114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56040" y="3289320"/>
              <a:ext cx="184320" cy="360"/>
              <a:chOff x="3956040" y="3289320"/>
              <a:chExt cx="184320" cy="360"/>
            </a:xfrm>
          </p:grpSpPr>
          <p:sp>
            <p:nvSpPr>
              <p:cNvPr id="157" name="Line 312"/>
              <p:cNvSpPr/>
              <p:nvPr/>
            </p:nvSpPr>
            <p:spPr>
              <a:xfrm>
                <a:off x="3956040" y="3289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3956040" y="328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956040" y="3154320"/>
              <a:ext cx="184320" cy="360"/>
              <a:chOff x="3956040" y="3154320"/>
              <a:chExt cx="184320" cy="360"/>
            </a:xfrm>
          </p:grpSpPr>
          <p:sp>
            <p:nvSpPr>
              <p:cNvPr id="160" name="Line 313"/>
              <p:cNvSpPr/>
              <p:nvPr/>
            </p:nvSpPr>
            <p:spPr>
              <a:xfrm>
                <a:off x="3956040" y="3154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956040" y="3154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sw_haloween"/>
          <p:cNvPicPr/>
          <p:nvPr/>
        </p:nvPicPr>
        <p:blipFill>
          <a:blip r:embed="rId2">
            <a:lum bright="72000"/>
          </a:blip>
          <a:srcRect l="7720" t="2088" r="7723" b="2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2" descr="BG"/>
          <p:cNvPicPr/>
          <p:nvPr/>
        </p:nvPicPr>
        <p:blipFill>
          <a:blip r:embed="rId1"/>
          <a:stretch/>
        </p:blipFill>
        <p:spPr>
          <a:xfrm>
            <a:off x="0" y="-6480"/>
            <a:ext cx="9150480" cy="686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3" descr=""/>
          <p:cNvPicPr/>
          <p:nvPr/>
        </p:nvPicPr>
        <p:blipFill>
          <a:blip r:embed="rId2"/>
          <a:stretch/>
        </p:blipFill>
        <p:spPr>
          <a:xfrm>
            <a:off x="5040360" y="1008000"/>
            <a:ext cx="2025720" cy="20257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256"/>
          <p:cNvSpPr/>
          <p:nvPr/>
        </p:nvSpPr>
        <p:spPr>
          <a:xfrm>
            <a:off x="-817560" y="1893960"/>
            <a:ext cx="10807560" cy="5253120"/>
          </a:xfrm>
          <a:custGeom>
            <a:avLst/>
            <a:gdLst/>
            <a:ahLst/>
            <a:rect l="l" t="t" r="r" b="b"/>
            <a:pathLst>
              <a:path w="2882" h="1401">
                <a:moveTo>
                  <a:pt x="2873" y="622"/>
                </a:moveTo>
                <a:cubicBezTo>
                  <a:pt x="2873" y="622"/>
                  <a:pt x="2873" y="622"/>
                  <a:pt x="2873" y="622"/>
                </a:cubicBezTo>
                <a:cubicBezTo>
                  <a:pt x="2863" y="621"/>
                  <a:pt x="2851" y="621"/>
                  <a:pt x="2841" y="622"/>
                </a:cubicBezTo>
                <a:cubicBezTo>
                  <a:pt x="2809" y="623"/>
                  <a:pt x="2809" y="623"/>
                  <a:pt x="2809" y="623"/>
                </a:cubicBezTo>
                <a:cubicBezTo>
                  <a:pt x="2772" y="608"/>
                  <a:pt x="2772" y="608"/>
                  <a:pt x="2772" y="608"/>
                </a:cubicBezTo>
                <a:cubicBezTo>
                  <a:pt x="2760" y="605"/>
                  <a:pt x="2749" y="602"/>
                  <a:pt x="2739" y="599"/>
                </a:cubicBezTo>
                <a:cubicBezTo>
                  <a:pt x="2720" y="596"/>
                  <a:pt x="2689" y="592"/>
                  <a:pt x="2660" y="591"/>
                </a:cubicBezTo>
                <a:cubicBezTo>
                  <a:pt x="2650" y="592"/>
                  <a:pt x="2644" y="592"/>
                  <a:pt x="2641" y="592"/>
                </a:cubicBezTo>
                <a:cubicBezTo>
                  <a:pt x="2631" y="593"/>
                  <a:pt x="2569" y="604"/>
                  <a:pt x="2561" y="605"/>
                </a:cubicBezTo>
                <a:cubicBezTo>
                  <a:pt x="2546" y="611"/>
                  <a:pt x="2498" y="625"/>
                  <a:pt x="2467" y="641"/>
                </a:cubicBezTo>
                <a:cubicBezTo>
                  <a:pt x="2431" y="660"/>
                  <a:pt x="2404" y="680"/>
                  <a:pt x="2395" y="690"/>
                </a:cubicBezTo>
                <a:cubicBezTo>
                  <a:pt x="2386" y="699"/>
                  <a:pt x="2350" y="719"/>
                  <a:pt x="2237" y="768"/>
                </a:cubicBezTo>
                <a:cubicBezTo>
                  <a:pt x="2123" y="817"/>
                  <a:pt x="2066" y="791"/>
                  <a:pt x="2066" y="791"/>
                </a:cubicBezTo>
                <a:cubicBezTo>
                  <a:pt x="1814" y="686"/>
                  <a:pt x="1814" y="686"/>
                  <a:pt x="1814" y="686"/>
                </a:cubicBezTo>
                <a:cubicBezTo>
                  <a:pt x="1652" y="627"/>
                  <a:pt x="1643" y="545"/>
                  <a:pt x="1643" y="545"/>
                </a:cubicBezTo>
                <a:cubicBezTo>
                  <a:pt x="1643" y="538"/>
                  <a:pt x="1644" y="494"/>
                  <a:pt x="1638" y="462"/>
                </a:cubicBezTo>
                <a:cubicBezTo>
                  <a:pt x="1631" y="430"/>
                  <a:pt x="1548" y="391"/>
                  <a:pt x="1548" y="391"/>
                </a:cubicBezTo>
                <a:cubicBezTo>
                  <a:pt x="1547" y="372"/>
                  <a:pt x="1547" y="372"/>
                  <a:pt x="1547" y="372"/>
                </a:cubicBezTo>
                <a:cubicBezTo>
                  <a:pt x="1528" y="350"/>
                  <a:pt x="1528" y="350"/>
                  <a:pt x="1528" y="350"/>
                </a:cubicBezTo>
                <a:cubicBezTo>
                  <a:pt x="1535" y="326"/>
                  <a:pt x="1523" y="320"/>
                  <a:pt x="1523" y="320"/>
                </a:cubicBezTo>
                <a:cubicBezTo>
                  <a:pt x="1519" y="256"/>
                  <a:pt x="1519" y="256"/>
                  <a:pt x="1519" y="256"/>
                </a:cubicBezTo>
                <a:cubicBezTo>
                  <a:pt x="1493" y="210"/>
                  <a:pt x="1493" y="210"/>
                  <a:pt x="1493" y="210"/>
                </a:cubicBezTo>
                <a:cubicBezTo>
                  <a:pt x="1455" y="193"/>
                  <a:pt x="1455" y="193"/>
                  <a:pt x="1455" y="193"/>
                </a:cubicBezTo>
                <a:cubicBezTo>
                  <a:pt x="1454" y="177"/>
                  <a:pt x="1454" y="177"/>
                  <a:pt x="1454" y="177"/>
                </a:cubicBezTo>
                <a:cubicBezTo>
                  <a:pt x="1429" y="141"/>
                  <a:pt x="1429" y="141"/>
                  <a:pt x="1429" y="141"/>
                </a:cubicBezTo>
                <a:cubicBezTo>
                  <a:pt x="1370" y="100"/>
                  <a:pt x="1370" y="100"/>
                  <a:pt x="1370" y="100"/>
                </a:cubicBezTo>
                <a:cubicBezTo>
                  <a:pt x="1345" y="154"/>
                  <a:pt x="1345" y="154"/>
                  <a:pt x="1345" y="154"/>
                </a:cubicBezTo>
                <a:cubicBezTo>
                  <a:pt x="1302" y="122"/>
                  <a:pt x="1302" y="122"/>
                  <a:pt x="1302" y="122"/>
                </a:cubicBezTo>
                <a:cubicBezTo>
                  <a:pt x="1297" y="64"/>
                  <a:pt x="1297" y="64"/>
                  <a:pt x="1297" y="64"/>
                </a:cubicBezTo>
                <a:cubicBezTo>
                  <a:pt x="1288" y="57"/>
                  <a:pt x="1288" y="57"/>
                  <a:pt x="1288" y="57"/>
                </a:cubicBezTo>
                <a:cubicBezTo>
                  <a:pt x="1287" y="46"/>
                  <a:pt x="1287" y="46"/>
                  <a:pt x="1287" y="46"/>
                </a:cubicBezTo>
                <a:cubicBezTo>
                  <a:pt x="1276" y="44"/>
                  <a:pt x="1263" y="0"/>
                  <a:pt x="1263" y="0"/>
                </a:cubicBezTo>
                <a:cubicBezTo>
                  <a:pt x="1260" y="30"/>
                  <a:pt x="1234" y="43"/>
                  <a:pt x="1234" y="43"/>
                </a:cubicBezTo>
                <a:cubicBezTo>
                  <a:pt x="1234" y="56"/>
                  <a:pt x="1234" y="56"/>
                  <a:pt x="1234" y="56"/>
                </a:cubicBezTo>
                <a:cubicBezTo>
                  <a:pt x="1220" y="66"/>
                  <a:pt x="1220" y="66"/>
                  <a:pt x="1220" y="66"/>
                </a:cubicBezTo>
                <a:cubicBezTo>
                  <a:pt x="1211" y="201"/>
                  <a:pt x="1211" y="201"/>
                  <a:pt x="1211" y="201"/>
                </a:cubicBezTo>
                <a:cubicBezTo>
                  <a:pt x="1180" y="176"/>
                  <a:pt x="1180" y="176"/>
                  <a:pt x="1180" y="176"/>
                </a:cubicBezTo>
                <a:cubicBezTo>
                  <a:pt x="1161" y="135"/>
                  <a:pt x="1161" y="135"/>
                  <a:pt x="1161" y="135"/>
                </a:cubicBezTo>
                <a:cubicBezTo>
                  <a:pt x="1135" y="223"/>
                  <a:pt x="1135" y="223"/>
                  <a:pt x="1135" y="223"/>
                </a:cubicBezTo>
                <a:cubicBezTo>
                  <a:pt x="1122" y="223"/>
                  <a:pt x="1122" y="223"/>
                  <a:pt x="1122" y="223"/>
                </a:cubicBezTo>
                <a:cubicBezTo>
                  <a:pt x="1104" y="200"/>
                  <a:pt x="1104" y="200"/>
                  <a:pt x="1104" y="200"/>
                </a:cubicBezTo>
                <a:cubicBezTo>
                  <a:pt x="1088" y="230"/>
                  <a:pt x="1088" y="230"/>
                  <a:pt x="1088" y="230"/>
                </a:cubicBezTo>
                <a:cubicBezTo>
                  <a:pt x="1088" y="243"/>
                  <a:pt x="1088" y="243"/>
                  <a:pt x="1088" y="243"/>
                </a:cubicBezTo>
                <a:cubicBezTo>
                  <a:pt x="1080" y="251"/>
                  <a:pt x="1080" y="251"/>
                  <a:pt x="1080" y="251"/>
                </a:cubicBezTo>
                <a:cubicBezTo>
                  <a:pt x="1081" y="302"/>
                  <a:pt x="1081" y="302"/>
                  <a:pt x="1081" y="302"/>
                </a:cubicBezTo>
                <a:cubicBezTo>
                  <a:pt x="1099" y="323"/>
                  <a:pt x="1099" y="323"/>
                  <a:pt x="1099" y="323"/>
                </a:cubicBezTo>
                <a:cubicBezTo>
                  <a:pt x="1100" y="343"/>
                  <a:pt x="1100" y="343"/>
                  <a:pt x="1100" y="343"/>
                </a:cubicBezTo>
                <a:cubicBezTo>
                  <a:pt x="1058" y="366"/>
                  <a:pt x="1058" y="366"/>
                  <a:pt x="1058" y="366"/>
                </a:cubicBezTo>
                <a:cubicBezTo>
                  <a:pt x="1051" y="373"/>
                  <a:pt x="1051" y="373"/>
                  <a:pt x="1051" y="373"/>
                </a:cubicBezTo>
                <a:cubicBezTo>
                  <a:pt x="1021" y="373"/>
                  <a:pt x="1021" y="373"/>
                  <a:pt x="1021" y="373"/>
                </a:cubicBezTo>
                <a:cubicBezTo>
                  <a:pt x="1004" y="390"/>
                  <a:pt x="1004" y="390"/>
                  <a:pt x="1004" y="390"/>
                </a:cubicBezTo>
                <a:cubicBezTo>
                  <a:pt x="1010" y="484"/>
                  <a:pt x="1010" y="484"/>
                  <a:pt x="1010" y="484"/>
                </a:cubicBezTo>
                <a:cubicBezTo>
                  <a:pt x="1010" y="485"/>
                  <a:pt x="1010" y="485"/>
                  <a:pt x="1010" y="485"/>
                </a:cubicBezTo>
                <a:cubicBezTo>
                  <a:pt x="1010" y="485"/>
                  <a:pt x="996" y="490"/>
                  <a:pt x="995" y="496"/>
                </a:cubicBezTo>
                <a:cubicBezTo>
                  <a:pt x="995" y="503"/>
                  <a:pt x="934" y="604"/>
                  <a:pt x="921" y="613"/>
                </a:cubicBezTo>
                <a:cubicBezTo>
                  <a:pt x="908" y="623"/>
                  <a:pt x="754" y="708"/>
                  <a:pt x="754" y="708"/>
                </a:cubicBezTo>
                <a:cubicBezTo>
                  <a:pt x="711" y="738"/>
                  <a:pt x="556" y="800"/>
                  <a:pt x="556" y="800"/>
                </a:cubicBezTo>
                <a:cubicBezTo>
                  <a:pt x="487" y="826"/>
                  <a:pt x="487" y="826"/>
                  <a:pt x="487" y="826"/>
                </a:cubicBezTo>
                <a:cubicBezTo>
                  <a:pt x="482" y="828"/>
                  <a:pt x="477" y="830"/>
                  <a:pt x="472" y="832"/>
                </a:cubicBezTo>
                <a:cubicBezTo>
                  <a:pt x="438" y="843"/>
                  <a:pt x="438" y="843"/>
                  <a:pt x="438" y="843"/>
                </a:cubicBezTo>
                <a:cubicBezTo>
                  <a:pt x="437" y="844"/>
                  <a:pt x="437" y="844"/>
                  <a:pt x="436" y="844"/>
                </a:cubicBezTo>
                <a:cubicBezTo>
                  <a:pt x="436" y="844"/>
                  <a:pt x="436" y="844"/>
                  <a:pt x="436" y="844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361" y="869"/>
                  <a:pt x="361" y="869"/>
                  <a:pt x="361" y="869"/>
                </a:cubicBezTo>
                <a:cubicBezTo>
                  <a:pt x="359" y="870"/>
                  <a:pt x="357" y="871"/>
                  <a:pt x="354" y="871"/>
                </a:cubicBezTo>
                <a:cubicBezTo>
                  <a:pt x="354" y="871"/>
                  <a:pt x="354" y="871"/>
                  <a:pt x="354" y="871"/>
                </a:cubicBezTo>
                <a:cubicBezTo>
                  <a:pt x="354" y="871"/>
                  <a:pt x="353" y="871"/>
                  <a:pt x="352" y="871"/>
                </a:cubicBezTo>
                <a:cubicBezTo>
                  <a:pt x="351" y="871"/>
                  <a:pt x="351" y="871"/>
                  <a:pt x="350" y="871"/>
                </a:cubicBezTo>
                <a:cubicBezTo>
                  <a:pt x="335" y="869"/>
                  <a:pt x="289" y="862"/>
                  <a:pt x="289" y="862"/>
                </a:cubicBezTo>
                <a:cubicBezTo>
                  <a:pt x="289" y="861"/>
                  <a:pt x="289" y="861"/>
                  <a:pt x="289" y="861"/>
                </a:cubicBezTo>
                <a:cubicBezTo>
                  <a:pt x="286" y="861"/>
                  <a:pt x="285" y="860"/>
                  <a:pt x="284" y="860"/>
                </a:cubicBezTo>
                <a:cubicBezTo>
                  <a:pt x="284" y="860"/>
                  <a:pt x="284" y="860"/>
                  <a:pt x="284" y="860"/>
                </a:cubicBezTo>
                <a:cubicBezTo>
                  <a:pt x="0" y="798"/>
                  <a:pt x="0" y="798"/>
                  <a:pt x="0" y="798"/>
                </a:cubicBezTo>
                <a:cubicBezTo>
                  <a:pt x="0" y="1401"/>
                  <a:pt x="0" y="1401"/>
                  <a:pt x="0" y="1401"/>
                </a:cubicBezTo>
                <a:cubicBezTo>
                  <a:pt x="2882" y="1401"/>
                  <a:pt x="2882" y="1401"/>
                  <a:pt x="2882" y="1401"/>
                </a:cubicBezTo>
                <a:cubicBezTo>
                  <a:pt x="2882" y="623"/>
                  <a:pt x="2882" y="623"/>
                  <a:pt x="2882" y="623"/>
                </a:cubicBezTo>
                <a:lnTo>
                  <a:pt x="2873" y="622"/>
                </a:lnTo>
                <a:close/>
                <a:moveTo>
                  <a:pt x="1019" y="407"/>
                </a:moveTo>
                <a:cubicBezTo>
                  <a:pt x="1018" y="393"/>
                  <a:pt x="1018" y="393"/>
                  <a:pt x="1018" y="393"/>
                </a:cubicBezTo>
                <a:cubicBezTo>
                  <a:pt x="1031" y="393"/>
                  <a:pt x="1031" y="393"/>
                  <a:pt x="1031" y="393"/>
                </a:cubicBezTo>
                <a:cubicBezTo>
                  <a:pt x="1032" y="406"/>
                  <a:pt x="1032" y="406"/>
                  <a:pt x="1032" y="406"/>
                </a:cubicBezTo>
                <a:lnTo>
                  <a:pt x="1019" y="407"/>
                </a:lnTo>
                <a:close/>
                <a:moveTo>
                  <a:pt x="1076" y="386"/>
                </a:moveTo>
                <a:cubicBezTo>
                  <a:pt x="1064" y="386"/>
                  <a:pt x="1064" y="386"/>
                  <a:pt x="1064" y="386"/>
                </a:cubicBezTo>
                <a:cubicBezTo>
                  <a:pt x="1065" y="373"/>
                  <a:pt x="1065" y="373"/>
                  <a:pt x="1065" y="373"/>
                </a:cubicBezTo>
                <a:cubicBezTo>
                  <a:pt x="1078" y="372"/>
                  <a:pt x="1078" y="372"/>
                  <a:pt x="1078" y="372"/>
                </a:cubicBezTo>
                <a:lnTo>
                  <a:pt x="1076" y="386"/>
                </a:lnTo>
                <a:close/>
                <a:moveTo>
                  <a:pt x="1111" y="260"/>
                </a:moveTo>
                <a:cubicBezTo>
                  <a:pt x="1121" y="256"/>
                  <a:pt x="1121" y="256"/>
                  <a:pt x="1121" y="256"/>
                </a:cubicBezTo>
                <a:cubicBezTo>
                  <a:pt x="1122" y="269"/>
                  <a:pt x="1122" y="269"/>
                  <a:pt x="1122" y="269"/>
                </a:cubicBezTo>
                <a:cubicBezTo>
                  <a:pt x="1113" y="271"/>
                  <a:pt x="1113" y="271"/>
                  <a:pt x="1113" y="271"/>
                </a:cubicBezTo>
                <a:lnTo>
                  <a:pt x="1111" y="260"/>
                </a:lnTo>
                <a:close/>
                <a:moveTo>
                  <a:pt x="1127" y="364"/>
                </a:moveTo>
                <a:cubicBezTo>
                  <a:pt x="1115" y="364"/>
                  <a:pt x="1115" y="364"/>
                  <a:pt x="1115" y="364"/>
                </a:cubicBezTo>
                <a:cubicBezTo>
                  <a:pt x="1116" y="351"/>
                  <a:pt x="1116" y="351"/>
                  <a:pt x="1116" y="351"/>
                </a:cubicBezTo>
                <a:cubicBezTo>
                  <a:pt x="1127" y="351"/>
                  <a:pt x="1127" y="351"/>
                  <a:pt x="1127" y="351"/>
                </a:cubicBezTo>
                <a:lnTo>
                  <a:pt x="1127" y="364"/>
                </a:lnTo>
                <a:close/>
                <a:moveTo>
                  <a:pt x="1133" y="266"/>
                </a:moveTo>
                <a:cubicBezTo>
                  <a:pt x="1125" y="268"/>
                  <a:pt x="1125" y="268"/>
                  <a:pt x="1125" y="268"/>
                </a:cubicBezTo>
                <a:cubicBezTo>
                  <a:pt x="1124" y="256"/>
                  <a:pt x="1124" y="256"/>
                  <a:pt x="1124" y="256"/>
                </a:cubicBezTo>
                <a:cubicBezTo>
                  <a:pt x="1133" y="255"/>
                  <a:pt x="1133" y="255"/>
                  <a:pt x="1133" y="255"/>
                </a:cubicBezTo>
                <a:lnTo>
                  <a:pt x="1133" y="266"/>
                </a:lnTo>
                <a:close/>
                <a:moveTo>
                  <a:pt x="1137" y="265"/>
                </a:moveTo>
                <a:cubicBezTo>
                  <a:pt x="1137" y="253"/>
                  <a:pt x="1137" y="253"/>
                  <a:pt x="1137" y="253"/>
                </a:cubicBezTo>
                <a:cubicBezTo>
                  <a:pt x="1145" y="253"/>
                  <a:pt x="1145" y="253"/>
                  <a:pt x="1145" y="253"/>
                </a:cubicBezTo>
                <a:cubicBezTo>
                  <a:pt x="1147" y="265"/>
                  <a:pt x="1147" y="265"/>
                  <a:pt x="1147" y="265"/>
                </a:cubicBezTo>
                <a:lnTo>
                  <a:pt x="1137" y="265"/>
                </a:lnTo>
                <a:close/>
                <a:moveTo>
                  <a:pt x="1150" y="262"/>
                </a:moveTo>
                <a:cubicBezTo>
                  <a:pt x="1149" y="252"/>
                  <a:pt x="1149" y="252"/>
                  <a:pt x="1149" y="252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49" y="251"/>
                  <a:pt x="1149" y="251"/>
                  <a:pt x="1149" y="251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58" y="251"/>
                  <a:pt x="1158" y="251"/>
                  <a:pt x="1158" y="251"/>
                </a:cubicBezTo>
                <a:cubicBezTo>
                  <a:pt x="1159" y="262"/>
                  <a:pt x="1159" y="262"/>
                  <a:pt x="1159" y="262"/>
                </a:cubicBezTo>
                <a:lnTo>
                  <a:pt x="1150" y="262"/>
                </a:lnTo>
                <a:close/>
                <a:moveTo>
                  <a:pt x="1174" y="262"/>
                </a:moveTo>
                <a:cubicBezTo>
                  <a:pt x="1165" y="262"/>
                  <a:pt x="1165" y="262"/>
                  <a:pt x="1165" y="262"/>
                </a:cubicBezTo>
                <a:cubicBezTo>
                  <a:pt x="1163" y="250"/>
                  <a:pt x="1163" y="250"/>
                  <a:pt x="1163" y="250"/>
                </a:cubicBezTo>
                <a:cubicBezTo>
                  <a:pt x="1174" y="251"/>
                  <a:pt x="1174" y="251"/>
                  <a:pt x="1174" y="251"/>
                </a:cubicBezTo>
                <a:lnTo>
                  <a:pt x="1174" y="262"/>
                </a:lnTo>
                <a:close/>
                <a:moveTo>
                  <a:pt x="1196" y="262"/>
                </a:moveTo>
                <a:cubicBezTo>
                  <a:pt x="1187" y="262"/>
                  <a:pt x="1187" y="262"/>
                  <a:pt x="1187" y="262"/>
                </a:cubicBezTo>
                <a:cubicBezTo>
                  <a:pt x="1188" y="252"/>
                  <a:pt x="1188" y="252"/>
                  <a:pt x="1188" y="252"/>
                </a:cubicBezTo>
                <a:cubicBezTo>
                  <a:pt x="1198" y="253"/>
                  <a:pt x="1198" y="253"/>
                  <a:pt x="1198" y="253"/>
                </a:cubicBezTo>
                <a:lnTo>
                  <a:pt x="1196" y="262"/>
                </a:lnTo>
                <a:close/>
                <a:moveTo>
                  <a:pt x="1214" y="270"/>
                </a:moveTo>
                <a:cubicBezTo>
                  <a:pt x="1203" y="270"/>
                  <a:pt x="1203" y="270"/>
                  <a:pt x="1203" y="270"/>
                </a:cubicBezTo>
                <a:cubicBezTo>
                  <a:pt x="1203" y="258"/>
                  <a:pt x="1203" y="258"/>
                  <a:pt x="1203" y="258"/>
                </a:cubicBezTo>
                <a:cubicBezTo>
                  <a:pt x="1214" y="259"/>
                  <a:pt x="1214" y="259"/>
                  <a:pt x="1214" y="259"/>
                </a:cubicBezTo>
                <a:lnTo>
                  <a:pt x="1214" y="270"/>
                </a:lnTo>
                <a:close/>
                <a:moveTo>
                  <a:pt x="1234" y="77"/>
                </a:moveTo>
                <a:cubicBezTo>
                  <a:pt x="1234" y="63"/>
                  <a:pt x="1234" y="63"/>
                  <a:pt x="1234" y="63"/>
                </a:cubicBezTo>
                <a:cubicBezTo>
                  <a:pt x="1245" y="58"/>
                  <a:pt x="1245" y="58"/>
                  <a:pt x="1245" y="58"/>
                </a:cubicBezTo>
                <a:cubicBezTo>
                  <a:pt x="1246" y="71"/>
                  <a:pt x="1246" y="71"/>
                  <a:pt x="1246" y="71"/>
                </a:cubicBezTo>
                <a:lnTo>
                  <a:pt x="1234" y="77"/>
                </a:lnTo>
                <a:close/>
                <a:moveTo>
                  <a:pt x="1249" y="71"/>
                </a:moveTo>
                <a:cubicBezTo>
                  <a:pt x="1248" y="58"/>
                  <a:pt x="1248" y="58"/>
                  <a:pt x="1248" y="58"/>
                </a:cubicBezTo>
                <a:cubicBezTo>
                  <a:pt x="1261" y="55"/>
                  <a:pt x="1261" y="55"/>
                  <a:pt x="1261" y="55"/>
                </a:cubicBezTo>
                <a:cubicBezTo>
                  <a:pt x="1261" y="66"/>
                  <a:pt x="1261" y="66"/>
                  <a:pt x="1261" y="66"/>
                </a:cubicBezTo>
                <a:lnTo>
                  <a:pt x="1249" y="71"/>
                </a:lnTo>
                <a:close/>
                <a:moveTo>
                  <a:pt x="1278" y="65"/>
                </a:moveTo>
                <a:cubicBezTo>
                  <a:pt x="1278" y="64"/>
                  <a:pt x="1278" y="64"/>
                  <a:pt x="1278" y="64"/>
                </a:cubicBezTo>
                <a:cubicBezTo>
                  <a:pt x="1289" y="67"/>
                  <a:pt x="1289" y="67"/>
                  <a:pt x="1289" y="67"/>
                </a:cubicBezTo>
                <a:cubicBezTo>
                  <a:pt x="1288" y="80"/>
                  <a:pt x="1288" y="80"/>
                  <a:pt x="1288" y="80"/>
                </a:cubicBezTo>
                <a:cubicBezTo>
                  <a:pt x="1278" y="77"/>
                  <a:pt x="1278" y="77"/>
                  <a:pt x="1278" y="77"/>
                </a:cubicBezTo>
                <a:lnTo>
                  <a:pt x="1278" y="65"/>
                </a:lnTo>
                <a:close/>
                <a:moveTo>
                  <a:pt x="1266" y="248"/>
                </a:moveTo>
                <a:cubicBezTo>
                  <a:pt x="1281" y="246"/>
                  <a:pt x="1281" y="246"/>
                  <a:pt x="1281" y="246"/>
                </a:cubicBezTo>
                <a:cubicBezTo>
                  <a:pt x="1280" y="260"/>
                  <a:pt x="1280" y="260"/>
                  <a:pt x="1280" y="260"/>
                </a:cubicBezTo>
                <a:cubicBezTo>
                  <a:pt x="1270" y="261"/>
                  <a:pt x="1270" y="261"/>
                  <a:pt x="1270" y="261"/>
                </a:cubicBezTo>
                <a:lnTo>
                  <a:pt x="1266" y="248"/>
                </a:lnTo>
                <a:close/>
                <a:moveTo>
                  <a:pt x="1317" y="407"/>
                </a:moveTo>
                <a:cubicBezTo>
                  <a:pt x="1317" y="407"/>
                  <a:pt x="1301" y="413"/>
                  <a:pt x="1281" y="407"/>
                </a:cubicBezTo>
                <a:cubicBezTo>
                  <a:pt x="1279" y="408"/>
                  <a:pt x="1279" y="408"/>
                  <a:pt x="1279" y="408"/>
                </a:cubicBezTo>
                <a:cubicBezTo>
                  <a:pt x="1279" y="396"/>
                  <a:pt x="1279" y="396"/>
                  <a:pt x="1279" y="396"/>
                </a:cubicBezTo>
                <a:cubicBezTo>
                  <a:pt x="1278" y="371"/>
                  <a:pt x="1278" y="371"/>
                  <a:pt x="1278" y="371"/>
                </a:cubicBezTo>
                <a:cubicBezTo>
                  <a:pt x="1278" y="371"/>
                  <a:pt x="1281" y="366"/>
                  <a:pt x="1286" y="363"/>
                </a:cubicBezTo>
                <a:cubicBezTo>
                  <a:pt x="1290" y="360"/>
                  <a:pt x="1295" y="358"/>
                  <a:pt x="1302" y="360"/>
                </a:cubicBezTo>
                <a:cubicBezTo>
                  <a:pt x="1302" y="360"/>
                  <a:pt x="1302" y="360"/>
                  <a:pt x="1302" y="360"/>
                </a:cubicBezTo>
                <a:cubicBezTo>
                  <a:pt x="1302" y="360"/>
                  <a:pt x="1303" y="360"/>
                  <a:pt x="1303" y="360"/>
                </a:cubicBezTo>
                <a:cubicBezTo>
                  <a:pt x="1308" y="362"/>
                  <a:pt x="1312" y="365"/>
                  <a:pt x="1318" y="372"/>
                </a:cubicBezTo>
                <a:lnTo>
                  <a:pt x="1317" y="407"/>
                </a:lnTo>
                <a:close/>
                <a:moveTo>
                  <a:pt x="1323" y="201"/>
                </a:moveTo>
                <a:cubicBezTo>
                  <a:pt x="1314" y="196"/>
                  <a:pt x="1314" y="196"/>
                  <a:pt x="1314" y="196"/>
                </a:cubicBezTo>
                <a:cubicBezTo>
                  <a:pt x="1315" y="182"/>
                  <a:pt x="1315" y="182"/>
                  <a:pt x="1315" y="182"/>
                </a:cubicBezTo>
                <a:cubicBezTo>
                  <a:pt x="1327" y="188"/>
                  <a:pt x="1327" y="188"/>
                  <a:pt x="1327" y="188"/>
                </a:cubicBezTo>
                <a:lnTo>
                  <a:pt x="1323" y="201"/>
                </a:lnTo>
                <a:close/>
                <a:moveTo>
                  <a:pt x="1345" y="209"/>
                </a:moveTo>
                <a:cubicBezTo>
                  <a:pt x="1334" y="205"/>
                  <a:pt x="1334" y="205"/>
                  <a:pt x="1334" y="205"/>
                </a:cubicBezTo>
                <a:cubicBezTo>
                  <a:pt x="1334" y="192"/>
                  <a:pt x="1334" y="192"/>
                  <a:pt x="1334" y="192"/>
                </a:cubicBezTo>
                <a:cubicBezTo>
                  <a:pt x="1347" y="197"/>
                  <a:pt x="1347" y="197"/>
                  <a:pt x="1347" y="197"/>
                </a:cubicBezTo>
                <a:lnTo>
                  <a:pt x="1345" y="209"/>
                </a:lnTo>
                <a:close/>
                <a:moveTo>
                  <a:pt x="1354" y="162"/>
                </a:moveTo>
                <a:cubicBezTo>
                  <a:pt x="1366" y="161"/>
                  <a:pt x="1366" y="161"/>
                  <a:pt x="1366" y="161"/>
                </a:cubicBezTo>
                <a:cubicBezTo>
                  <a:pt x="1366" y="172"/>
                  <a:pt x="1366" y="172"/>
                  <a:pt x="1366" y="172"/>
                </a:cubicBezTo>
                <a:cubicBezTo>
                  <a:pt x="1356" y="173"/>
                  <a:pt x="1356" y="173"/>
                  <a:pt x="1356" y="173"/>
                </a:cubicBezTo>
                <a:lnTo>
                  <a:pt x="1354" y="162"/>
                </a:lnTo>
                <a:close/>
                <a:moveTo>
                  <a:pt x="1359" y="231"/>
                </a:moveTo>
                <a:cubicBezTo>
                  <a:pt x="1357" y="220"/>
                  <a:pt x="1357" y="220"/>
                  <a:pt x="1357" y="220"/>
                </a:cubicBezTo>
                <a:cubicBezTo>
                  <a:pt x="1368" y="219"/>
                  <a:pt x="1368" y="219"/>
                  <a:pt x="1368" y="219"/>
                </a:cubicBezTo>
                <a:cubicBezTo>
                  <a:pt x="1368" y="232"/>
                  <a:pt x="1368" y="232"/>
                  <a:pt x="1368" y="232"/>
                </a:cubicBezTo>
                <a:lnTo>
                  <a:pt x="1359" y="231"/>
                </a:lnTo>
                <a:close/>
                <a:moveTo>
                  <a:pt x="1443" y="192"/>
                </a:moveTo>
                <a:cubicBezTo>
                  <a:pt x="1442" y="206"/>
                  <a:pt x="1442" y="206"/>
                  <a:pt x="1442" y="206"/>
                </a:cubicBezTo>
                <a:cubicBezTo>
                  <a:pt x="1432" y="199"/>
                  <a:pt x="1432" y="199"/>
                  <a:pt x="1432" y="199"/>
                </a:cubicBezTo>
                <a:cubicBezTo>
                  <a:pt x="1432" y="188"/>
                  <a:pt x="1432" y="188"/>
                  <a:pt x="1432" y="188"/>
                </a:cubicBezTo>
                <a:lnTo>
                  <a:pt x="1443" y="192"/>
                </a:lnTo>
                <a:close/>
                <a:moveTo>
                  <a:pt x="1444" y="237"/>
                </a:moveTo>
                <a:cubicBezTo>
                  <a:pt x="1444" y="249"/>
                  <a:pt x="1444" y="249"/>
                  <a:pt x="1444" y="249"/>
                </a:cubicBezTo>
                <a:cubicBezTo>
                  <a:pt x="1432" y="247"/>
                  <a:pt x="1432" y="247"/>
                  <a:pt x="1432" y="247"/>
                </a:cubicBezTo>
                <a:cubicBezTo>
                  <a:pt x="1431" y="236"/>
                  <a:pt x="1431" y="236"/>
                  <a:pt x="1431" y="236"/>
                </a:cubicBezTo>
                <a:lnTo>
                  <a:pt x="1444" y="237"/>
                </a:lnTo>
                <a:close/>
                <a:moveTo>
                  <a:pt x="1432" y="218"/>
                </a:moveTo>
                <a:cubicBezTo>
                  <a:pt x="1443" y="221"/>
                  <a:pt x="1443" y="221"/>
                  <a:pt x="1443" y="221"/>
                </a:cubicBezTo>
                <a:cubicBezTo>
                  <a:pt x="1443" y="233"/>
                  <a:pt x="1443" y="233"/>
                  <a:pt x="1443" y="233"/>
                </a:cubicBezTo>
                <a:cubicBezTo>
                  <a:pt x="1430" y="229"/>
                  <a:pt x="1430" y="229"/>
                  <a:pt x="1430" y="229"/>
                </a:cubicBezTo>
                <a:lnTo>
                  <a:pt x="1432" y="218"/>
                </a:lnTo>
                <a:close/>
                <a:moveTo>
                  <a:pt x="1432" y="288"/>
                </a:moveTo>
                <a:cubicBezTo>
                  <a:pt x="1442" y="290"/>
                  <a:pt x="1442" y="290"/>
                  <a:pt x="1442" y="290"/>
                </a:cubicBezTo>
                <a:cubicBezTo>
                  <a:pt x="1441" y="302"/>
                  <a:pt x="1441" y="302"/>
                  <a:pt x="1441" y="302"/>
                </a:cubicBezTo>
                <a:cubicBezTo>
                  <a:pt x="1430" y="299"/>
                  <a:pt x="1430" y="299"/>
                  <a:pt x="1430" y="299"/>
                </a:cubicBezTo>
                <a:lnTo>
                  <a:pt x="1432" y="288"/>
                </a:lnTo>
                <a:close/>
                <a:moveTo>
                  <a:pt x="1407" y="172"/>
                </a:moveTo>
                <a:cubicBezTo>
                  <a:pt x="1418" y="175"/>
                  <a:pt x="1418" y="175"/>
                  <a:pt x="1418" y="175"/>
                </a:cubicBezTo>
                <a:cubicBezTo>
                  <a:pt x="1417" y="186"/>
                  <a:pt x="1417" y="186"/>
                  <a:pt x="1417" y="186"/>
                </a:cubicBezTo>
                <a:cubicBezTo>
                  <a:pt x="1405" y="184"/>
                  <a:pt x="1405" y="184"/>
                  <a:pt x="1405" y="184"/>
                </a:cubicBezTo>
                <a:lnTo>
                  <a:pt x="1407" y="172"/>
                </a:lnTo>
                <a:close/>
                <a:moveTo>
                  <a:pt x="1405" y="206"/>
                </a:moveTo>
                <a:cubicBezTo>
                  <a:pt x="1417" y="209"/>
                  <a:pt x="1417" y="209"/>
                  <a:pt x="1417" y="209"/>
                </a:cubicBezTo>
                <a:cubicBezTo>
                  <a:pt x="1415" y="222"/>
                  <a:pt x="1415" y="222"/>
                  <a:pt x="1415" y="222"/>
                </a:cubicBezTo>
                <a:cubicBezTo>
                  <a:pt x="1405" y="218"/>
                  <a:pt x="1405" y="218"/>
                  <a:pt x="1405" y="218"/>
                </a:cubicBezTo>
                <a:lnTo>
                  <a:pt x="1405" y="206"/>
                </a:lnTo>
                <a:close/>
                <a:moveTo>
                  <a:pt x="1384" y="160"/>
                </a:moveTo>
                <a:cubicBezTo>
                  <a:pt x="1383" y="171"/>
                  <a:pt x="1383" y="171"/>
                  <a:pt x="1383" y="171"/>
                </a:cubicBezTo>
                <a:cubicBezTo>
                  <a:pt x="1373" y="170"/>
                  <a:pt x="1373" y="170"/>
                  <a:pt x="1373" y="170"/>
                </a:cubicBezTo>
                <a:cubicBezTo>
                  <a:pt x="1373" y="159"/>
                  <a:pt x="1373" y="159"/>
                  <a:pt x="1373" y="159"/>
                </a:cubicBezTo>
                <a:lnTo>
                  <a:pt x="1384" y="160"/>
                </a:lnTo>
                <a:close/>
                <a:moveTo>
                  <a:pt x="1373" y="217"/>
                </a:moveTo>
                <a:cubicBezTo>
                  <a:pt x="1383" y="215"/>
                  <a:pt x="1383" y="215"/>
                  <a:pt x="1383" y="215"/>
                </a:cubicBezTo>
                <a:cubicBezTo>
                  <a:pt x="1385" y="229"/>
                  <a:pt x="1385" y="229"/>
                  <a:pt x="1385" y="229"/>
                </a:cubicBezTo>
                <a:cubicBezTo>
                  <a:pt x="1374" y="229"/>
                  <a:pt x="1374" y="229"/>
                  <a:pt x="1374" y="229"/>
                </a:cubicBezTo>
                <a:lnTo>
                  <a:pt x="1373" y="217"/>
                </a:lnTo>
                <a:close/>
                <a:moveTo>
                  <a:pt x="1387" y="364"/>
                </a:moveTo>
                <a:cubicBezTo>
                  <a:pt x="1375" y="362"/>
                  <a:pt x="1375" y="362"/>
                  <a:pt x="1375" y="362"/>
                </a:cubicBezTo>
                <a:cubicBezTo>
                  <a:pt x="1376" y="352"/>
                  <a:pt x="1376" y="352"/>
                  <a:pt x="1376" y="352"/>
                </a:cubicBezTo>
                <a:cubicBezTo>
                  <a:pt x="1387" y="352"/>
                  <a:pt x="1387" y="352"/>
                  <a:pt x="1387" y="352"/>
                </a:cubicBezTo>
                <a:lnTo>
                  <a:pt x="1387" y="364"/>
                </a:lnTo>
                <a:close/>
                <a:moveTo>
                  <a:pt x="1406" y="225"/>
                </a:moveTo>
                <a:cubicBezTo>
                  <a:pt x="1418" y="228"/>
                  <a:pt x="1418" y="228"/>
                  <a:pt x="1418" y="228"/>
                </a:cubicBezTo>
                <a:cubicBezTo>
                  <a:pt x="1419" y="241"/>
                  <a:pt x="1419" y="241"/>
                  <a:pt x="1419" y="241"/>
                </a:cubicBezTo>
                <a:cubicBezTo>
                  <a:pt x="1405" y="240"/>
                  <a:pt x="1405" y="240"/>
                  <a:pt x="1405" y="240"/>
                </a:cubicBezTo>
                <a:lnTo>
                  <a:pt x="1406" y="225"/>
                </a:lnTo>
                <a:close/>
                <a:moveTo>
                  <a:pt x="1409" y="278"/>
                </a:moveTo>
                <a:cubicBezTo>
                  <a:pt x="1420" y="281"/>
                  <a:pt x="1420" y="281"/>
                  <a:pt x="1420" y="281"/>
                </a:cubicBezTo>
                <a:cubicBezTo>
                  <a:pt x="1418" y="291"/>
                  <a:pt x="1418" y="291"/>
                  <a:pt x="1418" y="291"/>
                </a:cubicBezTo>
                <a:cubicBezTo>
                  <a:pt x="1408" y="288"/>
                  <a:pt x="1408" y="288"/>
                  <a:pt x="1408" y="288"/>
                </a:cubicBezTo>
                <a:lnTo>
                  <a:pt x="1409" y="278"/>
                </a:lnTo>
                <a:close/>
                <a:moveTo>
                  <a:pt x="1420" y="336"/>
                </a:moveTo>
                <a:cubicBezTo>
                  <a:pt x="1410" y="334"/>
                  <a:pt x="1410" y="334"/>
                  <a:pt x="1410" y="334"/>
                </a:cubicBezTo>
                <a:cubicBezTo>
                  <a:pt x="1412" y="323"/>
                  <a:pt x="1412" y="323"/>
                  <a:pt x="1412" y="323"/>
                </a:cubicBezTo>
                <a:cubicBezTo>
                  <a:pt x="1422" y="326"/>
                  <a:pt x="1422" y="326"/>
                  <a:pt x="1422" y="326"/>
                </a:cubicBezTo>
                <a:lnTo>
                  <a:pt x="1420" y="336"/>
                </a:lnTo>
                <a:close/>
                <a:moveTo>
                  <a:pt x="1424" y="373"/>
                </a:moveTo>
                <a:cubicBezTo>
                  <a:pt x="1424" y="361"/>
                  <a:pt x="1424" y="361"/>
                  <a:pt x="1424" y="361"/>
                </a:cubicBezTo>
                <a:cubicBezTo>
                  <a:pt x="1436" y="362"/>
                  <a:pt x="1436" y="362"/>
                  <a:pt x="1436" y="362"/>
                </a:cubicBezTo>
                <a:cubicBezTo>
                  <a:pt x="1437" y="373"/>
                  <a:pt x="1437" y="373"/>
                  <a:pt x="1437" y="373"/>
                </a:cubicBezTo>
                <a:lnTo>
                  <a:pt x="1424" y="373"/>
                </a:lnTo>
                <a:close/>
                <a:moveTo>
                  <a:pt x="1442" y="346"/>
                </a:moveTo>
                <a:cubicBezTo>
                  <a:pt x="1432" y="342"/>
                  <a:pt x="1432" y="342"/>
                  <a:pt x="1432" y="342"/>
                </a:cubicBezTo>
                <a:cubicBezTo>
                  <a:pt x="1434" y="332"/>
                  <a:pt x="1434" y="332"/>
                  <a:pt x="1434" y="332"/>
                </a:cubicBezTo>
                <a:cubicBezTo>
                  <a:pt x="1446" y="336"/>
                  <a:pt x="1446" y="336"/>
                  <a:pt x="1446" y="336"/>
                </a:cubicBezTo>
                <a:lnTo>
                  <a:pt x="1442" y="346"/>
                </a:lnTo>
                <a:close/>
                <a:moveTo>
                  <a:pt x="1481" y="248"/>
                </a:moveTo>
                <a:cubicBezTo>
                  <a:pt x="1491" y="252"/>
                  <a:pt x="1491" y="252"/>
                  <a:pt x="1491" y="252"/>
                </a:cubicBezTo>
                <a:cubicBezTo>
                  <a:pt x="1491" y="263"/>
                  <a:pt x="1491" y="263"/>
                  <a:pt x="1491" y="263"/>
                </a:cubicBezTo>
                <a:cubicBezTo>
                  <a:pt x="1480" y="260"/>
                  <a:pt x="1480" y="260"/>
                  <a:pt x="1480" y="260"/>
                </a:cubicBezTo>
                <a:lnTo>
                  <a:pt x="1481" y="248"/>
                </a:lnTo>
                <a:close/>
                <a:moveTo>
                  <a:pt x="1483" y="284"/>
                </a:moveTo>
                <a:cubicBezTo>
                  <a:pt x="1493" y="286"/>
                  <a:pt x="1493" y="286"/>
                  <a:pt x="1493" y="286"/>
                </a:cubicBezTo>
                <a:cubicBezTo>
                  <a:pt x="1494" y="299"/>
                  <a:pt x="1494" y="299"/>
                  <a:pt x="1494" y="299"/>
                </a:cubicBezTo>
                <a:cubicBezTo>
                  <a:pt x="1481" y="294"/>
                  <a:pt x="1481" y="294"/>
                  <a:pt x="1481" y="294"/>
                </a:cubicBezTo>
                <a:lnTo>
                  <a:pt x="1483" y="284"/>
                </a:lnTo>
                <a:close/>
                <a:moveTo>
                  <a:pt x="1502" y="391"/>
                </a:moveTo>
                <a:cubicBezTo>
                  <a:pt x="1490" y="391"/>
                  <a:pt x="1490" y="391"/>
                  <a:pt x="1490" y="391"/>
                </a:cubicBezTo>
                <a:cubicBezTo>
                  <a:pt x="1491" y="381"/>
                  <a:pt x="1491" y="381"/>
                  <a:pt x="1491" y="381"/>
                </a:cubicBezTo>
                <a:cubicBezTo>
                  <a:pt x="1503" y="381"/>
                  <a:pt x="1503" y="381"/>
                  <a:pt x="1503" y="381"/>
                </a:cubicBezTo>
                <a:lnTo>
                  <a:pt x="1502" y="391"/>
                </a:lnTo>
                <a:close/>
                <a:moveTo>
                  <a:pt x="1510" y="304"/>
                </a:moveTo>
                <a:cubicBezTo>
                  <a:pt x="1499" y="302"/>
                  <a:pt x="1499" y="302"/>
                  <a:pt x="1499" y="302"/>
                </a:cubicBezTo>
                <a:cubicBezTo>
                  <a:pt x="1498" y="290"/>
                  <a:pt x="1498" y="290"/>
                  <a:pt x="1498" y="290"/>
                </a:cubicBezTo>
                <a:cubicBezTo>
                  <a:pt x="1511" y="292"/>
                  <a:pt x="1511" y="292"/>
                  <a:pt x="1511" y="292"/>
                </a:cubicBezTo>
                <a:lnTo>
                  <a:pt x="1510" y="304"/>
                </a:lnTo>
                <a:close/>
                <a:moveTo>
                  <a:pt x="1511" y="271"/>
                </a:moveTo>
                <a:cubicBezTo>
                  <a:pt x="1498" y="267"/>
                  <a:pt x="1498" y="267"/>
                  <a:pt x="1498" y="267"/>
                </a:cubicBezTo>
                <a:cubicBezTo>
                  <a:pt x="1499" y="258"/>
                  <a:pt x="1499" y="258"/>
                  <a:pt x="1499" y="258"/>
                </a:cubicBezTo>
                <a:cubicBezTo>
                  <a:pt x="1512" y="261"/>
                  <a:pt x="1512" y="261"/>
                  <a:pt x="1512" y="261"/>
                </a:cubicBezTo>
                <a:lnTo>
                  <a:pt x="1511" y="271"/>
                </a:lnTo>
                <a:close/>
                <a:moveTo>
                  <a:pt x="1588" y="439"/>
                </a:moveTo>
                <a:cubicBezTo>
                  <a:pt x="1580" y="438"/>
                  <a:pt x="1580" y="438"/>
                  <a:pt x="1580" y="438"/>
                </a:cubicBezTo>
                <a:cubicBezTo>
                  <a:pt x="1580" y="430"/>
                  <a:pt x="1580" y="430"/>
                  <a:pt x="1580" y="430"/>
                </a:cubicBezTo>
                <a:cubicBezTo>
                  <a:pt x="1588" y="431"/>
                  <a:pt x="1588" y="431"/>
                  <a:pt x="1588" y="431"/>
                </a:cubicBezTo>
                <a:lnTo>
                  <a:pt x="1588" y="4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57"/>
          <p:cNvSpPr/>
          <p:nvPr/>
        </p:nvSpPr>
        <p:spPr>
          <a:xfrm>
            <a:off x="5106960" y="350676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8"/>
                </a:moveTo>
                <a:lnTo>
                  <a:pt x="19" y="21"/>
                </a:lnTo>
                <a:lnTo>
                  <a:pt x="19" y="2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51" descr="weg"/>
          <p:cNvPicPr/>
          <p:nvPr/>
        </p:nvPicPr>
        <p:blipFill>
          <a:blip r:embed="rId3"/>
          <a:stretch/>
        </p:blipFill>
        <p:spPr>
          <a:xfrm>
            <a:off x="3457440" y="3416400"/>
            <a:ext cx="5454720" cy="372744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14"/>
          <p:cNvGrpSpPr/>
          <p:nvPr/>
        </p:nvGrpSpPr>
        <p:grpSpPr>
          <a:xfrm>
            <a:off x="6867360" y="3567240"/>
            <a:ext cx="1271520" cy="1436400"/>
            <a:chOff x="6867360" y="3567240"/>
            <a:chExt cx="1271520" cy="1436400"/>
          </a:xfrm>
        </p:grpSpPr>
        <p:sp>
          <p:nvSpPr>
            <p:cNvPr id="245" name="Freeform 255"/>
            <p:cNvSpPr/>
            <p:nvPr/>
          </p:nvSpPr>
          <p:spPr>
            <a:xfrm>
              <a:off x="6867360" y="3567240"/>
              <a:ext cx="1271520" cy="1436400"/>
            </a:xfrm>
            <a:custGeom>
              <a:avLst/>
              <a:gdLst/>
              <a:ahLst/>
              <a:rect l="l" t="t" r="r" b="b"/>
              <a:pathLst>
                <a:path w="339" h="383">
                  <a:moveTo>
                    <a:pt x="300" y="151"/>
                  </a:moveTo>
                  <a:cubicBezTo>
                    <a:pt x="312" y="190"/>
                    <a:pt x="258" y="203"/>
                    <a:pt x="244" y="206"/>
                  </a:cubicBezTo>
                  <a:cubicBezTo>
                    <a:pt x="209" y="182"/>
                    <a:pt x="138" y="153"/>
                    <a:pt x="138" y="153"/>
                  </a:cubicBezTo>
                  <a:cubicBezTo>
                    <a:pt x="118" y="143"/>
                    <a:pt x="109" y="70"/>
                    <a:pt x="109" y="70"/>
                  </a:cubicBezTo>
                  <a:cubicBezTo>
                    <a:pt x="110" y="43"/>
                    <a:pt x="92" y="30"/>
                    <a:pt x="92" y="3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7" y="32"/>
                    <a:pt x="67" y="32"/>
                    <a:pt x="67" y="32"/>
                  </a:cubicBezTo>
                  <a:cubicBezTo>
                    <a:pt x="61" y="31"/>
                    <a:pt x="61" y="31"/>
                    <a:pt x="61" y="31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2" y="62"/>
                    <a:pt x="37" y="76"/>
                    <a:pt x="29" y="101"/>
                  </a:cubicBezTo>
                  <a:cubicBezTo>
                    <a:pt x="21" y="126"/>
                    <a:pt x="32" y="158"/>
                    <a:pt x="32" y="158"/>
                  </a:cubicBezTo>
                  <a:cubicBezTo>
                    <a:pt x="55" y="221"/>
                    <a:pt x="55" y="221"/>
                    <a:pt x="55" y="221"/>
                  </a:cubicBezTo>
                  <a:cubicBezTo>
                    <a:pt x="55" y="221"/>
                    <a:pt x="40" y="314"/>
                    <a:pt x="40" y="321"/>
                  </a:cubicBezTo>
                  <a:cubicBezTo>
                    <a:pt x="40" y="328"/>
                    <a:pt x="26" y="346"/>
                    <a:pt x="23" y="347"/>
                  </a:cubicBezTo>
                  <a:cubicBezTo>
                    <a:pt x="20" y="348"/>
                    <a:pt x="10" y="351"/>
                    <a:pt x="6" y="355"/>
                  </a:cubicBezTo>
                  <a:cubicBezTo>
                    <a:pt x="3" y="358"/>
                    <a:pt x="2" y="360"/>
                    <a:pt x="2" y="361"/>
                  </a:cubicBezTo>
                  <a:cubicBezTo>
                    <a:pt x="1" y="362"/>
                    <a:pt x="0" y="364"/>
                    <a:pt x="1" y="365"/>
                  </a:cubicBezTo>
                  <a:cubicBezTo>
                    <a:pt x="13" y="363"/>
                    <a:pt x="38" y="359"/>
                    <a:pt x="56" y="356"/>
                  </a:cubicBezTo>
                  <a:cubicBezTo>
                    <a:pt x="57" y="355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53" y="279"/>
                    <a:pt x="153" y="279"/>
                    <a:pt x="153" y="279"/>
                  </a:cubicBezTo>
                  <a:cubicBezTo>
                    <a:pt x="153" y="279"/>
                    <a:pt x="147" y="294"/>
                    <a:pt x="194" y="327"/>
                  </a:cubicBezTo>
                  <a:cubicBezTo>
                    <a:pt x="194" y="327"/>
                    <a:pt x="211" y="342"/>
                    <a:pt x="190" y="364"/>
                  </a:cubicBezTo>
                  <a:cubicBezTo>
                    <a:pt x="190" y="364"/>
                    <a:pt x="190" y="364"/>
                    <a:pt x="190" y="364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5" y="366"/>
                    <a:pt x="199" y="368"/>
                    <a:pt x="204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8"/>
                    <a:pt x="205" y="368"/>
                    <a:pt x="205" y="368"/>
                  </a:cubicBezTo>
                  <a:cubicBezTo>
                    <a:pt x="222" y="331"/>
                    <a:pt x="222" y="331"/>
                    <a:pt x="222" y="331"/>
                  </a:cubicBezTo>
                  <a:cubicBezTo>
                    <a:pt x="222" y="331"/>
                    <a:pt x="202" y="314"/>
                    <a:pt x="210" y="297"/>
                  </a:cubicBezTo>
                  <a:cubicBezTo>
                    <a:pt x="252" y="329"/>
                    <a:pt x="252" y="329"/>
                    <a:pt x="252" y="329"/>
                  </a:cubicBezTo>
                  <a:cubicBezTo>
                    <a:pt x="252" y="329"/>
                    <a:pt x="252" y="329"/>
                    <a:pt x="252" y="330"/>
                  </a:cubicBezTo>
                  <a:cubicBezTo>
                    <a:pt x="262" y="336"/>
                    <a:pt x="269" y="342"/>
                    <a:pt x="273" y="346"/>
                  </a:cubicBezTo>
                  <a:cubicBezTo>
                    <a:pt x="273" y="345"/>
                    <a:pt x="273" y="345"/>
                    <a:pt x="273" y="344"/>
                  </a:cubicBezTo>
                  <a:cubicBezTo>
                    <a:pt x="273" y="344"/>
                    <a:pt x="291" y="359"/>
                    <a:pt x="291" y="382"/>
                  </a:cubicBezTo>
                  <a:cubicBezTo>
                    <a:pt x="290" y="382"/>
                    <a:pt x="290" y="382"/>
                    <a:pt x="290" y="382"/>
                  </a:cubicBezTo>
                  <a:cubicBezTo>
                    <a:pt x="291" y="383"/>
                    <a:pt x="291" y="383"/>
                    <a:pt x="291" y="383"/>
                  </a:cubicBezTo>
                  <a:cubicBezTo>
                    <a:pt x="296" y="383"/>
                    <a:pt x="301" y="383"/>
                    <a:pt x="306" y="383"/>
                  </a:cubicBezTo>
                  <a:cubicBezTo>
                    <a:pt x="307" y="340"/>
                    <a:pt x="307" y="340"/>
                    <a:pt x="307" y="340"/>
                  </a:cubicBezTo>
                  <a:cubicBezTo>
                    <a:pt x="307" y="340"/>
                    <a:pt x="265" y="324"/>
                    <a:pt x="261" y="288"/>
                  </a:cubicBezTo>
                  <a:cubicBezTo>
                    <a:pt x="259" y="262"/>
                    <a:pt x="268" y="244"/>
                    <a:pt x="260" y="226"/>
                  </a:cubicBezTo>
                  <a:cubicBezTo>
                    <a:pt x="268" y="225"/>
                    <a:pt x="277" y="222"/>
                    <a:pt x="290" y="218"/>
                  </a:cubicBezTo>
                  <a:cubicBezTo>
                    <a:pt x="339" y="201"/>
                    <a:pt x="300" y="151"/>
                    <a:pt x="300" y="1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8"/>
            <p:cNvSpPr/>
            <p:nvPr/>
          </p:nvSpPr>
          <p:spPr>
            <a:xfrm>
              <a:off x="6872040" y="3638160"/>
              <a:ext cx="262080" cy="1296720"/>
            </a:xfrm>
            <a:custGeom>
              <a:avLst/>
              <a:gdLst/>
              <a:ahLst/>
              <a:rect l="l" t="t" r="r" b="b"/>
              <a:pathLst>
                <a:path w="70" h="346">
                  <a:moveTo>
                    <a:pt x="50" y="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20" y="88"/>
                    <a:pt x="24" y="115"/>
                  </a:cubicBezTo>
                  <a:cubicBezTo>
                    <a:pt x="28" y="142"/>
                    <a:pt x="54" y="202"/>
                    <a:pt x="54" y="202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7" y="306"/>
                    <a:pt x="25" y="326"/>
                    <a:pt x="22" y="328"/>
                  </a:cubicBezTo>
                  <a:cubicBezTo>
                    <a:pt x="19" y="330"/>
                    <a:pt x="1" y="332"/>
                    <a:pt x="0" y="346"/>
                  </a:cubicBezTo>
                  <a:cubicBezTo>
                    <a:pt x="14" y="340"/>
                    <a:pt x="14" y="340"/>
                    <a:pt x="14" y="340"/>
                  </a:cubicBezTo>
                  <a:cubicBezTo>
                    <a:pt x="42" y="312"/>
                    <a:pt x="42" y="312"/>
                    <a:pt x="42" y="312"/>
                  </a:cubicBezTo>
                  <a:cubicBezTo>
                    <a:pt x="70" y="206"/>
                    <a:pt x="70" y="206"/>
                    <a:pt x="70" y="206"/>
                  </a:cubicBezTo>
                  <a:cubicBezTo>
                    <a:pt x="70" y="206"/>
                    <a:pt x="34" y="133"/>
                    <a:pt x="54" y="51"/>
                  </a:cubicBezTo>
                  <a:cubicBezTo>
                    <a:pt x="56" y="16"/>
                    <a:pt x="56" y="16"/>
                    <a:pt x="56" y="16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9"/>
            <p:cNvSpPr/>
            <p:nvPr/>
          </p:nvSpPr>
          <p:spPr>
            <a:xfrm>
              <a:off x="7117920" y="3567240"/>
              <a:ext cx="79560" cy="12024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5" y="28"/>
                  </a:moveTo>
                  <a:lnTo>
                    <a:pt x="43" y="0"/>
                  </a:lnTo>
                  <a:lnTo>
                    <a:pt x="50" y="33"/>
                  </a:lnTo>
                  <a:lnTo>
                    <a:pt x="24" y="40"/>
                  </a:lnTo>
                  <a:lnTo>
                    <a:pt x="15" y="73"/>
                  </a:lnTo>
                  <a:lnTo>
                    <a:pt x="0" y="76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0"/>
            <p:cNvSpPr/>
            <p:nvPr/>
          </p:nvSpPr>
          <p:spPr>
            <a:xfrm>
              <a:off x="7430760" y="4613040"/>
              <a:ext cx="262080" cy="33300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" y="0"/>
                  </a:moveTo>
                  <a:cubicBezTo>
                    <a:pt x="3" y="0"/>
                    <a:pt x="0" y="26"/>
                    <a:pt x="44" y="48"/>
                  </a:cubicBezTo>
                  <a:cubicBezTo>
                    <a:pt x="44" y="48"/>
                    <a:pt x="59" y="62"/>
                    <a:pt x="39" y="86"/>
                  </a:cubicBezTo>
                  <a:cubicBezTo>
                    <a:pt x="49" y="89"/>
                    <a:pt x="49" y="89"/>
                    <a:pt x="49" y="89"/>
                  </a:cubicBezTo>
                  <a:cubicBezTo>
                    <a:pt x="49" y="89"/>
                    <a:pt x="70" y="56"/>
                    <a:pt x="57" y="45"/>
                  </a:cubicBezTo>
                  <a:cubicBezTo>
                    <a:pt x="43" y="34"/>
                    <a:pt x="14" y="18"/>
                    <a:pt x="15" y="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61"/>
            <p:cNvSpPr/>
            <p:nvPr/>
          </p:nvSpPr>
          <p:spPr>
            <a:xfrm>
              <a:off x="7530840" y="4422600"/>
              <a:ext cx="473040" cy="58068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114" y="155"/>
                  </a:moveTo>
                  <a:cubicBezTo>
                    <a:pt x="113" y="147"/>
                    <a:pt x="116" y="128"/>
                    <a:pt x="70" y="99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0" y="32"/>
                    <a:pt x="18" y="16"/>
                  </a:cubicBezTo>
                  <a:cubicBezTo>
                    <a:pt x="36" y="0"/>
                    <a:pt x="34" y="31"/>
                    <a:pt x="34" y="31"/>
                  </a:cubicBezTo>
                  <a:cubicBezTo>
                    <a:pt x="34" y="31"/>
                    <a:pt x="29" y="47"/>
                    <a:pt x="47" y="65"/>
                  </a:cubicBezTo>
                  <a:cubicBezTo>
                    <a:pt x="65" y="82"/>
                    <a:pt x="108" y="113"/>
                    <a:pt x="108" y="113"/>
                  </a:cubicBezTo>
                  <a:cubicBezTo>
                    <a:pt x="108" y="113"/>
                    <a:pt x="126" y="126"/>
                    <a:pt x="122" y="155"/>
                  </a:cubicBezTo>
                  <a:lnTo>
                    <a:pt x="114" y="1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62"/>
            <p:cNvSpPr/>
            <p:nvPr/>
          </p:nvSpPr>
          <p:spPr>
            <a:xfrm>
              <a:off x="7021080" y="4312800"/>
              <a:ext cx="314640" cy="53964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" y="131"/>
                  </a:moveTo>
                  <a:cubicBezTo>
                    <a:pt x="36" y="27"/>
                    <a:pt x="36" y="27"/>
                    <a:pt x="36" y="27"/>
                  </a:cubicBezTo>
                  <a:cubicBezTo>
                    <a:pt x="36" y="27"/>
                    <a:pt x="45" y="0"/>
                    <a:pt x="64" y="1"/>
                  </a:cubicBezTo>
                  <a:cubicBezTo>
                    <a:pt x="84" y="2"/>
                    <a:pt x="84" y="20"/>
                    <a:pt x="72" y="20"/>
                  </a:cubicBezTo>
                  <a:cubicBezTo>
                    <a:pt x="60" y="20"/>
                    <a:pt x="55" y="16"/>
                    <a:pt x="46" y="33"/>
                  </a:cubicBezTo>
                  <a:cubicBezTo>
                    <a:pt x="38" y="50"/>
                    <a:pt x="11" y="132"/>
                    <a:pt x="11" y="132"/>
                  </a:cubicBezTo>
                  <a:cubicBezTo>
                    <a:pt x="0" y="144"/>
                    <a:pt x="0" y="144"/>
                    <a:pt x="0" y="144"/>
                  </a:cubicBezTo>
                  <a:lnTo>
                    <a:pt x="6" y="13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63"/>
            <p:cNvSpPr/>
            <p:nvPr/>
          </p:nvSpPr>
          <p:spPr>
            <a:xfrm>
              <a:off x="7783200" y="4133520"/>
              <a:ext cx="311040" cy="2250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56" y="0"/>
                  </a:moveTo>
                  <a:cubicBezTo>
                    <a:pt x="56" y="0"/>
                    <a:pt x="73" y="37"/>
                    <a:pt x="0" y="55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83" y="45"/>
                    <a:pt x="56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6"/>
          <p:cNvGrpSpPr/>
          <p:nvPr/>
        </p:nvGrpSpPr>
        <p:grpSpPr>
          <a:xfrm>
            <a:off x="3322800" y="1893960"/>
            <a:ext cx="1555560" cy="960480"/>
            <a:chOff x="3322800" y="1893960"/>
            <a:chExt cx="1555560" cy="960480"/>
          </a:xfrm>
        </p:grpSpPr>
        <p:sp>
          <p:nvSpPr>
            <p:cNvPr id="253" name="Freeform 297"/>
            <p:cNvSpPr/>
            <p:nvPr/>
          </p:nvSpPr>
          <p:spPr>
            <a:xfrm>
              <a:off x="3919680" y="1893960"/>
              <a:ext cx="126720" cy="23976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0" y="0"/>
                  </a:moveTo>
                  <a:cubicBezTo>
                    <a:pt x="0" y="0"/>
                    <a:pt x="15" y="46"/>
                    <a:pt x="24" y="45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48"/>
                    <a:pt x="7" y="53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98"/>
            <p:cNvSpPr/>
            <p:nvPr/>
          </p:nvSpPr>
          <p:spPr>
            <a:xfrm>
              <a:off x="3537000" y="24004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0"/>
                  </a:moveTo>
                  <a:lnTo>
                    <a:pt x="45" y="97"/>
                  </a:lnTo>
                  <a:lnTo>
                    <a:pt x="118" y="156"/>
                  </a:lnTo>
                  <a:lnTo>
                    <a:pt x="99" y="186"/>
                  </a:lnTo>
                  <a:lnTo>
                    <a:pt x="26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99"/>
            <p:cNvSpPr/>
            <p:nvPr/>
          </p:nvSpPr>
          <p:spPr>
            <a:xfrm>
              <a:off x="3322800" y="2643120"/>
              <a:ext cx="68040" cy="90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0"/>
                  </a:moveTo>
                  <a:lnTo>
                    <a:pt x="43" y="55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00"/>
            <p:cNvSpPr/>
            <p:nvPr/>
          </p:nvSpPr>
          <p:spPr>
            <a:xfrm>
              <a:off x="4065480" y="235116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0"/>
                  </a:moveTo>
                  <a:lnTo>
                    <a:pt x="101" y="76"/>
                  </a:lnTo>
                  <a:lnTo>
                    <a:pt x="116" y="106"/>
                  </a:lnTo>
                  <a:lnTo>
                    <a:pt x="2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01"/>
            <p:cNvSpPr/>
            <p:nvPr/>
          </p:nvSpPr>
          <p:spPr>
            <a:xfrm>
              <a:off x="4319640" y="2268360"/>
              <a:ext cx="315720" cy="289080"/>
            </a:xfrm>
            <a:custGeom>
              <a:avLst/>
              <a:gdLst/>
              <a:ahLst/>
              <a:rect l="l" t="t" r="r" b="b"/>
              <a:pathLst>
                <a:path w="199" h="182">
                  <a:moveTo>
                    <a:pt x="0" y="0"/>
                  </a:moveTo>
                  <a:lnTo>
                    <a:pt x="140" y="97"/>
                  </a:lnTo>
                  <a:lnTo>
                    <a:pt x="199" y="182"/>
                  </a:lnTo>
                  <a:lnTo>
                    <a:pt x="59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02"/>
            <p:cNvSpPr/>
            <p:nvPr/>
          </p:nvSpPr>
          <p:spPr>
            <a:xfrm>
              <a:off x="4638600" y="261792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0"/>
                  </a:moveTo>
                  <a:lnTo>
                    <a:pt x="90" y="40"/>
                  </a:lnTo>
                  <a:lnTo>
                    <a:pt x="151" y="149"/>
                  </a:lnTo>
                  <a:lnTo>
                    <a:pt x="3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03"/>
          <p:cNvSpPr/>
          <p:nvPr/>
        </p:nvSpPr>
        <p:spPr>
          <a:xfrm>
            <a:off x="5137200" y="1990800"/>
            <a:ext cx="1376280" cy="704880"/>
          </a:xfrm>
          <a:custGeom>
            <a:avLst/>
            <a:gdLst/>
            <a:ahLst/>
            <a:rect l="l" t="t" r="r" b="b"/>
            <a:pathLst>
              <a:path w="367" h="188">
                <a:moveTo>
                  <a:pt x="47" y="83"/>
                </a:moveTo>
                <a:cubicBezTo>
                  <a:pt x="47" y="83"/>
                  <a:pt x="69" y="63"/>
                  <a:pt x="86" y="81"/>
                </a:cubicBezTo>
                <a:cubicBezTo>
                  <a:pt x="103" y="100"/>
                  <a:pt x="99" y="122"/>
                  <a:pt x="162" y="107"/>
                </a:cubicBezTo>
                <a:cubicBezTo>
                  <a:pt x="162" y="107"/>
                  <a:pt x="169" y="104"/>
                  <a:pt x="169" y="97"/>
                </a:cubicBezTo>
                <a:cubicBezTo>
                  <a:pt x="169" y="97"/>
                  <a:pt x="167" y="91"/>
                  <a:pt x="168" y="88"/>
                </a:cubicBezTo>
                <a:cubicBezTo>
                  <a:pt x="168" y="86"/>
                  <a:pt x="167" y="84"/>
                  <a:pt x="167" y="84"/>
                </a:cubicBezTo>
                <a:cubicBezTo>
                  <a:pt x="170" y="67"/>
                  <a:pt x="170" y="67"/>
                  <a:pt x="170" y="67"/>
                </a:cubicBezTo>
                <a:cubicBezTo>
                  <a:pt x="181" y="78"/>
                  <a:pt x="181" y="78"/>
                  <a:pt x="181" y="78"/>
                </a:cubicBezTo>
                <a:cubicBezTo>
                  <a:pt x="181" y="78"/>
                  <a:pt x="190" y="75"/>
                  <a:pt x="192" y="76"/>
                </a:cubicBezTo>
                <a:cubicBezTo>
                  <a:pt x="197" y="57"/>
                  <a:pt x="197" y="57"/>
                  <a:pt x="197" y="57"/>
                </a:cubicBezTo>
                <a:cubicBezTo>
                  <a:pt x="217" y="86"/>
                  <a:pt x="217" y="86"/>
                  <a:pt x="217" y="86"/>
                </a:cubicBezTo>
                <a:cubicBezTo>
                  <a:pt x="217" y="86"/>
                  <a:pt x="253" y="82"/>
                  <a:pt x="269" y="64"/>
                </a:cubicBezTo>
                <a:cubicBezTo>
                  <a:pt x="285" y="45"/>
                  <a:pt x="277" y="1"/>
                  <a:pt x="326" y="0"/>
                </a:cubicBezTo>
                <a:cubicBezTo>
                  <a:pt x="326" y="0"/>
                  <a:pt x="314" y="6"/>
                  <a:pt x="313" y="9"/>
                </a:cubicBezTo>
                <a:cubicBezTo>
                  <a:pt x="313" y="9"/>
                  <a:pt x="362" y="2"/>
                  <a:pt x="367" y="3"/>
                </a:cubicBezTo>
                <a:cubicBezTo>
                  <a:pt x="367" y="3"/>
                  <a:pt x="321" y="25"/>
                  <a:pt x="360" y="54"/>
                </a:cubicBezTo>
                <a:cubicBezTo>
                  <a:pt x="360" y="54"/>
                  <a:pt x="296" y="75"/>
                  <a:pt x="326" y="118"/>
                </a:cubicBezTo>
                <a:cubicBezTo>
                  <a:pt x="326" y="118"/>
                  <a:pt x="309" y="110"/>
                  <a:pt x="294" y="119"/>
                </a:cubicBezTo>
                <a:cubicBezTo>
                  <a:pt x="279" y="128"/>
                  <a:pt x="258" y="143"/>
                  <a:pt x="264" y="149"/>
                </a:cubicBezTo>
                <a:cubicBezTo>
                  <a:pt x="264" y="149"/>
                  <a:pt x="218" y="145"/>
                  <a:pt x="221" y="185"/>
                </a:cubicBezTo>
                <a:cubicBezTo>
                  <a:pt x="221" y="185"/>
                  <a:pt x="200" y="147"/>
                  <a:pt x="170" y="182"/>
                </a:cubicBezTo>
                <a:cubicBezTo>
                  <a:pt x="170" y="182"/>
                  <a:pt x="129" y="148"/>
                  <a:pt x="92" y="188"/>
                </a:cubicBezTo>
                <a:cubicBezTo>
                  <a:pt x="92" y="188"/>
                  <a:pt x="77" y="124"/>
                  <a:pt x="30" y="158"/>
                </a:cubicBezTo>
                <a:cubicBezTo>
                  <a:pt x="30" y="158"/>
                  <a:pt x="46" y="107"/>
                  <a:pt x="0" y="117"/>
                </a:cubicBezTo>
                <a:cubicBezTo>
                  <a:pt x="0" y="117"/>
                  <a:pt x="116" y="72"/>
                  <a:pt x="47" y="83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04"/>
          <p:cNvSpPr/>
          <p:nvPr/>
        </p:nvSpPr>
        <p:spPr>
          <a:xfrm>
            <a:off x="5656320" y="2695680"/>
            <a:ext cx="776160" cy="396720"/>
          </a:xfrm>
          <a:custGeom>
            <a:avLst/>
            <a:gdLst/>
            <a:ahLst/>
            <a:rect l="l" t="t" r="r" b="b"/>
            <a:pathLst>
              <a:path w="207" h="106">
                <a:moveTo>
                  <a:pt x="26" y="47"/>
                </a:moveTo>
                <a:cubicBezTo>
                  <a:pt x="26" y="47"/>
                  <a:pt x="39" y="36"/>
                  <a:pt x="48" y="46"/>
                </a:cubicBezTo>
                <a:cubicBezTo>
                  <a:pt x="58" y="56"/>
                  <a:pt x="56" y="69"/>
                  <a:pt x="91" y="61"/>
                </a:cubicBezTo>
                <a:cubicBezTo>
                  <a:pt x="91" y="61"/>
                  <a:pt x="95" y="59"/>
                  <a:pt x="95" y="55"/>
                </a:cubicBezTo>
                <a:cubicBezTo>
                  <a:pt x="95" y="55"/>
                  <a:pt x="94" y="51"/>
                  <a:pt x="94" y="50"/>
                </a:cubicBezTo>
                <a:cubicBezTo>
                  <a:pt x="95" y="49"/>
                  <a:pt x="94" y="48"/>
                  <a:pt x="94" y="48"/>
                </a:cubicBezTo>
                <a:cubicBezTo>
                  <a:pt x="96" y="38"/>
                  <a:pt x="96" y="38"/>
                  <a:pt x="96" y="38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7" y="42"/>
                  <a:pt x="108" y="4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22" y="48"/>
                  <a:pt x="122" y="48"/>
                  <a:pt x="122" y="48"/>
                </a:cubicBezTo>
                <a:cubicBezTo>
                  <a:pt x="122" y="48"/>
                  <a:pt x="142" y="47"/>
                  <a:pt x="152" y="36"/>
                </a:cubicBezTo>
                <a:cubicBezTo>
                  <a:pt x="161" y="26"/>
                  <a:pt x="156" y="1"/>
                  <a:pt x="184" y="0"/>
                </a:cubicBezTo>
                <a:cubicBezTo>
                  <a:pt x="184" y="0"/>
                  <a:pt x="177" y="3"/>
                  <a:pt x="176" y="5"/>
                </a:cubicBezTo>
                <a:cubicBezTo>
                  <a:pt x="176" y="5"/>
                  <a:pt x="204" y="1"/>
                  <a:pt x="207" y="2"/>
                </a:cubicBezTo>
                <a:cubicBezTo>
                  <a:pt x="207" y="2"/>
                  <a:pt x="181" y="14"/>
                  <a:pt x="203" y="31"/>
                </a:cubicBezTo>
                <a:cubicBezTo>
                  <a:pt x="203" y="31"/>
                  <a:pt x="167" y="42"/>
                  <a:pt x="184" y="67"/>
                </a:cubicBezTo>
                <a:cubicBezTo>
                  <a:pt x="184" y="67"/>
                  <a:pt x="174" y="62"/>
                  <a:pt x="166" y="67"/>
                </a:cubicBezTo>
                <a:cubicBezTo>
                  <a:pt x="157" y="73"/>
                  <a:pt x="145" y="81"/>
                  <a:pt x="149" y="84"/>
                </a:cubicBezTo>
                <a:cubicBezTo>
                  <a:pt x="149" y="84"/>
                  <a:pt x="123" y="82"/>
                  <a:pt x="124" y="104"/>
                </a:cubicBezTo>
                <a:cubicBezTo>
                  <a:pt x="124" y="104"/>
                  <a:pt x="113" y="83"/>
                  <a:pt x="96" y="103"/>
                </a:cubicBezTo>
                <a:cubicBezTo>
                  <a:pt x="96" y="103"/>
                  <a:pt x="73" y="84"/>
                  <a:pt x="52" y="106"/>
                </a:cubicBezTo>
                <a:cubicBezTo>
                  <a:pt x="52" y="106"/>
                  <a:pt x="43" y="70"/>
                  <a:pt x="17" y="89"/>
                </a:cubicBezTo>
                <a:cubicBezTo>
                  <a:pt x="17" y="89"/>
                  <a:pt x="26" y="61"/>
                  <a:pt x="0" y="66"/>
                </a:cubicBezTo>
                <a:cubicBezTo>
                  <a:pt x="0" y="66"/>
                  <a:pt x="65" y="41"/>
                  <a:pt x="26" y="47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05"/>
          <p:cNvSpPr/>
          <p:nvPr/>
        </p:nvSpPr>
        <p:spPr>
          <a:xfrm flipH="1">
            <a:off x="5261760" y="3048120"/>
            <a:ext cx="520920" cy="266760"/>
          </a:xfrm>
          <a:custGeom>
            <a:avLst/>
            <a:gdLst/>
            <a:ahLst/>
            <a:rect l="l" t="t" r="r" b="b"/>
            <a:pathLst>
              <a:path w="139" h="71">
                <a:moveTo>
                  <a:pt x="18" y="31"/>
                </a:moveTo>
                <a:cubicBezTo>
                  <a:pt x="18" y="31"/>
                  <a:pt x="26" y="24"/>
                  <a:pt x="33" y="31"/>
                </a:cubicBezTo>
                <a:cubicBezTo>
                  <a:pt x="39" y="38"/>
                  <a:pt x="38" y="46"/>
                  <a:pt x="61" y="40"/>
                </a:cubicBezTo>
                <a:cubicBezTo>
                  <a:pt x="61" y="40"/>
                  <a:pt x="64" y="39"/>
                  <a:pt x="64" y="36"/>
                </a:cubicBezTo>
                <a:cubicBezTo>
                  <a:pt x="64" y="36"/>
                  <a:pt x="63" y="34"/>
                  <a:pt x="64" y="33"/>
                </a:cubicBezTo>
                <a:cubicBezTo>
                  <a:pt x="64" y="32"/>
                  <a:pt x="63" y="32"/>
                  <a:pt x="63" y="32"/>
                </a:cubicBezTo>
                <a:cubicBezTo>
                  <a:pt x="64" y="25"/>
                  <a:pt x="64" y="25"/>
                  <a:pt x="64" y="25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9"/>
                  <a:pt x="72" y="28"/>
                  <a:pt x="73" y="28"/>
                </a:cubicBezTo>
                <a:cubicBezTo>
                  <a:pt x="75" y="21"/>
                  <a:pt x="75" y="21"/>
                  <a:pt x="75" y="2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96" y="31"/>
                  <a:pt x="102" y="24"/>
                </a:cubicBezTo>
                <a:cubicBezTo>
                  <a:pt x="108" y="17"/>
                  <a:pt x="105" y="0"/>
                  <a:pt x="124" y="0"/>
                </a:cubicBezTo>
                <a:cubicBezTo>
                  <a:pt x="124" y="0"/>
                  <a:pt x="119" y="2"/>
                  <a:pt x="119" y="3"/>
                </a:cubicBezTo>
                <a:cubicBezTo>
                  <a:pt x="119" y="3"/>
                  <a:pt x="137" y="0"/>
                  <a:pt x="139" y="1"/>
                </a:cubicBezTo>
                <a:cubicBezTo>
                  <a:pt x="139" y="1"/>
                  <a:pt x="122" y="9"/>
                  <a:pt x="137" y="20"/>
                </a:cubicBezTo>
                <a:cubicBezTo>
                  <a:pt x="137" y="20"/>
                  <a:pt x="112" y="28"/>
                  <a:pt x="124" y="45"/>
                </a:cubicBezTo>
                <a:cubicBezTo>
                  <a:pt x="124" y="45"/>
                  <a:pt x="117" y="41"/>
                  <a:pt x="112" y="45"/>
                </a:cubicBezTo>
                <a:cubicBezTo>
                  <a:pt x="106" y="48"/>
                  <a:pt x="98" y="54"/>
                  <a:pt x="100" y="56"/>
                </a:cubicBezTo>
                <a:cubicBezTo>
                  <a:pt x="100" y="56"/>
                  <a:pt x="83" y="55"/>
                  <a:pt x="84" y="70"/>
                </a:cubicBezTo>
                <a:cubicBezTo>
                  <a:pt x="84" y="70"/>
                  <a:pt x="76" y="55"/>
                  <a:pt x="64" y="69"/>
                </a:cubicBezTo>
                <a:cubicBezTo>
                  <a:pt x="64" y="69"/>
                  <a:pt x="49" y="56"/>
                  <a:pt x="35" y="71"/>
                </a:cubicBezTo>
                <a:cubicBezTo>
                  <a:pt x="35" y="71"/>
                  <a:pt x="29" y="47"/>
                  <a:pt x="11" y="60"/>
                </a:cubicBezTo>
                <a:cubicBezTo>
                  <a:pt x="11" y="60"/>
                  <a:pt x="17" y="41"/>
                  <a:pt x="0" y="44"/>
                </a:cubicBezTo>
                <a:cubicBezTo>
                  <a:pt x="0" y="44"/>
                  <a:pt x="44" y="27"/>
                  <a:pt x="18" y="31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15"/>
          <p:cNvGrpSpPr/>
          <p:nvPr/>
        </p:nvGrpSpPr>
        <p:grpSpPr>
          <a:xfrm>
            <a:off x="852480" y="3914640"/>
            <a:ext cx="922320" cy="1101960"/>
            <a:chOff x="852480" y="3914640"/>
            <a:chExt cx="922320" cy="1101960"/>
          </a:xfrm>
        </p:grpSpPr>
        <p:sp>
          <p:nvSpPr>
            <p:cNvPr id="263" name="Freeform 265"/>
            <p:cNvSpPr/>
            <p:nvPr/>
          </p:nvSpPr>
          <p:spPr>
            <a:xfrm>
              <a:off x="1500120" y="4091040"/>
              <a:ext cx="274680" cy="66816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3" y="164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72" y="153"/>
                    <a:pt x="72" y="153"/>
                    <a:pt x="72" y="153"/>
                  </a:cubicBezTo>
                  <a:cubicBezTo>
                    <a:pt x="57" y="149"/>
                    <a:pt x="57" y="149"/>
                    <a:pt x="57" y="149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72" y="126"/>
                    <a:pt x="72" y="126"/>
                    <a:pt x="72" y="126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6" y="87"/>
                    <a:pt x="66" y="87"/>
                    <a:pt x="66" y="87"/>
                  </a:cubicBezTo>
                  <a:cubicBezTo>
                    <a:pt x="71" y="79"/>
                    <a:pt x="57" y="71"/>
                    <a:pt x="57" y="71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60" y="62"/>
                    <a:pt x="60" y="62"/>
                    <a:pt x="60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2" y="53"/>
                    <a:pt x="62" y="53"/>
                    <a:pt x="62" y="53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55" y="37"/>
                    <a:pt x="55" y="37"/>
                    <a:pt x="55" y="37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7" y="19"/>
                    <a:pt x="57" y="11"/>
                    <a:pt x="52" y="11"/>
                  </a:cubicBezTo>
                  <a:cubicBezTo>
                    <a:pt x="48" y="11"/>
                    <a:pt x="39" y="0"/>
                    <a:pt x="39" y="0"/>
                  </a:cubicBezTo>
                  <a:cubicBezTo>
                    <a:pt x="38" y="13"/>
                    <a:pt x="25" y="16"/>
                    <a:pt x="25" y="16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9" y="60"/>
                    <a:pt x="10" y="64"/>
                  </a:cubicBezTo>
                  <a:cubicBezTo>
                    <a:pt x="10" y="67"/>
                    <a:pt x="15" y="62"/>
                    <a:pt x="16" y="72"/>
                  </a:cubicBezTo>
                  <a:cubicBezTo>
                    <a:pt x="18" y="82"/>
                    <a:pt x="10" y="96"/>
                    <a:pt x="10" y="96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5" y="145"/>
                    <a:pt x="5" y="145"/>
                    <a:pt x="5" y="145"/>
                  </a:cubicBezTo>
                  <a:cubicBezTo>
                    <a:pt x="15" y="148"/>
                    <a:pt x="15" y="148"/>
                    <a:pt x="15" y="148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18" y="163"/>
                    <a:pt x="18" y="163"/>
                    <a:pt x="18" y="16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33" y="178"/>
                    <a:pt x="33" y="178"/>
                    <a:pt x="33" y="178"/>
                  </a:cubicBezTo>
                  <a:cubicBezTo>
                    <a:pt x="35" y="178"/>
                    <a:pt x="37" y="177"/>
                    <a:pt x="39" y="176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55" y="169"/>
                    <a:pt x="55" y="169"/>
                    <a:pt x="55" y="169"/>
                  </a:cubicBezTo>
                  <a:cubicBezTo>
                    <a:pt x="54" y="169"/>
                    <a:pt x="54" y="169"/>
                    <a:pt x="54" y="169"/>
                  </a:cubicBezTo>
                  <a:cubicBezTo>
                    <a:pt x="56" y="169"/>
                    <a:pt x="57" y="170"/>
                    <a:pt x="59" y="170"/>
                  </a:cubicBezTo>
                  <a:cubicBezTo>
                    <a:pt x="59" y="170"/>
                    <a:pt x="59" y="170"/>
                    <a:pt x="59" y="170"/>
                  </a:cubicBezTo>
                  <a:cubicBezTo>
                    <a:pt x="63" y="170"/>
                    <a:pt x="63" y="170"/>
                    <a:pt x="63" y="170"/>
                  </a:cubicBezTo>
                  <a:cubicBezTo>
                    <a:pt x="63" y="168"/>
                    <a:pt x="63" y="168"/>
                    <a:pt x="63" y="168"/>
                  </a:cubicBezTo>
                  <a:cubicBezTo>
                    <a:pt x="64" y="167"/>
                    <a:pt x="64" y="167"/>
                    <a:pt x="64" y="167"/>
                  </a:cubicBezTo>
                  <a:cubicBezTo>
                    <a:pt x="64" y="166"/>
                    <a:pt x="64" y="166"/>
                    <a:pt x="64" y="166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66"/>
            <p:cNvSpPr/>
            <p:nvPr/>
          </p:nvSpPr>
          <p:spPr>
            <a:xfrm>
              <a:off x="1158840" y="3914640"/>
              <a:ext cx="349200" cy="971640"/>
            </a:xfrm>
            <a:custGeom>
              <a:avLst/>
              <a:gdLst/>
              <a:ahLst/>
              <a:rect l="l" t="t" r="r" b="b"/>
              <a:pathLst>
                <a:path w="93" h="259">
                  <a:moveTo>
                    <a:pt x="82" y="176"/>
                  </a:moveTo>
                  <a:cubicBezTo>
                    <a:pt x="92" y="173"/>
                    <a:pt x="92" y="173"/>
                    <a:pt x="92" y="173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82" y="149"/>
                    <a:pt x="82" y="149"/>
                    <a:pt x="82" y="149"/>
                  </a:cubicBezTo>
                  <a:cubicBezTo>
                    <a:pt x="91" y="137"/>
                    <a:pt x="91" y="137"/>
                    <a:pt x="91" y="137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7" y="119"/>
                    <a:pt x="87" y="119"/>
                    <a:pt x="87" y="119"/>
                  </a:cubicBezTo>
                  <a:cubicBezTo>
                    <a:pt x="88" y="113"/>
                    <a:pt x="88" y="113"/>
                    <a:pt x="88" y="113"/>
                  </a:cubicBezTo>
                  <a:cubicBezTo>
                    <a:pt x="85" y="104"/>
                    <a:pt x="85" y="104"/>
                    <a:pt x="85" y="104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2" y="83"/>
                    <a:pt x="82" y="83"/>
                    <a:pt x="82" y="83"/>
                  </a:cubicBezTo>
                  <a:cubicBezTo>
                    <a:pt x="82" y="74"/>
                    <a:pt x="82" y="74"/>
                    <a:pt x="82" y="7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2" y="55"/>
                    <a:pt x="82" y="55"/>
                    <a:pt x="82" y="55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78" y="36"/>
                    <a:pt x="78" y="36"/>
                    <a:pt x="78" y="36"/>
                  </a:cubicBezTo>
                  <a:cubicBezTo>
                    <a:pt x="78" y="36"/>
                    <a:pt x="77" y="33"/>
                    <a:pt x="74" y="31"/>
                  </a:cubicBezTo>
                  <a:cubicBezTo>
                    <a:pt x="70" y="29"/>
                    <a:pt x="75" y="16"/>
                    <a:pt x="66" y="16"/>
                  </a:cubicBezTo>
                  <a:cubicBezTo>
                    <a:pt x="56" y="15"/>
                    <a:pt x="48" y="0"/>
                    <a:pt x="48" y="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8" y="87"/>
                    <a:pt x="8" y="87"/>
                    <a:pt x="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4" y="118"/>
                    <a:pt x="14" y="118"/>
                    <a:pt x="14" y="118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0" y="133"/>
                    <a:pt x="10" y="133"/>
                    <a:pt x="10" y="133"/>
                  </a:cubicBezTo>
                  <a:cubicBezTo>
                    <a:pt x="12" y="135"/>
                    <a:pt x="14" y="137"/>
                    <a:pt x="15" y="139"/>
                  </a:cubicBezTo>
                  <a:cubicBezTo>
                    <a:pt x="18" y="142"/>
                    <a:pt x="13" y="144"/>
                    <a:pt x="12" y="144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3" y="150"/>
                    <a:pt x="3" y="150"/>
                    <a:pt x="3" y="150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1" y="190"/>
                    <a:pt x="11" y="190"/>
                    <a:pt x="11" y="190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3" y="196"/>
                    <a:pt x="3" y="196"/>
                    <a:pt x="3" y="196"/>
                  </a:cubicBezTo>
                  <a:cubicBezTo>
                    <a:pt x="10" y="200"/>
                    <a:pt x="10" y="200"/>
                    <a:pt x="10" y="200"/>
                  </a:cubicBezTo>
                  <a:cubicBezTo>
                    <a:pt x="15" y="199"/>
                    <a:pt x="18" y="200"/>
                    <a:pt x="17" y="203"/>
                  </a:cubicBezTo>
                  <a:cubicBezTo>
                    <a:pt x="16" y="207"/>
                    <a:pt x="11" y="208"/>
                    <a:pt x="5" y="207"/>
                  </a:cubicBezTo>
                  <a:cubicBezTo>
                    <a:pt x="13" y="221"/>
                    <a:pt x="13" y="221"/>
                    <a:pt x="13" y="221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40" y="232"/>
                    <a:pt x="40" y="232"/>
                    <a:pt x="40" y="232"/>
                  </a:cubicBezTo>
                  <a:cubicBezTo>
                    <a:pt x="40" y="232"/>
                    <a:pt x="41" y="258"/>
                    <a:pt x="40" y="259"/>
                  </a:cubicBezTo>
                  <a:cubicBezTo>
                    <a:pt x="43" y="259"/>
                    <a:pt x="45" y="258"/>
                    <a:pt x="47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49" y="231"/>
                    <a:pt x="49" y="231"/>
                    <a:pt x="49" y="231"/>
                  </a:cubicBezTo>
                  <a:cubicBezTo>
                    <a:pt x="87" y="240"/>
                    <a:pt x="87" y="240"/>
                    <a:pt x="87" y="240"/>
                  </a:cubicBezTo>
                  <a:cubicBezTo>
                    <a:pt x="93" y="234"/>
                    <a:pt x="93" y="234"/>
                    <a:pt x="93" y="234"/>
                  </a:cubicBezTo>
                  <a:cubicBezTo>
                    <a:pt x="82" y="225"/>
                    <a:pt x="82" y="225"/>
                    <a:pt x="82" y="225"/>
                  </a:cubicBezTo>
                  <a:cubicBezTo>
                    <a:pt x="92" y="223"/>
                    <a:pt x="92" y="223"/>
                    <a:pt x="92" y="223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71" y="206"/>
                    <a:pt x="71" y="206"/>
                    <a:pt x="71" y="206"/>
                  </a:cubicBezTo>
                  <a:cubicBezTo>
                    <a:pt x="89" y="197"/>
                    <a:pt x="89" y="197"/>
                    <a:pt x="89" y="197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89"/>
                    <a:pt x="89" y="189"/>
                    <a:pt x="89" y="189"/>
                  </a:cubicBezTo>
                  <a:lnTo>
                    <a:pt x="8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67"/>
            <p:cNvSpPr/>
            <p:nvPr/>
          </p:nvSpPr>
          <p:spPr>
            <a:xfrm>
              <a:off x="852480" y="4184640"/>
              <a:ext cx="339840" cy="83196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69" y="178"/>
                  </a:moveTo>
                  <a:cubicBezTo>
                    <a:pt x="69" y="177"/>
                    <a:pt x="69" y="177"/>
                    <a:pt x="69" y="177"/>
                  </a:cubicBezTo>
                  <a:cubicBezTo>
                    <a:pt x="69" y="177"/>
                    <a:pt x="77" y="174"/>
                    <a:pt x="84" y="173"/>
                  </a:cubicBezTo>
                  <a:cubicBezTo>
                    <a:pt x="77" y="169"/>
                    <a:pt x="77" y="169"/>
                    <a:pt x="77" y="169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85" y="163"/>
                    <a:pt x="85" y="163"/>
                    <a:pt x="85" y="163"/>
                  </a:cubicBezTo>
                  <a:cubicBezTo>
                    <a:pt x="90" y="156"/>
                    <a:pt x="90" y="156"/>
                    <a:pt x="90" y="156"/>
                  </a:cubicBezTo>
                  <a:cubicBezTo>
                    <a:pt x="74" y="146"/>
                    <a:pt x="74" y="146"/>
                    <a:pt x="74" y="146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42"/>
                    <a:pt x="86" y="142"/>
                    <a:pt x="86" y="142"/>
                  </a:cubicBezTo>
                  <a:cubicBezTo>
                    <a:pt x="84" y="131"/>
                    <a:pt x="84" y="131"/>
                    <a:pt x="84" y="131"/>
                  </a:cubicBezTo>
                  <a:cubicBezTo>
                    <a:pt x="88" y="129"/>
                    <a:pt x="88" y="129"/>
                    <a:pt x="88" y="129"/>
                  </a:cubicBezTo>
                  <a:cubicBezTo>
                    <a:pt x="77" y="123"/>
                    <a:pt x="77" y="123"/>
                    <a:pt x="77" y="123"/>
                  </a:cubicBezTo>
                  <a:cubicBezTo>
                    <a:pt x="85" y="119"/>
                    <a:pt x="85" y="119"/>
                    <a:pt x="85" y="119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17"/>
                    <a:pt x="86" y="118"/>
                    <a:pt x="86" y="118"/>
                  </a:cubicBezTo>
                  <a:cubicBezTo>
                    <a:pt x="77" y="108"/>
                    <a:pt x="77" y="108"/>
                    <a:pt x="77" y="108"/>
                  </a:cubicBezTo>
                  <a:cubicBezTo>
                    <a:pt x="78" y="103"/>
                    <a:pt x="81" y="104"/>
                    <a:pt x="84" y="106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3" y="94"/>
                    <a:pt x="83" y="94"/>
                    <a:pt x="83" y="94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79" y="46"/>
                    <a:pt x="79" y="46"/>
                    <a:pt x="79" y="46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59" y="13"/>
                    <a:pt x="49" y="0"/>
                    <a:pt x="49" y="0"/>
                  </a:cubicBezTo>
                  <a:cubicBezTo>
                    <a:pt x="49" y="9"/>
                    <a:pt x="34" y="17"/>
                    <a:pt x="34" y="17"/>
                  </a:cubicBezTo>
                  <a:cubicBezTo>
                    <a:pt x="38" y="24"/>
                    <a:pt x="38" y="24"/>
                    <a:pt x="38" y="24"/>
                  </a:cubicBezTo>
                  <a:cubicBezTo>
                    <a:pt x="29" y="38"/>
                    <a:pt x="16" y="75"/>
                    <a:pt x="16" y="75"/>
                  </a:cubicBezTo>
                  <a:cubicBezTo>
                    <a:pt x="22" y="84"/>
                    <a:pt x="22" y="84"/>
                    <a:pt x="22" y="84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1" y="130"/>
                    <a:pt x="11" y="130"/>
                    <a:pt x="11" y="130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19" y="163"/>
                    <a:pt x="19" y="163"/>
                    <a:pt x="19" y="163"/>
                  </a:cubicBezTo>
                  <a:cubicBezTo>
                    <a:pt x="11" y="172"/>
                    <a:pt x="11" y="172"/>
                    <a:pt x="11" y="172"/>
                  </a:cubicBezTo>
                  <a:cubicBezTo>
                    <a:pt x="23" y="174"/>
                    <a:pt x="23" y="174"/>
                    <a:pt x="23" y="174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94"/>
                    <a:pt x="26" y="194"/>
                    <a:pt x="26" y="19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34" y="199"/>
                    <a:pt x="34" y="199"/>
                    <a:pt x="34" y="199"/>
                  </a:cubicBezTo>
                  <a:cubicBezTo>
                    <a:pt x="43" y="200"/>
                    <a:pt x="43" y="200"/>
                    <a:pt x="43" y="200"/>
                  </a:cubicBezTo>
                  <a:cubicBezTo>
                    <a:pt x="44" y="221"/>
                    <a:pt x="44" y="221"/>
                    <a:pt x="44" y="221"/>
                  </a:cubicBezTo>
                  <a:cubicBezTo>
                    <a:pt x="45" y="221"/>
                    <a:pt x="46" y="222"/>
                    <a:pt x="49" y="222"/>
                  </a:cubicBezTo>
                  <a:cubicBezTo>
                    <a:pt x="51" y="198"/>
                    <a:pt x="51" y="198"/>
                    <a:pt x="51" y="198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87" y="200"/>
                    <a:pt x="87" y="200"/>
                    <a:pt x="87" y="200"/>
                  </a:cubicBezTo>
                  <a:cubicBezTo>
                    <a:pt x="81" y="194"/>
                    <a:pt x="81" y="194"/>
                    <a:pt x="81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79" y="180"/>
                    <a:pt x="79" y="180"/>
                    <a:pt x="79" y="180"/>
                  </a:cubicBezTo>
                  <a:cubicBezTo>
                    <a:pt x="74" y="179"/>
                    <a:pt x="69" y="178"/>
                    <a:pt x="69" y="1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68"/>
            <p:cNvSpPr/>
            <p:nvPr/>
          </p:nvSpPr>
          <p:spPr>
            <a:xfrm>
              <a:off x="1646280" y="4091040"/>
              <a:ext cx="82440" cy="968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cubicBezTo>
                    <a:pt x="0" y="0"/>
                    <a:pt x="8" y="11"/>
                    <a:pt x="14" y="11"/>
                  </a:cubicBezTo>
                  <a:cubicBezTo>
                    <a:pt x="14" y="11"/>
                    <a:pt x="18" y="11"/>
                    <a:pt x="18" y="19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5"/>
                    <a:pt x="10" y="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69"/>
            <p:cNvSpPr/>
            <p:nvPr/>
          </p:nvSpPr>
          <p:spPr>
            <a:xfrm>
              <a:off x="1616040" y="4140360"/>
              <a:ext cx="3024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7" y="0"/>
                    <a:pt x="5" y="4"/>
                    <a:pt x="3" y="4"/>
                  </a:cubicBezTo>
                  <a:cubicBezTo>
                    <a:pt x="0" y="4"/>
                    <a:pt x="5" y="7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0"/>
            <p:cNvSpPr/>
            <p:nvPr/>
          </p:nvSpPr>
          <p:spPr>
            <a:xfrm>
              <a:off x="1684440" y="419256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1" y="14"/>
                  </a:lnTo>
                  <a:lnTo>
                    <a:pt x="1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1"/>
            <p:cNvSpPr/>
            <p:nvPr/>
          </p:nvSpPr>
          <p:spPr>
            <a:xfrm>
              <a:off x="1654200" y="4233960"/>
              <a:ext cx="19080" cy="52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5" y="0"/>
                  </a:moveTo>
                  <a:lnTo>
                    <a:pt x="12" y="16"/>
                  </a:lnTo>
                  <a:lnTo>
                    <a:pt x="5" y="23"/>
                  </a:lnTo>
                  <a:lnTo>
                    <a:pt x="12" y="3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2"/>
            <p:cNvSpPr/>
            <p:nvPr/>
          </p:nvSpPr>
          <p:spPr>
            <a:xfrm>
              <a:off x="1698480" y="4319640"/>
              <a:ext cx="71640" cy="982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3" y="0"/>
                  </a:moveTo>
                  <a:cubicBezTo>
                    <a:pt x="3" y="1"/>
                    <a:pt x="4" y="10"/>
                    <a:pt x="4" y="10"/>
                  </a:cubicBezTo>
                  <a:cubicBezTo>
                    <a:pt x="4" y="10"/>
                    <a:pt x="19" y="18"/>
                    <a:pt x="13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3"/>
            <p:cNvSpPr/>
            <p:nvPr/>
          </p:nvSpPr>
          <p:spPr>
            <a:xfrm>
              <a:off x="1684440" y="4465800"/>
              <a:ext cx="90360" cy="982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7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26"/>
                    <a:pt x="23" y="26"/>
                  </a:cubicBezTo>
                  <a:cubicBezTo>
                    <a:pt x="24" y="26"/>
                    <a:pt x="23" y="26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4"/>
            <p:cNvSpPr/>
            <p:nvPr/>
          </p:nvSpPr>
          <p:spPr>
            <a:xfrm>
              <a:off x="1703520" y="462744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0"/>
                  </a:moveTo>
                  <a:lnTo>
                    <a:pt x="7" y="14"/>
                  </a:lnTo>
                  <a:lnTo>
                    <a:pt x="42" y="23"/>
                  </a:lnTo>
                  <a:lnTo>
                    <a:pt x="45" y="28"/>
                  </a:lnTo>
                  <a:lnTo>
                    <a:pt x="26" y="31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5"/>
            <p:cNvSpPr/>
            <p:nvPr/>
          </p:nvSpPr>
          <p:spPr>
            <a:xfrm>
              <a:off x="1609560" y="4529160"/>
              <a:ext cx="4788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9" y="15"/>
                  </a:moveTo>
                  <a:lnTo>
                    <a:pt x="28" y="33"/>
                  </a:lnTo>
                  <a:lnTo>
                    <a:pt x="19" y="38"/>
                  </a:lnTo>
                  <a:lnTo>
                    <a:pt x="30" y="48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4" y="5"/>
                  </a:lnTo>
                  <a:lnTo>
                    <a:pt x="7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6"/>
            <p:cNvSpPr/>
            <p:nvPr/>
          </p:nvSpPr>
          <p:spPr>
            <a:xfrm>
              <a:off x="1582560" y="44290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5" y="9"/>
                  </a:lnTo>
                  <a:lnTo>
                    <a:pt x="19" y="16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77"/>
            <p:cNvSpPr/>
            <p:nvPr/>
          </p:nvSpPr>
          <p:spPr>
            <a:xfrm>
              <a:off x="1440000" y="436896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0"/>
                  </a:moveTo>
                  <a:lnTo>
                    <a:pt x="38" y="38"/>
                  </a:lnTo>
                  <a:lnTo>
                    <a:pt x="29" y="49"/>
                  </a:lnTo>
                  <a:lnTo>
                    <a:pt x="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78"/>
            <p:cNvSpPr/>
            <p:nvPr/>
          </p:nvSpPr>
          <p:spPr>
            <a:xfrm>
              <a:off x="1406520" y="42480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10" y="12"/>
                  </a:moveTo>
                  <a:lnTo>
                    <a:pt x="45" y="36"/>
                  </a:lnTo>
                  <a:lnTo>
                    <a:pt x="50" y="45"/>
                  </a:lnTo>
                  <a:lnTo>
                    <a:pt x="31" y="45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79"/>
            <p:cNvSpPr/>
            <p:nvPr/>
          </p:nvSpPr>
          <p:spPr>
            <a:xfrm>
              <a:off x="1398600" y="409428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" y="0"/>
                  </a:moveTo>
                  <a:lnTo>
                    <a:pt x="5" y="10"/>
                  </a:lnTo>
                  <a:lnTo>
                    <a:pt x="43" y="17"/>
                  </a:lnTo>
                  <a:lnTo>
                    <a:pt x="41" y="26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0"/>
            <p:cNvSpPr/>
            <p:nvPr/>
          </p:nvSpPr>
          <p:spPr>
            <a:xfrm>
              <a:off x="1376280" y="403056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12" y="12"/>
                  </a:moveTo>
                  <a:lnTo>
                    <a:pt x="12" y="22"/>
                  </a:lnTo>
                  <a:lnTo>
                    <a:pt x="50" y="33"/>
                  </a:lnTo>
                  <a:lnTo>
                    <a:pt x="38" y="40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1"/>
            <p:cNvSpPr/>
            <p:nvPr/>
          </p:nvSpPr>
          <p:spPr>
            <a:xfrm>
              <a:off x="1339920" y="3914640"/>
              <a:ext cx="88920" cy="860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9" y="15"/>
                    <a:pt x="16" y="15"/>
                  </a:cubicBezTo>
                  <a:cubicBezTo>
                    <a:pt x="16" y="15"/>
                    <a:pt x="21" y="15"/>
                    <a:pt x="23" y="19"/>
                  </a:cubicBezTo>
                  <a:cubicBezTo>
                    <a:pt x="24" y="22"/>
                    <a:pt x="22" y="21"/>
                    <a:pt x="22" y="21"/>
                  </a:cubicBezTo>
                  <a:cubicBezTo>
                    <a:pt x="22" y="21"/>
                    <a:pt x="17" y="23"/>
                    <a:pt x="13" y="19"/>
                  </a:cubicBezTo>
                  <a:cubicBezTo>
                    <a:pt x="9" y="1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82"/>
            <p:cNvSpPr/>
            <p:nvPr/>
          </p:nvSpPr>
          <p:spPr>
            <a:xfrm>
              <a:off x="1274760" y="4200480"/>
              <a:ext cx="65160" cy="525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5" y="3"/>
                  </a:moveTo>
                  <a:cubicBezTo>
                    <a:pt x="8" y="5"/>
                    <a:pt x="12" y="3"/>
                    <a:pt x="12" y="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3"/>
            <p:cNvSpPr/>
            <p:nvPr/>
          </p:nvSpPr>
          <p:spPr>
            <a:xfrm>
              <a:off x="1357200" y="444672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2" y="12"/>
                  </a:moveTo>
                  <a:lnTo>
                    <a:pt x="48" y="26"/>
                  </a:lnTo>
                  <a:lnTo>
                    <a:pt x="48" y="41"/>
                  </a:lnTo>
                  <a:lnTo>
                    <a:pt x="22" y="36"/>
                  </a:lnTo>
                  <a:lnTo>
                    <a:pt x="0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4"/>
            <p:cNvSpPr/>
            <p:nvPr/>
          </p:nvSpPr>
          <p:spPr>
            <a:xfrm>
              <a:off x="1414440" y="4672080"/>
              <a:ext cx="90360" cy="572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" y="0"/>
                  </a:moveTo>
                  <a:lnTo>
                    <a:pt x="7" y="10"/>
                  </a:lnTo>
                  <a:lnTo>
                    <a:pt x="57" y="26"/>
                  </a:lnTo>
                  <a:lnTo>
                    <a:pt x="57" y="36"/>
                  </a:lnTo>
                  <a:lnTo>
                    <a:pt x="0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5"/>
            <p:cNvSpPr/>
            <p:nvPr/>
          </p:nvSpPr>
          <p:spPr>
            <a:xfrm>
              <a:off x="1309680" y="4630680"/>
              <a:ext cx="25560" cy="38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3" y="4"/>
                    <a:pt x="7" y="9"/>
                    <a:pt x="7" y="9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86"/>
            <p:cNvSpPr/>
            <p:nvPr/>
          </p:nvSpPr>
          <p:spPr>
            <a:xfrm>
              <a:off x="1114560" y="4484520"/>
              <a:ext cx="5544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2" y="0"/>
                  </a:moveTo>
                  <a:lnTo>
                    <a:pt x="7" y="12"/>
                  </a:lnTo>
                  <a:lnTo>
                    <a:pt x="21" y="19"/>
                  </a:lnTo>
                  <a:lnTo>
                    <a:pt x="35" y="43"/>
                  </a:lnTo>
                  <a:lnTo>
                    <a:pt x="33" y="61"/>
                  </a:lnTo>
                  <a:lnTo>
                    <a:pt x="16" y="50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87"/>
            <p:cNvSpPr/>
            <p:nvPr/>
          </p:nvSpPr>
          <p:spPr>
            <a:xfrm>
              <a:off x="1031760" y="4533840"/>
              <a:ext cx="41400" cy="745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8"/>
                  </a:moveTo>
                  <a:cubicBezTo>
                    <a:pt x="2" y="9"/>
                    <a:pt x="6" y="15"/>
                    <a:pt x="6" y="1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88"/>
            <p:cNvSpPr/>
            <p:nvPr/>
          </p:nvSpPr>
          <p:spPr>
            <a:xfrm>
              <a:off x="1136520" y="4646520"/>
              <a:ext cx="446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cubicBezTo>
                    <a:pt x="8" y="3"/>
                    <a:pt x="12" y="6"/>
                    <a:pt x="12" y="6"/>
                  </a:cubicBezTo>
                  <a:cubicBezTo>
                    <a:pt x="7" y="10"/>
                    <a:pt x="7" y="10"/>
                    <a:pt x="7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89"/>
            <p:cNvSpPr/>
            <p:nvPr/>
          </p:nvSpPr>
          <p:spPr>
            <a:xfrm>
              <a:off x="1122480" y="4721400"/>
              <a:ext cx="6660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" y="0"/>
                  </a:moveTo>
                  <a:lnTo>
                    <a:pt x="4" y="7"/>
                  </a:lnTo>
                  <a:lnTo>
                    <a:pt x="42" y="31"/>
                  </a:lnTo>
                  <a:lnTo>
                    <a:pt x="26" y="3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0"/>
            <p:cNvSpPr/>
            <p:nvPr/>
          </p:nvSpPr>
          <p:spPr>
            <a:xfrm>
              <a:off x="971640" y="471024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0"/>
                  </a:moveTo>
                  <a:lnTo>
                    <a:pt x="10" y="1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1"/>
            <p:cNvSpPr/>
            <p:nvPr/>
          </p:nvSpPr>
          <p:spPr>
            <a:xfrm>
              <a:off x="1128600" y="48974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7" y="9"/>
                  </a:moveTo>
                  <a:lnTo>
                    <a:pt x="26" y="19"/>
                  </a:lnTo>
                  <a:lnTo>
                    <a:pt x="17" y="21"/>
                  </a:lnTo>
                  <a:lnTo>
                    <a:pt x="0" y="9"/>
                  </a:lnTo>
                  <a:lnTo>
                    <a:pt x="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2"/>
            <p:cNvSpPr/>
            <p:nvPr/>
          </p:nvSpPr>
          <p:spPr>
            <a:xfrm>
              <a:off x="1103400" y="483696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" y="0"/>
                  </a:moveTo>
                  <a:lnTo>
                    <a:pt x="5" y="10"/>
                  </a:lnTo>
                  <a:lnTo>
                    <a:pt x="28" y="14"/>
                  </a:lnTo>
                  <a:lnTo>
                    <a:pt x="33" y="2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3"/>
            <p:cNvSpPr/>
            <p:nvPr/>
          </p:nvSpPr>
          <p:spPr>
            <a:xfrm>
              <a:off x="1062000" y="4770360"/>
              <a:ext cx="25560" cy="47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9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0" y="10"/>
                    <a:pt x="0" y="10"/>
                  </a:cubicBezTo>
                  <a:cubicBezTo>
                    <a:pt x="0" y="10"/>
                    <a:pt x="3" y="0"/>
                    <a:pt x="3" y="0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4"/>
            <p:cNvSpPr/>
            <p:nvPr/>
          </p:nvSpPr>
          <p:spPr>
            <a:xfrm>
              <a:off x="1081080" y="4294080"/>
              <a:ext cx="63360" cy="478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1" y="9"/>
                  </a:moveTo>
                  <a:lnTo>
                    <a:pt x="28" y="23"/>
                  </a:lnTo>
                  <a:lnTo>
                    <a:pt x="40" y="23"/>
                  </a:lnTo>
                  <a:lnTo>
                    <a:pt x="28" y="30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5"/>
            <p:cNvSpPr/>
            <p:nvPr/>
          </p:nvSpPr>
          <p:spPr>
            <a:xfrm>
              <a:off x="1035000" y="4184640"/>
              <a:ext cx="76320" cy="60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5"/>
                    <a:pt x="19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96"/>
            <p:cNvSpPr/>
            <p:nvPr/>
          </p:nvSpPr>
          <p:spPr>
            <a:xfrm>
              <a:off x="1009800" y="429408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9" y="0"/>
                  </a:moveTo>
                  <a:lnTo>
                    <a:pt x="19" y="28"/>
                  </a:lnTo>
                  <a:lnTo>
                    <a:pt x="0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64"/>
          <p:cNvSpPr/>
          <p:nvPr/>
        </p:nvSpPr>
        <p:spPr>
          <a:xfrm>
            <a:off x="3000240" y="2100240"/>
            <a:ext cx="1852920" cy="1341360"/>
          </a:xfrm>
          <a:custGeom>
            <a:avLst/>
            <a:gdLst/>
            <a:ahLst/>
            <a:rect l="l" t="t" r="r" b="b"/>
            <a:pathLst>
              <a:path w="494" h="358">
                <a:moveTo>
                  <a:pt x="285" y="305"/>
                </a:moveTo>
                <a:cubicBezTo>
                  <a:pt x="285" y="305"/>
                  <a:pt x="284" y="305"/>
                  <a:pt x="284" y="305"/>
                </a:cubicBezTo>
                <a:cubicBezTo>
                  <a:pt x="284" y="305"/>
                  <a:pt x="284" y="305"/>
                  <a:pt x="284" y="305"/>
                </a:cubicBezTo>
                <a:cubicBezTo>
                  <a:pt x="277" y="303"/>
                  <a:pt x="272" y="305"/>
                  <a:pt x="268" y="308"/>
                </a:cubicBezTo>
                <a:cubicBezTo>
                  <a:pt x="263" y="311"/>
                  <a:pt x="260" y="316"/>
                  <a:pt x="260" y="316"/>
                </a:cubicBezTo>
                <a:cubicBezTo>
                  <a:pt x="261" y="341"/>
                  <a:pt x="261" y="341"/>
                  <a:pt x="261" y="341"/>
                </a:cubicBezTo>
                <a:cubicBezTo>
                  <a:pt x="261" y="353"/>
                  <a:pt x="261" y="353"/>
                  <a:pt x="261" y="353"/>
                </a:cubicBezTo>
                <a:cubicBezTo>
                  <a:pt x="263" y="352"/>
                  <a:pt x="263" y="352"/>
                  <a:pt x="263" y="352"/>
                </a:cubicBezTo>
                <a:cubicBezTo>
                  <a:pt x="283" y="358"/>
                  <a:pt x="299" y="352"/>
                  <a:pt x="299" y="352"/>
                </a:cubicBezTo>
                <a:cubicBezTo>
                  <a:pt x="300" y="317"/>
                  <a:pt x="300" y="317"/>
                  <a:pt x="300" y="317"/>
                </a:cubicBezTo>
                <a:cubicBezTo>
                  <a:pt x="294" y="310"/>
                  <a:pt x="290" y="307"/>
                  <a:pt x="285" y="305"/>
                </a:cubicBezTo>
                <a:close/>
                <a:moveTo>
                  <a:pt x="216" y="8"/>
                </a:moveTo>
                <a:cubicBezTo>
                  <a:pt x="216" y="22"/>
                  <a:pt x="216" y="22"/>
                  <a:pt x="216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7" y="3"/>
                  <a:pt x="227" y="3"/>
                  <a:pt x="227" y="3"/>
                </a:cubicBezTo>
                <a:lnTo>
                  <a:pt x="216" y="8"/>
                </a:lnTo>
                <a:close/>
                <a:moveTo>
                  <a:pt x="230" y="3"/>
                </a:moveTo>
                <a:cubicBezTo>
                  <a:pt x="231" y="16"/>
                  <a:pt x="231" y="16"/>
                  <a:pt x="231" y="16"/>
                </a:cubicBezTo>
                <a:cubicBezTo>
                  <a:pt x="243" y="11"/>
                  <a:pt x="243" y="11"/>
                  <a:pt x="243" y="11"/>
                </a:cubicBezTo>
                <a:cubicBezTo>
                  <a:pt x="243" y="0"/>
                  <a:pt x="243" y="0"/>
                  <a:pt x="243" y="0"/>
                </a:cubicBezTo>
                <a:lnTo>
                  <a:pt x="230" y="3"/>
                </a:lnTo>
                <a:close/>
                <a:moveTo>
                  <a:pt x="271" y="12"/>
                </a:moveTo>
                <a:cubicBezTo>
                  <a:pt x="260" y="9"/>
                  <a:pt x="260" y="9"/>
                  <a:pt x="260" y="9"/>
                </a:cubicBezTo>
                <a:cubicBezTo>
                  <a:pt x="260" y="10"/>
                  <a:pt x="260" y="10"/>
                  <a:pt x="260" y="10"/>
                </a:cubicBezTo>
                <a:cubicBezTo>
                  <a:pt x="260" y="22"/>
                  <a:pt x="260" y="22"/>
                  <a:pt x="260" y="22"/>
                </a:cubicBezTo>
                <a:cubicBezTo>
                  <a:pt x="270" y="25"/>
                  <a:pt x="270" y="25"/>
                  <a:pt x="270" y="25"/>
                </a:cubicBezTo>
                <a:lnTo>
                  <a:pt x="271" y="12"/>
                </a:lnTo>
                <a:close/>
                <a:moveTo>
                  <a:pt x="296" y="141"/>
                </a:moveTo>
                <a:cubicBezTo>
                  <a:pt x="305" y="146"/>
                  <a:pt x="305" y="146"/>
                  <a:pt x="305" y="146"/>
                </a:cubicBezTo>
                <a:cubicBezTo>
                  <a:pt x="309" y="133"/>
                  <a:pt x="309" y="133"/>
                  <a:pt x="309" y="133"/>
                </a:cubicBezTo>
                <a:cubicBezTo>
                  <a:pt x="297" y="127"/>
                  <a:pt x="297" y="127"/>
                  <a:pt x="297" y="127"/>
                </a:cubicBezTo>
                <a:lnTo>
                  <a:pt x="296" y="141"/>
                </a:lnTo>
                <a:close/>
                <a:moveTo>
                  <a:pt x="316" y="150"/>
                </a:moveTo>
                <a:cubicBezTo>
                  <a:pt x="327" y="154"/>
                  <a:pt x="327" y="154"/>
                  <a:pt x="327" y="154"/>
                </a:cubicBezTo>
                <a:cubicBezTo>
                  <a:pt x="329" y="142"/>
                  <a:pt x="329" y="142"/>
                  <a:pt x="329" y="142"/>
                </a:cubicBezTo>
                <a:cubicBezTo>
                  <a:pt x="316" y="137"/>
                  <a:pt x="316" y="137"/>
                  <a:pt x="316" y="137"/>
                </a:cubicBezTo>
                <a:lnTo>
                  <a:pt x="316" y="150"/>
                </a:lnTo>
                <a:close/>
                <a:moveTo>
                  <a:pt x="348" y="106"/>
                </a:moveTo>
                <a:cubicBezTo>
                  <a:pt x="336" y="107"/>
                  <a:pt x="336" y="107"/>
                  <a:pt x="336" y="107"/>
                </a:cubicBezTo>
                <a:cubicBezTo>
                  <a:pt x="338" y="118"/>
                  <a:pt x="338" y="118"/>
                  <a:pt x="338" y="118"/>
                </a:cubicBezTo>
                <a:cubicBezTo>
                  <a:pt x="348" y="117"/>
                  <a:pt x="348" y="117"/>
                  <a:pt x="348" y="117"/>
                </a:cubicBezTo>
                <a:lnTo>
                  <a:pt x="348" y="106"/>
                </a:lnTo>
                <a:close/>
                <a:moveTo>
                  <a:pt x="365" y="116"/>
                </a:moveTo>
                <a:cubicBezTo>
                  <a:pt x="366" y="105"/>
                  <a:pt x="366" y="105"/>
                  <a:pt x="366" y="105"/>
                </a:cubicBezTo>
                <a:cubicBezTo>
                  <a:pt x="355" y="104"/>
                  <a:pt x="355" y="104"/>
                  <a:pt x="355" y="104"/>
                </a:cubicBezTo>
                <a:cubicBezTo>
                  <a:pt x="355" y="115"/>
                  <a:pt x="355" y="115"/>
                  <a:pt x="355" y="115"/>
                </a:cubicBezTo>
                <a:lnTo>
                  <a:pt x="365" y="116"/>
                </a:lnTo>
                <a:close/>
                <a:moveTo>
                  <a:pt x="400" y="120"/>
                </a:moveTo>
                <a:cubicBezTo>
                  <a:pt x="389" y="117"/>
                  <a:pt x="389" y="117"/>
                  <a:pt x="389" y="117"/>
                </a:cubicBezTo>
                <a:cubicBezTo>
                  <a:pt x="387" y="129"/>
                  <a:pt x="387" y="129"/>
                  <a:pt x="387" y="129"/>
                </a:cubicBezTo>
                <a:cubicBezTo>
                  <a:pt x="399" y="131"/>
                  <a:pt x="399" y="131"/>
                  <a:pt x="399" y="131"/>
                </a:cubicBezTo>
                <a:lnTo>
                  <a:pt x="400" y="120"/>
                </a:lnTo>
                <a:close/>
                <a:moveTo>
                  <a:pt x="424" y="151"/>
                </a:moveTo>
                <a:cubicBezTo>
                  <a:pt x="425" y="137"/>
                  <a:pt x="425" y="137"/>
                  <a:pt x="425" y="137"/>
                </a:cubicBezTo>
                <a:cubicBezTo>
                  <a:pt x="414" y="133"/>
                  <a:pt x="414" y="133"/>
                  <a:pt x="414" y="133"/>
                </a:cubicBezTo>
                <a:cubicBezTo>
                  <a:pt x="414" y="144"/>
                  <a:pt x="414" y="144"/>
                  <a:pt x="414" y="144"/>
                </a:cubicBezTo>
                <a:lnTo>
                  <a:pt x="424" y="151"/>
                </a:lnTo>
                <a:close/>
                <a:moveTo>
                  <a:pt x="399" y="154"/>
                </a:moveTo>
                <a:cubicBezTo>
                  <a:pt x="387" y="151"/>
                  <a:pt x="387" y="151"/>
                  <a:pt x="387" y="151"/>
                </a:cubicBezTo>
                <a:cubicBezTo>
                  <a:pt x="387" y="163"/>
                  <a:pt x="387" y="163"/>
                  <a:pt x="387" y="163"/>
                </a:cubicBezTo>
                <a:cubicBezTo>
                  <a:pt x="397" y="167"/>
                  <a:pt x="397" y="167"/>
                  <a:pt x="397" y="167"/>
                </a:cubicBezTo>
                <a:lnTo>
                  <a:pt x="399" y="154"/>
                </a:lnTo>
                <a:close/>
                <a:moveTo>
                  <a:pt x="365" y="160"/>
                </a:moveTo>
                <a:cubicBezTo>
                  <a:pt x="355" y="162"/>
                  <a:pt x="355" y="162"/>
                  <a:pt x="355" y="162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67" y="174"/>
                  <a:pt x="367" y="174"/>
                  <a:pt x="367" y="174"/>
                </a:cubicBezTo>
                <a:lnTo>
                  <a:pt x="365" y="160"/>
                </a:lnTo>
                <a:close/>
                <a:moveTo>
                  <a:pt x="339" y="165"/>
                </a:moveTo>
                <a:cubicBezTo>
                  <a:pt x="341" y="176"/>
                  <a:pt x="341" y="176"/>
                  <a:pt x="341" y="176"/>
                </a:cubicBezTo>
                <a:cubicBezTo>
                  <a:pt x="350" y="177"/>
                  <a:pt x="350" y="177"/>
                  <a:pt x="350" y="177"/>
                </a:cubicBezTo>
                <a:cubicBezTo>
                  <a:pt x="350" y="164"/>
                  <a:pt x="350" y="164"/>
                  <a:pt x="350" y="164"/>
                </a:cubicBezTo>
                <a:lnTo>
                  <a:pt x="339" y="165"/>
                </a:lnTo>
                <a:close/>
                <a:moveTo>
                  <a:pt x="263" y="191"/>
                </a:moveTo>
                <a:cubicBezTo>
                  <a:pt x="248" y="193"/>
                  <a:pt x="248" y="193"/>
                  <a:pt x="248" y="193"/>
                </a:cubicBezTo>
                <a:cubicBezTo>
                  <a:pt x="252" y="206"/>
                  <a:pt x="252" y="206"/>
                  <a:pt x="252" y="206"/>
                </a:cubicBezTo>
                <a:cubicBezTo>
                  <a:pt x="262" y="205"/>
                  <a:pt x="262" y="205"/>
                  <a:pt x="262" y="205"/>
                </a:cubicBezTo>
                <a:lnTo>
                  <a:pt x="263" y="191"/>
                </a:lnTo>
                <a:close/>
                <a:moveTo>
                  <a:pt x="400" y="173"/>
                </a:moveTo>
                <a:cubicBezTo>
                  <a:pt x="388" y="170"/>
                  <a:pt x="388" y="170"/>
                  <a:pt x="388" y="170"/>
                </a:cubicBezTo>
                <a:cubicBezTo>
                  <a:pt x="387" y="185"/>
                  <a:pt x="387" y="185"/>
                  <a:pt x="387" y="185"/>
                </a:cubicBezTo>
                <a:cubicBezTo>
                  <a:pt x="401" y="186"/>
                  <a:pt x="401" y="186"/>
                  <a:pt x="401" y="186"/>
                </a:cubicBezTo>
                <a:lnTo>
                  <a:pt x="400" y="173"/>
                </a:lnTo>
                <a:close/>
                <a:moveTo>
                  <a:pt x="425" y="166"/>
                </a:moveTo>
                <a:cubicBezTo>
                  <a:pt x="414" y="163"/>
                  <a:pt x="414" y="163"/>
                  <a:pt x="414" y="163"/>
                </a:cubicBezTo>
                <a:cubicBezTo>
                  <a:pt x="412" y="174"/>
                  <a:pt x="412" y="174"/>
                  <a:pt x="412" y="174"/>
                </a:cubicBezTo>
                <a:cubicBezTo>
                  <a:pt x="425" y="178"/>
                  <a:pt x="425" y="178"/>
                  <a:pt x="425" y="178"/>
                </a:cubicBezTo>
                <a:lnTo>
                  <a:pt x="425" y="166"/>
                </a:lnTo>
                <a:close/>
                <a:moveTo>
                  <a:pt x="414" y="192"/>
                </a:moveTo>
                <a:cubicBezTo>
                  <a:pt x="426" y="194"/>
                  <a:pt x="426" y="194"/>
                  <a:pt x="426" y="194"/>
                </a:cubicBezTo>
                <a:cubicBezTo>
                  <a:pt x="426" y="182"/>
                  <a:pt x="426" y="182"/>
                  <a:pt x="426" y="182"/>
                </a:cubicBezTo>
                <a:cubicBezTo>
                  <a:pt x="413" y="181"/>
                  <a:pt x="413" y="181"/>
                  <a:pt x="413" y="181"/>
                </a:cubicBezTo>
                <a:lnTo>
                  <a:pt x="414" y="192"/>
                </a:lnTo>
                <a:close/>
                <a:moveTo>
                  <a:pt x="402" y="226"/>
                </a:moveTo>
                <a:cubicBezTo>
                  <a:pt x="391" y="223"/>
                  <a:pt x="391" y="223"/>
                  <a:pt x="391" y="223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400" y="236"/>
                  <a:pt x="400" y="236"/>
                  <a:pt x="400" y="236"/>
                </a:cubicBezTo>
                <a:lnTo>
                  <a:pt x="402" y="226"/>
                </a:lnTo>
                <a:close/>
                <a:moveTo>
                  <a:pt x="424" y="235"/>
                </a:moveTo>
                <a:cubicBezTo>
                  <a:pt x="414" y="233"/>
                  <a:pt x="414" y="233"/>
                  <a:pt x="414" y="233"/>
                </a:cubicBezTo>
                <a:cubicBezTo>
                  <a:pt x="412" y="244"/>
                  <a:pt x="412" y="244"/>
                  <a:pt x="412" y="244"/>
                </a:cubicBezTo>
                <a:cubicBezTo>
                  <a:pt x="423" y="247"/>
                  <a:pt x="423" y="247"/>
                  <a:pt x="423" y="247"/>
                </a:cubicBezTo>
                <a:lnTo>
                  <a:pt x="424" y="235"/>
                </a:lnTo>
                <a:close/>
                <a:moveTo>
                  <a:pt x="392" y="279"/>
                </a:moveTo>
                <a:cubicBezTo>
                  <a:pt x="402" y="281"/>
                  <a:pt x="402" y="281"/>
                  <a:pt x="402" y="281"/>
                </a:cubicBezTo>
                <a:cubicBezTo>
                  <a:pt x="404" y="271"/>
                  <a:pt x="404" y="271"/>
                  <a:pt x="404" y="271"/>
                </a:cubicBezTo>
                <a:cubicBezTo>
                  <a:pt x="394" y="268"/>
                  <a:pt x="394" y="268"/>
                  <a:pt x="394" y="268"/>
                </a:cubicBezTo>
                <a:lnTo>
                  <a:pt x="392" y="279"/>
                </a:lnTo>
                <a:close/>
                <a:moveTo>
                  <a:pt x="414" y="287"/>
                </a:moveTo>
                <a:cubicBezTo>
                  <a:pt x="424" y="291"/>
                  <a:pt x="424" y="291"/>
                  <a:pt x="424" y="291"/>
                </a:cubicBezTo>
                <a:cubicBezTo>
                  <a:pt x="428" y="281"/>
                  <a:pt x="428" y="281"/>
                  <a:pt x="428" y="281"/>
                </a:cubicBezTo>
                <a:cubicBezTo>
                  <a:pt x="416" y="277"/>
                  <a:pt x="416" y="277"/>
                  <a:pt x="416" y="277"/>
                </a:cubicBezTo>
                <a:lnTo>
                  <a:pt x="414" y="287"/>
                </a:lnTo>
                <a:close/>
                <a:moveTo>
                  <a:pt x="406" y="306"/>
                </a:moveTo>
                <a:cubicBezTo>
                  <a:pt x="406" y="318"/>
                  <a:pt x="406" y="318"/>
                  <a:pt x="406" y="318"/>
                </a:cubicBezTo>
                <a:cubicBezTo>
                  <a:pt x="419" y="318"/>
                  <a:pt x="419" y="318"/>
                  <a:pt x="419" y="318"/>
                </a:cubicBezTo>
                <a:cubicBezTo>
                  <a:pt x="418" y="307"/>
                  <a:pt x="418" y="307"/>
                  <a:pt x="418" y="307"/>
                </a:cubicBezTo>
                <a:lnTo>
                  <a:pt x="406" y="306"/>
                </a:lnTo>
                <a:close/>
                <a:moveTo>
                  <a:pt x="357" y="307"/>
                </a:moveTo>
                <a:cubicBezTo>
                  <a:pt x="369" y="309"/>
                  <a:pt x="369" y="309"/>
                  <a:pt x="369" y="309"/>
                </a:cubicBezTo>
                <a:cubicBezTo>
                  <a:pt x="369" y="297"/>
                  <a:pt x="369" y="297"/>
                  <a:pt x="369" y="297"/>
                </a:cubicBezTo>
                <a:cubicBezTo>
                  <a:pt x="358" y="297"/>
                  <a:pt x="358" y="297"/>
                  <a:pt x="358" y="297"/>
                </a:cubicBezTo>
                <a:lnTo>
                  <a:pt x="357" y="307"/>
                </a:lnTo>
                <a:close/>
                <a:moveTo>
                  <a:pt x="472" y="336"/>
                </a:moveTo>
                <a:cubicBezTo>
                  <a:pt x="484" y="336"/>
                  <a:pt x="484" y="336"/>
                  <a:pt x="484" y="336"/>
                </a:cubicBezTo>
                <a:cubicBezTo>
                  <a:pt x="485" y="326"/>
                  <a:pt x="485" y="326"/>
                  <a:pt x="485" y="326"/>
                </a:cubicBezTo>
                <a:cubicBezTo>
                  <a:pt x="473" y="326"/>
                  <a:pt x="473" y="326"/>
                  <a:pt x="473" y="326"/>
                </a:cubicBezTo>
                <a:lnTo>
                  <a:pt x="472" y="336"/>
                </a:lnTo>
                <a:close/>
                <a:moveTo>
                  <a:pt x="475" y="231"/>
                </a:moveTo>
                <a:cubicBezTo>
                  <a:pt x="465" y="229"/>
                  <a:pt x="465" y="229"/>
                  <a:pt x="465" y="229"/>
                </a:cubicBezTo>
                <a:cubicBezTo>
                  <a:pt x="463" y="239"/>
                  <a:pt x="463" y="239"/>
                  <a:pt x="463" y="239"/>
                </a:cubicBezTo>
                <a:cubicBezTo>
                  <a:pt x="476" y="244"/>
                  <a:pt x="476" y="244"/>
                  <a:pt x="476" y="244"/>
                </a:cubicBezTo>
                <a:lnTo>
                  <a:pt x="475" y="231"/>
                </a:lnTo>
                <a:close/>
                <a:moveTo>
                  <a:pt x="481" y="247"/>
                </a:moveTo>
                <a:cubicBezTo>
                  <a:pt x="492" y="249"/>
                  <a:pt x="492" y="249"/>
                  <a:pt x="492" y="249"/>
                </a:cubicBezTo>
                <a:cubicBezTo>
                  <a:pt x="493" y="237"/>
                  <a:pt x="493" y="237"/>
                  <a:pt x="493" y="237"/>
                </a:cubicBezTo>
                <a:cubicBezTo>
                  <a:pt x="480" y="235"/>
                  <a:pt x="480" y="235"/>
                  <a:pt x="480" y="235"/>
                </a:cubicBezTo>
                <a:lnTo>
                  <a:pt x="481" y="247"/>
                </a:lnTo>
                <a:close/>
                <a:moveTo>
                  <a:pt x="480" y="212"/>
                </a:moveTo>
                <a:cubicBezTo>
                  <a:pt x="493" y="216"/>
                  <a:pt x="493" y="216"/>
                  <a:pt x="493" y="216"/>
                </a:cubicBezTo>
                <a:cubicBezTo>
                  <a:pt x="494" y="206"/>
                  <a:pt x="494" y="206"/>
                  <a:pt x="494" y="206"/>
                </a:cubicBezTo>
                <a:cubicBezTo>
                  <a:pt x="481" y="203"/>
                  <a:pt x="481" y="203"/>
                  <a:pt x="481" y="203"/>
                </a:cubicBezTo>
                <a:lnTo>
                  <a:pt x="480" y="212"/>
                </a:lnTo>
                <a:close/>
                <a:moveTo>
                  <a:pt x="473" y="197"/>
                </a:moveTo>
                <a:cubicBezTo>
                  <a:pt x="463" y="193"/>
                  <a:pt x="463" y="193"/>
                  <a:pt x="463" y="193"/>
                </a:cubicBezTo>
                <a:cubicBezTo>
                  <a:pt x="462" y="205"/>
                  <a:pt x="462" y="205"/>
                  <a:pt x="462" y="205"/>
                </a:cubicBezTo>
                <a:cubicBezTo>
                  <a:pt x="473" y="208"/>
                  <a:pt x="473" y="208"/>
                  <a:pt x="473" y="208"/>
                </a:cubicBezTo>
                <a:lnTo>
                  <a:pt x="473" y="197"/>
                </a:lnTo>
                <a:close/>
                <a:moveTo>
                  <a:pt x="185" y="215"/>
                </a:moveTo>
                <a:cubicBezTo>
                  <a:pt x="196" y="215"/>
                  <a:pt x="196" y="215"/>
                  <a:pt x="196" y="215"/>
                </a:cubicBezTo>
                <a:cubicBezTo>
                  <a:pt x="196" y="204"/>
                  <a:pt x="196" y="204"/>
                  <a:pt x="196" y="204"/>
                </a:cubicBezTo>
                <a:cubicBezTo>
                  <a:pt x="185" y="203"/>
                  <a:pt x="185" y="203"/>
                  <a:pt x="185" y="203"/>
                </a:cubicBezTo>
                <a:lnTo>
                  <a:pt x="185" y="215"/>
                </a:lnTo>
                <a:close/>
                <a:moveTo>
                  <a:pt x="169" y="207"/>
                </a:moveTo>
                <a:cubicBezTo>
                  <a:pt x="178" y="207"/>
                  <a:pt x="178" y="207"/>
                  <a:pt x="178" y="207"/>
                </a:cubicBezTo>
                <a:cubicBezTo>
                  <a:pt x="180" y="198"/>
                  <a:pt x="180" y="198"/>
                  <a:pt x="180" y="198"/>
                </a:cubicBezTo>
                <a:cubicBezTo>
                  <a:pt x="170" y="197"/>
                  <a:pt x="170" y="197"/>
                  <a:pt x="170" y="197"/>
                </a:cubicBezTo>
                <a:lnTo>
                  <a:pt x="169" y="207"/>
                </a:lnTo>
                <a:close/>
                <a:moveTo>
                  <a:pt x="147" y="207"/>
                </a:moveTo>
                <a:cubicBezTo>
                  <a:pt x="156" y="207"/>
                  <a:pt x="156" y="207"/>
                  <a:pt x="156" y="207"/>
                </a:cubicBezTo>
                <a:cubicBezTo>
                  <a:pt x="156" y="196"/>
                  <a:pt x="156" y="196"/>
                  <a:pt x="156" y="196"/>
                </a:cubicBezTo>
                <a:cubicBezTo>
                  <a:pt x="145" y="195"/>
                  <a:pt x="145" y="195"/>
                  <a:pt x="145" y="195"/>
                </a:cubicBezTo>
                <a:lnTo>
                  <a:pt x="147" y="207"/>
                </a:lnTo>
                <a:close/>
                <a:moveTo>
                  <a:pt x="131" y="197"/>
                </a:moveTo>
                <a:cubicBezTo>
                  <a:pt x="131" y="197"/>
                  <a:pt x="131" y="197"/>
                  <a:pt x="131" y="197"/>
                </a:cubicBezTo>
                <a:cubicBezTo>
                  <a:pt x="131" y="196"/>
                  <a:pt x="131" y="196"/>
                  <a:pt x="131" y="196"/>
                </a:cubicBezTo>
                <a:lnTo>
                  <a:pt x="131" y="197"/>
                </a:lnTo>
                <a:close/>
                <a:moveTo>
                  <a:pt x="131" y="197"/>
                </a:moveTo>
                <a:cubicBezTo>
                  <a:pt x="132" y="207"/>
                  <a:pt x="132" y="207"/>
                  <a:pt x="132" y="207"/>
                </a:cubicBezTo>
                <a:cubicBezTo>
                  <a:pt x="141" y="207"/>
                  <a:pt x="141" y="207"/>
                  <a:pt x="141" y="207"/>
                </a:cubicBezTo>
                <a:cubicBezTo>
                  <a:pt x="140" y="196"/>
                  <a:pt x="140" y="196"/>
                  <a:pt x="140" y="196"/>
                </a:cubicBezTo>
                <a:lnTo>
                  <a:pt x="131" y="197"/>
                </a:lnTo>
                <a:close/>
                <a:moveTo>
                  <a:pt x="119" y="198"/>
                </a:moveTo>
                <a:cubicBezTo>
                  <a:pt x="119" y="210"/>
                  <a:pt x="119" y="210"/>
                  <a:pt x="119" y="210"/>
                </a:cubicBezTo>
                <a:cubicBezTo>
                  <a:pt x="129" y="210"/>
                  <a:pt x="129" y="210"/>
                  <a:pt x="129" y="210"/>
                </a:cubicBezTo>
                <a:cubicBezTo>
                  <a:pt x="127" y="198"/>
                  <a:pt x="127" y="198"/>
                  <a:pt x="127" y="198"/>
                </a:cubicBezTo>
                <a:lnTo>
                  <a:pt x="119" y="198"/>
                </a:lnTo>
                <a:close/>
                <a:moveTo>
                  <a:pt x="107" y="213"/>
                </a:moveTo>
                <a:cubicBezTo>
                  <a:pt x="115" y="211"/>
                  <a:pt x="115" y="211"/>
                  <a:pt x="115" y="211"/>
                </a:cubicBezTo>
                <a:cubicBezTo>
                  <a:pt x="115" y="200"/>
                  <a:pt x="115" y="200"/>
                  <a:pt x="115" y="200"/>
                </a:cubicBezTo>
                <a:cubicBezTo>
                  <a:pt x="106" y="201"/>
                  <a:pt x="106" y="201"/>
                  <a:pt x="106" y="201"/>
                </a:cubicBezTo>
                <a:lnTo>
                  <a:pt x="107" y="213"/>
                </a:lnTo>
                <a:close/>
                <a:moveTo>
                  <a:pt x="103" y="201"/>
                </a:moveTo>
                <a:cubicBezTo>
                  <a:pt x="93" y="205"/>
                  <a:pt x="93" y="205"/>
                  <a:pt x="93" y="205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104" y="214"/>
                  <a:pt x="104" y="214"/>
                  <a:pt x="104" y="214"/>
                </a:cubicBezTo>
                <a:lnTo>
                  <a:pt x="103" y="201"/>
                </a:lnTo>
                <a:close/>
                <a:moveTo>
                  <a:pt x="97" y="309"/>
                </a:moveTo>
                <a:cubicBezTo>
                  <a:pt x="109" y="309"/>
                  <a:pt x="109" y="309"/>
                  <a:pt x="109" y="309"/>
                </a:cubicBezTo>
                <a:cubicBezTo>
                  <a:pt x="109" y="296"/>
                  <a:pt x="109" y="296"/>
                  <a:pt x="109" y="296"/>
                </a:cubicBezTo>
                <a:cubicBezTo>
                  <a:pt x="98" y="296"/>
                  <a:pt x="98" y="296"/>
                  <a:pt x="98" y="296"/>
                </a:cubicBezTo>
                <a:lnTo>
                  <a:pt x="97" y="309"/>
                </a:lnTo>
                <a:close/>
                <a:moveTo>
                  <a:pt x="46" y="331"/>
                </a:moveTo>
                <a:cubicBezTo>
                  <a:pt x="58" y="331"/>
                  <a:pt x="58" y="331"/>
                  <a:pt x="58" y="331"/>
                </a:cubicBezTo>
                <a:cubicBezTo>
                  <a:pt x="60" y="317"/>
                  <a:pt x="60" y="317"/>
                  <a:pt x="60" y="317"/>
                </a:cubicBezTo>
                <a:cubicBezTo>
                  <a:pt x="47" y="318"/>
                  <a:pt x="47" y="318"/>
                  <a:pt x="47" y="318"/>
                </a:cubicBezTo>
                <a:lnTo>
                  <a:pt x="46" y="331"/>
                </a:lnTo>
                <a:close/>
                <a:moveTo>
                  <a:pt x="0" y="338"/>
                </a:moveTo>
                <a:cubicBezTo>
                  <a:pt x="1" y="352"/>
                  <a:pt x="1" y="352"/>
                  <a:pt x="1" y="352"/>
                </a:cubicBezTo>
                <a:cubicBezTo>
                  <a:pt x="14" y="351"/>
                  <a:pt x="14" y="351"/>
                  <a:pt x="14" y="351"/>
                </a:cubicBezTo>
                <a:cubicBezTo>
                  <a:pt x="13" y="338"/>
                  <a:pt x="13" y="338"/>
                  <a:pt x="13" y="338"/>
                </a:cubicBezTo>
                <a:lnTo>
                  <a:pt x="0" y="33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17"/>
          <p:cNvGrpSpPr/>
          <p:nvPr/>
        </p:nvGrpSpPr>
        <p:grpSpPr>
          <a:xfrm>
            <a:off x="3956040" y="3105000"/>
            <a:ext cx="184320" cy="209520"/>
            <a:chOff x="3956040" y="3105000"/>
            <a:chExt cx="184320" cy="209520"/>
          </a:xfrm>
        </p:grpSpPr>
        <p:grpSp>
          <p:nvGrpSpPr>
            <p:cNvPr id="297" name=""/>
            <p:cNvGrpSpPr/>
            <p:nvPr/>
          </p:nvGrpSpPr>
          <p:grpSpPr>
            <a:xfrm>
              <a:off x="3985920" y="3105000"/>
              <a:ext cx="360" cy="209520"/>
              <a:chOff x="3985920" y="3105000"/>
              <a:chExt cx="360" cy="209520"/>
            </a:xfrm>
          </p:grpSpPr>
          <p:sp>
            <p:nvSpPr>
              <p:cNvPr id="298" name="Line 306"/>
              <p:cNvSpPr/>
              <p:nvPr/>
            </p:nvSpPr>
            <p:spPr>
              <a:xfrm flipV="1">
                <a:off x="3986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3985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012920" y="3105000"/>
              <a:ext cx="360" cy="209520"/>
              <a:chOff x="4012920" y="3105000"/>
              <a:chExt cx="360" cy="209520"/>
            </a:xfrm>
          </p:grpSpPr>
          <p:sp>
            <p:nvSpPr>
              <p:cNvPr id="301" name="Line 307"/>
              <p:cNvSpPr/>
              <p:nvPr/>
            </p:nvSpPr>
            <p:spPr>
              <a:xfrm flipV="1">
                <a:off x="4013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10800000">
                <a:off x="4012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038120" y="3105000"/>
              <a:ext cx="360" cy="209520"/>
              <a:chOff x="4038120" y="3105000"/>
              <a:chExt cx="360" cy="209520"/>
            </a:xfrm>
          </p:grpSpPr>
          <p:sp>
            <p:nvSpPr>
              <p:cNvPr id="304" name="Line 308"/>
              <p:cNvSpPr/>
              <p:nvPr/>
            </p:nvSpPr>
            <p:spPr>
              <a:xfrm flipV="1">
                <a:off x="4038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4038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65120" y="3105000"/>
              <a:ext cx="360" cy="209520"/>
              <a:chOff x="4065120" y="3105000"/>
              <a:chExt cx="360" cy="209520"/>
            </a:xfrm>
          </p:grpSpPr>
          <p:sp>
            <p:nvSpPr>
              <p:cNvPr id="307" name="Line 309"/>
              <p:cNvSpPr/>
              <p:nvPr/>
            </p:nvSpPr>
            <p:spPr>
              <a:xfrm flipV="1">
                <a:off x="4065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4065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87440" y="3105000"/>
              <a:ext cx="360" cy="209520"/>
              <a:chOff x="4087440" y="3105000"/>
              <a:chExt cx="360" cy="209520"/>
            </a:xfrm>
          </p:grpSpPr>
          <p:sp>
            <p:nvSpPr>
              <p:cNvPr id="310" name="Line 310"/>
              <p:cNvSpPr/>
              <p:nvPr/>
            </p:nvSpPr>
            <p:spPr>
              <a:xfrm flipV="1">
                <a:off x="4087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4087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440" y="3105000"/>
              <a:ext cx="360" cy="209520"/>
              <a:chOff x="4114440" y="3105000"/>
              <a:chExt cx="360" cy="209520"/>
            </a:xfrm>
          </p:grpSpPr>
          <p:sp>
            <p:nvSpPr>
              <p:cNvPr id="313" name="Line 311"/>
              <p:cNvSpPr/>
              <p:nvPr/>
            </p:nvSpPr>
            <p:spPr>
              <a:xfrm flipV="1">
                <a:off x="4114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 rot="10800000">
                <a:off x="4114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956040" y="3289320"/>
              <a:ext cx="184320" cy="360"/>
              <a:chOff x="3956040" y="3289320"/>
              <a:chExt cx="184320" cy="360"/>
            </a:xfrm>
          </p:grpSpPr>
          <p:sp>
            <p:nvSpPr>
              <p:cNvPr id="316" name="Line 312"/>
              <p:cNvSpPr/>
              <p:nvPr/>
            </p:nvSpPr>
            <p:spPr>
              <a:xfrm>
                <a:off x="3956040" y="3289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3956040" y="328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956040" y="3154320"/>
              <a:ext cx="184320" cy="360"/>
              <a:chOff x="3956040" y="3154320"/>
              <a:chExt cx="184320" cy="360"/>
            </a:xfrm>
          </p:grpSpPr>
          <p:sp>
            <p:nvSpPr>
              <p:cNvPr id="319" name="Line 313"/>
              <p:cNvSpPr/>
              <p:nvPr/>
            </p:nvSpPr>
            <p:spPr>
              <a:xfrm>
                <a:off x="3956040" y="3154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3956040" y="3154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"/>
          <p:cNvSpPr/>
          <p:nvPr/>
        </p:nvSpPr>
        <p:spPr>
          <a:xfrm>
            <a:off x="403200" y="307800"/>
            <a:ext cx="79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狼人传说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2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8199"/>
          <p:cNvSpPr/>
          <p:nvPr/>
        </p:nvSpPr>
        <p:spPr>
          <a:xfrm>
            <a:off x="838080" y="2855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3DD-1B1D-44FB-B1E5-F0B622AF64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3300"/>
              </a:solidFill>
              <a:latin typeface="Arial"/>
              <a:ea typeface="PMingLiU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17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3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