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E0ED-61DE-49AF-9CCC-45AFEAC9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233E-D625-4188-9E98-B4EABC32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B35F-AE67-489B-8BE7-658AE09D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22ED-29ED-4B4D-A00E-29436A61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BFE4-982F-44CE-B9E4-D923E12B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DBE9-8453-4ECD-B8BF-FEC3C9A5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A976-797C-4BFC-9AD9-A877DD65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C337-8416-4E85-A9E2-8B977FC8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0F55-EC84-4D31-A5C3-38687AFF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D194-5530-46FF-9024-146B5CE9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EA8A-F045-4AD2-BF50-C0A320E9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6613-EEE9-4515-9BAD-3EBE61FE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B574-3EA1-41BA-AA96-B709EC47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D572-2934-4261-8064-BD0FEC88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E05F-4DA0-4117-AE61-34651637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6A09-6694-4BF8-9822-9AF2FB93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2A2A-617F-4884-AB4E-DC0CD684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B4346-558D-4B47-809E-5DCFCE4B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37FE8-7656-4338-B4CC-A75BC11A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93031-626A-4AFD-B084-3DF9FF25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7B851-A67C-424D-9E2F-CD4AF3D0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F8011-ED3C-454C-922B-BB779C36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54F9-899C-4844-B894-3DA32AFA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2A272-3B5F-4911-8DA3-477996B3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14D82-BEB1-45DD-9B1E-7C3AB1A4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EAD22-BDED-4119-A620-A530077A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E3562-0D0F-4800-BD22-F2D13087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85A37-80D0-46AA-906F-061AA3D6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0A84C-91DB-4898-B33E-17ED441C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7101C-C695-44D1-A6C1-B058BF164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DC27-2D44-467D-AE80-08CF22FF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125B-6A65-4B19-8B4C-6E6B391C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CE4C-5BA0-40BA-8C5B-D0EC89FA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00B-0F29-4A6F-B2FC-86846C0E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B44C-37EC-40C9-A7F7-671C7F76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01E6-44A1-4186-97F6-23057984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deded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ded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deded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edede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deded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eded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deded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edede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deded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edede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deded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deded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deded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6A61-B6B7-4C39-B92B-8834CE41A3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AD8A-BD1F-4386-98F9-85CD87E21F6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E095-5D22-4636-8E91-60CBA59F984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deded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ded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deded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edede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deded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eded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deded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edede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deded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edede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deded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deded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deded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BB02-227B-4C4F-B28E-901747FD06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05320" y="3809520"/>
            <a:ext cx="5486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deded"/>
                </a:solidFill>
                <a:latin typeface="Bookman Old Style"/>
              </a:rPr>
              <a:t>Nautical Navigation</a:t>
            </a: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505320" y="5181480"/>
            <a:ext cx="54864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deded"/>
                </a:solidFill>
                <a:latin typeface="Bookman Old Style"/>
              </a:rPr>
              <a:t>A Presentation</a:t>
            </a: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1486440" y="863640"/>
            <a:ext cx="60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蓝色船舵工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deded"/>
                </a:solidFill>
                <a:latin typeface="Arial"/>
              </a:rPr>
              <a:t>Your Main Point</a:t>
            </a:r>
            <a:endParaRPr b="1" i="1" lang="en-US" sz="4400" spc="-1" strike="noStrike">
              <a:solidFill>
                <a:srgbClr val="ededed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ded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deded"/>
                </a:solidFill>
                <a:latin typeface="Arial"/>
              </a:rPr>
              <a:t>Your Sub Point</a:t>
            </a:r>
            <a:endParaRPr b="1" i="1" lang="en-US" sz="3200" spc="-1" strike="noStrike">
              <a:solidFill>
                <a:srgbClr val="edede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6145"/>
          <p:cNvSpPr/>
          <p:nvPr/>
        </p:nvSpPr>
        <p:spPr>
          <a:xfrm>
            <a:off x="3200400" y="685800"/>
            <a:ext cx="5486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deded"/>
                </a:solidFill>
                <a:latin typeface="Bookman Old Style"/>
                <a:ea typeface="Times New Roman"/>
              </a:rPr>
              <a:t>Transi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deded"/>
                </a:solidFill>
                <a:latin typeface="Bookman Old Style"/>
                <a:ea typeface="Times New Roman"/>
              </a:rPr>
              <a:t>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文本框 8200"/>
          <p:cNvSpPr/>
          <p:nvPr/>
        </p:nvSpPr>
        <p:spPr>
          <a:xfrm>
            <a:off x="1376280" y="59054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7172" descr="http://aunimages.animfactory.com/animations/people_a_l/little_buddy/little_buddy_spinning_boat_wheel_hg_wht.gif"/>
          <p:cNvPicPr/>
          <p:nvPr/>
        </p:nvPicPr>
        <p:blipFill>
          <a:blip r:embed="rId2"/>
          <a:stretch/>
        </p:blipFill>
        <p:spPr>
          <a:xfrm>
            <a:off x="3651120" y="1600200"/>
            <a:ext cx="2368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1A65-7825-4E68-961F-0663EB02A83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8193" descr="C:\power_point\nautical_navigator\captains_wheel.png"/>
          <p:cNvPicPr/>
          <p:nvPr/>
        </p:nvPicPr>
        <p:blipFill>
          <a:blip r:embed="rId1"/>
          <a:stretch/>
        </p:blipFill>
        <p:spPr>
          <a:xfrm>
            <a:off x="1447920" y="152280"/>
            <a:ext cx="4190760" cy="379908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8194" descr="C:\power_point\nautical_navigator\nautical_navigator_prt.jpg"/>
          <p:cNvPicPr/>
          <p:nvPr/>
        </p:nvPicPr>
        <p:blipFill>
          <a:blip r:embed="rId2"/>
          <a:stretch/>
        </p:blipFill>
        <p:spPr>
          <a:xfrm>
            <a:off x="1143000" y="411480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8195" descr="C:\power_point\nautical_navigator\nautical_navigator_qx.jpg"/>
          <p:cNvPicPr/>
          <p:nvPr/>
        </p:nvPicPr>
        <p:blipFill>
          <a:blip r:embed="rId3"/>
          <a:stretch/>
        </p:blipFill>
        <p:spPr>
          <a:xfrm>
            <a:off x="3505320" y="411480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8196" descr="C:\power_point\nautical_navigator\nautical_navigator_sld.jpg"/>
          <p:cNvPicPr/>
          <p:nvPr/>
        </p:nvPicPr>
        <p:blipFill>
          <a:blip r:embed="rId4"/>
          <a:stretch/>
        </p:blipFill>
        <p:spPr>
          <a:xfrm>
            <a:off x="5867280" y="411480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8197" descr="C:\power_point\nautical_navigator\nautical_navigator_trs.jpg"/>
          <p:cNvPicPr/>
          <p:nvPr/>
        </p:nvPicPr>
        <p:blipFill>
          <a:blip r:embed="rId5"/>
          <a:stretch/>
        </p:blipFill>
        <p:spPr>
          <a:xfrm>
            <a:off x="5867280" y="220968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8199" descr="C:\power_point\nautical_navigator\nautical_navigator_trs2.jpg"/>
          <p:cNvPicPr/>
          <p:nvPr/>
        </p:nvPicPr>
        <p:blipFill>
          <a:blip r:embed="rId6"/>
          <a:stretch/>
        </p:blipFill>
        <p:spPr>
          <a:xfrm>
            <a:off x="5867280" y="303120"/>
            <a:ext cx="2286000" cy="1830600"/>
          </a:xfrm>
          <a:prstGeom prst="rect">
            <a:avLst/>
          </a:prstGeom>
          <a:ln w="0">
            <a:noFill/>
          </a:ln>
        </p:spPr>
      </p:pic>
      <p:sp>
        <p:nvSpPr>
          <p:cNvPr id="142" name="矩形 8200"/>
          <p:cNvSpPr/>
          <p:nvPr/>
        </p:nvSpPr>
        <p:spPr>
          <a:xfrm>
            <a:off x="1295280" y="571500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deded"/>
                </a:solidFill>
                <a:latin typeface="Bookman Old Style"/>
                <a:ea typeface="Times New Roman"/>
              </a:rPr>
              <a:t>Elements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02:25:17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18:02Z</dcterms:modified>
  <cp:revision>3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