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3C2C-5C8A-4F03-88FB-828C8C377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-9000"/>
            <a:ext cx="8686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d5da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3059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746880"/>
            <a:ext cx="83059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E5B2-9E48-4FE5-BAD5-D855DFAAC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-9000"/>
            <a:ext cx="8686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d5da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405324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3480" y="761760"/>
            <a:ext cx="405324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746880"/>
            <a:ext cx="405324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3480" y="3746880"/>
            <a:ext cx="405324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53D7-F93A-4607-A6DE-398225B54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-9000"/>
            <a:ext cx="8686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d5da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267444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5920" y="761760"/>
            <a:ext cx="267444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4280" y="761760"/>
            <a:ext cx="267444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746880"/>
            <a:ext cx="267444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5920" y="3746880"/>
            <a:ext cx="267444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4280" y="3746880"/>
            <a:ext cx="267444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328B-8CEF-4E14-A0E7-2DCF9DC64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F53C3-E5EE-4AC7-ADB9-7BBC37024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-9000"/>
            <a:ext cx="8686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d5da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17863-D362-4920-9EDD-21FC2A024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-9000"/>
            <a:ext cx="8686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d5da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67D3E-06EE-411A-BCA4-956227F3F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-9000"/>
            <a:ext cx="8686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d5dad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405324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13480" y="761760"/>
            <a:ext cx="405324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5A3A3-339A-4587-ABFC-0EAB1BC24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-9000"/>
            <a:ext cx="8686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d5d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8C008-8992-4826-AF55-B9A86F87C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EDAB3-5B48-4439-8DEE-C1A0A5832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-9000"/>
            <a:ext cx="8686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d5da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405324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13480" y="761760"/>
            <a:ext cx="405324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746880"/>
            <a:ext cx="405324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924F9-9893-494E-BD74-843E0DEFB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-9000"/>
            <a:ext cx="8686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d5da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C8AD-C43F-4C55-A2D3-79A042758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-9000"/>
            <a:ext cx="8686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d5dad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405324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13480" y="761760"/>
            <a:ext cx="405324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13480" y="3746880"/>
            <a:ext cx="405324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28F86-0EF8-459A-B0F8-9EAA1FCD2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-9000"/>
            <a:ext cx="8686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d5dad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405324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3480" y="761760"/>
            <a:ext cx="405324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46880"/>
            <a:ext cx="83059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DBF7E-4934-45A1-A9F7-0CF1CAB77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-9000"/>
            <a:ext cx="8686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d5dad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3059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746880"/>
            <a:ext cx="83059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50922-E0E5-4071-893C-65AF7475A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-9000"/>
            <a:ext cx="8686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d5dad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405324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13480" y="761760"/>
            <a:ext cx="405324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46880"/>
            <a:ext cx="405324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13480" y="3746880"/>
            <a:ext cx="405324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1BFEC-50A3-493C-B1CF-8C4310889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-9000"/>
            <a:ext cx="8686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d5da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267444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65920" y="761760"/>
            <a:ext cx="267444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4280" y="761760"/>
            <a:ext cx="267444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746880"/>
            <a:ext cx="267444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65920" y="3746880"/>
            <a:ext cx="267444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4280" y="3746880"/>
            <a:ext cx="267444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ABE6D-E0BD-463B-B16E-7461A09F7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EB880E-87F2-4687-9A08-8529EFCE7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-9000"/>
            <a:ext cx="8686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d5dad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1AEEEB-D3DA-4A97-BD9C-0DA0461A7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-9000"/>
            <a:ext cx="8686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d5da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ED4ED8-5540-4ECF-8B95-8AF3C6196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-9000"/>
            <a:ext cx="8686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d5dad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405324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13480" y="761760"/>
            <a:ext cx="405324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213BFD-5AF5-4811-8D2E-F828DFD23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-9000"/>
            <a:ext cx="8686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d5d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3B03C7-EF33-40CE-B306-3CBC58D5E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-9000"/>
            <a:ext cx="8686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d5da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547B-9DDD-4664-BD8C-06C6C400E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2860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C03363-C90E-4EB9-AAAD-098D79626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-9000"/>
            <a:ext cx="8686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d5dad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405324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13480" y="761760"/>
            <a:ext cx="405324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746880"/>
            <a:ext cx="405324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7565A1-7BAF-47F9-ABCC-B9E998C88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-9000"/>
            <a:ext cx="8686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d5dad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405324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13480" y="761760"/>
            <a:ext cx="405324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713480" y="3746880"/>
            <a:ext cx="405324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5F6662-F921-4385-95EA-A21091C28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-9000"/>
            <a:ext cx="8686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d5dad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405324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13480" y="761760"/>
            <a:ext cx="405324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746880"/>
            <a:ext cx="83059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B26963-2C39-402F-8207-475CBF22B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-9000"/>
            <a:ext cx="8686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d5dad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3059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746880"/>
            <a:ext cx="83059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64525B-5BFE-4A90-8BDE-34A1A2E5E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-9000"/>
            <a:ext cx="8686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d5dad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405324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13480" y="761760"/>
            <a:ext cx="405324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746880"/>
            <a:ext cx="405324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713480" y="3746880"/>
            <a:ext cx="405324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EBDF93-255E-47B7-922C-891A652A4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-9000"/>
            <a:ext cx="8686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d5dad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267444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65920" y="761760"/>
            <a:ext cx="267444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74280" y="761760"/>
            <a:ext cx="267444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746880"/>
            <a:ext cx="267444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65920" y="3746880"/>
            <a:ext cx="267444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74280" y="3746880"/>
            <a:ext cx="267444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D857E2-11A8-4C52-B90D-0F01B18D9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-9000"/>
            <a:ext cx="8686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d5da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405324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3480" y="761760"/>
            <a:ext cx="405324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B7A7-ACA6-4D59-AD25-EAD33209B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-9000"/>
            <a:ext cx="8686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d5d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9B42-96FA-4C8C-B4C8-0DFD83749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1956-C24B-46BE-8CA0-957FC3894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-9000"/>
            <a:ext cx="8686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d5da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405324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3480" y="761760"/>
            <a:ext cx="405324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746880"/>
            <a:ext cx="405324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0675-12EB-40DC-B16D-DC97B2251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-9000"/>
            <a:ext cx="8686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d5da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405324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3480" y="761760"/>
            <a:ext cx="405324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3480" y="3746880"/>
            <a:ext cx="405324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7C28-1082-40A4-8CE6-680DE4821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-9000"/>
            <a:ext cx="8686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d5da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405324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3480" y="761760"/>
            <a:ext cx="405324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746880"/>
            <a:ext cx="83059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4306-F433-4E03-86C0-E197D572A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d5da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d5da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76176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ffffff"/>
              </a:buClr>
              <a:buSzPct val="30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ffffff"/>
              </a:buClr>
              <a:buSzPct val="30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ffffff"/>
              </a:buClr>
              <a:buSzPct val="30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ffffff"/>
              </a:buClr>
              <a:buSzPct val="30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30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30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2133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57840"/>
            <a:ext cx="2895840" cy="2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720" y="6657840"/>
            <a:ext cx="2133360" cy="2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d5dad"/>
                </a:solidFill>
                <a:latin typeface="Eras Bold IT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0AB36-8829-451F-AE52-AE7A9FF39360}" type="slidenum">
              <a:rPr b="0" lang="en-US" sz="1000" spc="-1" strike="noStrike">
                <a:solidFill>
                  <a:srgbClr val="0d5dad"/>
                </a:solidFill>
                <a:latin typeface="Eras Bold ITC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E8800-2633-4462-A2F4-2382C395734C}" type="datetime"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7C11E-EFDA-4B07-A3D0-FB02E7686FB1}" type="slidenum"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d5da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d5dad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76176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ffffff"/>
              </a:buClr>
              <a:buSzPct val="30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ffffff"/>
              </a:buClr>
              <a:buSzPct val="30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ffffff"/>
              </a:buClr>
              <a:buSzPct val="30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ffffff"/>
              </a:buClr>
              <a:buSzPct val="30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30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30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304920" y="6689520"/>
            <a:ext cx="21333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705720" y="6689520"/>
            <a:ext cx="21333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d5dad"/>
                </a:solidFill>
                <a:latin typeface="Eras Bold IT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EDC13-BDDE-40A9-A5F9-8054A651B4E1}" type="slidenum">
              <a:rPr b="0" lang="en-US" sz="900" spc="-1" strike="noStrike">
                <a:solidFill>
                  <a:srgbClr val="0d5dad"/>
                </a:solidFill>
                <a:latin typeface="Eras Bold ITC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4800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Impact"/>
              </a:rPr>
              <a:t>Shattered Ice</a:t>
            </a:r>
            <a:endParaRPr b="0" lang="en-US" sz="4800" spc="-1" strike="noStrike">
              <a:solidFill>
                <a:srgbClr val="0d5dad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0" y="5409720"/>
            <a:ext cx="9144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Your Subtitle Goes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文本框 6155"/>
          <p:cNvSpPr/>
          <p:nvPr/>
        </p:nvSpPr>
        <p:spPr>
          <a:xfrm>
            <a:off x="76320" y="6553080"/>
            <a:ext cx="421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文本框 1"/>
          <p:cNvSpPr/>
          <p:nvPr/>
        </p:nvSpPr>
        <p:spPr>
          <a:xfrm>
            <a:off x="1252080" y="1447920"/>
            <a:ext cx="598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Arial"/>
              </a:rPr>
              <a:t>蓝色方块工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Arial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d5dad"/>
                </a:solidFill>
                <a:latin typeface="Arial"/>
              </a:rPr>
              <a:t>Your Topic Goes Here</a:t>
            </a:r>
            <a:endParaRPr b="0" lang="en-US" sz="3600" spc="-1" strike="noStrike">
              <a:solidFill>
                <a:srgbClr val="0d5dad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our subtopic goes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文本框 8200"/>
          <p:cNvSpPr/>
          <p:nvPr/>
        </p:nvSpPr>
        <p:spPr>
          <a:xfrm>
            <a:off x="755640" y="170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4800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Impact"/>
              </a:rPr>
              <a:t>Transitional Page</a:t>
            </a:r>
            <a:endParaRPr b="0" lang="en-US" sz="4400" spc="-1" strike="noStrike">
              <a:solidFill>
                <a:srgbClr val="0d5dad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0" y="5340960"/>
            <a:ext cx="914400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D83AD-AC5E-4241-9624-426E3AC9E2C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d5dad"/>
                </a:solidFill>
                <a:latin typeface="Arial"/>
              </a:rPr>
              <a:t>Your Topic Goes Here</a:t>
            </a:r>
            <a:endParaRPr b="0" lang="en-US" sz="3600" spc="-1" strike="noStrike">
              <a:solidFill>
                <a:srgbClr val="0d5dad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0T17:18:13Z</dcterms:created>
  <dc:creator>幻灯片之家：www.eepp.com</dc:creator>
  <dc:description>幻灯片之家：www.eepp.com</dc:description>
  <cp:keywords>幻灯片之家：www.eepp.com</cp:keywords>
  <dc:language>en-US</dc:language>
  <cp:lastModifiedBy>pc</cp:lastModifiedBy>
  <dcterms:modified xsi:type="dcterms:W3CDTF">2015-12-12T07:17:55Z</dcterms:modified>
  <cp:revision>11</cp:revision>
  <dc:subject>幻灯片之家：www.eepp.com</dc:subject>
  <dc:title>幻灯片之家：www.eepp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