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9ED-B82A-43D1-8421-C92B80F1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262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C0A-6251-476A-9BD3-F733334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36A-0CC0-4D8D-9B50-07C40226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5C2-8257-4D7C-8596-73348202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1F11-25A7-46B1-9F96-B1571B8D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284B-4AD4-4366-8D8E-878C211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F26-59A1-430E-BB69-4110626C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897E-CE50-44B5-9F58-9B89E28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7592-F23F-4A32-9781-5B7C8419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6D50-3F20-4ED9-A099-78F9115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5F6E-EB3F-4A15-964F-76B87533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B4D-835D-4A15-970C-3323472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81B-C903-4491-82D5-2031EC5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AF81-136D-4F33-A966-2A7FC45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262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0223-59B1-4982-8774-EF7D71FF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51F6-9DDD-4DE7-93C3-1028A543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026240"/>
            <a:ext cx="24289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9E33-F905-4160-B7B6-5848086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741C-84CF-467F-8668-0BBFACA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ABE-6534-46CB-9174-1A01DEE0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0C0-CD6B-45F2-B48F-195C9C3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1AE-1B26-4D12-A9CB-C8D30EE8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5DD-89C2-4F59-B318-FD8AEC6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0262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BAC-C034-4F02-B382-1A6254B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26240"/>
            <a:ext cx="754380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9F2-EFEC-40DA-ADEC-26B2815E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932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58720" y="6244920"/>
            <a:ext cx="1860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503-54F7-4A43-BD29-C64ED0D7DE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042-5840-4477-8BC5-09F7FD944E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97C-65A6-44D0-A263-56404720D1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GRI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099800" y="91440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绿色国外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560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7720" y="3885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18960" y="1599840"/>
            <a:ext cx="74674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e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9ACE-70FB-4A87-BA3D-935B41E226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2640" y="1599840"/>
            <a:ext cx="754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16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0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