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437C-343F-4BFF-ACE9-3B666E1B2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15D10-D5E7-4915-ABD9-60BFF8CF4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95F1F-8012-42EB-B636-72613C877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FC5A-6DFD-4C72-A160-CD3BABCA8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9F8E0-7A27-4A07-9FD6-2866D7D6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6304B-9623-4432-958F-ACAEA9D2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F932C-6B2E-42A5-8838-1897053E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C1044-1F49-467C-A750-CE571F73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630BA-C07A-4928-93C5-1BF6A4B5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8B4BB-02AE-4816-AF8F-C5289E1F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88FCE-81DF-4048-A783-CEBFC42D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3738-2A95-436C-90D7-74D0FEC0C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1E79A-E6B4-4AC4-B485-3900E5A8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065EE-9F2A-4E38-A702-86ABAADB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3A7DE-24E4-4CBA-96A5-EF413C45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1C435-18DF-476A-BCCC-6B2C4C21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F0E80-0AEE-4FA3-A7DE-6E23868A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56159-9AC3-4F4D-B85F-0D0752B187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E253D-6613-4CE5-8350-E0C6A5ECD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EB60-38CB-4337-99E6-30FE58D4F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1714-43D8-4488-AC1B-4FAB5C8A9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7DAA1-45D2-4B1F-90AB-30EFF8570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2D262-4C5B-456F-9818-0BFCB653A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F771-0FA9-4575-9C10-AD95BA3D1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1d494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1d494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352320" y="64987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52CC-962D-490A-9690-7B73A1D9648F}" type="slidenum"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矩形 1030"/>
          <p:cNvSpPr/>
          <p:nvPr/>
        </p:nvSpPr>
        <p:spPr>
          <a:xfrm>
            <a:off x="-6480" y="0"/>
            <a:ext cx="185760" cy="6858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矩形 1031"/>
          <p:cNvSpPr/>
          <p:nvPr/>
        </p:nvSpPr>
        <p:spPr>
          <a:xfrm>
            <a:off x="0" y="404640"/>
            <a:ext cx="184320" cy="72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矩形 1032"/>
          <p:cNvSpPr/>
          <p:nvPr/>
        </p:nvSpPr>
        <p:spPr>
          <a:xfrm>
            <a:off x="-11160" y="1128600"/>
            <a:ext cx="181080" cy="720720"/>
          </a:xfrm>
          <a:prstGeom prst="rect">
            <a:avLst/>
          </a:pr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" name="矩形 1033"/>
          <p:cNvSpPr/>
          <p:nvPr/>
        </p:nvSpPr>
        <p:spPr>
          <a:xfrm>
            <a:off x="-11160" y="1847880"/>
            <a:ext cx="181080" cy="72072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矩形 1034"/>
          <p:cNvSpPr/>
          <p:nvPr/>
        </p:nvSpPr>
        <p:spPr>
          <a:xfrm>
            <a:off x="-11160" y="2552760"/>
            <a:ext cx="181080" cy="720720"/>
          </a:xfrm>
          <a:prstGeom prst="rect">
            <a:avLst/>
          </a:prstGeom>
          <a:solidFill>
            <a:srgbClr val="1d4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" name="椭圆 1035"/>
          <p:cNvSpPr/>
          <p:nvPr/>
        </p:nvSpPr>
        <p:spPr>
          <a:xfrm>
            <a:off x="7885080" y="260280"/>
            <a:ext cx="1079640" cy="115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8ED7-DCB7-4866-A94A-CC93581DE48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E126-719C-4333-AD8B-31CE67BA61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049"/>
          <p:cNvSpPr/>
          <p:nvPr/>
        </p:nvSpPr>
        <p:spPr>
          <a:xfrm>
            <a:off x="380880" y="5173560"/>
            <a:ext cx="8763120" cy="1684440"/>
          </a:xfrm>
          <a:prstGeom prst="rect">
            <a:avLst/>
          </a:prstGeom>
          <a:solidFill>
            <a:srgbClr val="669e86"/>
          </a:solidFill>
          <a:ln w="93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9" name="矩形 2050"/>
          <p:cNvSpPr/>
          <p:nvPr/>
        </p:nvSpPr>
        <p:spPr>
          <a:xfrm>
            <a:off x="-33480" y="5138640"/>
            <a:ext cx="428760" cy="1719360"/>
          </a:xfrm>
          <a:prstGeom prst="rect">
            <a:avLst/>
          </a:prstGeom>
          <a:solidFill>
            <a:srgbClr val="1d4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0" name="矩形 2051"/>
          <p:cNvSpPr/>
          <p:nvPr/>
        </p:nvSpPr>
        <p:spPr>
          <a:xfrm>
            <a:off x="-33480" y="4149720"/>
            <a:ext cx="428760" cy="1006560"/>
          </a:xfrm>
          <a:prstGeom prst="rect">
            <a:avLst/>
          </a:prstGeom>
          <a:solidFill>
            <a:srgbClr val="3f7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1" name="矩形 2052"/>
          <p:cNvSpPr/>
          <p:nvPr/>
        </p:nvSpPr>
        <p:spPr>
          <a:xfrm>
            <a:off x="-33480" y="0"/>
            <a:ext cx="428760" cy="234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2" name="矩形 2053"/>
          <p:cNvSpPr/>
          <p:nvPr/>
        </p:nvSpPr>
        <p:spPr>
          <a:xfrm>
            <a:off x="-33480" y="2349360"/>
            <a:ext cx="428760" cy="863640"/>
          </a:xfrm>
          <a:prstGeom prst="rect">
            <a:avLst/>
          </a:pr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93" name="组合 2056"/>
          <p:cNvGrpSpPr/>
          <p:nvPr/>
        </p:nvGrpSpPr>
        <p:grpSpPr>
          <a:xfrm>
            <a:off x="4267080" y="5867280"/>
            <a:ext cx="1079640" cy="635760"/>
            <a:chOff x="4267080" y="5867280"/>
            <a:chExt cx="1079640" cy="635760"/>
          </a:xfrm>
        </p:grpSpPr>
        <p:sp>
          <p:nvSpPr>
            <p:cNvPr id="94" name="文本框 2057"/>
            <p:cNvSpPr/>
            <p:nvPr/>
          </p:nvSpPr>
          <p:spPr>
            <a:xfrm>
              <a:off x="4267080" y="6043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GO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95" name="新月形 2058"/>
            <p:cNvSpPr/>
            <p:nvPr/>
          </p:nvSpPr>
          <p:spPr>
            <a:xfrm rot="5400000">
              <a:off x="4660920" y="55735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2c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96" name="矩形 2059"/>
          <p:cNvSpPr/>
          <p:nvPr/>
        </p:nvSpPr>
        <p:spPr>
          <a:xfrm>
            <a:off x="-33480" y="3200400"/>
            <a:ext cx="428760" cy="96192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pic>
        <p:nvPicPr>
          <p:cNvPr id="97" name="图片 2060" descr=""/>
          <p:cNvPicPr/>
          <p:nvPr/>
        </p:nvPicPr>
        <p:blipFill>
          <a:blip r:embed="rId2"/>
          <a:stretch/>
        </p:blipFill>
        <p:spPr>
          <a:xfrm>
            <a:off x="395280" y="2362320"/>
            <a:ext cx="8759880" cy="280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1d494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1d494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716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椭圆 4098"/>
          <p:cNvSpPr/>
          <p:nvPr/>
        </p:nvSpPr>
        <p:spPr>
          <a:xfrm>
            <a:off x="7451640" y="1773360"/>
            <a:ext cx="1224000" cy="1295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8" name="文本框 4099"/>
          <p:cNvSpPr/>
          <p:nvPr/>
        </p:nvSpPr>
        <p:spPr>
          <a:xfrm>
            <a:off x="1837440" y="69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494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9" name="页脚占位符 1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494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40" name="文本框 6155"/>
          <p:cNvSpPr/>
          <p:nvPr/>
        </p:nvSpPr>
        <p:spPr>
          <a:xfrm>
            <a:off x="39528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d494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d494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41" name="文本框 2"/>
          <p:cNvSpPr/>
          <p:nvPr/>
        </p:nvSpPr>
        <p:spPr>
          <a:xfrm>
            <a:off x="971640" y="765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4940"/>
                </a:solidFill>
                <a:latin typeface="Arial"/>
                <a:ea typeface="Arial"/>
              </a:rPr>
              <a:t>绿色工作报告</a:t>
            </a:r>
            <a:r>
              <a:rPr b="0" lang="zh-CN" sz="4000" spc="-1" strike="noStrike">
                <a:solidFill>
                  <a:srgbClr val="1d494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1d4940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组合 6146"/>
          <p:cNvGrpSpPr/>
          <p:nvPr/>
        </p:nvGrpSpPr>
        <p:grpSpPr>
          <a:xfrm>
            <a:off x="-2219400" y="1600200"/>
            <a:ext cx="9249840" cy="4824360"/>
            <a:chOff x="-2219400" y="1600200"/>
            <a:chExt cx="9249840" cy="4824360"/>
          </a:xfrm>
        </p:grpSpPr>
        <p:sp>
          <p:nvSpPr>
            <p:cNvPr id="144" name="任意多边形 6147"/>
            <p:cNvSpPr/>
            <p:nvPr/>
          </p:nvSpPr>
          <p:spPr>
            <a:xfrm rot="5400000">
              <a:off x="-2247120" y="1627920"/>
              <a:ext cx="4824360" cy="4768560"/>
            </a:xfrm>
            <a:custGeom>
              <a:avLst/>
              <a:gdLst/>
              <a:ahLst/>
              <a:rect l="l" t="t" r="r" b="b"/>
              <a:pathLst>
                <a:path w="21599" h="10805">
                  <a:moveTo>
                    <a:pt x="323" y="10641"/>
                  </a:moveTo>
                  <a:cubicBezTo>
                    <a:pt x="409" y="4927"/>
                    <a:pt x="5067" y="322"/>
                    <a:pt x="10800" y="322"/>
                  </a:cubicBezTo>
                  <a:cubicBezTo>
                    <a:pt x="16534" y="322"/>
                    <a:pt x="21192" y="4927"/>
                    <a:pt x="21277" y="10640"/>
                  </a:cubicBezTo>
                  <a:lnTo>
                    <a:pt x="21598" y="10636"/>
                  </a:lnTo>
                  <a:cubicBezTo>
                    <a:pt x="21509" y="4583"/>
                    <a:pt x="16708" y="-164"/>
                    <a:pt x="10798" y="-164"/>
                  </a:cubicBezTo>
                  <a:cubicBezTo>
                    <a:pt x="4888" y="-164"/>
                    <a:pt x="87" y="4583"/>
                    <a:pt x="-1" y="10472"/>
                  </a:cubicBez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50000">
                  <a:srgbClr val="dddddd"/>
                </a:gs>
                <a:gs pos="100000">
                  <a:srgbClr val="f0f0f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5" name="任意多边形 6148"/>
            <p:cNvSpPr/>
            <p:nvPr/>
          </p:nvSpPr>
          <p:spPr>
            <a:xfrm flipH="1" rot="5400000">
              <a:off x="-1847880" y="2056680"/>
              <a:ext cx="4032360" cy="392760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10744" y="10800"/>
                  </a:moveTo>
                  <a:cubicBezTo>
                    <a:pt x="10744" y="10769"/>
                    <a:pt x="10769" y="10744"/>
                    <a:pt x="10800" y="10744"/>
                  </a:cubicBezTo>
                  <a:cubicBezTo>
                    <a:pt x="10831" y="10744"/>
                    <a:pt x="10856" y="10769"/>
                    <a:pt x="10856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146" name="组合 6149"/>
            <p:cNvGrpSpPr/>
            <p:nvPr/>
          </p:nvGrpSpPr>
          <p:grpSpPr>
            <a:xfrm>
              <a:off x="1622520" y="1973160"/>
              <a:ext cx="4735080" cy="507960"/>
              <a:chOff x="1622520" y="1973160"/>
              <a:chExt cx="4735080" cy="507960"/>
            </a:xfrm>
          </p:grpSpPr>
          <p:sp>
            <p:nvSpPr>
              <p:cNvPr id="147" name="圆角矩形 6150"/>
              <p:cNvSpPr/>
              <p:nvPr/>
            </p:nvSpPr>
            <p:spPr>
              <a:xfrm>
                <a:off x="1939680" y="1973160"/>
                <a:ext cx="441792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148" name="组合 6151"/>
              <p:cNvGrpSpPr/>
              <p:nvPr/>
            </p:nvGrpSpPr>
            <p:grpSpPr>
              <a:xfrm>
                <a:off x="1622520" y="2062080"/>
                <a:ext cx="380520" cy="380880"/>
                <a:chOff x="1622520" y="2062080"/>
                <a:chExt cx="380520" cy="380880"/>
              </a:xfrm>
            </p:grpSpPr>
            <p:sp>
              <p:nvSpPr>
                <p:cNvPr id="149" name="椭圆 6152"/>
                <p:cNvSpPr/>
                <p:nvPr/>
              </p:nvSpPr>
              <p:spPr>
                <a:xfrm>
                  <a:off x="1622520" y="2062080"/>
                  <a:ext cx="38052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50" name="椭圆 6153"/>
                <p:cNvSpPr/>
                <p:nvPr/>
              </p:nvSpPr>
              <p:spPr>
                <a:xfrm>
                  <a:off x="1644120" y="2083320"/>
                  <a:ext cx="33696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a2a2"/>
                    </a:gs>
                    <a:gs pos="50000">
                      <a:srgbClr val="ffffff"/>
                    </a:gs>
                    <a:gs pos="100000">
                      <a:srgbClr val="a2a2a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51" name="椭圆 6154"/>
                <p:cNvSpPr/>
                <p:nvPr/>
              </p:nvSpPr>
              <p:spPr>
                <a:xfrm>
                  <a:off x="1663920" y="2103480"/>
                  <a:ext cx="2973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ca35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52" name="椭圆 6155"/>
                <p:cNvSpPr/>
                <p:nvPr/>
              </p:nvSpPr>
              <p:spPr>
                <a:xfrm>
                  <a:off x="1663920" y="2103480"/>
                  <a:ext cx="2973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cc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53" name="椭圆 6156"/>
                <p:cNvSpPr/>
                <p:nvPr/>
              </p:nvSpPr>
              <p:spPr>
                <a:xfrm>
                  <a:off x="1683360" y="2122920"/>
                  <a:ext cx="25812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833"/>
                    </a:gs>
                    <a:gs pos="50000">
                      <a:srgbClr val="8ca35f"/>
                    </a:gs>
                    <a:gs pos="100000">
                      <a:srgbClr val="4c58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54" name="椭圆 6157"/>
                <p:cNvSpPr/>
                <p:nvPr/>
              </p:nvSpPr>
              <p:spPr>
                <a:xfrm>
                  <a:off x="1683360" y="2122920"/>
                  <a:ext cx="25812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c63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组合 6158"/>
            <p:cNvGrpSpPr/>
            <p:nvPr/>
          </p:nvGrpSpPr>
          <p:grpSpPr>
            <a:xfrm>
              <a:off x="2156040" y="2743200"/>
              <a:ext cx="4722120" cy="507960"/>
              <a:chOff x="2156040" y="2743200"/>
              <a:chExt cx="4722120" cy="507960"/>
            </a:xfrm>
          </p:grpSpPr>
          <p:sp>
            <p:nvSpPr>
              <p:cNvPr id="156" name="圆角矩形 6159"/>
              <p:cNvSpPr/>
              <p:nvPr/>
            </p:nvSpPr>
            <p:spPr>
              <a:xfrm>
                <a:off x="2460600" y="2743200"/>
                <a:ext cx="44175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157" name="组合 6160"/>
              <p:cNvGrpSpPr/>
              <p:nvPr/>
            </p:nvGrpSpPr>
            <p:grpSpPr>
              <a:xfrm>
                <a:off x="2156040" y="2849400"/>
                <a:ext cx="380520" cy="381240"/>
                <a:chOff x="2156040" y="2849400"/>
                <a:chExt cx="380520" cy="381240"/>
              </a:xfrm>
            </p:grpSpPr>
            <p:sp>
              <p:nvSpPr>
                <p:cNvPr id="158" name="椭圆 6161"/>
                <p:cNvSpPr/>
                <p:nvPr/>
              </p:nvSpPr>
              <p:spPr>
                <a:xfrm>
                  <a:off x="2156040" y="2849400"/>
                  <a:ext cx="38052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59" name="椭圆 6162"/>
                <p:cNvSpPr/>
                <p:nvPr/>
              </p:nvSpPr>
              <p:spPr>
                <a:xfrm>
                  <a:off x="2177640" y="2870640"/>
                  <a:ext cx="336960" cy="33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a2a2"/>
                    </a:gs>
                    <a:gs pos="50000">
                      <a:srgbClr val="ffffff"/>
                    </a:gs>
                    <a:gs pos="100000">
                      <a:srgbClr val="a2a2a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60" name="椭圆 6163"/>
                <p:cNvSpPr/>
                <p:nvPr/>
              </p:nvSpPr>
              <p:spPr>
                <a:xfrm>
                  <a:off x="2197440" y="289080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ca35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61" name="椭圆 6164"/>
                <p:cNvSpPr/>
                <p:nvPr/>
              </p:nvSpPr>
              <p:spPr>
                <a:xfrm>
                  <a:off x="2197440" y="289080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48be6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62" name="椭圆 6165"/>
                <p:cNvSpPr/>
                <p:nvPr/>
              </p:nvSpPr>
              <p:spPr>
                <a:xfrm>
                  <a:off x="2216880" y="291024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833"/>
                    </a:gs>
                    <a:gs pos="50000">
                      <a:srgbClr val="8ca35f"/>
                    </a:gs>
                    <a:gs pos="100000">
                      <a:srgbClr val="4c58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63" name="椭圆 6166"/>
                <p:cNvSpPr/>
                <p:nvPr/>
              </p:nvSpPr>
              <p:spPr>
                <a:xfrm>
                  <a:off x="2216880" y="291024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8be67"/>
                    </a:gs>
                    <a:gs pos="100000">
                      <a:srgbClr val="235c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组合 6167"/>
            <p:cNvGrpSpPr/>
            <p:nvPr/>
          </p:nvGrpSpPr>
          <p:grpSpPr>
            <a:xfrm>
              <a:off x="2308320" y="3611520"/>
              <a:ext cx="4722120" cy="507960"/>
              <a:chOff x="2308320" y="3611520"/>
              <a:chExt cx="4722120" cy="507960"/>
            </a:xfrm>
          </p:grpSpPr>
          <p:sp>
            <p:nvSpPr>
              <p:cNvPr id="165" name="圆角矩形 6168"/>
              <p:cNvSpPr/>
              <p:nvPr/>
            </p:nvSpPr>
            <p:spPr>
              <a:xfrm>
                <a:off x="2612880" y="3611520"/>
                <a:ext cx="44175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166" name="组合 6169"/>
              <p:cNvGrpSpPr/>
              <p:nvPr/>
            </p:nvGrpSpPr>
            <p:grpSpPr>
              <a:xfrm>
                <a:off x="2308320" y="3687840"/>
                <a:ext cx="380520" cy="380880"/>
                <a:chOff x="2308320" y="3687840"/>
                <a:chExt cx="380520" cy="380880"/>
              </a:xfrm>
            </p:grpSpPr>
            <p:sp>
              <p:nvSpPr>
                <p:cNvPr id="167" name="椭圆 6170"/>
                <p:cNvSpPr/>
                <p:nvPr/>
              </p:nvSpPr>
              <p:spPr>
                <a:xfrm>
                  <a:off x="2308320" y="3687840"/>
                  <a:ext cx="38052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68" name="椭圆 6171"/>
                <p:cNvSpPr/>
                <p:nvPr/>
              </p:nvSpPr>
              <p:spPr>
                <a:xfrm>
                  <a:off x="2329920" y="3709080"/>
                  <a:ext cx="33696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a2a2"/>
                    </a:gs>
                    <a:gs pos="50000">
                      <a:srgbClr val="ffffff"/>
                    </a:gs>
                    <a:gs pos="100000">
                      <a:srgbClr val="a2a2a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6172"/>
                <p:cNvSpPr/>
                <p:nvPr/>
              </p:nvSpPr>
              <p:spPr>
                <a:xfrm>
                  <a:off x="2349720" y="3729240"/>
                  <a:ext cx="2973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ca35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70" name="椭圆 6173"/>
                <p:cNvSpPr/>
                <p:nvPr/>
              </p:nvSpPr>
              <p:spPr>
                <a:xfrm>
                  <a:off x="2349720" y="3729240"/>
                  <a:ext cx="2973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1b3e1"/>
                    </a:gs>
                    <a:gs pos="100000">
                      <a:srgbClr val="0f53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71" name="椭圆 6174"/>
                <p:cNvSpPr/>
                <p:nvPr/>
              </p:nvSpPr>
              <p:spPr>
                <a:xfrm>
                  <a:off x="2369160" y="3748680"/>
                  <a:ext cx="25812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833"/>
                    </a:gs>
                    <a:gs pos="50000">
                      <a:srgbClr val="8ca35f"/>
                    </a:gs>
                    <a:gs pos="100000">
                      <a:srgbClr val="4c58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72" name="椭圆 6175"/>
                <p:cNvSpPr/>
                <p:nvPr/>
              </p:nvSpPr>
              <p:spPr>
                <a:xfrm>
                  <a:off x="2369160" y="3748680"/>
                  <a:ext cx="25812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1b3e1"/>
                    </a:gs>
                    <a:gs pos="100000">
                      <a:srgbClr val="10576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组合 6176"/>
            <p:cNvGrpSpPr/>
            <p:nvPr/>
          </p:nvGrpSpPr>
          <p:grpSpPr>
            <a:xfrm>
              <a:off x="2156040" y="4424400"/>
              <a:ext cx="4753800" cy="507960"/>
              <a:chOff x="2156040" y="4424400"/>
              <a:chExt cx="4753800" cy="507960"/>
            </a:xfrm>
          </p:grpSpPr>
          <p:sp>
            <p:nvSpPr>
              <p:cNvPr id="174" name="圆角矩形 6177"/>
              <p:cNvSpPr/>
              <p:nvPr/>
            </p:nvSpPr>
            <p:spPr>
              <a:xfrm>
                <a:off x="2492280" y="4424400"/>
                <a:ext cx="44175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175" name="组合 6178"/>
              <p:cNvGrpSpPr/>
              <p:nvPr/>
            </p:nvGrpSpPr>
            <p:grpSpPr>
              <a:xfrm>
                <a:off x="2156040" y="4525920"/>
                <a:ext cx="380520" cy="381240"/>
                <a:chOff x="2156040" y="4525920"/>
                <a:chExt cx="380520" cy="381240"/>
              </a:xfrm>
            </p:grpSpPr>
            <p:sp>
              <p:nvSpPr>
                <p:cNvPr id="176" name="椭圆 6179"/>
                <p:cNvSpPr/>
                <p:nvPr/>
              </p:nvSpPr>
              <p:spPr>
                <a:xfrm>
                  <a:off x="2156040" y="4525920"/>
                  <a:ext cx="38052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77" name="椭圆 6180"/>
                <p:cNvSpPr/>
                <p:nvPr/>
              </p:nvSpPr>
              <p:spPr>
                <a:xfrm>
                  <a:off x="2177640" y="4547160"/>
                  <a:ext cx="336960" cy="33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a2a2"/>
                    </a:gs>
                    <a:gs pos="50000">
                      <a:srgbClr val="ffffff"/>
                    </a:gs>
                    <a:gs pos="100000">
                      <a:srgbClr val="a2a2a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78" name="椭圆 6181"/>
                <p:cNvSpPr/>
                <p:nvPr/>
              </p:nvSpPr>
              <p:spPr>
                <a:xfrm>
                  <a:off x="2197440" y="456732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ca35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79" name="椭圆 6182"/>
                <p:cNvSpPr/>
                <p:nvPr/>
              </p:nvSpPr>
              <p:spPr>
                <a:xfrm>
                  <a:off x="2197440" y="456732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8d67e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80" name="椭圆 6183"/>
                <p:cNvSpPr/>
                <p:nvPr/>
              </p:nvSpPr>
              <p:spPr>
                <a:xfrm>
                  <a:off x="2216880" y="458676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833"/>
                    </a:gs>
                    <a:gs pos="50000">
                      <a:srgbClr val="8ca35f"/>
                    </a:gs>
                    <a:gs pos="100000">
                      <a:srgbClr val="4c58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81" name="椭圆 6184"/>
                <p:cNvSpPr/>
                <p:nvPr/>
              </p:nvSpPr>
              <p:spPr>
                <a:xfrm>
                  <a:off x="2216880" y="458676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67e1"/>
                    </a:gs>
                    <a:gs pos="100000">
                      <a:srgbClr val="45326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组合 6185"/>
            <p:cNvGrpSpPr/>
            <p:nvPr/>
          </p:nvGrpSpPr>
          <p:grpSpPr>
            <a:xfrm>
              <a:off x="1698840" y="5251320"/>
              <a:ext cx="4715640" cy="507960"/>
              <a:chOff x="1698840" y="5251320"/>
              <a:chExt cx="4715640" cy="507960"/>
            </a:xfrm>
          </p:grpSpPr>
          <p:sp>
            <p:nvSpPr>
              <p:cNvPr id="183" name="圆角矩形 6186"/>
              <p:cNvSpPr/>
              <p:nvPr/>
            </p:nvSpPr>
            <p:spPr>
              <a:xfrm>
                <a:off x="1996920" y="5251320"/>
                <a:ext cx="44175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184" name="组合 6187"/>
              <p:cNvGrpSpPr/>
              <p:nvPr/>
            </p:nvGrpSpPr>
            <p:grpSpPr>
              <a:xfrm>
                <a:off x="1698840" y="5300640"/>
                <a:ext cx="355320" cy="380880"/>
                <a:chOff x="1698840" y="5300640"/>
                <a:chExt cx="355320" cy="380880"/>
              </a:xfrm>
            </p:grpSpPr>
            <p:sp>
              <p:nvSpPr>
                <p:cNvPr id="185" name="椭圆 6188"/>
                <p:cNvSpPr/>
                <p:nvPr/>
              </p:nvSpPr>
              <p:spPr>
                <a:xfrm>
                  <a:off x="1698840" y="5300640"/>
                  <a:ext cx="35532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86" name="椭圆 6189"/>
                <p:cNvSpPr/>
                <p:nvPr/>
              </p:nvSpPr>
              <p:spPr>
                <a:xfrm>
                  <a:off x="1719000" y="5321880"/>
                  <a:ext cx="31464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a2a2"/>
                    </a:gs>
                    <a:gs pos="50000">
                      <a:srgbClr val="ffffff"/>
                    </a:gs>
                    <a:gs pos="100000">
                      <a:srgbClr val="a2a2a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87" name="椭圆 6190"/>
                <p:cNvSpPr/>
                <p:nvPr/>
              </p:nvSpPr>
              <p:spPr>
                <a:xfrm>
                  <a:off x="1737360" y="5342040"/>
                  <a:ext cx="2775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ca35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88" name="椭圆 6191"/>
                <p:cNvSpPr/>
                <p:nvPr/>
              </p:nvSpPr>
              <p:spPr>
                <a:xfrm>
                  <a:off x="1737360" y="5342040"/>
                  <a:ext cx="2775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e35e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89" name="椭圆 6192"/>
                <p:cNvSpPr/>
                <p:nvPr/>
              </p:nvSpPr>
              <p:spPr>
                <a:xfrm>
                  <a:off x="1755720" y="5361480"/>
                  <a:ext cx="24120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833"/>
                    </a:gs>
                    <a:gs pos="50000">
                      <a:srgbClr val="8ca35f"/>
                    </a:gs>
                    <a:gs pos="100000">
                      <a:srgbClr val="4c58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90" name="椭圆 6193"/>
                <p:cNvSpPr/>
                <p:nvPr/>
              </p:nvSpPr>
              <p:spPr>
                <a:xfrm>
                  <a:off x="1755720" y="5361480"/>
                  <a:ext cx="24120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5e23"/>
                    </a:gs>
                    <a:gs pos="100000">
                      <a:srgbClr val="6e2e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1" name="未知" descr=""/>
          <p:cNvPicPr/>
          <p:nvPr/>
        </p:nvPicPr>
        <p:blipFill>
          <a:blip r:embed="rId1"/>
          <a:stretch/>
        </p:blipFill>
        <p:spPr>
          <a:xfrm>
            <a:off x="7132680" y="6510240"/>
            <a:ext cx="1623960" cy="265320"/>
          </a:xfrm>
          <a:prstGeom prst="rect">
            <a:avLst/>
          </a:prstGeom>
          <a:ln w="0">
            <a:noFill/>
          </a:ln>
        </p:spPr>
      </p:pic>
      <p:sp>
        <p:nvSpPr>
          <p:cNvPr id="192" name="页脚占位符 1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494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494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9AA7-EB55-4DED-A158-09D49449FD0A}" type="slidenum">
              <a:rPr b="0" lang="zh-CN" sz="1400" spc="-1" strike="noStrike">
                <a:solidFill>
                  <a:srgbClr val="1d494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7169"/>
          <p:cNvSpPr/>
          <p:nvPr/>
        </p:nvSpPr>
        <p:spPr>
          <a:xfrm>
            <a:off x="2362320" y="1949400"/>
            <a:ext cx="4130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8" name="矩形 7170"/>
          <p:cNvSpPr txBox="1"/>
          <p:nvPr/>
        </p:nvSpPr>
        <p:spPr>
          <a:xfrm>
            <a:off x="2050920" y="314172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8ca35f"/>
                    </a:gs>
                    <a:gs pos="100000">
                      <a:srgbClr val="669e86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1d494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8ca35f"/>
                  </a:gs>
                  <a:gs pos="100000">
                    <a:srgbClr val="669e86"/>
                  </a:gs>
                </a:gsLst>
                <a:lin ang="0"/>
              </a:gradFill>
              <a:effectLst>
                <a:outerShdw dist="53966" dir="2700000" blurRad="0" rotWithShape="0">
                  <a:srgbClr val="1d494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页脚占位符 1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494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0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ca35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ca35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1d494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2:37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04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