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819-333B-47D2-89DC-174C2E24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FA3-5EF0-41D1-8548-39879C8B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241-DD05-4BA3-86B8-B27F3773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7D9-D8A0-4463-A59C-C688FA42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5676-F2A0-45C5-85AF-5C32E921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68E1-A1BA-4449-89B1-32C663A1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1532-18F6-40B0-B286-19155E3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2E5-894C-4C84-AACE-AEC658C1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7386-91CB-4603-ACEE-62EF2571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575B-1910-4E14-9231-D98957BB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245B-EE71-4FAE-A2C7-02ADEBD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BF8-E607-4913-8A7F-7C666327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B13-CE40-4787-924B-C5E76E3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BDC-179A-4B0D-8420-8EA6145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9D8-694E-4986-AB22-582F744B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C808-D1B9-4A58-BC23-8511F71B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048-F4D0-4BA8-8ACD-1DDE7A2C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3E7-E8E9-4C8D-B7B6-3D4B39E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C31-B63E-4B91-99DB-93CB27A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A64-1501-4387-AF91-62469EAB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631-EB65-4E36-95D0-80F6E81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113-03BE-45ED-A80C-02B11359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7BB-41D2-40BD-B79A-FA0E1280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689-FDF6-47EB-81A9-831FB361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3" descr="corporate1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24"/>
              </a:spcBef>
              <a:buClr>
                <a:srgbClr val="33ccff"/>
              </a:buClr>
              <a:buSzPct val="12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24"/>
              </a:spcBef>
              <a:buClr>
                <a:srgbClr val="33cc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ECCF-BFAF-456A-9D93-C94B9251D62C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F83E-B497-4BB1-8720-F72FCDD987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C283-5399-4788-B0CC-CB4197144B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058" descr="corporate1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24"/>
              </a:spcBef>
              <a:buClr>
                <a:srgbClr val="33ccff"/>
              </a:buClr>
              <a:buSzPct val="12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24"/>
              </a:spcBef>
              <a:buClr>
                <a:srgbClr val="33cc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宋体"/>
              </a:rPr>
              <a:t>Business 1 Templ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Presenter Na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2140200" y="11509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蓝色工作团队报告</a:t>
            </a:r>
            <a:r>
              <a:rPr b="0" lang="en-US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文本框 30722"/>
          <p:cNvSpPr/>
          <p:nvPr/>
        </p:nvSpPr>
        <p:spPr>
          <a:xfrm>
            <a:off x="676440" y="1905120"/>
            <a:ext cx="79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free to use these templates for your personal and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presenta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30723"/>
          <p:cNvSpPr/>
          <p:nvPr/>
        </p:nvSpPr>
        <p:spPr>
          <a:xfrm>
            <a:off x="641520" y="3459240"/>
            <a:ext cx="3717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文本框 30724"/>
          <p:cNvSpPr/>
          <p:nvPr/>
        </p:nvSpPr>
        <p:spPr>
          <a:xfrm>
            <a:off x="4633920" y="3459240"/>
            <a:ext cx="396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文本框 30725"/>
          <p:cNvSpPr/>
          <p:nvPr/>
        </p:nvSpPr>
        <p:spPr>
          <a:xfrm>
            <a:off x="133200" y="5708520"/>
            <a:ext cx="839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文本框 30726"/>
          <p:cNvSpPr/>
          <p:nvPr/>
        </p:nvSpPr>
        <p:spPr>
          <a:xfrm>
            <a:off x="700200" y="2801880"/>
            <a:ext cx="783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We have put a lot of work into developing all these templates and retain the copyright in them. 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buClr>
                <a:srgbClr val="33ccff"/>
              </a:buClr>
              <a:buSzPct val="12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Sub Bull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18435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18436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矩形 18437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矩形 18438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99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矩形 18439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矩形 18440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cc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矩形 18441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矩形 18442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文本框 18443"/>
          <p:cNvSpPr/>
          <p:nvPr/>
        </p:nvSpPr>
        <p:spPr>
          <a:xfrm>
            <a:off x="144000" y="2682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文本框 18444"/>
          <p:cNvSpPr/>
          <p:nvPr/>
        </p:nvSpPr>
        <p:spPr>
          <a:xfrm>
            <a:off x="1462320" y="2560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文本框 18445"/>
          <p:cNvSpPr/>
          <p:nvPr/>
        </p:nvSpPr>
        <p:spPr>
          <a:xfrm>
            <a:off x="2412000" y="26827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文本框 18446"/>
          <p:cNvSpPr/>
          <p:nvPr/>
        </p:nvSpPr>
        <p:spPr>
          <a:xfrm>
            <a:off x="3692880" y="2560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文本框 18447"/>
          <p:cNvSpPr/>
          <p:nvPr/>
        </p:nvSpPr>
        <p:spPr>
          <a:xfrm>
            <a:off x="4777920" y="26827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文本框 18448"/>
          <p:cNvSpPr/>
          <p:nvPr/>
        </p:nvSpPr>
        <p:spPr>
          <a:xfrm>
            <a:off x="5725440" y="2682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文本框 18449"/>
          <p:cNvSpPr/>
          <p:nvPr/>
        </p:nvSpPr>
        <p:spPr>
          <a:xfrm>
            <a:off x="6659640" y="25606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文本框 18450"/>
          <p:cNvSpPr/>
          <p:nvPr/>
        </p:nvSpPr>
        <p:spPr>
          <a:xfrm>
            <a:off x="7740720" y="25588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0720"/>
            <a:ext cx="380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图片 20483" descr="snowdrop"/>
          <p:cNvPicPr/>
          <p:nvPr/>
        </p:nvPicPr>
        <p:blipFill>
          <a:blip r:embed="rId1"/>
          <a:stretch/>
        </p:blipFill>
        <p:spPr>
          <a:xfrm>
            <a:off x="5805360" y="2152800"/>
            <a:ext cx="2094120" cy="3528720"/>
          </a:xfrm>
          <a:prstGeom prst="rect">
            <a:avLst/>
          </a:prstGeom>
          <a:ln w="38160">
            <a:solidFill>
              <a:srgbClr val="33ccff"/>
            </a:solidFill>
            <a:miter/>
          </a:ln>
        </p:spPr>
      </p:pic>
      <p:sp>
        <p:nvSpPr>
          <p:cNvPr id="15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ample Graph (3 colou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对象 22530" descr=""/>
          <p:cNvPicPr/>
          <p:nvPr/>
        </p:nvPicPr>
        <p:blipFill>
          <a:blip r:embed="rId1"/>
          <a:stretch/>
        </p:blipFill>
        <p:spPr>
          <a:xfrm>
            <a:off x="1374840" y="2062080"/>
            <a:ext cx="673236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 of a 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31640" y="2044800"/>
          <a:ext cx="6229440" cy="31687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文本框 24604"/>
          <p:cNvSpPr/>
          <p:nvPr/>
        </p:nvSpPr>
        <p:spPr>
          <a:xfrm>
            <a:off x="2232000" y="562464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owerPoint does not allow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you to have nice default tables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– but you can cut and paste this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wo column bullet poi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0720"/>
            <a:ext cx="381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ullets go in he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2920" y="1980720"/>
            <a:ext cx="3814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nd also in he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2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99"/>
                </a:solidFill>
                <a:uFillTx/>
                <a:latin typeface="Arial"/>
              </a:rPr>
              <a:t>Hyperlinks like th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ccccff"/>
                </a:solidFill>
                <a:uFillTx/>
                <a:latin typeface="Arial"/>
              </a:rPr>
              <a:t>Visited hyperlinks like th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7480" y="2136600"/>
          <a:ext cx="2995560" cy="13860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</a:tblGrid>
              <a:tr h="6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矩形 28686"/>
          <p:cNvSpPr/>
          <p:nvPr/>
        </p:nvSpPr>
        <p:spPr>
          <a:xfrm>
            <a:off x="792000" y="4568760"/>
            <a:ext cx="223236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矩形 28687"/>
          <p:cNvSpPr/>
          <p:nvPr/>
        </p:nvSpPr>
        <p:spPr>
          <a:xfrm>
            <a:off x="3672000" y="4568760"/>
            <a:ext cx="223200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CE4A-332D-4482-8C09-CAF37D9503F1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7:53Z</dcterms:modified>
  <cp:revision>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