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A84D-50F4-49F0-9F51-DD052A8EA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59C7-355E-4ED3-9EC3-999523B4A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A7CA-A349-43E6-99B6-3E776507F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6747-0430-44E8-95CC-1D5E1F276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14546-3407-4D0C-922E-61D7625F3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360E1-24F0-4565-8B8C-AB5F6C948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B67A4-B3BB-4394-9B59-7FD15290C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97764-7319-4E68-B2E7-6F8D72859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E1CFE-98DB-4F72-9AFB-4DB9E491B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734DA-F478-4638-BA81-C420A9AE2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19546-19CC-43A0-8AAE-0AC0B62D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F25D-679F-4D78-82E3-1981284A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2B098-1CB2-4706-AF95-B2173A2A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9D3FC-C3DF-43AE-AA59-A756C442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C852A-F0DC-410B-877A-4689C0FAE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47E0C-9A47-48B0-9518-B4C8069FD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7836A-0C7D-411A-994F-1BA706256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B542-2EB9-42B0-8F00-A7C0F6849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CE11-46C7-4A65-8AE9-F21C7E73E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2B17-5964-4E3A-B57E-C5E568829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8D92-81FA-46B7-9BDF-A63681A3E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C22A-0130-4D1B-B9E1-41F700C7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90F0-B6AB-4415-8941-FE2259F7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84DB-DA09-4204-A136-45CFBFDD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C069D-105E-4132-BCE9-DD598F6DC6E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3FD26-F191-40B5-B093-FF37ADA4C4A6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649E2-43F5-4BEA-8ECB-E9BC6EDEF7D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1071720" y="78588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8"/>
          <p:cNvSpPr/>
          <p:nvPr/>
        </p:nvSpPr>
        <p:spPr>
          <a:xfrm>
            <a:off x="206892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9"/>
          <p:cNvSpPr/>
          <p:nvPr/>
        </p:nvSpPr>
        <p:spPr>
          <a:xfrm>
            <a:off x="414072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0"/>
          <p:cNvSpPr/>
          <p:nvPr/>
        </p:nvSpPr>
        <p:spPr>
          <a:xfrm>
            <a:off x="614088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3"/>
          <p:cNvSpPr/>
          <p:nvPr/>
        </p:nvSpPr>
        <p:spPr>
          <a:xfrm>
            <a:off x="395280" y="1486080"/>
            <a:ext cx="840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绿色迷你卡通恐龙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8"/>
          <p:cNvSpPr/>
          <p:nvPr/>
        </p:nvSpPr>
        <p:spPr>
          <a:xfrm>
            <a:off x="1234080" y="857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6"/>
          <p:cNvSpPr/>
          <p:nvPr/>
        </p:nvSpPr>
        <p:spPr>
          <a:xfrm>
            <a:off x="414072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7"/>
          <p:cNvSpPr/>
          <p:nvPr/>
        </p:nvSpPr>
        <p:spPr>
          <a:xfrm>
            <a:off x="3929040" y="50720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9"/>
          <p:cNvSpPr/>
          <p:nvPr/>
        </p:nvSpPr>
        <p:spPr>
          <a:xfrm>
            <a:off x="428364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73483-EA4C-43B4-927C-CAF09C95E07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1"/>
          <p:cNvSpPr/>
          <p:nvPr/>
        </p:nvSpPr>
        <p:spPr>
          <a:xfrm>
            <a:off x="621252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4"/>
          <p:cNvSpPr/>
          <p:nvPr/>
        </p:nvSpPr>
        <p:spPr>
          <a:xfrm>
            <a:off x="399780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5"/>
          <p:cNvSpPr/>
          <p:nvPr/>
        </p:nvSpPr>
        <p:spPr>
          <a:xfrm>
            <a:off x="1305720" y="10000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7"/>
          <p:cNvSpPr/>
          <p:nvPr/>
        </p:nvSpPr>
        <p:spPr>
          <a:xfrm>
            <a:off x="185472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8199"/>
          <p:cNvSpPr/>
          <p:nvPr/>
        </p:nvSpPr>
        <p:spPr>
          <a:xfrm>
            <a:off x="1116000" y="1700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：www.eepp.com</dc:creator>
  <dc:description>幻灯片之家：www.eepp.com</dc:description>
  <cp:keywords>幻灯片之家：www.eepp.com</cp:keywords>
  <dc:language>en-US</dc:language>
  <cp:lastModifiedBy>pc</cp:lastModifiedBy>
  <dcterms:modified xsi:type="dcterms:W3CDTF">2015-12-12T07:17:06Z</dcterms:modified>
  <cp:revision>18</cp:revision>
  <dc:subject>幻灯片之家：www.eepp.com</dc:subject>
  <dc:title>幻灯片之家：www.eepp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