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26C-FDE1-4D5D-8F1F-24312A65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A1C-7E99-485E-944C-7FD8899B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75B-BAD5-450C-87F2-E4E507CB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4DB-AE0D-4175-A337-4749310B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3B15-89C8-4272-A243-8EF26307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47AB-5142-428E-8946-54C219A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8D59-9178-423A-B3A7-E6D56E87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F90-22DE-4446-B25D-979C070D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E1E0-2B76-4065-84C8-E7EF54B9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E51B-653F-45B0-96E6-02D0FBE0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A73F-4587-4372-844F-0B12DD23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08C-0AA4-4AC2-842C-03CE5F8B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BC54-1068-4FE8-9AF8-3A752F3C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135D-692D-4191-9F89-FD70C70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62C7-978F-4BD2-BA44-0CA2A491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0846-1E2F-4AFC-BC32-2670B55B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367B-CEB9-498D-A5F7-CCC53F4F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EBD-299E-45D7-815F-F8490D6B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90A-1AD8-429F-860C-254B8996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520-1080-4668-8821-222001F9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737-2530-4D9A-8951-F0C43662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211-183C-49C8-97BC-9766F1C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F2F-7A87-4878-AFE5-8426B762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B8D-C59C-40E4-8F06-E6AFF84F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8CF6-23BF-47E8-9E83-39E7BD8E26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01F4-C697-4A75-8B52-AE95FC90B41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F4F7-D4CB-4A77-B344-B4A312C589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051"/>
          <p:cNvSpPr txBox="1"/>
          <p:nvPr/>
        </p:nvSpPr>
        <p:spPr>
          <a:xfrm>
            <a:off x="1042920" y="2276640"/>
            <a:ext cx="712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noFill/>
                <a:latin typeface="Arial"/>
              </a:rPr>
              <a:t>绿色企业</a:t>
            </a:r>
            <a:r>
              <a:rPr b="0" lang="en-US" sz="4000" spc="-1" strike="noStrike">
                <a:ln w="0">
                  <a:noFill/>
                </a:ln>
                <a:noFill/>
                <a:latin typeface="Arial"/>
              </a:rPr>
              <a:t>PPT</a:t>
            </a:r>
            <a:r>
              <a:rPr b="0" lang="zh-CN" sz="4000" spc="-1" strike="noStrike">
                <a:ln w="0">
                  <a:noFill/>
                </a:ln>
                <a:noFill/>
                <a:latin typeface="Arial"/>
              </a:rPr>
              <a:t>模板在线下载</a:t>
            </a:r>
            <a:endParaRPr b="0" lang="en-US" sz="4000" spc="-1" strike="noStrike">
              <a:ln w="0">
                <a:noFill/>
              </a:ln>
              <a:noFill/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27D8-DF6F-4F04-8273-86F4343752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075"/>
          <p:cNvSpPr txBox="1"/>
          <p:nvPr/>
        </p:nvSpPr>
        <p:spPr>
          <a:xfrm>
            <a:off x="684360" y="26028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1562b"/>
                </a:solidFill>
                <a:latin typeface="隶书"/>
              </a:rPr>
              <a:t>在此处添加演示文稿标题</a:t>
            </a:r>
            <a:endParaRPr b="0" lang="en-US" sz="1800" spc="-1" strike="noStrike">
              <a:ln w="0">
                <a:noFill/>
              </a:ln>
              <a:solidFill>
                <a:srgbClr val="81562b"/>
              </a:solidFill>
              <a:latin typeface="隶书"/>
              <a:ea typeface="隶书"/>
            </a:endParaRPr>
          </a:p>
        </p:txBody>
      </p:sp>
      <p:sp>
        <p:nvSpPr>
          <p:cNvPr id="89" name="文本框 3076"/>
          <p:cNvSpPr/>
          <p:nvPr/>
        </p:nvSpPr>
        <p:spPr>
          <a:xfrm>
            <a:off x="3578760" y="235116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在此处添加演示文稿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077"/>
          <p:cNvSpPr/>
          <p:nvPr/>
        </p:nvSpPr>
        <p:spPr>
          <a:xfrm>
            <a:off x="3578760" y="314172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在此处添加演示文稿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078"/>
          <p:cNvSpPr/>
          <p:nvPr/>
        </p:nvSpPr>
        <p:spPr>
          <a:xfrm>
            <a:off x="3578760" y="393372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在此处添加演示文稿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079"/>
          <p:cNvSpPr/>
          <p:nvPr/>
        </p:nvSpPr>
        <p:spPr>
          <a:xfrm>
            <a:off x="2627280" y="2565360"/>
            <a:ext cx="144360" cy="144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3080"/>
          <p:cNvSpPr/>
          <p:nvPr/>
        </p:nvSpPr>
        <p:spPr>
          <a:xfrm>
            <a:off x="2627280" y="3336840"/>
            <a:ext cx="144360" cy="14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3081"/>
          <p:cNvSpPr/>
          <p:nvPr/>
        </p:nvSpPr>
        <p:spPr>
          <a:xfrm>
            <a:off x="2627280" y="4110120"/>
            <a:ext cx="144360" cy="144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5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