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C94-65C8-40B4-A667-B7000782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160" y="3930840"/>
            <a:ext cx="80010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B23-E6D6-42E9-8DF6-92F43131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160" y="393084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2840" y="393084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5E5-C246-40B0-BB39-A7AF9DF6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8560" y="99036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3960" y="99036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160" y="393084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8560" y="393084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3960" y="393084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435-7E66-46D6-A23A-B7814467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535F-24E1-4810-AFCC-AC613158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001000" cy="56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EC12-69CF-4761-B9F6-8F148B56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E84E-BCEC-4D94-8002-3BCCB6D6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E36D-DBAE-416D-A0B7-D7562C07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CCC8-7A2A-4D33-8981-A5C86B72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2539-7B8C-4BE6-B5F3-C9BD1A5B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93084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76AD-FBA6-42F7-BA75-21E28510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001000" cy="56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9BA-20F0-429C-BB62-C297885B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32840" y="393084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6A87-857C-4D7F-B404-99E85ABA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3930840"/>
            <a:ext cx="80010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28CB-976B-4FE1-890C-136CE770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160" y="3930840"/>
            <a:ext cx="80010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5A8B-B84F-4935-8BAC-14317EC0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160" y="393084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32840" y="393084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BEFD-28B1-4DA6-B7D0-6D5D042A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8560" y="99036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3960" y="99036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160" y="393084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8560" y="393084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3960" y="393084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BDBB-2574-48AD-B8C1-531EC5B4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001000" cy="56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5EA-161C-4834-AF4E-086AFDA1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160" y="393084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32840" y="393084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160" y="3930840"/>
            <a:ext cx="80010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3160" y="3930840"/>
            <a:ext cx="80010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160" y="393084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32840" y="393084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8560" y="99036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3960" y="99036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33160" y="393084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8560" y="393084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3960" y="3930840"/>
            <a:ext cx="257616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80D-EADF-43FB-9159-71D4CD33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D12-CF26-463B-BA3A-4F82AB5C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44D-998E-4BC2-968E-A150EE7C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93084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6E0-BB4D-4FDA-9F2C-D13692AD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2840" y="393084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00A-AE0F-49DE-AB1F-32CCCD04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29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2840" y="990360"/>
            <a:ext cx="39042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30840"/>
            <a:ext cx="8001000" cy="26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F1B-8392-455E-B648-A399AF0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990360"/>
            <a:ext cx="80010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08b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b6d1f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b6d1f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b6d1f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A21D-51AD-4DFE-A059-A9AFFABAB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组合 1044"/>
          <p:cNvGrpSpPr/>
          <p:nvPr/>
        </p:nvGrpSpPr>
        <p:grpSpPr>
          <a:xfrm>
            <a:off x="685800" y="380880"/>
            <a:ext cx="7696440" cy="533520"/>
            <a:chOff x="685800" y="380880"/>
            <a:chExt cx="7696440" cy="533520"/>
          </a:xfrm>
        </p:grpSpPr>
        <p:grpSp>
          <p:nvGrpSpPr>
            <p:cNvPr id="6" name=""/>
            <p:cNvGrpSpPr/>
            <p:nvPr/>
          </p:nvGrpSpPr>
          <p:grpSpPr>
            <a:xfrm>
              <a:off x="685800" y="380880"/>
              <a:ext cx="360" cy="533160"/>
              <a:chOff x="685800" y="380880"/>
              <a:chExt cx="360" cy="533160"/>
            </a:xfrm>
          </p:grpSpPr>
          <p:sp>
            <p:nvSpPr>
              <p:cNvPr id="7" name="直接连接符 1041"/>
              <p:cNvSpPr/>
              <p:nvPr/>
            </p:nvSpPr>
            <p:spPr>
              <a:xfrm>
                <a:off x="685800" y="380880"/>
                <a:ext cx="0" cy="533160"/>
              </a:xfrm>
              <a:prstGeom prst="line">
                <a:avLst/>
              </a:prstGeom>
              <a:ln w="9360">
                <a:solidFill>
                  <a:srgbClr val="b6d1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 txBox="1"/>
              <p:nvPr/>
            </p:nvSpPr>
            <p:spPr>
              <a:xfrm>
                <a:off x="685800" y="38088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685800" y="914040"/>
              <a:ext cx="7696080" cy="360"/>
              <a:chOff x="685800" y="914040"/>
              <a:chExt cx="7696080" cy="360"/>
            </a:xfrm>
          </p:grpSpPr>
          <p:sp>
            <p:nvSpPr>
              <p:cNvPr id="10" name="直接连接符 1042"/>
              <p:cNvSpPr/>
              <p:nvPr/>
            </p:nvSpPr>
            <p:spPr>
              <a:xfrm>
                <a:off x="685800" y="914040"/>
                <a:ext cx="7696080" cy="0"/>
              </a:xfrm>
              <a:prstGeom prst="line">
                <a:avLst/>
              </a:prstGeom>
              <a:ln w="9360">
                <a:solidFill>
                  <a:srgbClr val="b6d1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 txBox="1"/>
              <p:nvPr/>
            </p:nvSpPr>
            <p:spPr>
              <a:xfrm>
                <a:off x="685800" y="914040"/>
                <a:ext cx="7696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8381880" y="380880"/>
              <a:ext cx="360" cy="533160"/>
              <a:chOff x="8381880" y="380880"/>
              <a:chExt cx="360" cy="533160"/>
            </a:xfrm>
          </p:grpSpPr>
          <p:sp>
            <p:nvSpPr>
              <p:cNvPr id="13" name="直接连接符 1043"/>
              <p:cNvSpPr/>
              <p:nvPr/>
            </p:nvSpPr>
            <p:spPr>
              <a:xfrm>
                <a:off x="8381880" y="380880"/>
                <a:ext cx="0" cy="533160"/>
              </a:xfrm>
              <a:prstGeom prst="line">
                <a:avLst/>
              </a:prstGeom>
              <a:ln w="9360">
                <a:solidFill>
                  <a:srgbClr val="b6d1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 txBox="1"/>
              <p:nvPr/>
            </p:nvSpPr>
            <p:spPr>
              <a:xfrm>
                <a:off x="8381880" y="38088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C3D4-8592-450A-A15C-761FBEC3D6C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1503-E84D-4443-AF16-5D35C03E48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3085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LOGO</a:t>
            </a:r>
            <a:endParaRPr b="0" lang="en-US" sz="24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33160" y="990360"/>
            <a:ext cx="80010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08b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b6d1f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b6d1f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b6d1f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510552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6d1f6"/>
                </a:solidFill>
                <a:latin typeface="Verdana"/>
              </a:rPr>
              <a:t>PowerPoint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6d1f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b6d1f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223920" y="685800"/>
            <a:ext cx="84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6d1f6"/>
                </a:solidFill>
                <a:latin typeface="Arial"/>
                <a:ea typeface="Arial"/>
              </a:rPr>
              <a:t>蓝色天空经济饼图</a:t>
            </a:r>
            <a:r>
              <a:rPr b="0" lang="en-US" sz="4000" spc="-1" strike="noStrike">
                <a:solidFill>
                  <a:srgbClr val="b6d1f6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b6d1f6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组合 73769"/>
          <p:cNvGrpSpPr/>
          <p:nvPr/>
        </p:nvGrpSpPr>
        <p:grpSpPr>
          <a:xfrm>
            <a:off x="838080" y="1981080"/>
            <a:ext cx="7398000" cy="2895840"/>
            <a:chOff x="838080" y="1981080"/>
            <a:chExt cx="7398000" cy="2895840"/>
          </a:xfrm>
        </p:grpSpPr>
        <p:sp>
          <p:nvSpPr>
            <p:cNvPr id="347" name="燕尾形 73730"/>
            <p:cNvSpPr/>
            <p:nvPr/>
          </p:nvSpPr>
          <p:spPr>
            <a:xfrm>
              <a:off x="2932200" y="273852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b6d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48" name="燕尾形 73731"/>
            <p:cNvSpPr/>
            <p:nvPr/>
          </p:nvSpPr>
          <p:spPr>
            <a:xfrm>
              <a:off x="5583240" y="273852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49" name="椭圆 73732"/>
            <p:cNvSpPr/>
            <p:nvPr/>
          </p:nvSpPr>
          <p:spPr>
            <a:xfrm>
              <a:off x="6141960" y="198756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0" name="椭圆 73733"/>
            <p:cNvSpPr/>
            <p:nvPr/>
          </p:nvSpPr>
          <p:spPr>
            <a:xfrm>
              <a:off x="6141960" y="198756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f99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1" name="椭圆 73734"/>
            <p:cNvSpPr/>
            <p:nvPr/>
          </p:nvSpPr>
          <p:spPr>
            <a:xfrm>
              <a:off x="6278400" y="2120760"/>
              <a:ext cx="1820880" cy="1781280"/>
            </a:xfrm>
            <a:prstGeom prst="ellipse">
              <a:avLst/>
            </a:prstGeom>
            <a:gradFill rotWithShape="0">
              <a:gsLst>
                <a:gs pos="0">
                  <a:srgbClr val="8a5337"/>
                </a:gs>
                <a:gs pos="50000">
                  <a:srgbClr val="ff9966"/>
                </a:gs>
                <a:gs pos="100000">
                  <a:srgbClr val="8a53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2" name="椭圆 73735"/>
            <p:cNvSpPr/>
            <p:nvPr/>
          </p:nvSpPr>
          <p:spPr>
            <a:xfrm>
              <a:off x="6310440" y="2131920"/>
              <a:ext cx="1819080" cy="1779840"/>
            </a:xfrm>
            <a:prstGeom prst="ellipse">
              <a:avLst/>
            </a:prstGeom>
            <a:gradFill rotWithShape="0">
              <a:gsLst>
                <a:gs pos="0">
                  <a:srgbClr val="a26141"/>
                </a:gs>
                <a:gs pos="100000">
                  <a:srgbClr val="ff99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3" name="椭圆 73736"/>
            <p:cNvSpPr/>
            <p:nvPr/>
          </p:nvSpPr>
          <p:spPr>
            <a:xfrm>
              <a:off x="6377040" y="2209680"/>
              <a:ext cx="1638360" cy="1603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4" name="椭圆 73737"/>
            <p:cNvSpPr/>
            <p:nvPr/>
          </p:nvSpPr>
          <p:spPr>
            <a:xfrm>
              <a:off x="838080" y="198108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f6fd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5" name="椭圆 73738"/>
            <p:cNvSpPr/>
            <p:nvPr/>
          </p:nvSpPr>
          <p:spPr>
            <a:xfrm>
              <a:off x="838080" y="198108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7f6fd1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6" name="椭圆 73739"/>
            <p:cNvSpPr/>
            <p:nvPr/>
          </p:nvSpPr>
          <p:spPr>
            <a:xfrm>
              <a:off x="974880" y="2114640"/>
              <a:ext cx="1820880" cy="1780920"/>
            </a:xfrm>
            <a:prstGeom prst="ellipse">
              <a:avLst/>
            </a:prstGeom>
            <a:gradFill rotWithShape="0">
              <a:gsLst>
                <a:gs pos="0">
                  <a:srgbClr val="453c71"/>
                </a:gs>
                <a:gs pos="50000">
                  <a:srgbClr val="7f6fd1"/>
                </a:gs>
                <a:gs pos="100000">
                  <a:srgbClr val="453c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7" name="椭圆 73740"/>
            <p:cNvSpPr/>
            <p:nvPr/>
          </p:nvSpPr>
          <p:spPr>
            <a:xfrm>
              <a:off x="976320" y="2117880"/>
              <a:ext cx="1820880" cy="1780920"/>
            </a:xfrm>
            <a:prstGeom prst="ellipse">
              <a:avLst/>
            </a:prstGeom>
            <a:gradFill rotWithShape="0">
              <a:gsLst>
                <a:gs pos="0">
                  <a:srgbClr val="514785"/>
                </a:gs>
                <a:gs pos="100000">
                  <a:srgbClr val="7f6fd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8" name="椭圆 73741"/>
            <p:cNvSpPr/>
            <p:nvPr/>
          </p:nvSpPr>
          <p:spPr>
            <a:xfrm>
              <a:off x="1065240" y="2203560"/>
              <a:ext cx="1639800" cy="1603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359" name="组合 73742"/>
            <p:cNvGrpSpPr/>
            <p:nvPr/>
          </p:nvGrpSpPr>
          <p:grpSpPr>
            <a:xfrm>
              <a:off x="1092240" y="2227320"/>
              <a:ext cx="1585800" cy="1552680"/>
              <a:chOff x="1092240" y="2227320"/>
              <a:chExt cx="1585800" cy="1552680"/>
            </a:xfrm>
          </p:grpSpPr>
          <p:sp>
            <p:nvSpPr>
              <p:cNvPr id="360" name="椭圆 73743"/>
              <p:cNvSpPr/>
              <p:nvPr/>
            </p:nvSpPr>
            <p:spPr>
              <a:xfrm>
                <a:off x="1092240" y="2227320"/>
                <a:ext cx="1585800" cy="15526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61" name="椭圆 73744"/>
              <p:cNvSpPr/>
              <p:nvPr/>
            </p:nvSpPr>
            <p:spPr>
              <a:xfrm>
                <a:off x="1112040" y="2235960"/>
                <a:ext cx="1547640" cy="1514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62" name="椭圆 73745"/>
              <p:cNvSpPr/>
              <p:nvPr/>
            </p:nvSpPr>
            <p:spPr>
              <a:xfrm>
                <a:off x="1128960" y="2250720"/>
                <a:ext cx="1471680" cy="1414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63" name="椭圆 73746"/>
              <p:cNvSpPr/>
              <p:nvPr/>
            </p:nvSpPr>
            <p:spPr>
              <a:xfrm>
                <a:off x="1215000" y="2290320"/>
                <a:ext cx="1308240" cy="114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364" name="椭圆 73747"/>
            <p:cNvSpPr/>
            <p:nvPr/>
          </p:nvSpPr>
          <p:spPr>
            <a:xfrm>
              <a:off x="3490920" y="1987560"/>
              <a:ext cx="209376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08bf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65" name="椭圆 73748"/>
            <p:cNvSpPr/>
            <p:nvPr/>
          </p:nvSpPr>
          <p:spPr>
            <a:xfrm>
              <a:off x="3490920" y="1987560"/>
              <a:ext cx="2093760" cy="2048040"/>
            </a:xfrm>
            <a:prstGeom prst="ellipse">
              <a:avLst/>
            </a:prstGeom>
            <a:gradFill rotWithShape="0">
              <a:gsLst>
                <a:gs pos="0">
                  <a:srgbClr val="408bf0">
                    <a:alpha val="32156"/>
                  </a:srgbClr>
                </a:gs>
                <a:gs pos="100000">
                  <a:srgbClr val="1e40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66" name="椭圆 73749"/>
            <p:cNvSpPr/>
            <p:nvPr/>
          </p:nvSpPr>
          <p:spPr>
            <a:xfrm>
              <a:off x="3627360" y="2120760"/>
              <a:ext cx="1820880" cy="1781280"/>
            </a:xfrm>
            <a:prstGeom prst="ellipse">
              <a:avLst/>
            </a:prstGeom>
            <a:gradFill rotWithShape="0">
              <a:gsLst>
                <a:gs pos="0">
                  <a:srgbClr val="234b82"/>
                </a:gs>
                <a:gs pos="50000">
                  <a:srgbClr val="408bf0"/>
                </a:gs>
                <a:gs pos="100000">
                  <a:srgbClr val="234b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67" name="椭圆 73750"/>
            <p:cNvSpPr/>
            <p:nvPr/>
          </p:nvSpPr>
          <p:spPr>
            <a:xfrm>
              <a:off x="3629160" y="2124000"/>
              <a:ext cx="1820880" cy="1781280"/>
            </a:xfrm>
            <a:prstGeom prst="ellipse">
              <a:avLst/>
            </a:prstGeom>
            <a:gradFill rotWithShape="0">
              <a:gsLst>
                <a:gs pos="0">
                  <a:srgbClr val="295898"/>
                </a:gs>
                <a:gs pos="100000">
                  <a:srgbClr val="408bf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68" name="椭圆 73751"/>
            <p:cNvSpPr/>
            <p:nvPr/>
          </p:nvSpPr>
          <p:spPr>
            <a:xfrm>
              <a:off x="3718080" y="2209680"/>
              <a:ext cx="1639800" cy="1603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369" name="组合 73752"/>
            <p:cNvGrpSpPr/>
            <p:nvPr/>
          </p:nvGrpSpPr>
          <p:grpSpPr>
            <a:xfrm>
              <a:off x="3745080" y="2227320"/>
              <a:ext cx="1585800" cy="1552680"/>
              <a:chOff x="3745080" y="2227320"/>
              <a:chExt cx="1585800" cy="1552680"/>
            </a:xfrm>
          </p:grpSpPr>
          <p:sp>
            <p:nvSpPr>
              <p:cNvPr id="370" name="椭圆 73753"/>
              <p:cNvSpPr/>
              <p:nvPr/>
            </p:nvSpPr>
            <p:spPr>
              <a:xfrm>
                <a:off x="3745080" y="2227320"/>
                <a:ext cx="1585800" cy="15526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71" name="椭圆 73754"/>
              <p:cNvSpPr/>
              <p:nvPr/>
            </p:nvSpPr>
            <p:spPr>
              <a:xfrm>
                <a:off x="3764880" y="2235960"/>
                <a:ext cx="1547640" cy="1514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72" name="椭圆 73755"/>
              <p:cNvSpPr/>
              <p:nvPr/>
            </p:nvSpPr>
            <p:spPr>
              <a:xfrm>
                <a:off x="3781800" y="2250720"/>
                <a:ext cx="1471680" cy="1414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73" name="椭圆 73756"/>
              <p:cNvSpPr/>
              <p:nvPr/>
            </p:nvSpPr>
            <p:spPr>
              <a:xfrm>
                <a:off x="3867840" y="2290320"/>
                <a:ext cx="1308240" cy="114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374" name="组合 73757"/>
            <p:cNvGrpSpPr/>
            <p:nvPr/>
          </p:nvGrpSpPr>
          <p:grpSpPr>
            <a:xfrm>
              <a:off x="6407280" y="2227320"/>
              <a:ext cx="1585800" cy="1552680"/>
              <a:chOff x="6407280" y="2227320"/>
              <a:chExt cx="1585800" cy="1552680"/>
            </a:xfrm>
          </p:grpSpPr>
          <p:sp>
            <p:nvSpPr>
              <p:cNvPr id="375" name="椭圆 73758"/>
              <p:cNvSpPr/>
              <p:nvPr/>
            </p:nvSpPr>
            <p:spPr>
              <a:xfrm>
                <a:off x="6407280" y="2227320"/>
                <a:ext cx="1585800" cy="15526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76" name="椭圆 73759"/>
              <p:cNvSpPr/>
              <p:nvPr/>
            </p:nvSpPr>
            <p:spPr>
              <a:xfrm>
                <a:off x="6427080" y="2235960"/>
                <a:ext cx="1547640" cy="1514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77" name="椭圆 73760"/>
              <p:cNvSpPr/>
              <p:nvPr/>
            </p:nvSpPr>
            <p:spPr>
              <a:xfrm>
                <a:off x="6444000" y="2250720"/>
                <a:ext cx="1471680" cy="1414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78" name="椭圆 73761"/>
              <p:cNvSpPr/>
              <p:nvPr/>
            </p:nvSpPr>
            <p:spPr>
              <a:xfrm>
                <a:off x="6530040" y="2290320"/>
                <a:ext cx="1308240" cy="114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379" name="圆角矩形 73762"/>
            <p:cNvSpPr/>
            <p:nvPr/>
          </p:nvSpPr>
          <p:spPr>
            <a:xfrm>
              <a:off x="885960" y="4387680"/>
              <a:ext cx="1993680" cy="48924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246f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6fa8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80" name="圆角矩形 73763"/>
            <p:cNvSpPr/>
            <p:nvPr/>
          </p:nvSpPr>
          <p:spPr>
            <a:xfrm>
              <a:off x="3535200" y="4387680"/>
              <a:ext cx="1994040" cy="48924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246f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6fa8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81" name="圆角矩形 73764"/>
            <p:cNvSpPr/>
            <p:nvPr/>
          </p:nvSpPr>
          <p:spPr>
            <a:xfrm>
              <a:off x="6203880" y="4387680"/>
              <a:ext cx="1994040" cy="48924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246f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46fa8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82" name="文本框 73765"/>
            <p:cNvSpPr/>
            <p:nvPr/>
          </p:nvSpPr>
          <p:spPr>
            <a:xfrm>
              <a:off x="1501560" y="2801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83" name="文本框 73766"/>
            <p:cNvSpPr/>
            <p:nvPr/>
          </p:nvSpPr>
          <p:spPr>
            <a:xfrm>
              <a:off x="4160520" y="2801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84" name="文本框 73767"/>
            <p:cNvSpPr/>
            <p:nvPr/>
          </p:nvSpPr>
          <p:spPr>
            <a:xfrm>
              <a:off x="6819480" y="2801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组合 87139"/>
          <p:cNvGrpSpPr/>
          <p:nvPr/>
        </p:nvGrpSpPr>
        <p:grpSpPr>
          <a:xfrm>
            <a:off x="1295280" y="1143000"/>
            <a:ext cx="6858000" cy="4495680"/>
            <a:chOff x="1295280" y="1143000"/>
            <a:chExt cx="6858000" cy="4495680"/>
          </a:xfrm>
        </p:grpSpPr>
        <p:sp>
          <p:nvSpPr>
            <p:cNvPr id="387" name="任意多边形 87072"/>
            <p:cNvSpPr/>
            <p:nvPr/>
          </p:nvSpPr>
          <p:spPr>
            <a:xfrm>
              <a:off x="1295280" y="160020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5c7b6"/>
                </a:gs>
                <a:gs pos="100000">
                  <a:srgbClr val="4d78e5"/>
                </a:gs>
              </a:gsLst>
              <a:lin ang="27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88" name="文本框 87101"/>
            <p:cNvSpPr/>
            <p:nvPr/>
          </p:nvSpPr>
          <p:spPr>
            <a:xfrm>
              <a:off x="5334120" y="29718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32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389" name="组合 87138"/>
            <p:cNvGrpSpPr/>
            <p:nvPr/>
          </p:nvGrpSpPr>
          <p:grpSpPr>
            <a:xfrm>
              <a:off x="3467160" y="3352680"/>
              <a:ext cx="1704960" cy="2028960"/>
              <a:chOff x="3467160" y="3352680"/>
              <a:chExt cx="1704960" cy="2028960"/>
            </a:xfrm>
          </p:grpSpPr>
          <p:sp>
            <p:nvSpPr>
              <p:cNvPr id="390" name="椭圆 87110"/>
              <p:cNvSpPr/>
              <p:nvPr/>
            </p:nvSpPr>
            <p:spPr>
              <a:xfrm rot="20876400">
                <a:off x="3535200" y="4572000"/>
                <a:ext cx="143856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91" name="椭圆 87111"/>
              <p:cNvSpPr/>
              <p:nvPr/>
            </p:nvSpPr>
            <p:spPr>
              <a:xfrm>
                <a:off x="3467160" y="335268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92" name="椭圆 87112"/>
              <p:cNvSpPr/>
              <p:nvPr/>
            </p:nvSpPr>
            <p:spPr>
              <a:xfrm>
                <a:off x="3487680" y="336240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93" name="椭圆 87113"/>
              <p:cNvSpPr/>
              <p:nvPr/>
            </p:nvSpPr>
            <p:spPr>
              <a:xfrm>
                <a:off x="3505320" y="33782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94" name="椭圆 87114"/>
              <p:cNvSpPr/>
              <p:nvPr/>
            </p:nvSpPr>
            <p:spPr>
              <a:xfrm>
                <a:off x="3597120" y="3422520"/>
                <a:ext cx="140976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95" name="文本框 87115"/>
              <p:cNvSpPr/>
              <p:nvPr/>
            </p:nvSpPr>
            <p:spPr>
              <a:xfrm>
                <a:off x="3884760" y="397980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396" name="组合 87137"/>
            <p:cNvGrpSpPr/>
            <p:nvPr/>
          </p:nvGrpSpPr>
          <p:grpSpPr>
            <a:xfrm>
              <a:off x="1630440" y="2971800"/>
              <a:ext cx="1371240" cy="1718640"/>
              <a:chOff x="1630440" y="2971800"/>
              <a:chExt cx="1371240" cy="1718640"/>
            </a:xfrm>
          </p:grpSpPr>
          <p:sp>
            <p:nvSpPr>
              <p:cNvPr id="397" name="椭圆 87116"/>
              <p:cNvSpPr/>
              <p:nvPr/>
            </p:nvSpPr>
            <p:spPr>
              <a:xfrm rot="20826600">
                <a:off x="1706400" y="3962160"/>
                <a:ext cx="113364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grpSp>
            <p:nvGrpSpPr>
              <p:cNvPr id="398" name="组合 87117"/>
              <p:cNvGrpSpPr/>
              <p:nvPr/>
            </p:nvGrpSpPr>
            <p:grpSpPr>
              <a:xfrm>
                <a:off x="1630440" y="2971800"/>
                <a:ext cx="1371240" cy="1441080"/>
                <a:chOff x="1630440" y="2971800"/>
                <a:chExt cx="1371240" cy="1441080"/>
              </a:xfrm>
            </p:grpSpPr>
            <p:sp>
              <p:nvSpPr>
                <p:cNvPr id="399" name="椭圆 87118"/>
                <p:cNvSpPr/>
                <p:nvPr/>
              </p:nvSpPr>
              <p:spPr>
                <a:xfrm>
                  <a:off x="1630440" y="297180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00" name="椭圆 87119"/>
                <p:cNvSpPr/>
                <p:nvPr/>
              </p:nvSpPr>
              <p:spPr>
                <a:xfrm>
                  <a:off x="1648080" y="2980080"/>
                  <a:ext cx="133740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01" name="椭圆 87120"/>
                <p:cNvSpPr/>
                <p:nvPr/>
              </p:nvSpPr>
              <p:spPr>
                <a:xfrm>
                  <a:off x="1661400" y="299376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02" name="椭圆 87121"/>
                <p:cNvSpPr/>
                <p:nvPr/>
              </p:nvSpPr>
              <p:spPr>
                <a:xfrm>
                  <a:off x="1733040" y="3030480"/>
                  <a:ext cx="113184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03" name="文本框 87122"/>
                <p:cNvSpPr/>
                <p:nvPr/>
              </p:nvSpPr>
              <p:spPr>
                <a:xfrm>
                  <a:off x="1910880" y="347796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xt</a:t>
                  </a:r>
                  <a:endParaRPr b="0" lang="en-US" sz="24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组合 87136"/>
            <p:cNvGrpSpPr/>
            <p:nvPr/>
          </p:nvGrpSpPr>
          <p:grpSpPr>
            <a:xfrm>
              <a:off x="1444680" y="1600200"/>
              <a:ext cx="1100160" cy="1139760"/>
              <a:chOff x="1444680" y="1600200"/>
              <a:chExt cx="1100160" cy="1139760"/>
            </a:xfrm>
          </p:grpSpPr>
          <p:sp>
            <p:nvSpPr>
              <p:cNvPr id="405" name="椭圆 87123"/>
              <p:cNvSpPr/>
              <p:nvPr/>
            </p:nvSpPr>
            <p:spPr>
              <a:xfrm>
                <a:off x="1444680" y="220680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06" name="椭圆 87124"/>
              <p:cNvSpPr/>
              <p:nvPr/>
            </p:nvSpPr>
            <p:spPr>
              <a:xfrm>
                <a:off x="1521000" y="160020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07" name="椭圆 87125"/>
              <p:cNvSpPr/>
              <p:nvPr/>
            </p:nvSpPr>
            <p:spPr>
              <a:xfrm>
                <a:off x="1533600" y="160488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08" name="椭圆 87126"/>
              <p:cNvSpPr/>
              <p:nvPr/>
            </p:nvSpPr>
            <p:spPr>
              <a:xfrm>
                <a:off x="1544760" y="161604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09" name="椭圆 87127"/>
              <p:cNvSpPr/>
              <p:nvPr/>
            </p:nvSpPr>
            <p:spPr>
              <a:xfrm>
                <a:off x="1598760" y="164160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10" name="文本框 87128"/>
              <p:cNvSpPr/>
              <p:nvPr/>
            </p:nvSpPr>
            <p:spPr>
              <a:xfrm>
                <a:off x="1717920" y="194940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411" name="组合 87135"/>
            <p:cNvGrpSpPr/>
            <p:nvPr/>
          </p:nvGrpSpPr>
          <p:grpSpPr>
            <a:xfrm>
              <a:off x="2849400" y="1143000"/>
              <a:ext cx="804960" cy="762120"/>
              <a:chOff x="2849400" y="1143000"/>
              <a:chExt cx="804960" cy="762120"/>
            </a:xfrm>
          </p:grpSpPr>
          <p:sp>
            <p:nvSpPr>
              <p:cNvPr id="412" name="椭圆 87129"/>
              <p:cNvSpPr/>
              <p:nvPr/>
            </p:nvSpPr>
            <p:spPr>
              <a:xfrm>
                <a:off x="2849400" y="167652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13" name="椭圆 87130"/>
              <p:cNvSpPr/>
              <p:nvPr/>
            </p:nvSpPr>
            <p:spPr>
              <a:xfrm>
                <a:off x="2971800" y="114300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14" name="椭圆 87131"/>
              <p:cNvSpPr/>
              <p:nvPr/>
            </p:nvSpPr>
            <p:spPr>
              <a:xfrm>
                <a:off x="2981160" y="114624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15" name="椭圆 87132"/>
              <p:cNvSpPr/>
              <p:nvPr/>
            </p:nvSpPr>
            <p:spPr>
              <a:xfrm>
                <a:off x="2987640" y="1152360"/>
                <a:ext cx="63360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16" name="椭圆 87133"/>
              <p:cNvSpPr/>
              <p:nvPr/>
            </p:nvSpPr>
            <p:spPr>
              <a:xfrm>
                <a:off x="3024360" y="117144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17" name="文本框 87134"/>
              <p:cNvSpPr/>
              <p:nvPr/>
            </p:nvSpPr>
            <p:spPr>
              <a:xfrm>
                <a:off x="3042000" y="13669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文本框 8199"/>
          <p:cNvSpPr/>
          <p:nvPr/>
        </p:nvSpPr>
        <p:spPr>
          <a:xfrm>
            <a:off x="3352680" y="243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6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996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b6d1f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内容占位符 75819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63868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组合 90324"/>
          <p:cNvGrpSpPr/>
          <p:nvPr/>
        </p:nvGrpSpPr>
        <p:grpSpPr>
          <a:xfrm>
            <a:off x="990720" y="1828800"/>
            <a:ext cx="2163600" cy="3165480"/>
            <a:chOff x="990720" y="1828800"/>
            <a:chExt cx="2163600" cy="3165480"/>
          </a:xfrm>
        </p:grpSpPr>
        <p:sp>
          <p:nvSpPr>
            <p:cNvPr id="423" name="圆角矩形 90288"/>
            <p:cNvSpPr/>
            <p:nvPr/>
          </p:nvSpPr>
          <p:spPr>
            <a:xfrm>
              <a:off x="9907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24" name="圆角矩形 90289"/>
            <p:cNvSpPr/>
            <p:nvPr/>
          </p:nvSpPr>
          <p:spPr>
            <a:xfrm>
              <a:off x="10238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25" name="圆角矩形 90290"/>
            <p:cNvSpPr/>
            <p:nvPr/>
          </p:nvSpPr>
          <p:spPr>
            <a:xfrm>
              <a:off x="10414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26" name="圆角矩形 90291"/>
            <p:cNvSpPr/>
            <p:nvPr/>
          </p:nvSpPr>
          <p:spPr>
            <a:xfrm>
              <a:off x="10414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427" name="组合 90292"/>
            <p:cNvGrpSpPr/>
            <p:nvPr/>
          </p:nvGrpSpPr>
          <p:grpSpPr>
            <a:xfrm>
              <a:off x="1735200" y="1828800"/>
              <a:ext cx="642960" cy="642960"/>
              <a:chOff x="1735200" y="1828800"/>
              <a:chExt cx="642960" cy="642960"/>
            </a:xfrm>
          </p:grpSpPr>
          <p:sp>
            <p:nvSpPr>
              <p:cNvPr id="428" name="椭圆 90293"/>
              <p:cNvSpPr/>
              <p:nvPr/>
            </p:nvSpPr>
            <p:spPr>
              <a:xfrm>
                <a:off x="173520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29" name="椭圆 90294"/>
              <p:cNvSpPr/>
              <p:nvPr/>
            </p:nvSpPr>
            <p:spPr>
              <a:xfrm>
                <a:off x="174168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30" name="椭圆 90295"/>
              <p:cNvSpPr/>
              <p:nvPr/>
            </p:nvSpPr>
            <p:spPr>
              <a:xfrm>
                <a:off x="174960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31" name="椭圆 90296"/>
              <p:cNvSpPr/>
              <p:nvPr/>
            </p:nvSpPr>
            <p:spPr>
              <a:xfrm>
                <a:off x="175608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32" name="椭圆 90297"/>
              <p:cNvSpPr/>
              <p:nvPr/>
            </p:nvSpPr>
            <p:spPr>
              <a:xfrm>
                <a:off x="178992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433" name="文本框 90298"/>
            <p:cNvSpPr/>
            <p:nvPr/>
          </p:nvSpPr>
          <p:spPr>
            <a:xfrm>
              <a:off x="18752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34" name="文本框 90299"/>
            <p:cNvSpPr/>
            <p:nvPr/>
          </p:nvSpPr>
          <p:spPr>
            <a:xfrm>
              <a:off x="10666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grpSp>
        <p:nvGrpSpPr>
          <p:cNvPr id="435" name="组合 90325"/>
          <p:cNvGrpSpPr/>
          <p:nvPr/>
        </p:nvGrpSpPr>
        <p:grpSpPr>
          <a:xfrm>
            <a:off x="5715000" y="1828800"/>
            <a:ext cx="2163600" cy="3165480"/>
            <a:chOff x="5715000" y="1828800"/>
            <a:chExt cx="2163600" cy="3165480"/>
          </a:xfrm>
        </p:grpSpPr>
        <p:sp>
          <p:nvSpPr>
            <p:cNvPr id="436" name="圆角矩形 90300"/>
            <p:cNvSpPr/>
            <p:nvPr/>
          </p:nvSpPr>
          <p:spPr>
            <a:xfrm>
              <a:off x="5715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37" name="圆角矩形 90301"/>
            <p:cNvSpPr/>
            <p:nvPr/>
          </p:nvSpPr>
          <p:spPr>
            <a:xfrm>
              <a:off x="5748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38" name="圆角矩形 90302"/>
            <p:cNvSpPr/>
            <p:nvPr/>
          </p:nvSpPr>
          <p:spPr>
            <a:xfrm>
              <a:off x="5765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39" name="圆角矩形 90303"/>
            <p:cNvSpPr/>
            <p:nvPr/>
          </p:nvSpPr>
          <p:spPr>
            <a:xfrm>
              <a:off x="5765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440" name="组合 90304"/>
            <p:cNvGrpSpPr/>
            <p:nvPr/>
          </p:nvGrpSpPr>
          <p:grpSpPr>
            <a:xfrm>
              <a:off x="6459480" y="1828800"/>
              <a:ext cx="642960" cy="642960"/>
              <a:chOff x="6459480" y="1828800"/>
              <a:chExt cx="642960" cy="642960"/>
            </a:xfrm>
          </p:grpSpPr>
          <p:sp>
            <p:nvSpPr>
              <p:cNvPr id="441" name="椭圆 90305"/>
              <p:cNvSpPr/>
              <p:nvPr/>
            </p:nvSpPr>
            <p:spPr>
              <a:xfrm>
                <a:off x="6459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42" name="椭圆 90306"/>
              <p:cNvSpPr/>
              <p:nvPr/>
            </p:nvSpPr>
            <p:spPr>
              <a:xfrm>
                <a:off x="6465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43" name="椭圆 90307"/>
              <p:cNvSpPr/>
              <p:nvPr/>
            </p:nvSpPr>
            <p:spPr>
              <a:xfrm>
                <a:off x="6473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44" name="椭圆 90308"/>
              <p:cNvSpPr/>
              <p:nvPr/>
            </p:nvSpPr>
            <p:spPr>
              <a:xfrm>
                <a:off x="6480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45" name="椭圆 90309"/>
              <p:cNvSpPr/>
              <p:nvPr/>
            </p:nvSpPr>
            <p:spPr>
              <a:xfrm>
                <a:off x="6514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446" name="文本框 90310"/>
            <p:cNvSpPr/>
            <p:nvPr/>
          </p:nvSpPr>
          <p:spPr>
            <a:xfrm>
              <a:off x="6599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47" name="文本框 90311"/>
            <p:cNvSpPr/>
            <p:nvPr/>
          </p:nvSpPr>
          <p:spPr>
            <a:xfrm>
              <a:off x="5791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grpSp>
        <p:nvGrpSpPr>
          <p:cNvPr id="448" name="组合 90323"/>
          <p:cNvGrpSpPr/>
          <p:nvPr/>
        </p:nvGrpSpPr>
        <p:grpSpPr>
          <a:xfrm>
            <a:off x="3352680" y="1828800"/>
            <a:ext cx="2163960" cy="3165480"/>
            <a:chOff x="3352680" y="1828800"/>
            <a:chExt cx="2163960" cy="3165480"/>
          </a:xfrm>
        </p:grpSpPr>
        <p:sp>
          <p:nvSpPr>
            <p:cNvPr id="449" name="圆角矩形 90312"/>
            <p:cNvSpPr/>
            <p:nvPr/>
          </p:nvSpPr>
          <p:spPr>
            <a:xfrm>
              <a:off x="33526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50" name="圆角矩形 90313"/>
            <p:cNvSpPr/>
            <p:nvPr/>
          </p:nvSpPr>
          <p:spPr>
            <a:xfrm>
              <a:off x="33861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51" name="圆角矩形 90314"/>
            <p:cNvSpPr/>
            <p:nvPr/>
          </p:nvSpPr>
          <p:spPr>
            <a:xfrm>
              <a:off x="34034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52" name="圆角矩形 90315"/>
            <p:cNvSpPr/>
            <p:nvPr/>
          </p:nvSpPr>
          <p:spPr>
            <a:xfrm>
              <a:off x="34034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53" name="椭圆 90316"/>
            <p:cNvSpPr/>
            <p:nvPr/>
          </p:nvSpPr>
          <p:spPr>
            <a:xfrm>
              <a:off x="409716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54" name="椭圆 90317"/>
            <p:cNvSpPr/>
            <p:nvPr/>
          </p:nvSpPr>
          <p:spPr>
            <a:xfrm>
              <a:off x="410364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55" name="椭圆 90318"/>
            <p:cNvSpPr/>
            <p:nvPr/>
          </p:nvSpPr>
          <p:spPr>
            <a:xfrm>
              <a:off x="4111560" y="18367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56" name="椭圆 90319"/>
            <p:cNvSpPr/>
            <p:nvPr/>
          </p:nvSpPr>
          <p:spPr>
            <a:xfrm>
              <a:off x="411804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57" name="椭圆 90320"/>
            <p:cNvSpPr/>
            <p:nvPr/>
          </p:nvSpPr>
          <p:spPr>
            <a:xfrm>
              <a:off x="4152960" y="18590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58" name="文本框 90321"/>
            <p:cNvSpPr/>
            <p:nvPr/>
          </p:nvSpPr>
          <p:spPr>
            <a:xfrm>
              <a:off x="42375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59" name="文本框 90322"/>
            <p:cNvSpPr/>
            <p:nvPr/>
          </p:nvSpPr>
          <p:spPr>
            <a:xfrm>
              <a:off x="34290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组合 77920"/>
          <p:cNvGrpSpPr/>
          <p:nvPr/>
        </p:nvGrpSpPr>
        <p:grpSpPr>
          <a:xfrm>
            <a:off x="0" y="1676520"/>
            <a:ext cx="9144000" cy="3882960"/>
            <a:chOff x="0" y="1676520"/>
            <a:chExt cx="9144000" cy="3882960"/>
          </a:xfrm>
        </p:grpSpPr>
        <p:grpSp>
          <p:nvGrpSpPr>
            <p:cNvPr id="462" name="组合 77914"/>
            <p:cNvGrpSpPr/>
            <p:nvPr/>
          </p:nvGrpSpPr>
          <p:grpSpPr>
            <a:xfrm>
              <a:off x="0" y="2911320"/>
              <a:ext cx="9144000" cy="147600"/>
              <a:chOff x="0" y="2911320"/>
              <a:chExt cx="9144000" cy="147600"/>
            </a:xfrm>
          </p:grpSpPr>
          <p:sp>
            <p:nvSpPr>
              <p:cNvPr id="463" name="矩形 77826"/>
              <p:cNvSpPr/>
              <p:nvPr/>
            </p:nvSpPr>
            <p:spPr>
              <a:xfrm>
                <a:off x="0" y="2911320"/>
                <a:ext cx="9144000" cy="40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64" name="矩形 77827"/>
              <p:cNvSpPr/>
              <p:nvPr/>
            </p:nvSpPr>
            <p:spPr>
              <a:xfrm>
                <a:off x="0" y="2950920"/>
                <a:ext cx="9144000" cy="1080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465" name="组合 77916"/>
            <p:cNvGrpSpPr/>
            <p:nvPr/>
          </p:nvGrpSpPr>
          <p:grpSpPr>
            <a:xfrm>
              <a:off x="762120" y="2293920"/>
              <a:ext cx="1891800" cy="3265560"/>
              <a:chOff x="762120" y="2293920"/>
              <a:chExt cx="1891800" cy="3265560"/>
            </a:xfrm>
          </p:grpSpPr>
          <p:grpSp>
            <p:nvGrpSpPr>
              <p:cNvPr id="466" name="组合 77881"/>
              <p:cNvGrpSpPr/>
              <p:nvPr/>
            </p:nvGrpSpPr>
            <p:grpSpPr>
              <a:xfrm>
                <a:off x="1148760" y="3170160"/>
                <a:ext cx="1505160" cy="2389320"/>
                <a:chOff x="1148760" y="3170160"/>
                <a:chExt cx="1505160" cy="2389320"/>
              </a:xfrm>
            </p:grpSpPr>
            <p:grpSp>
              <p:nvGrpSpPr>
                <p:cNvPr id="467" name="组合 77882"/>
                <p:cNvGrpSpPr/>
                <p:nvPr/>
              </p:nvGrpSpPr>
              <p:grpSpPr>
                <a:xfrm>
                  <a:off x="1148760" y="3325680"/>
                  <a:ext cx="1400400" cy="2233800"/>
                  <a:chOff x="1148760" y="3325680"/>
                  <a:chExt cx="1400400" cy="2233800"/>
                </a:xfrm>
              </p:grpSpPr>
              <p:sp>
                <p:nvSpPr>
                  <p:cNvPr id="468" name="任意多边形 77883"/>
                  <p:cNvSpPr/>
                  <p:nvPr/>
                </p:nvSpPr>
                <p:spPr>
                  <a:xfrm rot="3876600">
                    <a:off x="727920" y="4199400"/>
                    <a:ext cx="2242080" cy="48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任意多边形 77884"/>
                  <p:cNvSpPr/>
                  <p:nvPr/>
                </p:nvSpPr>
                <p:spPr>
                  <a:xfrm rot="3876600">
                    <a:off x="2075040" y="506592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组合 77885"/>
                <p:cNvGrpSpPr/>
                <p:nvPr/>
              </p:nvGrpSpPr>
              <p:grpSpPr>
                <a:xfrm>
                  <a:off x="1579680" y="3170160"/>
                  <a:ext cx="1074240" cy="1713960"/>
                  <a:chOff x="1579680" y="3170160"/>
                  <a:chExt cx="1074240" cy="1713960"/>
                </a:xfrm>
              </p:grpSpPr>
              <p:sp>
                <p:nvSpPr>
                  <p:cNvPr id="471" name="任意多边形 77886"/>
                  <p:cNvSpPr/>
                  <p:nvPr/>
                </p:nvSpPr>
                <p:spPr>
                  <a:xfrm flipV="1" rot="3876600">
                    <a:off x="1256400" y="384012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任意多边形 77887"/>
                  <p:cNvSpPr/>
                  <p:nvPr/>
                </p:nvSpPr>
                <p:spPr>
                  <a:xfrm flipV="1" rot="3876600">
                    <a:off x="2275200" y="451224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" name="组合 77888"/>
              <p:cNvGrpSpPr/>
              <p:nvPr/>
            </p:nvGrpSpPr>
            <p:grpSpPr>
              <a:xfrm>
                <a:off x="762120" y="2293920"/>
                <a:ext cx="1289520" cy="1288440"/>
                <a:chOff x="762120" y="2293920"/>
                <a:chExt cx="1289520" cy="1288440"/>
              </a:xfrm>
            </p:grpSpPr>
            <p:sp>
              <p:nvSpPr>
                <p:cNvPr id="474" name="椭圆 77889"/>
                <p:cNvSpPr/>
                <p:nvPr/>
              </p:nvSpPr>
              <p:spPr>
                <a:xfrm>
                  <a:off x="762120" y="22939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75" name="椭圆 77890"/>
                <p:cNvSpPr/>
                <p:nvPr/>
              </p:nvSpPr>
              <p:spPr>
                <a:xfrm>
                  <a:off x="762120" y="22939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76" name="椭圆 77891"/>
                <p:cNvSpPr/>
                <p:nvPr/>
              </p:nvSpPr>
              <p:spPr>
                <a:xfrm>
                  <a:off x="847080" y="2377440"/>
                  <a:ext cx="1119240" cy="11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77" name="椭圆 77892"/>
                <p:cNvSpPr/>
                <p:nvPr/>
              </p:nvSpPr>
              <p:spPr>
                <a:xfrm>
                  <a:off x="847080" y="2380320"/>
                  <a:ext cx="1119240" cy="11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78" name="椭圆 77893"/>
                <p:cNvSpPr/>
                <p:nvPr/>
              </p:nvSpPr>
              <p:spPr>
                <a:xfrm>
                  <a:off x="902520" y="2434320"/>
                  <a:ext cx="1008360" cy="100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组合 77894"/>
                <p:cNvGrpSpPr/>
                <p:nvPr/>
              </p:nvGrpSpPr>
              <p:grpSpPr>
                <a:xfrm>
                  <a:off x="918360" y="2450160"/>
                  <a:ext cx="976680" cy="977400"/>
                  <a:chOff x="918360" y="2450160"/>
                  <a:chExt cx="976680" cy="977400"/>
                </a:xfrm>
              </p:grpSpPr>
              <p:sp>
                <p:nvSpPr>
                  <p:cNvPr id="480" name="椭圆 77895"/>
                  <p:cNvSpPr/>
                  <p:nvPr/>
                </p:nvSpPr>
                <p:spPr>
                  <a:xfrm>
                    <a:off x="918360" y="2450160"/>
                    <a:ext cx="976680" cy="97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椭圆 77896"/>
                  <p:cNvSpPr/>
                  <p:nvPr/>
                </p:nvSpPr>
                <p:spPr>
                  <a:xfrm>
                    <a:off x="930600" y="2455560"/>
                    <a:ext cx="953280" cy="95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椭圆 77897"/>
                  <p:cNvSpPr/>
                  <p:nvPr/>
                </p:nvSpPr>
                <p:spPr>
                  <a:xfrm>
                    <a:off x="940680" y="2464920"/>
                    <a:ext cx="906480" cy="890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椭圆 77898"/>
                  <p:cNvSpPr/>
                  <p:nvPr/>
                </p:nvSpPr>
                <p:spPr>
                  <a:xfrm>
                    <a:off x="993960" y="2489760"/>
                    <a:ext cx="805680" cy="72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4" name="文本框 77899"/>
              <p:cNvSpPr/>
              <p:nvPr/>
            </p:nvSpPr>
            <p:spPr>
              <a:xfrm rot="3925800">
                <a:off x="1147320" y="4152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85" name="文本框 77900"/>
              <p:cNvSpPr/>
              <p:nvPr/>
            </p:nvSpPr>
            <p:spPr>
              <a:xfrm rot="3925800">
                <a:off x="1629720" y="38779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486" name="组合 77917"/>
            <p:cNvGrpSpPr/>
            <p:nvPr/>
          </p:nvGrpSpPr>
          <p:grpSpPr>
            <a:xfrm>
              <a:off x="2644920" y="2293920"/>
              <a:ext cx="1977840" cy="3195720"/>
              <a:chOff x="2644920" y="2293920"/>
              <a:chExt cx="1977840" cy="3195720"/>
            </a:xfrm>
          </p:grpSpPr>
          <p:grpSp>
            <p:nvGrpSpPr>
              <p:cNvPr id="487" name="组合 77863"/>
              <p:cNvGrpSpPr/>
              <p:nvPr/>
            </p:nvGrpSpPr>
            <p:grpSpPr>
              <a:xfrm>
                <a:off x="3117960" y="3100320"/>
                <a:ext cx="1504800" cy="2389320"/>
                <a:chOff x="3117960" y="3100320"/>
                <a:chExt cx="1504800" cy="2389320"/>
              </a:xfrm>
            </p:grpSpPr>
            <p:grpSp>
              <p:nvGrpSpPr>
                <p:cNvPr id="488" name="组合 77864"/>
                <p:cNvGrpSpPr/>
                <p:nvPr/>
              </p:nvGrpSpPr>
              <p:grpSpPr>
                <a:xfrm>
                  <a:off x="3117960" y="3255840"/>
                  <a:ext cx="1400040" cy="2233800"/>
                  <a:chOff x="3117960" y="3255840"/>
                  <a:chExt cx="1400040" cy="2233800"/>
                </a:xfrm>
              </p:grpSpPr>
              <p:sp>
                <p:nvSpPr>
                  <p:cNvPr id="489" name="任意多边形 77865"/>
                  <p:cNvSpPr/>
                  <p:nvPr/>
                </p:nvSpPr>
                <p:spPr>
                  <a:xfrm rot="3876600">
                    <a:off x="2696760" y="41295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任意多边形 77866"/>
                  <p:cNvSpPr/>
                  <p:nvPr/>
                </p:nvSpPr>
                <p:spPr>
                  <a:xfrm rot="3876600">
                    <a:off x="4044240" y="49960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组合 77867"/>
                <p:cNvGrpSpPr/>
                <p:nvPr/>
              </p:nvGrpSpPr>
              <p:grpSpPr>
                <a:xfrm>
                  <a:off x="3548520" y="3100320"/>
                  <a:ext cx="1074240" cy="1713960"/>
                  <a:chOff x="3548520" y="3100320"/>
                  <a:chExt cx="1074240" cy="1713960"/>
                </a:xfrm>
              </p:grpSpPr>
              <p:sp>
                <p:nvSpPr>
                  <p:cNvPr id="492" name="任意多边形 77868"/>
                  <p:cNvSpPr/>
                  <p:nvPr/>
                </p:nvSpPr>
                <p:spPr>
                  <a:xfrm flipV="1" rot="3876600">
                    <a:off x="3225240" y="37702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任意多边形 77869"/>
                  <p:cNvSpPr/>
                  <p:nvPr/>
                </p:nvSpPr>
                <p:spPr>
                  <a:xfrm flipV="1" rot="3876600">
                    <a:off x="4244040" y="44424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4" name="组合 77870"/>
              <p:cNvGrpSpPr/>
              <p:nvPr/>
            </p:nvGrpSpPr>
            <p:grpSpPr>
              <a:xfrm>
                <a:off x="2644920" y="2293920"/>
                <a:ext cx="1290600" cy="1288440"/>
                <a:chOff x="2644920" y="2293920"/>
                <a:chExt cx="1290600" cy="1288440"/>
              </a:xfrm>
            </p:grpSpPr>
            <p:sp>
              <p:nvSpPr>
                <p:cNvPr id="495" name="椭圆 77871"/>
                <p:cNvSpPr/>
                <p:nvPr/>
              </p:nvSpPr>
              <p:spPr>
                <a:xfrm>
                  <a:off x="2644920" y="2293920"/>
                  <a:ext cx="129060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77872"/>
                <p:cNvSpPr/>
                <p:nvPr/>
              </p:nvSpPr>
              <p:spPr>
                <a:xfrm>
                  <a:off x="2644920" y="2293920"/>
                  <a:ext cx="129060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97" name="椭圆 77873"/>
                <p:cNvSpPr/>
                <p:nvPr/>
              </p:nvSpPr>
              <p:spPr>
                <a:xfrm>
                  <a:off x="2729880" y="2377440"/>
                  <a:ext cx="1119960" cy="11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98" name="椭圆 77874"/>
                <p:cNvSpPr/>
                <p:nvPr/>
              </p:nvSpPr>
              <p:spPr>
                <a:xfrm>
                  <a:off x="2729880" y="2380320"/>
                  <a:ext cx="1119960" cy="11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99" name="椭圆 77875"/>
                <p:cNvSpPr/>
                <p:nvPr/>
              </p:nvSpPr>
              <p:spPr>
                <a:xfrm>
                  <a:off x="2785320" y="2434320"/>
                  <a:ext cx="1009080" cy="100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grpSp>
              <p:nvGrpSpPr>
                <p:cNvPr id="500" name="组合 77876"/>
                <p:cNvGrpSpPr/>
                <p:nvPr/>
              </p:nvGrpSpPr>
              <p:grpSpPr>
                <a:xfrm>
                  <a:off x="2801160" y="2450160"/>
                  <a:ext cx="977400" cy="977400"/>
                  <a:chOff x="2801160" y="2450160"/>
                  <a:chExt cx="977400" cy="977400"/>
                </a:xfrm>
              </p:grpSpPr>
              <p:sp>
                <p:nvSpPr>
                  <p:cNvPr id="501" name="椭圆 77877"/>
                  <p:cNvSpPr/>
                  <p:nvPr/>
                </p:nvSpPr>
                <p:spPr>
                  <a:xfrm>
                    <a:off x="2801160" y="2450160"/>
                    <a:ext cx="977400" cy="97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椭圆 77878"/>
                  <p:cNvSpPr/>
                  <p:nvPr/>
                </p:nvSpPr>
                <p:spPr>
                  <a:xfrm>
                    <a:off x="2813400" y="2455560"/>
                    <a:ext cx="954000" cy="95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椭圆 77879"/>
                  <p:cNvSpPr/>
                  <p:nvPr/>
                </p:nvSpPr>
                <p:spPr>
                  <a:xfrm>
                    <a:off x="2823480" y="2464920"/>
                    <a:ext cx="907200" cy="890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椭圆 77880"/>
                  <p:cNvSpPr/>
                  <p:nvPr/>
                </p:nvSpPr>
                <p:spPr>
                  <a:xfrm>
                    <a:off x="2876760" y="2489760"/>
                    <a:ext cx="806400" cy="72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文本框 77901"/>
              <p:cNvSpPr/>
              <p:nvPr/>
            </p:nvSpPr>
            <p:spPr>
              <a:xfrm rot="3925800">
                <a:off x="3053880" y="40806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506" name="文本框 77902"/>
              <p:cNvSpPr/>
              <p:nvPr/>
            </p:nvSpPr>
            <p:spPr>
              <a:xfrm rot="3925800">
                <a:off x="3535200" y="3806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507" name="组合 77918"/>
            <p:cNvGrpSpPr/>
            <p:nvPr/>
          </p:nvGrpSpPr>
          <p:grpSpPr>
            <a:xfrm>
              <a:off x="4591080" y="2293920"/>
              <a:ext cx="1976400" cy="3195720"/>
              <a:chOff x="4591080" y="2293920"/>
              <a:chExt cx="1976400" cy="3195720"/>
            </a:xfrm>
          </p:grpSpPr>
          <p:grpSp>
            <p:nvGrpSpPr>
              <p:cNvPr id="508" name="组合 77828"/>
              <p:cNvGrpSpPr/>
              <p:nvPr/>
            </p:nvGrpSpPr>
            <p:grpSpPr>
              <a:xfrm>
                <a:off x="5062680" y="3100320"/>
                <a:ext cx="1504800" cy="2389320"/>
                <a:chOff x="5062680" y="3100320"/>
                <a:chExt cx="1504800" cy="2389320"/>
              </a:xfrm>
            </p:grpSpPr>
            <p:grpSp>
              <p:nvGrpSpPr>
                <p:cNvPr id="509" name="组合 77829"/>
                <p:cNvGrpSpPr/>
                <p:nvPr/>
              </p:nvGrpSpPr>
              <p:grpSpPr>
                <a:xfrm>
                  <a:off x="5062680" y="3255840"/>
                  <a:ext cx="1400040" cy="2233800"/>
                  <a:chOff x="5062680" y="3255840"/>
                  <a:chExt cx="1400040" cy="2233800"/>
                </a:xfrm>
              </p:grpSpPr>
              <p:sp>
                <p:nvSpPr>
                  <p:cNvPr id="510" name="任意多边形 77830"/>
                  <p:cNvSpPr/>
                  <p:nvPr/>
                </p:nvSpPr>
                <p:spPr>
                  <a:xfrm rot="3876600">
                    <a:off x="4641480" y="41295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任意多边形 77831"/>
                  <p:cNvSpPr/>
                  <p:nvPr/>
                </p:nvSpPr>
                <p:spPr>
                  <a:xfrm rot="3876600">
                    <a:off x="5988960" y="49960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组合 77832"/>
                <p:cNvGrpSpPr/>
                <p:nvPr/>
              </p:nvGrpSpPr>
              <p:grpSpPr>
                <a:xfrm>
                  <a:off x="5493240" y="3100320"/>
                  <a:ext cx="1074240" cy="1713960"/>
                  <a:chOff x="5493240" y="3100320"/>
                  <a:chExt cx="1074240" cy="1713960"/>
                </a:xfrm>
              </p:grpSpPr>
              <p:sp>
                <p:nvSpPr>
                  <p:cNvPr id="513" name="任意多边形 77833"/>
                  <p:cNvSpPr/>
                  <p:nvPr/>
                </p:nvSpPr>
                <p:spPr>
                  <a:xfrm flipV="1" rot="3876600">
                    <a:off x="5169960" y="37702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任意多边形 77834"/>
                  <p:cNvSpPr/>
                  <p:nvPr/>
                </p:nvSpPr>
                <p:spPr>
                  <a:xfrm flipV="1" rot="3876600">
                    <a:off x="6188760" y="44424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5" name="组合 77835"/>
              <p:cNvGrpSpPr/>
              <p:nvPr/>
            </p:nvGrpSpPr>
            <p:grpSpPr>
              <a:xfrm>
                <a:off x="4591080" y="2293920"/>
                <a:ext cx="1289520" cy="1288440"/>
                <a:chOff x="4591080" y="2293920"/>
                <a:chExt cx="1289520" cy="1288440"/>
              </a:xfrm>
            </p:grpSpPr>
            <p:sp>
              <p:nvSpPr>
                <p:cNvPr id="516" name="椭圆 77836"/>
                <p:cNvSpPr/>
                <p:nvPr/>
              </p:nvSpPr>
              <p:spPr>
                <a:xfrm>
                  <a:off x="4591080" y="22939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77837"/>
                <p:cNvSpPr/>
                <p:nvPr/>
              </p:nvSpPr>
              <p:spPr>
                <a:xfrm>
                  <a:off x="4591080" y="22939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77838"/>
                <p:cNvSpPr/>
                <p:nvPr/>
              </p:nvSpPr>
              <p:spPr>
                <a:xfrm>
                  <a:off x="4676040" y="2377440"/>
                  <a:ext cx="1119240" cy="11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77839"/>
                <p:cNvSpPr/>
                <p:nvPr/>
              </p:nvSpPr>
              <p:spPr>
                <a:xfrm>
                  <a:off x="4676040" y="2380320"/>
                  <a:ext cx="1119240" cy="111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20" name="椭圆 77840"/>
                <p:cNvSpPr/>
                <p:nvPr/>
              </p:nvSpPr>
              <p:spPr>
                <a:xfrm>
                  <a:off x="4731480" y="2434320"/>
                  <a:ext cx="1008360" cy="1007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组合 77841"/>
                <p:cNvGrpSpPr/>
                <p:nvPr/>
              </p:nvGrpSpPr>
              <p:grpSpPr>
                <a:xfrm>
                  <a:off x="4747320" y="2450160"/>
                  <a:ext cx="976680" cy="977400"/>
                  <a:chOff x="4747320" y="2450160"/>
                  <a:chExt cx="976680" cy="977400"/>
                </a:xfrm>
              </p:grpSpPr>
              <p:sp>
                <p:nvSpPr>
                  <p:cNvPr id="522" name="椭圆 77842"/>
                  <p:cNvSpPr/>
                  <p:nvPr/>
                </p:nvSpPr>
                <p:spPr>
                  <a:xfrm>
                    <a:off x="4747320" y="2450160"/>
                    <a:ext cx="976680" cy="97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椭圆 77843"/>
                  <p:cNvSpPr/>
                  <p:nvPr/>
                </p:nvSpPr>
                <p:spPr>
                  <a:xfrm>
                    <a:off x="4759560" y="2455560"/>
                    <a:ext cx="953280" cy="95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椭圆 77844"/>
                  <p:cNvSpPr/>
                  <p:nvPr/>
                </p:nvSpPr>
                <p:spPr>
                  <a:xfrm>
                    <a:off x="4769640" y="2464920"/>
                    <a:ext cx="906480" cy="890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椭圆 77845"/>
                  <p:cNvSpPr/>
                  <p:nvPr/>
                </p:nvSpPr>
                <p:spPr>
                  <a:xfrm>
                    <a:off x="4822920" y="2489760"/>
                    <a:ext cx="805680" cy="72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6" name="文本框 77903"/>
              <p:cNvSpPr/>
              <p:nvPr/>
            </p:nvSpPr>
            <p:spPr>
              <a:xfrm rot="3925800">
                <a:off x="5037120" y="4082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527" name="文本框 77904"/>
              <p:cNvSpPr/>
              <p:nvPr/>
            </p:nvSpPr>
            <p:spPr>
              <a:xfrm rot="3925800">
                <a:off x="5516280" y="3806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528" name="组合 77919"/>
            <p:cNvGrpSpPr/>
            <p:nvPr/>
          </p:nvGrpSpPr>
          <p:grpSpPr>
            <a:xfrm>
              <a:off x="6519960" y="2152800"/>
              <a:ext cx="2167920" cy="3402360"/>
              <a:chOff x="6519960" y="2152800"/>
              <a:chExt cx="2167920" cy="3402360"/>
            </a:xfrm>
          </p:grpSpPr>
          <p:grpSp>
            <p:nvGrpSpPr>
              <p:cNvPr id="529" name="组合 77846"/>
              <p:cNvGrpSpPr/>
              <p:nvPr/>
            </p:nvGrpSpPr>
            <p:grpSpPr>
              <a:xfrm>
                <a:off x="7185960" y="3169800"/>
                <a:ext cx="1501920" cy="2385360"/>
                <a:chOff x="7185960" y="3169800"/>
                <a:chExt cx="1501920" cy="2385360"/>
              </a:xfrm>
            </p:grpSpPr>
            <p:grpSp>
              <p:nvGrpSpPr>
                <p:cNvPr id="530" name="组合 77847"/>
                <p:cNvGrpSpPr/>
                <p:nvPr/>
              </p:nvGrpSpPr>
              <p:grpSpPr>
                <a:xfrm>
                  <a:off x="7185960" y="3324960"/>
                  <a:ext cx="1397880" cy="2230200"/>
                  <a:chOff x="7185960" y="3324960"/>
                  <a:chExt cx="1397880" cy="2230200"/>
                </a:xfrm>
              </p:grpSpPr>
              <p:sp>
                <p:nvSpPr>
                  <p:cNvPr id="531" name="任意多边形 77848"/>
                  <p:cNvSpPr/>
                  <p:nvPr/>
                </p:nvSpPr>
                <p:spPr>
                  <a:xfrm rot="3876600">
                    <a:off x="6765480" y="4197240"/>
                    <a:ext cx="2238480" cy="48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任意多边形 77849"/>
                  <p:cNvSpPr/>
                  <p:nvPr/>
                </p:nvSpPr>
                <p:spPr>
                  <a:xfrm rot="3876600">
                    <a:off x="8110440" y="5062680"/>
                    <a:ext cx="35172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组合 77850"/>
                <p:cNvGrpSpPr/>
                <p:nvPr/>
              </p:nvGrpSpPr>
              <p:grpSpPr>
                <a:xfrm>
                  <a:off x="7615080" y="3169800"/>
                  <a:ext cx="1072800" cy="1711440"/>
                  <a:chOff x="7615080" y="3169800"/>
                  <a:chExt cx="1072800" cy="1711440"/>
                </a:xfrm>
              </p:grpSpPr>
              <p:sp>
                <p:nvSpPr>
                  <p:cNvPr id="534" name="任意多边形 77851"/>
                  <p:cNvSpPr/>
                  <p:nvPr/>
                </p:nvSpPr>
                <p:spPr>
                  <a:xfrm flipV="1" rot="3876600">
                    <a:off x="7292520" y="3839400"/>
                    <a:ext cx="1717920" cy="37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任意多边形 77852"/>
                  <p:cNvSpPr/>
                  <p:nvPr/>
                </p:nvSpPr>
                <p:spPr>
                  <a:xfrm flipV="1" rot="3876600">
                    <a:off x="8309160" y="4510440"/>
                    <a:ext cx="270000" cy="30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6" name="椭圆 77853"/>
              <p:cNvSpPr/>
              <p:nvPr/>
            </p:nvSpPr>
            <p:spPr>
              <a:xfrm>
                <a:off x="6519960" y="2152800"/>
                <a:ext cx="1549440" cy="154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537" name="椭圆 77854"/>
              <p:cNvSpPr/>
              <p:nvPr/>
            </p:nvSpPr>
            <p:spPr>
              <a:xfrm>
                <a:off x="6519960" y="2152800"/>
                <a:ext cx="1549440" cy="15444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538" name="椭圆 77855"/>
              <p:cNvSpPr/>
              <p:nvPr/>
            </p:nvSpPr>
            <p:spPr>
              <a:xfrm>
                <a:off x="6616800" y="22543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539" name="椭圆 77856"/>
              <p:cNvSpPr/>
              <p:nvPr/>
            </p:nvSpPr>
            <p:spPr>
              <a:xfrm>
                <a:off x="6618240" y="225576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540" name="椭圆 77857"/>
              <p:cNvSpPr/>
              <p:nvPr/>
            </p:nvSpPr>
            <p:spPr>
              <a:xfrm>
                <a:off x="6680160" y="2320920"/>
                <a:ext cx="1211400" cy="1208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grpSp>
            <p:nvGrpSpPr>
              <p:cNvPr id="541" name="组合 77858"/>
              <p:cNvGrpSpPr/>
              <p:nvPr/>
            </p:nvGrpSpPr>
            <p:grpSpPr>
              <a:xfrm>
                <a:off x="6697800" y="2340000"/>
                <a:ext cx="1172880" cy="1171440"/>
                <a:chOff x="6697800" y="2340000"/>
                <a:chExt cx="1172880" cy="1171440"/>
              </a:xfrm>
            </p:grpSpPr>
            <p:sp>
              <p:nvSpPr>
                <p:cNvPr id="542" name="椭圆 77859"/>
                <p:cNvSpPr/>
                <p:nvPr/>
              </p:nvSpPr>
              <p:spPr>
                <a:xfrm>
                  <a:off x="6697800" y="2340000"/>
                  <a:ext cx="1172880" cy="117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43" name="椭圆 77860"/>
                <p:cNvSpPr/>
                <p:nvPr/>
              </p:nvSpPr>
              <p:spPr>
                <a:xfrm>
                  <a:off x="6712560" y="2346480"/>
                  <a:ext cx="1144800" cy="114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44" name="椭圆 77861"/>
                <p:cNvSpPr/>
                <p:nvPr/>
              </p:nvSpPr>
              <p:spPr>
                <a:xfrm>
                  <a:off x="6724800" y="2357640"/>
                  <a:ext cx="1088640" cy="106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45" name="椭圆 77862"/>
                <p:cNvSpPr/>
                <p:nvPr/>
              </p:nvSpPr>
              <p:spPr>
                <a:xfrm>
                  <a:off x="6788520" y="2387520"/>
                  <a:ext cx="967680" cy="86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文本框 77905"/>
              <p:cNvSpPr/>
              <p:nvPr/>
            </p:nvSpPr>
            <p:spPr>
              <a:xfrm rot="3925800">
                <a:off x="7140240" y="4136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547" name="文本框 77906"/>
              <p:cNvSpPr/>
              <p:nvPr/>
            </p:nvSpPr>
            <p:spPr>
              <a:xfrm rot="3925800">
                <a:off x="7647480" y="3925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548" name="文本框 77907"/>
            <p:cNvSpPr/>
            <p:nvPr/>
          </p:nvSpPr>
          <p:spPr>
            <a:xfrm>
              <a:off x="1046160" y="17146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1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49" name="文本框 77908"/>
            <p:cNvSpPr/>
            <p:nvPr/>
          </p:nvSpPr>
          <p:spPr>
            <a:xfrm>
              <a:off x="2936880" y="17146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2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50" name="文本框 77909"/>
            <p:cNvSpPr/>
            <p:nvPr/>
          </p:nvSpPr>
          <p:spPr>
            <a:xfrm>
              <a:off x="4817880" y="17146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3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51" name="文本框 77910"/>
            <p:cNvSpPr/>
            <p:nvPr/>
          </p:nvSpPr>
          <p:spPr>
            <a:xfrm>
              <a:off x="6764760" y="16765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4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cxnSp>
          <p:nvCxnSpPr>
            <p:cNvPr id="552" name="直接箭头连接符 77911"/>
            <p:cNvCxnSpPr>
              <a:stCxn id="548" idx="3"/>
              <a:endCxn id="549" idx="1"/>
            </p:cNvCxnSpPr>
            <p:nvPr/>
          </p:nvCxnSpPr>
          <p:spPr>
            <a:xfrm>
              <a:off x="1743120" y="1879200"/>
              <a:ext cx="1162440" cy="1080"/>
            </a:xfrm>
            <a:prstGeom prst="straightConnector1">
              <a:avLst/>
            </a:prstGeom>
            <a:ln w="9360">
              <a:solidFill>
                <a:srgbClr val="b6d1f6"/>
              </a:solidFill>
              <a:round/>
              <a:tailEnd len="med" type="triangle" w="med"/>
            </a:ln>
          </p:spPr>
        </p:cxnSp>
        <p:cxnSp>
          <p:nvCxnSpPr>
            <p:cNvPr id="553" name="直接箭头连接符 77912"/>
            <p:cNvCxnSpPr>
              <a:stCxn id="549" idx="3"/>
              <a:endCxn id="550" idx="1"/>
            </p:cNvCxnSpPr>
            <p:nvPr/>
          </p:nvCxnSpPr>
          <p:spPr>
            <a:xfrm>
              <a:off x="3634920" y="1879200"/>
              <a:ext cx="1151640" cy="1080"/>
            </a:xfrm>
            <a:prstGeom prst="straightConnector1">
              <a:avLst/>
            </a:prstGeom>
            <a:ln w="9360">
              <a:solidFill>
                <a:srgbClr val="b6d1f6"/>
              </a:solidFill>
              <a:round/>
              <a:tailEnd len="med" type="triangle" w="med"/>
            </a:ln>
          </p:spPr>
        </p:cxnSp>
        <p:cxnSp>
          <p:nvCxnSpPr>
            <p:cNvPr id="554" name="直接箭头连接符 77913"/>
            <p:cNvCxnSpPr>
              <a:stCxn id="550" idx="3"/>
              <a:endCxn id="551" idx="1"/>
            </p:cNvCxnSpPr>
            <p:nvPr/>
          </p:nvCxnSpPr>
          <p:spPr>
            <a:xfrm>
              <a:off x="5516280" y="1879200"/>
              <a:ext cx="1159560" cy="2520"/>
            </a:xfrm>
            <a:prstGeom prst="straightConnector1">
              <a:avLst/>
            </a:prstGeom>
            <a:ln w="9360">
              <a:solidFill>
                <a:srgbClr val="b6d1f6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燕尾形 78850"/>
          <p:cNvSpPr/>
          <p:nvPr/>
        </p:nvSpPr>
        <p:spPr>
          <a:xfrm>
            <a:off x="5638680" y="2438280"/>
            <a:ext cx="2590920" cy="266724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solidFill>
            <a:srgbClr val="35c7b6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557" name="燕尾形 78851"/>
          <p:cNvSpPr/>
          <p:nvPr/>
        </p:nvSpPr>
        <p:spPr>
          <a:xfrm>
            <a:off x="3581280" y="2438280"/>
            <a:ext cx="2590920" cy="266724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7f6fd1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558" name="燕尾形 78852"/>
          <p:cNvSpPr/>
          <p:nvPr/>
        </p:nvSpPr>
        <p:spPr>
          <a:xfrm>
            <a:off x="1447920" y="2438280"/>
            <a:ext cx="2666880" cy="266724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408bf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559" name="圆角矩形 78853"/>
          <p:cNvSpPr/>
          <p:nvPr/>
        </p:nvSpPr>
        <p:spPr>
          <a:xfrm>
            <a:off x="1582560" y="1523880"/>
            <a:ext cx="1846440" cy="533520"/>
          </a:xfrm>
          <a:prstGeom prst="roundRect">
            <a:avLst>
              <a:gd name="adj" fmla="val 50000"/>
            </a:avLst>
          </a:prstGeom>
          <a:solidFill>
            <a:srgbClr val="408bf0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560" name="圆角矩形 78854"/>
          <p:cNvSpPr/>
          <p:nvPr/>
        </p:nvSpPr>
        <p:spPr>
          <a:xfrm>
            <a:off x="3749760" y="1523880"/>
            <a:ext cx="1846080" cy="533520"/>
          </a:xfrm>
          <a:prstGeom prst="roundRect">
            <a:avLst>
              <a:gd name="adj" fmla="val 50000"/>
            </a:avLst>
          </a:prstGeom>
          <a:solidFill>
            <a:srgbClr val="7f6fd1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2</a:t>
            </a:r>
            <a:endParaRPr b="0" lang="en-US" sz="20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561" name="圆角矩形 78855"/>
          <p:cNvSpPr/>
          <p:nvPr/>
        </p:nvSpPr>
        <p:spPr>
          <a:xfrm>
            <a:off x="5791320" y="1523880"/>
            <a:ext cx="184608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5c7b6"/>
              </a:gs>
              <a:gs pos="100000">
                <a:srgbClr val="195c54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3</a:t>
            </a:r>
            <a:endParaRPr b="0" lang="en-US" sz="20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562" name="文本框 8199"/>
          <p:cNvSpPr/>
          <p:nvPr/>
        </p:nvSpPr>
        <p:spPr>
          <a:xfrm>
            <a:off x="1828800" y="114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6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996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b6d1f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圆角矩形 79874"/>
          <p:cNvSpPr/>
          <p:nvPr/>
        </p:nvSpPr>
        <p:spPr>
          <a:xfrm>
            <a:off x="6477120" y="2819520"/>
            <a:ext cx="1511280" cy="2133360"/>
          </a:xfrm>
          <a:custGeom>
            <a:avLst/>
            <a:gdLst>
              <a:gd name="textAreaLeft" fmla="*/ 60840 w 1511280"/>
              <a:gd name="textAreaRight" fmla="*/ 1450440 w 1511280"/>
              <a:gd name="textAreaTop" fmla="*/ 60840 h 2133360"/>
              <a:gd name="textAreaBottom" fmla="*/ 2072520 h 2133360"/>
            </a:gdLst>
            <a:ahLst/>
            <a:rect l="textAreaLeft" t="textAreaTop" r="textAreaRight" b="textAreaBottom"/>
            <a:pathLst>
              <a:path w="21600" h="30489">
                <a:moveTo>
                  <a:pt x="2969" y="0"/>
                </a:moveTo>
                <a:arcTo wR="2969" hR="2969" stAng="16200000" swAng="-5400000"/>
                <a:lnTo>
                  <a:pt x="0" y="27520"/>
                </a:lnTo>
                <a:arcTo wR="2969" hR="2969" stAng="10800000" swAng="-5400000"/>
                <a:lnTo>
                  <a:pt x="18631" y="30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99cc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565" name="圆角矩形 79875"/>
          <p:cNvSpPr/>
          <p:nvPr/>
        </p:nvSpPr>
        <p:spPr>
          <a:xfrm>
            <a:off x="4827600" y="2819520"/>
            <a:ext cx="1525680" cy="2133360"/>
          </a:xfrm>
          <a:custGeom>
            <a:avLst/>
            <a:gdLst>
              <a:gd name="textAreaLeft" fmla="*/ 61200 w 1525680"/>
              <a:gd name="textAreaRight" fmla="*/ 1464480 w 1525680"/>
              <a:gd name="textAreaTop" fmla="*/ 61200 h 2133360"/>
              <a:gd name="textAreaBottom" fmla="*/ 2072160 h 2133360"/>
            </a:gdLst>
            <a:ahLst/>
            <a:rect l="textAreaLeft" t="textAreaTop" r="textAreaRight" b="textAreaBottom"/>
            <a:pathLst>
              <a:path w="21600" h="30201">
                <a:moveTo>
                  <a:pt x="2969" y="0"/>
                </a:moveTo>
                <a:arcTo wR="2969" hR="2969" stAng="16200000" swAng="-5400000"/>
                <a:lnTo>
                  <a:pt x="0" y="27232"/>
                </a:lnTo>
                <a:arcTo wR="2969" hR="2969" stAng="10800000" swAng="-5400000"/>
                <a:lnTo>
                  <a:pt x="18631" y="302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99cc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566" name="圆角矩形 79876"/>
          <p:cNvSpPr/>
          <p:nvPr/>
        </p:nvSpPr>
        <p:spPr>
          <a:xfrm>
            <a:off x="3105000" y="2819520"/>
            <a:ext cx="1595520" cy="2133360"/>
          </a:xfrm>
          <a:custGeom>
            <a:avLst/>
            <a:gdLst>
              <a:gd name="textAreaLeft" fmla="*/ 64080 w 1595520"/>
              <a:gd name="textAreaRight" fmla="*/ 1531440 w 1595520"/>
              <a:gd name="textAreaTop" fmla="*/ 64080 h 2133360"/>
              <a:gd name="textAreaBottom" fmla="*/ 2069280 h 2133360"/>
            </a:gdLst>
            <a:ahLst/>
            <a:rect l="textAreaLeft" t="textAreaTop" r="textAreaRight" b="textAreaBottom"/>
            <a:pathLst>
              <a:path w="21600" h="28880">
                <a:moveTo>
                  <a:pt x="2969" y="0"/>
                </a:moveTo>
                <a:arcTo wR="2969" hR="2969" stAng="16200000" swAng="-5400000"/>
                <a:lnTo>
                  <a:pt x="0" y="25911"/>
                </a:lnTo>
                <a:arcTo wR="2969" hR="2969" stAng="10800000" swAng="-5400000"/>
                <a:lnTo>
                  <a:pt x="18631" y="2888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99cc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567" name="圆角矩形 79877"/>
          <p:cNvSpPr/>
          <p:nvPr/>
        </p:nvSpPr>
        <p:spPr>
          <a:xfrm>
            <a:off x="1295280" y="2819520"/>
            <a:ext cx="1676520" cy="21333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133360"/>
              <a:gd name="textAreaBottom" fmla="*/ 2066040 h 2133360"/>
            </a:gdLst>
            <a:ahLst/>
            <a:rect l="textAreaLeft" t="textAreaTop" r="textAreaRight" b="textAreaBottom"/>
            <a:pathLst>
              <a:path w="21600" h="27485">
                <a:moveTo>
                  <a:pt x="2969" y="0"/>
                </a:moveTo>
                <a:arcTo wR="2969" hR="2969" stAng="16200000" swAng="-5400000"/>
                <a:lnTo>
                  <a:pt x="0" y="24516"/>
                </a:lnTo>
                <a:arcTo wR="2969" hR="2969" stAng="10800000" swAng="-5400000"/>
                <a:lnTo>
                  <a:pt x="18631" y="274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99cc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grpSp>
        <p:nvGrpSpPr>
          <p:cNvPr id="568" name="组合 79906"/>
          <p:cNvGrpSpPr/>
          <p:nvPr/>
        </p:nvGrpSpPr>
        <p:grpSpPr>
          <a:xfrm>
            <a:off x="1519920" y="1413360"/>
            <a:ext cx="6014880" cy="1287720"/>
            <a:chOff x="1519920" y="1413360"/>
            <a:chExt cx="6014880" cy="1287720"/>
          </a:xfrm>
        </p:grpSpPr>
        <p:grpSp>
          <p:nvGrpSpPr>
            <p:cNvPr id="569" name="组合 79878"/>
            <p:cNvGrpSpPr/>
            <p:nvPr/>
          </p:nvGrpSpPr>
          <p:grpSpPr>
            <a:xfrm>
              <a:off x="1519920" y="1413360"/>
              <a:ext cx="6014880" cy="1287720"/>
              <a:chOff x="1519920" y="1413360"/>
              <a:chExt cx="6014880" cy="1287720"/>
            </a:xfrm>
          </p:grpSpPr>
          <p:sp>
            <p:nvSpPr>
              <p:cNvPr id="570" name="矩形 79879"/>
              <p:cNvSpPr/>
              <p:nvPr/>
            </p:nvSpPr>
            <p:spPr>
              <a:xfrm rot="3418800">
                <a:off x="1719360" y="161820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2b42b5"/>
                  </a:gs>
                  <a:gs pos="100000">
                    <a:srgbClr val="141f54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grpSp>
            <p:nvGrpSpPr>
              <p:cNvPr id="571" name="组合 79880"/>
              <p:cNvGrpSpPr/>
              <p:nvPr/>
            </p:nvGrpSpPr>
            <p:grpSpPr>
              <a:xfrm>
                <a:off x="2615400" y="1783080"/>
                <a:ext cx="871560" cy="121320"/>
                <a:chOff x="2615400" y="1783080"/>
                <a:chExt cx="871560" cy="121320"/>
              </a:xfrm>
            </p:grpSpPr>
            <p:sp>
              <p:nvSpPr>
                <p:cNvPr id="572" name="椭圆 79881"/>
                <p:cNvSpPr/>
                <p:nvPr/>
              </p:nvSpPr>
              <p:spPr>
                <a:xfrm>
                  <a:off x="2615400" y="178308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73" name="矩形 79882"/>
                <p:cNvSpPr/>
                <p:nvPr/>
              </p:nvSpPr>
              <p:spPr>
                <a:xfrm>
                  <a:off x="2698920" y="1783800"/>
                  <a:ext cx="72288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74" name="椭圆 79883"/>
                <p:cNvSpPr/>
                <p:nvPr/>
              </p:nvSpPr>
              <p:spPr>
                <a:xfrm>
                  <a:off x="3354840" y="178488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334e"/>
                    </a:gs>
                    <a:gs pos="50000">
                      <a:srgbClr val="246fa8"/>
                    </a:gs>
                    <a:gs pos="100000">
                      <a:srgbClr val="11334e"/>
                    </a:gs>
                  </a:gsLst>
                  <a:lin ang="5400000"/>
                </a:gradFill>
                <a:ln w="12600">
                  <a:solidFill>
                    <a:srgbClr val="246fa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75" name="椭圆 79884"/>
                <p:cNvSpPr/>
                <p:nvPr/>
              </p:nvSpPr>
              <p:spPr>
                <a:xfrm>
                  <a:off x="3425760" y="182304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334e"/>
                    </a:gs>
                    <a:gs pos="50000">
                      <a:srgbClr val="246fa8"/>
                    </a:gs>
                    <a:gs pos="100000">
                      <a:srgbClr val="1133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矩形 79885"/>
              <p:cNvSpPr/>
              <p:nvPr/>
            </p:nvSpPr>
            <p:spPr>
              <a:xfrm rot="3418800">
                <a:off x="3329280" y="155736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35c7b6"/>
                  </a:gs>
                  <a:gs pos="100000">
                    <a:srgbClr val="195c54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grpSp>
            <p:nvGrpSpPr>
              <p:cNvPr id="577" name="组合 79886"/>
              <p:cNvGrpSpPr/>
              <p:nvPr/>
            </p:nvGrpSpPr>
            <p:grpSpPr>
              <a:xfrm>
                <a:off x="4225320" y="1783080"/>
                <a:ext cx="871560" cy="121320"/>
                <a:chOff x="4225320" y="1783080"/>
                <a:chExt cx="871560" cy="121320"/>
              </a:xfrm>
            </p:grpSpPr>
            <p:sp>
              <p:nvSpPr>
                <p:cNvPr id="578" name="椭圆 79887"/>
                <p:cNvSpPr/>
                <p:nvPr/>
              </p:nvSpPr>
              <p:spPr>
                <a:xfrm>
                  <a:off x="4225320" y="178308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79" name="矩形 79888"/>
                <p:cNvSpPr/>
                <p:nvPr/>
              </p:nvSpPr>
              <p:spPr>
                <a:xfrm>
                  <a:off x="4308840" y="1783800"/>
                  <a:ext cx="72288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80" name="椭圆 79889"/>
                <p:cNvSpPr/>
                <p:nvPr/>
              </p:nvSpPr>
              <p:spPr>
                <a:xfrm>
                  <a:off x="4964760" y="178488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334e"/>
                    </a:gs>
                    <a:gs pos="50000">
                      <a:srgbClr val="246fa8"/>
                    </a:gs>
                    <a:gs pos="100000">
                      <a:srgbClr val="11334e"/>
                    </a:gs>
                  </a:gsLst>
                  <a:lin ang="5400000"/>
                </a:gradFill>
                <a:ln w="12600">
                  <a:solidFill>
                    <a:srgbClr val="246fa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81" name="椭圆 79890"/>
                <p:cNvSpPr/>
                <p:nvPr/>
              </p:nvSpPr>
              <p:spPr>
                <a:xfrm>
                  <a:off x="5035680" y="182304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334e"/>
                    </a:gs>
                    <a:gs pos="50000">
                      <a:srgbClr val="246fa8"/>
                    </a:gs>
                    <a:gs pos="100000">
                      <a:srgbClr val="1133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矩形 79891"/>
              <p:cNvSpPr/>
              <p:nvPr/>
            </p:nvSpPr>
            <p:spPr>
              <a:xfrm rot="3418800">
                <a:off x="4872240" y="155736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2b42b5"/>
                  </a:gs>
                  <a:gs pos="100000">
                    <a:srgbClr val="141f54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grpSp>
            <p:nvGrpSpPr>
              <p:cNvPr id="583" name="组合 79892"/>
              <p:cNvGrpSpPr/>
              <p:nvPr/>
            </p:nvGrpSpPr>
            <p:grpSpPr>
              <a:xfrm>
                <a:off x="5835600" y="1783080"/>
                <a:ext cx="1139760" cy="121320"/>
                <a:chOff x="5835600" y="1783080"/>
                <a:chExt cx="1139760" cy="121320"/>
              </a:xfrm>
            </p:grpSpPr>
            <p:sp>
              <p:nvSpPr>
                <p:cNvPr id="584" name="椭圆 79893"/>
                <p:cNvSpPr/>
                <p:nvPr/>
              </p:nvSpPr>
              <p:spPr>
                <a:xfrm>
                  <a:off x="5835600" y="1783080"/>
                  <a:ext cx="19224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85" name="矩形 79894"/>
                <p:cNvSpPr/>
                <p:nvPr/>
              </p:nvSpPr>
              <p:spPr>
                <a:xfrm>
                  <a:off x="5944680" y="1783800"/>
                  <a:ext cx="94536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86" name="椭圆 79895"/>
                <p:cNvSpPr/>
                <p:nvPr/>
              </p:nvSpPr>
              <p:spPr>
                <a:xfrm>
                  <a:off x="6802560" y="1784880"/>
                  <a:ext cx="17280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334e"/>
                    </a:gs>
                    <a:gs pos="50000">
                      <a:srgbClr val="246fa8"/>
                    </a:gs>
                    <a:gs pos="100000">
                      <a:srgbClr val="11334e"/>
                    </a:gs>
                  </a:gsLst>
                  <a:lin ang="5400000"/>
                </a:gradFill>
                <a:ln w="12600">
                  <a:solidFill>
                    <a:srgbClr val="246fa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587" name="椭圆 79896"/>
                <p:cNvSpPr/>
                <p:nvPr/>
              </p:nvSpPr>
              <p:spPr>
                <a:xfrm>
                  <a:off x="6895080" y="1823040"/>
                  <a:ext cx="4860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334e"/>
                    </a:gs>
                    <a:gs pos="50000">
                      <a:srgbClr val="246fa8"/>
                    </a:gs>
                    <a:gs pos="100000">
                      <a:srgbClr val="1133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矩形 79897"/>
              <p:cNvSpPr/>
              <p:nvPr/>
            </p:nvSpPr>
            <p:spPr>
              <a:xfrm rot="3418800">
                <a:off x="6482160" y="155736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35c7b6"/>
                  </a:gs>
                  <a:gs pos="100000">
                    <a:srgbClr val="195c54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589" name="矩形 79898"/>
            <p:cNvSpPr/>
            <p:nvPr/>
          </p:nvSpPr>
          <p:spPr>
            <a:xfrm>
              <a:off x="1826280" y="18961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90" name="矩形 79899"/>
            <p:cNvSpPr/>
            <p:nvPr/>
          </p:nvSpPr>
          <p:spPr>
            <a:xfrm>
              <a:off x="3465000" y="18961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91" name="矩形 79900"/>
            <p:cNvSpPr/>
            <p:nvPr/>
          </p:nvSpPr>
          <p:spPr>
            <a:xfrm>
              <a:off x="4961520" y="18961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92" name="矩形 79901"/>
            <p:cNvSpPr/>
            <p:nvPr/>
          </p:nvSpPr>
          <p:spPr>
            <a:xfrm>
              <a:off x="6602040" y="18961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sp>
        <p:nvSpPr>
          <p:cNvPr id="593" name="矩形 79902"/>
          <p:cNvSpPr/>
          <p:nvPr/>
        </p:nvSpPr>
        <p:spPr>
          <a:xfrm>
            <a:off x="1671120" y="2819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a53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594" name="矩形 79903"/>
          <p:cNvSpPr/>
          <p:nvPr/>
        </p:nvSpPr>
        <p:spPr>
          <a:xfrm>
            <a:off x="3499920" y="2819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a53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595" name="矩形 79904"/>
          <p:cNvSpPr/>
          <p:nvPr/>
        </p:nvSpPr>
        <p:spPr>
          <a:xfrm>
            <a:off x="5204880" y="2819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a53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596" name="矩形 79905"/>
          <p:cNvSpPr/>
          <p:nvPr/>
        </p:nvSpPr>
        <p:spPr>
          <a:xfrm>
            <a:off x="6852600" y="2819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a53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1143000" y="1461960"/>
          <a:ext cx="6858000" cy="3338640"/>
        </p:xfrm>
        <a:graphic>
          <a:graphicData uri="http://schemas.openxmlformats.org/drawingml/2006/table">
            <a:tbl>
              <a:tblPr/>
              <a:tblGrid>
                <a:gridCol w="1546200"/>
                <a:gridCol w="1081080"/>
                <a:gridCol w="1057320"/>
                <a:gridCol w="1055520"/>
                <a:gridCol w="1060560"/>
                <a:gridCol w="1057320"/>
              </a:tblGrid>
              <a:tr h="444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6d1f6"/>
                      </a:solidFill>
                    </a:lnR>
                    <a:lnT>
                      <a:noFill/>
                    </a:lnT>
                    <a:lnB w="5760">
                      <a:solidFill>
                        <a:srgbClr val="b6d1f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0066c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0066c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0066c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0066c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0066cc">
                        <a:alpha val="50000"/>
                      </a:srgbClr>
                    </a:solidFill>
                  </a:tcPr>
                </a:tc>
              </a:tr>
              <a:tr h="482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2b42b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3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</a:tr>
              <a:tr h="466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2b42b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3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2b42b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3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2b42b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3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</a:tr>
              <a:tr h="481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2b42b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3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</a:tr>
              <a:tr h="492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2b42b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3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408bf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91185"/>
          <p:cNvGrpSpPr/>
          <p:nvPr/>
        </p:nvGrpSpPr>
        <p:grpSpPr>
          <a:xfrm>
            <a:off x="1162080" y="1067400"/>
            <a:ext cx="6496200" cy="4511160"/>
            <a:chOff x="1162080" y="1067400"/>
            <a:chExt cx="6496200" cy="4511160"/>
          </a:xfrm>
        </p:grpSpPr>
        <p:sp>
          <p:nvSpPr>
            <p:cNvPr id="601" name="椭圆 91164"/>
            <p:cNvSpPr/>
            <p:nvPr/>
          </p:nvSpPr>
          <p:spPr>
            <a:xfrm>
              <a:off x="2189160" y="3996720"/>
              <a:ext cx="5205240" cy="1184400"/>
            </a:xfrm>
            <a:prstGeom prst="ellipse">
              <a:avLst/>
            </a:prstGeom>
            <a:gradFill rotWithShape="0">
              <a:gsLst>
                <a:gs pos="0">
                  <a:srgbClr val="1e406f"/>
                </a:gs>
                <a:gs pos="100000">
                  <a:srgbClr val="408bf0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02" name="椭圆 91165"/>
            <p:cNvSpPr/>
            <p:nvPr/>
          </p:nvSpPr>
          <p:spPr>
            <a:xfrm rot="20601600">
              <a:off x="1458360" y="1941120"/>
              <a:ext cx="5623200" cy="289260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03" name="椭圆 91166"/>
            <p:cNvSpPr/>
            <p:nvPr/>
          </p:nvSpPr>
          <p:spPr>
            <a:xfrm rot="20601600">
              <a:off x="1513800" y="1785600"/>
              <a:ext cx="5428440" cy="280296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04" name="任意多边形 91167"/>
            <p:cNvSpPr/>
            <p:nvPr/>
          </p:nvSpPr>
          <p:spPr>
            <a:xfrm rot="20601600">
              <a:off x="4097520" y="1860120"/>
              <a:ext cx="2782080" cy="1475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05" name="任意多边形 91168"/>
            <p:cNvSpPr/>
            <p:nvPr/>
          </p:nvSpPr>
          <p:spPr>
            <a:xfrm flipH="1" rot="20602200">
              <a:off x="1565280" y="3119760"/>
              <a:ext cx="2807280" cy="15634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06" name="任意多边形 91169"/>
            <p:cNvSpPr/>
            <p:nvPr/>
          </p:nvSpPr>
          <p:spPr>
            <a:xfrm rot="20601600">
              <a:off x="3360600" y="1600200"/>
              <a:ext cx="2745000" cy="135972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07" name="任意多边形 91170"/>
            <p:cNvSpPr/>
            <p:nvPr/>
          </p:nvSpPr>
          <p:spPr>
            <a:xfrm flipH="1" rot="20602200">
              <a:off x="1370520" y="2225520"/>
              <a:ext cx="2695320" cy="132480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08" name="椭圆 91171"/>
            <p:cNvSpPr/>
            <p:nvPr/>
          </p:nvSpPr>
          <p:spPr>
            <a:xfrm rot="20601600">
              <a:off x="2939040" y="2470680"/>
              <a:ext cx="2630520" cy="1284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09" name="文本框 91172"/>
            <p:cNvSpPr/>
            <p:nvPr/>
          </p:nvSpPr>
          <p:spPr>
            <a:xfrm>
              <a:off x="2261160" y="26841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10" name="文本框 91173"/>
            <p:cNvSpPr/>
            <p:nvPr/>
          </p:nvSpPr>
          <p:spPr>
            <a:xfrm>
              <a:off x="4119840" y="1807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11" name="文本框 91174"/>
            <p:cNvSpPr/>
            <p:nvPr/>
          </p:nvSpPr>
          <p:spPr>
            <a:xfrm>
              <a:off x="5757120" y="2245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12" name="任意多边形 91175"/>
            <p:cNvSpPr/>
            <p:nvPr/>
          </p:nvSpPr>
          <p:spPr>
            <a:xfrm>
              <a:off x="6181560" y="2757240"/>
              <a:ext cx="1263960" cy="16412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13" name="任意多边形 91176"/>
            <p:cNvSpPr/>
            <p:nvPr/>
          </p:nvSpPr>
          <p:spPr>
            <a:xfrm rot="20539200">
              <a:off x="4618440" y="2763000"/>
              <a:ext cx="2912400" cy="129096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14" name="任意多边形 91177"/>
            <p:cNvSpPr/>
            <p:nvPr/>
          </p:nvSpPr>
          <p:spPr>
            <a:xfrm>
              <a:off x="4522320" y="3218760"/>
              <a:ext cx="1716480" cy="11858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15" name="文本框 91178"/>
            <p:cNvSpPr/>
            <p:nvPr/>
          </p:nvSpPr>
          <p:spPr>
            <a:xfrm>
              <a:off x="5757120" y="3195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16" name="文本框 91179"/>
            <p:cNvSpPr/>
            <p:nvPr/>
          </p:nvSpPr>
          <p:spPr>
            <a:xfrm>
              <a:off x="4047120" y="3926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17" name="文本框 91180"/>
            <p:cNvSpPr/>
            <p:nvPr/>
          </p:nvSpPr>
          <p:spPr>
            <a:xfrm>
              <a:off x="2188080" y="37803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6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18" name="椭圆 91181"/>
            <p:cNvSpPr/>
            <p:nvPr/>
          </p:nvSpPr>
          <p:spPr>
            <a:xfrm rot="20601600">
              <a:off x="3038400" y="2712960"/>
              <a:ext cx="2523240" cy="1045800"/>
            </a:xfrm>
            <a:prstGeom prst="ellipse">
              <a:avLst/>
            </a:prstGeom>
            <a:gradFill rotWithShape="0">
              <a:gsLst>
                <a:gs pos="0">
                  <a:srgbClr val="408bf0"/>
                </a:gs>
                <a:gs pos="100000">
                  <a:srgbClr val="c5dcf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619" name="任意多边形 91182"/>
            <p:cNvSpPr/>
            <p:nvPr/>
          </p:nvSpPr>
          <p:spPr>
            <a:xfrm>
              <a:off x="4694400" y="3597840"/>
              <a:ext cx="1251720" cy="986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sp>
        <p:nvSpPr>
          <p:cNvPr id="62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6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996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b6d1f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" name="组合 83014"/>
          <p:cNvGrpSpPr/>
          <p:nvPr/>
        </p:nvGrpSpPr>
        <p:grpSpPr>
          <a:xfrm>
            <a:off x="1599840" y="1523880"/>
            <a:ext cx="6297480" cy="3877920"/>
            <a:chOff x="1599840" y="1523880"/>
            <a:chExt cx="6297480" cy="3877920"/>
          </a:xfrm>
        </p:grpSpPr>
        <p:grpSp>
          <p:nvGrpSpPr>
            <p:cNvPr id="623" name="组合 82977"/>
            <p:cNvGrpSpPr/>
            <p:nvPr/>
          </p:nvGrpSpPr>
          <p:grpSpPr>
            <a:xfrm>
              <a:off x="1599840" y="1523880"/>
              <a:ext cx="3748320" cy="3874680"/>
              <a:chOff x="1599840" y="1523880"/>
              <a:chExt cx="3748320" cy="387468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1599840" y="5397120"/>
                <a:ext cx="1661040" cy="1440"/>
                <a:chOff x="1599840" y="5397120"/>
                <a:chExt cx="1661040" cy="1440"/>
              </a:xfrm>
            </p:grpSpPr>
            <p:sp>
              <p:nvSpPr>
                <p:cNvPr id="625" name="直接连接符 82978"/>
                <p:cNvSpPr/>
                <p:nvPr/>
              </p:nvSpPr>
              <p:spPr>
                <a:xfrm flipH="1">
                  <a:off x="1599840" y="5397120"/>
                  <a:ext cx="1660680" cy="1440"/>
                </a:xfrm>
                <a:prstGeom prst="line">
                  <a:avLst/>
                </a:prstGeom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 txBox="1"/>
                <p:nvPr/>
              </p:nvSpPr>
              <p:spPr>
                <a:xfrm>
                  <a:off x="1600200" y="5397120"/>
                  <a:ext cx="1660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1599840" y="4616640"/>
                <a:ext cx="2142720" cy="1080"/>
                <a:chOff x="1599840" y="4616640"/>
                <a:chExt cx="2142720" cy="1080"/>
              </a:xfrm>
            </p:grpSpPr>
            <p:sp>
              <p:nvSpPr>
                <p:cNvPr id="628" name="直接连接符 82979"/>
                <p:cNvSpPr/>
                <p:nvPr/>
              </p:nvSpPr>
              <p:spPr>
                <a:xfrm flipH="1">
                  <a:off x="1599840" y="4616640"/>
                  <a:ext cx="2142360" cy="1080"/>
                </a:xfrm>
                <a:prstGeom prst="line">
                  <a:avLst/>
                </a:prstGeom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 txBox="1"/>
                <p:nvPr/>
              </p:nvSpPr>
              <p:spPr>
                <a:xfrm>
                  <a:off x="1600200" y="4616640"/>
                  <a:ext cx="21423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1600200" y="3807360"/>
                <a:ext cx="2516400" cy="1080"/>
                <a:chOff x="1600200" y="3807360"/>
                <a:chExt cx="2516400" cy="1080"/>
              </a:xfrm>
            </p:grpSpPr>
            <p:sp>
              <p:nvSpPr>
                <p:cNvPr id="631" name="直接连接符 82980"/>
                <p:cNvSpPr/>
                <p:nvPr/>
              </p:nvSpPr>
              <p:spPr>
                <a:xfrm flipH="1">
                  <a:off x="1600200" y="3807360"/>
                  <a:ext cx="2516400" cy="1080"/>
                </a:xfrm>
                <a:prstGeom prst="line">
                  <a:avLst/>
                </a:prstGeom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 txBox="1"/>
                <p:nvPr/>
              </p:nvSpPr>
              <p:spPr>
                <a:xfrm>
                  <a:off x="1600200" y="3807360"/>
                  <a:ext cx="25164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1600200" y="3009960"/>
                <a:ext cx="2944800" cy="1080"/>
                <a:chOff x="1600200" y="3009960"/>
                <a:chExt cx="2944800" cy="1080"/>
              </a:xfrm>
            </p:grpSpPr>
            <p:sp>
              <p:nvSpPr>
                <p:cNvPr id="634" name="直接连接符 82981"/>
                <p:cNvSpPr/>
                <p:nvPr/>
              </p:nvSpPr>
              <p:spPr>
                <a:xfrm flipH="1">
                  <a:off x="1600200" y="3009960"/>
                  <a:ext cx="2944800" cy="1080"/>
                </a:xfrm>
                <a:prstGeom prst="line">
                  <a:avLst/>
                </a:prstGeom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 txBox="1"/>
                <p:nvPr/>
              </p:nvSpPr>
              <p:spPr>
                <a:xfrm>
                  <a:off x="1600200" y="3009960"/>
                  <a:ext cx="29448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1600200" y="2208240"/>
                <a:ext cx="3372480" cy="1080"/>
                <a:chOff x="1600200" y="2208240"/>
                <a:chExt cx="3372480" cy="1080"/>
              </a:xfrm>
            </p:grpSpPr>
            <p:sp>
              <p:nvSpPr>
                <p:cNvPr id="637" name="直接连接符 82982"/>
                <p:cNvSpPr/>
                <p:nvPr/>
              </p:nvSpPr>
              <p:spPr>
                <a:xfrm flipH="1">
                  <a:off x="1600200" y="2208240"/>
                  <a:ext cx="3372480" cy="1080"/>
                </a:xfrm>
                <a:prstGeom prst="line">
                  <a:avLst/>
                </a:prstGeom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 txBox="1"/>
                <p:nvPr/>
              </p:nvSpPr>
              <p:spPr>
                <a:xfrm>
                  <a:off x="1600200" y="2208240"/>
                  <a:ext cx="33724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1599840" y="1523880"/>
                <a:ext cx="3748320" cy="1440"/>
                <a:chOff x="1599840" y="1523880"/>
                <a:chExt cx="3748320" cy="1440"/>
              </a:xfrm>
            </p:grpSpPr>
            <p:sp>
              <p:nvSpPr>
                <p:cNvPr id="640" name="直接连接符 82983"/>
                <p:cNvSpPr/>
                <p:nvPr/>
              </p:nvSpPr>
              <p:spPr>
                <a:xfrm flipH="1">
                  <a:off x="1599840" y="1523880"/>
                  <a:ext cx="3747960" cy="1440"/>
                </a:xfrm>
                <a:prstGeom prst="line">
                  <a:avLst/>
                </a:prstGeom>
                <a:ln cap="rnd" w="19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 txBox="1"/>
                <p:nvPr/>
              </p:nvSpPr>
              <p:spPr>
                <a:xfrm>
                  <a:off x="1600200" y="1523880"/>
                  <a:ext cx="37479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1813320" y="1523880"/>
                <a:ext cx="1440" cy="684360"/>
                <a:chOff x="1813320" y="1523880"/>
                <a:chExt cx="1440" cy="684360"/>
              </a:xfrm>
            </p:grpSpPr>
            <p:sp>
              <p:nvSpPr>
                <p:cNvPr id="643" name="直接连接符 82984"/>
                <p:cNvSpPr/>
                <p:nvPr/>
              </p:nvSpPr>
              <p:spPr>
                <a:xfrm>
                  <a:off x="1813320" y="1523880"/>
                  <a:ext cx="1440" cy="684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 txBox="1"/>
                <p:nvPr/>
              </p:nvSpPr>
              <p:spPr>
                <a:xfrm>
                  <a:off x="1813320" y="1523880"/>
                  <a:ext cx="1440" cy="68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1813320" y="2208240"/>
                <a:ext cx="1440" cy="809280"/>
                <a:chOff x="1813320" y="2208240"/>
                <a:chExt cx="1440" cy="809280"/>
              </a:xfrm>
            </p:grpSpPr>
            <p:sp>
              <p:nvSpPr>
                <p:cNvPr id="646" name="直接连接符 82985"/>
                <p:cNvSpPr/>
                <p:nvPr/>
              </p:nvSpPr>
              <p:spPr>
                <a:xfrm>
                  <a:off x="1813320" y="2208240"/>
                  <a:ext cx="1440" cy="80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 txBox="1"/>
                <p:nvPr/>
              </p:nvSpPr>
              <p:spPr>
                <a:xfrm>
                  <a:off x="1813320" y="2208240"/>
                  <a:ext cx="1440" cy="80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1813320" y="3017520"/>
                <a:ext cx="1440" cy="809280"/>
                <a:chOff x="1813320" y="3017520"/>
                <a:chExt cx="1440" cy="809280"/>
              </a:xfrm>
            </p:grpSpPr>
            <p:sp>
              <p:nvSpPr>
                <p:cNvPr id="649" name="直接连接符 82986"/>
                <p:cNvSpPr/>
                <p:nvPr/>
              </p:nvSpPr>
              <p:spPr>
                <a:xfrm>
                  <a:off x="1813320" y="3017520"/>
                  <a:ext cx="1440" cy="80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 txBox="1"/>
                <p:nvPr/>
              </p:nvSpPr>
              <p:spPr>
                <a:xfrm>
                  <a:off x="1813320" y="3017520"/>
                  <a:ext cx="1440" cy="80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1813320" y="3827160"/>
                <a:ext cx="1440" cy="809280"/>
                <a:chOff x="1813320" y="3827160"/>
                <a:chExt cx="1440" cy="809280"/>
              </a:xfrm>
            </p:grpSpPr>
            <p:sp>
              <p:nvSpPr>
                <p:cNvPr id="652" name="直接连接符 82987"/>
                <p:cNvSpPr/>
                <p:nvPr/>
              </p:nvSpPr>
              <p:spPr>
                <a:xfrm>
                  <a:off x="1813320" y="3827160"/>
                  <a:ext cx="1440" cy="809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 txBox="1"/>
                <p:nvPr/>
              </p:nvSpPr>
              <p:spPr>
                <a:xfrm>
                  <a:off x="1813320" y="3827160"/>
                  <a:ext cx="1440" cy="80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1813320" y="4636440"/>
                <a:ext cx="1440" cy="747000"/>
                <a:chOff x="1813320" y="4636440"/>
                <a:chExt cx="1440" cy="747000"/>
              </a:xfrm>
            </p:grpSpPr>
            <p:sp>
              <p:nvSpPr>
                <p:cNvPr id="655" name="直接连接符 82988"/>
                <p:cNvSpPr/>
                <p:nvPr/>
              </p:nvSpPr>
              <p:spPr>
                <a:xfrm>
                  <a:off x="1813320" y="4636440"/>
                  <a:ext cx="1440" cy="747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 txBox="1"/>
                <p:nvPr/>
              </p:nvSpPr>
              <p:spPr>
                <a:xfrm>
                  <a:off x="1813320" y="4636440"/>
                  <a:ext cx="1440" cy="74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文本框 82989"/>
              <p:cNvSpPr/>
              <p:nvPr/>
            </p:nvSpPr>
            <p:spPr>
              <a:xfrm>
                <a:off x="1865520" y="171504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58" name="文本框 82990"/>
              <p:cNvSpPr/>
              <p:nvPr/>
            </p:nvSpPr>
            <p:spPr>
              <a:xfrm>
                <a:off x="1865520" y="250596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59" name="文本框 82991"/>
              <p:cNvSpPr/>
              <p:nvPr/>
            </p:nvSpPr>
            <p:spPr>
              <a:xfrm>
                <a:off x="1865520" y="32958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60" name="文本框 82992"/>
              <p:cNvSpPr/>
              <p:nvPr/>
            </p:nvSpPr>
            <p:spPr>
              <a:xfrm>
                <a:off x="1865520" y="408816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61" name="文本框 82993"/>
              <p:cNvSpPr/>
              <p:nvPr/>
            </p:nvSpPr>
            <p:spPr>
              <a:xfrm>
                <a:off x="1865520" y="48780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662" name="组合 82994"/>
            <p:cNvGrpSpPr/>
            <p:nvPr/>
          </p:nvGrpSpPr>
          <p:grpSpPr>
            <a:xfrm>
              <a:off x="3348000" y="1523880"/>
              <a:ext cx="4549320" cy="3877920"/>
              <a:chOff x="3348000" y="1523880"/>
              <a:chExt cx="4549320" cy="3877920"/>
            </a:xfrm>
          </p:grpSpPr>
          <p:sp>
            <p:nvSpPr>
              <p:cNvPr id="663" name="任意多边形 82995"/>
              <p:cNvSpPr/>
              <p:nvPr/>
            </p:nvSpPr>
            <p:spPr>
              <a:xfrm>
                <a:off x="7094880" y="4212000"/>
                <a:ext cx="802440" cy="118836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4747b2"/>
                  </a:gs>
                  <a:gs pos="100000">
                    <a:srgbClr val="66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64" name="任意多边形 82996"/>
              <p:cNvSpPr/>
              <p:nvPr/>
            </p:nvSpPr>
            <p:spPr>
              <a:xfrm>
                <a:off x="3711600" y="4212000"/>
                <a:ext cx="3738600" cy="50616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4141a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65" name="任意多边形 82997"/>
              <p:cNvSpPr/>
              <p:nvPr/>
            </p:nvSpPr>
            <p:spPr>
              <a:xfrm>
                <a:off x="3348000" y="4715640"/>
                <a:ext cx="4127040" cy="68616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9999ff"/>
                  </a:gs>
                  <a:gs pos="100000">
                    <a:srgbClr val="66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66" name="任意多边形 82998"/>
              <p:cNvSpPr/>
              <p:nvPr/>
            </p:nvSpPr>
            <p:spPr>
              <a:xfrm>
                <a:off x="6676200" y="3539160"/>
                <a:ext cx="709200" cy="107604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9570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67" name="任意多边形 82999"/>
              <p:cNvSpPr/>
              <p:nvPr/>
            </p:nvSpPr>
            <p:spPr>
              <a:xfrm>
                <a:off x="4136400" y="3539160"/>
                <a:ext cx="2808720" cy="37872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5a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68" name="任意多边形 83000"/>
              <p:cNvSpPr/>
              <p:nvPr/>
            </p:nvSpPr>
            <p:spPr>
              <a:xfrm>
                <a:off x="3781080" y="3916800"/>
                <a:ext cx="3260520" cy="69840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86e7cf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69" name="任意多边形 83001"/>
              <p:cNvSpPr/>
              <p:nvPr/>
            </p:nvSpPr>
            <p:spPr>
              <a:xfrm>
                <a:off x="6257160" y="2873160"/>
                <a:ext cx="620640" cy="93456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b27a09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70" name="任意多边形 83002"/>
              <p:cNvSpPr/>
              <p:nvPr/>
            </p:nvSpPr>
            <p:spPr>
              <a:xfrm>
                <a:off x="4559040" y="2873160"/>
                <a:ext cx="1875240" cy="25272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744f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71" name="任意多边形 83003"/>
              <p:cNvSpPr/>
              <p:nvPr/>
            </p:nvSpPr>
            <p:spPr>
              <a:xfrm>
                <a:off x="4197600" y="3124440"/>
                <a:ext cx="2426400" cy="68364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fad58c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72" name="任意多边形 83004"/>
              <p:cNvSpPr/>
              <p:nvPr/>
            </p:nvSpPr>
            <p:spPr>
              <a:xfrm>
                <a:off x="5833440" y="2198160"/>
                <a:ext cx="534600" cy="81396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9a38ca"/>
                  </a:gs>
                  <a:gs pos="100000">
                    <a:srgbClr val="c247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73" name="任意多边形 83005"/>
              <p:cNvSpPr/>
              <p:nvPr/>
            </p:nvSpPr>
            <p:spPr>
              <a:xfrm>
                <a:off x="4988520" y="2198160"/>
                <a:ext cx="935640" cy="12168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6324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74" name="任意多边形 83006"/>
              <p:cNvSpPr/>
              <p:nvPr/>
            </p:nvSpPr>
            <p:spPr>
              <a:xfrm>
                <a:off x="4620240" y="2318760"/>
                <a:ext cx="1580040" cy="69300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e0a3ff"/>
                  </a:gs>
                  <a:gs pos="100000">
                    <a:srgbClr val="c247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75" name="任意多边形 83007"/>
              <p:cNvSpPr/>
              <p:nvPr/>
            </p:nvSpPr>
            <p:spPr>
              <a:xfrm>
                <a:off x="5406120" y="1523880"/>
                <a:ext cx="451800" cy="68904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0051ca"/>
                  </a:gs>
                  <a:gs pos="100000">
                    <a:srgbClr val="00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76" name="任意多边形 83008"/>
              <p:cNvSpPr/>
              <p:nvPr/>
            </p:nvSpPr>
            <p:spPr>
              <a:xfrm>
                <a:off x="5040360" y="1523880"/>
                <a:ext cx="732600" cy="68904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9ec5ff"/>
                  </a:gs>
                  <a:gs pos="100000">
                    <a:srgbClr val="00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77" name="文本框 83009"/>
              <p:cNvSpPr/>
              <p:nvPr/>
            </p:nvSpPr>
            <p:spPr>
              <a:xfrm>
                <a:off x="5146560" y="1890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78" name="文本框 83010"/>
              <p:cNvSpPr/>
              <p:nvPr/>
            </p:nvSpPr>
            <p:spPr>
              <a:xfrm>
                <a:off x="5146560" y="26168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79" name="文本框 83011"/>
              <p:cNvSpPr/>
              <p:nvPr/>
            </p:nvSpPr>
            <p:spPr>
              <a:xfrm>
                <a:off x="5146560" y="34059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80" name="文本框 83012"/>
              <p:cNvSpPr/>
              <p:nvPr/>
            </p:nvSpPr>
            <p:spPr>
              <a:xfrm>
                <a:off x="5146560" y="41965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681" name="文本框 83013"/>
              <p:cNvSpPr/>
              <p:nvPr/>
            </p:nvSpPr>
            <p:spPr>
              <a:xfrm>
                <a:off x="5146560" y="49874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组合 65600"/>
          <p:cNvGrpSpPr/>
          <p:nvPr/>
        </p:nvGrpSpPr>
        <p:grpSpPr>
          <a:xfrm>
            <a:off x="1294920" y="2136600"/>
            <a:ext cx="2971800" cy="2251440"/>
            <a:chOff x="1294920" y="2136600"/>
            <a:chExt cx="2971800" cy="2251440"/>
          </a:xfrm>
        </p:grpSpPr>
        <p:grpSp>
          <p:nvGrpSpPr>
            <p:cNvPr id="136" name=""/>
            <p:cNvGrpSpPr/>
            <p:nvPr/>
          </p:nvGrpSpPr>
          <p:grpSpPr>
            <a:xfrm>
              <a:off x="1294920" y="2136600"/>
              <a:ext cx="2971800" cy="360"/>
              <a:chOff x="1294920" y="2136600"/>
              <a:chExt cx="2971800" cy="360"/>
            </a:xfrm>
          </p:grpSpPr>
          <p:sp>
            <p:nvSpPr>
              <p:cNvPr id="137" name="直接连接符 65546"/>
              <p:cNvSpPr/>
              <p:nvPr/>
            </p:nvSpPr>
            <p:spPr>
              <a:xfrm flipH="1">
                <a:off x="1294920" y="2136600"/>
                <a:ext cx="2971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1294920" y="2136600"/>
                <a:ext cx="297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294920" y="2892600"/>
              <a:ext cx="2971800" cy="360"/>
              <a:chOff x="1294920" y="2892600"/>
              <a:chExt cx="2971800" cy="360"/>
            </a:xfrm>
          </p:grpSpPr>
          <p:sp>
            <p:nvSpPr>
              <p:cNvPr id="140" name="直接连接符 65549"/>
              <p:cNvSpPr/>
              <p:nvPr/>
            </p:nvSpPr>
            <p:spPr>
              <a:xfrm flipH="1">
                <a:off x="1294920" y="2892600"/>
                <a:ext cx="2971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1294920" y="2892600"/>
                <a:ext cx="297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294920" y="3614760"/>
              <a:ext cx="2971800" cy="360"/>
              <a:chOff x="1294920" y="3614760"/>
              <a:chExt cx="2971800" cy="360"/>
            </a:xfrm>
          </p:grpSpPr>
          <p:sp>
            <p:nvSpPr>
              <p:cNvPr id="143" name="直接连接符 65560"/>
              <p:cNvSpPr/>
              <p:nvPr/>
            </p:nvSpPr>
            <p:spPr>
              <a:xfrm flipH="1">
                <a:off x="1294920" y="3614760"/>
                <a:ext cx="2971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1294920" y="3614760"/>
                <a:ext cx="297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294920" y="4387680"/>
              <a:ext cx="2971800" cy="360"/>
              <a:chOff x="1294920" y="4387680"/>
              <a:chExt cx="2971800" cy="360"/>
            </a:xfrm>
          </p:grpSpPr>
          <p:sp>
            <p:nvSpPr>
              <p:cNvPr id="146" name="直接连接符 65563"/>
              <p:cNvSpPr/>
              <p:nvPr/>
            </p:nvSpPr>
            <p:spPr>
              <a:xfrm flipH="1">
                <a:off x="1294920" y="4387680"/>
                <a:ext cx="2971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1294920" y="4387680"/>
                <a:ext cx="297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组合 65601"/>
          <p:cNvGrpSpPr/>
          <p:nvPr/>
        </p:nvGrpSpPr>
        <p:grpSpPr>
          <a:xfrm>
            <a:off x="1219320" y="1523880"/>
            <a:ext cx="6592680" cy="635040"/>
            <a:chOff x="1219320" y="1523880"/>
            <a:chExt cx="6592680" cy="635040"/>
          </a:xfrm>
        </p:grpSpPr>
        <p:sp>
          <p:nvSpPr>
            <p:cNvPr id="149" name="文本框 65547"/>
            <p:cNvSpPr/>
            <p:nvPr/>
          </p:nvSpPr>
          <p:spPr>
            <a:xfrm>
              <a:off x="1219320" y="1622520"/>
              <a:ext cx="283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150" name="组合 65538"/>
            <p:cNvGrpSpPr/>
            <p:nvPr/>
          </p:nvGrpSpPr>
          <p:grpSpPr>
            <a:xfrm>
              <a:off x="4114800" y="1523880"/>
              <a:ext cx="685440" cy="635040"/>
              <a:chOff x="4114800" y="1523880"/>
              <a:chExt cx="685440" cy="635040"/>
            </a:xfrm>
          </p:grpSpPr>
          <p:sp>
            <p:nvSpPr>
              <p:cNvPr id="151" name="六边形 65539"/>
              <p:cNvSpPr/>
              <p:nvPr/>
            </p:nvSpPr>
            <p:spPr>
              <a:xfrm>
                <a:off x="4120200" y="1534680"/>
                <a:ext cx="680040" cy="624240"/>
              </a:xfrm>
              <a:prstGeom prst="hexagon">
                <a:avLst>
                  <a:gd name="adj" fmla="val 272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52" name="六边形 65540"/>
              <p:cNvSpPr/>
              <p:nvPr/>
            </p:nvSpPr>
            <p:spPr>
              <a:xfrm>
                <a:off x="4114800" y="1523880"/>
                <a:ext cx="680040" cy="624240"/>
              </a:xfrm>
              <a:prstGeom prst="hexagon">
                <a:avLst>
                  <a:gd name="adj" fmla="val 2723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53" name="六边形 65541"/>
              <p:cNvSpPr/>
              <p:nvPr/>
            </p:nvSpPr>
            <p:spPr>
              <a:xfrm>
                <a:off x="4154400" y="1561320"/>
                <a:ext cx="597960" cy="549000"/>
              </a:xfrm>
              <a:prstGeom prst="hexagon">
                <a:avLst>
                  <a:gd name="adj" fmla="val 27230"/>
                  <a:gd name="vf" fmla="val 115470"/>
                </a:avLst>
              </a:prstGeom>
              <a:gradFill rotWithShape="0">
                <a:gsLst>
                  <a:gs pos="0">
                    <a:srgbClr val="195c54"/>
                  </a:gs>
                  <a:gs pos="50000">
                    <a:srgbClr val="35c7b6"/>
                  </a:gs>
                  <a:gs pos="100000">
                    <a:srgbClr val="195c54"/>
                  </a:gs>
                </a:gsLst>
                <a:lin ang="2700000"/>
              </a:gradFill>
              <a:ln w="9360">
                <a:solidFill>
                  <a:srgbClr val="b6d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154" name="文本框 65548"/>
            <p:cNvSpPr/>
            <p:nvPr/>
          </p:nvSpPr>
          <p:spPr>
            <a:xfrm>
              <a:off x="4248360" y="161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55" name="文本框 65572"/>
            <p:cNvSpPr/>
            <p:nvPr/>
          </p:nvSpPr>
          <p:spPr>
            <a:xfrm>
              <a:off x="4981680" y="1600200"/>
              <a:ext cx="283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4648320" y="2114640"/>
              <a:ext cx="3116160" cy="1440"/>
              <a:chOff x="4648320" y="2114640"/>
              <a:chExt cx="3116160" cy="1440"/>
            </a:xfrm>
          </p:grpSpPr>
          <p:sp>
            <p:nvSpPr>
              <p:cNvPr id="157" name="直接连接符 65590"/>
              <p:cNvSpPr/>
              <p:nvPr/>
            </p:nvSpPr>
            <p:spPr>
              <a:xfrm>
                <a:off x="4648320" y="2114640"/>
                <a:ext cx="311616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4648320" y="2114640"/>
                <a:ext cx="31161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组合 65602"/>
          <p:cNvGrpSpPr/>
          <p:nvPr/>
        </p:nvGrpSpPr>
        <p:grpSpPr>
          <a:xfrm>
            <a:off x="1219320" y="2270160"/>
            <a:ext cx="6592680" cy="635040"/>
            <a:chOff x="1219320" y="2270160"/>
            <a:chExt cx="6592680" cy="635040"/>
          </a:xfrm>
        </p:grpSpPr>
        <p:sp>
          <p:nvSpPr>
            <p:cNvPr id="160" name="文本框 65550"/>
            <p:cNvSpPr/>
            <p:nvPr/>
          </p:nvSpPr>
          <p:spPr>
            <a:xfrm>
              <a:off x="1219320" y="2359080"/>
              <a:ext cx="283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161" name="组合 65542"/>
            <p:cNvGrpSpPr/>
            <p:nvPr/>
          </p:nvGrpSpPr>
          <p:grpSpPr>
            <a:xfrm>
              <a:off x="4114800" y="2270160"/>
              <a:ext cx="685800" cy="635040"/>
              <a:chOff x="4114800" y="2270160"/>
              <a:chExt cx="685800" cy="635040"/>
            </a:xfrm>
          </p:grpSpPr>
          <p:sp>
            <p:nvSpPr>
              <p:cNvPr id="162" name="六边形 65543"/>
              <p:cNvSpPr/>
              <p:nvPr/>
            </p:nvSpPr>
            <p:spPr>
              <a:xfrm>
                <a:off x="4120560" y="2280960"/>
                <a:ext cx="680040" cy="624240"/>
              </a:xfrm>
              <a:prstGeom prst="hexagon">
                <a:avLst>
                  <a:gd name="adj" fmla="val 272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63" name="六边形 65544"/>
              <p:cNvSpPr/>
              <p:nvPr/>
            </p:nvSpPr>
            <p:spPr>
              <a:xfrm>
                <a:off x="4114800" y="2270160"/>
                <a:ext cx="680040" cy="624240"/>
              </a:xfrm>
              <a:prstGeom prst="hexagon">
                <a:avLst>
                  <a:gd name="adj" fmla="val 2723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64" name="六边形 65545"/>
              <p:cNvSpPr/>
              <p:nvPr/>
            </p:nvSpPr>
            <p:spPr>
              <a:xfrm>
                <a:off x="4154400" y="2307600"/>
                <a:ext cx="597600" cy="549000"/>
              </a:xfrm>
              <a:prstGeom prst="hexagon">
                <a:avLst>
                  <a:gd name="adj" fmla="val 27213"/>
                  <a:gd name="vf" fmla="val 115470"/>
                </a:avLst>
              </a:prstGeom>
              <a:gradFill rotWithShape="0">
                <a:gsLst>
                  <a:gs pos="0">
                    <a:srgbClr val="1e406f"/>
                  </a:gs>
                  <a:gs pos="100000">
                    <a:srgbClr val="408bf0"/>
                  </a:gs>
                </a:gsLst>
                <a:lin ang="2700000"/>
              </a:gradFill>
              <a:ln w="9360">
                <a:solidFill>
                  <a:srgbClr val="b6d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165" name="文本框 65551"/>
            <p:cNvSpPr/>
            <p:nvPr/>
          </p:nvSpPr>
          <p:spPr>
            <a:xfrm>
              <a:off x="4240080" y="2363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66" name="文本框 65578"/>
            <p:cNvSpPr/>
            <p:nvPr/>
          </p:nvSpPr>
          <p:spPr>
            <a:xfrm>
              <a:off x="4981680" y="2336760"/>
              <a:ext cx="283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648320" y="2870280"/>
              <a:ext cx="3116160" cy="1440"/>
              <a:chOff x="4648320" y="2870280"/>
              <a:chExt cx="3116160" cy="1440"/>
            </a:xfrm>
          </p:grpSpPr>
          <p:sp>
            <p:nvSpPr>
              <p:cNvPr id="168" name="直接连接符 65591"/>
              <p:cNvSpPr/>
              <p:nvPr/>
            </p:nvSpPr>
            <p:spPr>
              <a:xfrm>
                <a:off x="4648320" y="2870280"/>
                <a:ext cx="311616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4648320" y="2870280"/>
                <a:ext cx="31161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组合 65603"/>
          <p:cNvGrpSpPr/>
          <p:nvPr/>
        </p:nvGrpSpPr>
        <p:grpSpPr>
          <a:xfrm>
            <a:off x="1219320" y="3013200"/>
            <a:ext cx="6592680" cy="635040"/>
            <a:chOff x="1219320" y="3013200"/>
            <a:chExt cx="6592680" cy="635040"/>
          </a:xfrm>
        </p:grpSpPr>
        <p:sp>
          <p:nvSpPr>
            <p:cNvPr id="171" name="文本框 65561"/>
            <p:cNvSpPr/>
            <p:nvPr/>
          </p:nvSpPr>
          <p:spPr>
            <a:xfrm>
              <a:off x="1219320" y="3059280"/>
              <a:ext cx="283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172" name="组合 65552"/>
            <p:cNvGrpSpPr/>
            <p:nvPr/>
          </p:nvGrpSpPr>
          <p:grpSpPr>
            <a:xfrm>
              <a:off x="4114800" y="3013200"/>
              <a:ext cx="685440" cy="635040"/>
              <a:chOff x="4114800" y="3013200"/>
              <a:chExt cx="685440" cy="635040"/>
            </a:xfrm>
          </p:grpSpPr>
          <p:sp>
            <p:nvSpPr>
              <p:cNvPr id="173" name="六边形 65553"/>
              <p:cNvSpPr/>
              <p:nvPr/>
            </p:nvSpPr>
            <p:spPr>
              <a:xfrm>
                <a:off x="4120200" y="3024000"/>
                <a:ext cx="680040" cy="624240"/>
              </a:xfrm>
              <a:prstGeom prst="hexagon">
                <a:avLst>
                  <a:gd name="adj" fmla="val 272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74" name="六边形 65554"/>
              <p:cNvSpPr/>
              <p:nvPr/>
            </p:nvSpPr>
            <p:spPr>
              <a:xfrm>
                <a:off x="4114800" y="3013200"/>
                <a:ext cx="680040" cy="624240"/>
              </a:xfrm>
              <a:prstGeom prst="hexagon">
                <a:avLst>
                  <a:gd name="adj" fmla="val 2723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75" name="六边形 65555"/>
              <p:cNvSpPr/>
              <p:nvPr/>
            </p:nvSpPr>
            <p:spPr>
              <a:xfrm>
                <a:off x="4154400" y="3050640"/>
                <a:ext cx="597960" cy="549000"/>
              </a:xfrm>
              <a:prstGeom prst="hexagon">
                <a:avLst>
                  <a:gd name="adj" fmla="val 27230"/>
                  <a:gd name="vf" fmla="val 115470"/>
                </a:avLst>
              </a:prstGeom>
              <a:gradFill rotWithShape="0">
                <a:gsLst>
                  <a:gs pos="0">
                    <a:srgbClr val="195c54"/>
                  </a:gs>
                  <a:gs pos="50000">
                    <a:srgbClr val="35c7b6"/>
                  </a:gs>
                  <a:gs pos="100000">
                    <a:srgbClr val="195c54"/>
                  </a:gs>
                </a:gsLst>
                <a:lin ang="2700000"/>
              </a:gradFill>
              <a:ln w="9360">
                <a:solidFill>
                  <a:srgbClr val="b6d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176" name="文本框 65562"/>
            <p:cNvSpPr/>
            <p:nvPr/>
          </p:nvSpPr>
          <p:spPr>
            <a:xfrm>
              <a:off x="4248360" y="3081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77" name="文本框 65584"/>
            <p:cNvSpPr/>
            <p:nvPr/>
          </p:nvSpPr>
          <p:spPr>
            <a:xfrm>
              <a:off x="4981680" y="3036960"/>
              <a:ext cx="283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648320" y="3592440"/>
              <a:ext cx="3116160" cy="1800"/>
              <a:chOff x="4648320" y="3592440"/>
              <a:chExt cx="3116160" cy="1800"/>
            </a:xfrm>
          </p:grpSpPr>
          <p:sp>
            <p:nvSpPr>
              <p:cNvPr id="179" name="直接连接符 65592"/>
              <p:cNvSpPr/>
              <p:nvPr/>
            </p:nvSpPr>
            <p:spPr>
              <a:xfrm>
                <a:off x="4648320" y="3592440"/>
                <a:ext cx="3116160" cy="1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4648320" y="3592440"/>
                <a:ext cx="31161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组合 65604"/>
          <p:cNvGrpSpPr/>
          <p:nvPr/>
        </p:nvGrpSpPr>
        <p:grpSpPr>
          <a:xfrm>
            <a:off x="1219320" y="3774960"/>
            <a:ext cx="6592680" cy="635040"/>
            <a:chOff x="1219320" y="3774960"/>
            <a:chExt cx="6592680" cy="635040"/>
          </a:xfrm>
        </p:grpSpPr>
        <p:sp>
          <p:nvSpPr>
            <p:cNvPr id="182" name="文本框 65564"/>
            <p:cNvSpPr/>
            <p:nvPr/>
          </p:nvSpPr>
          <p:spPr>
            <a:xfrm>
              <a:off x="1219320" y="3854520"/>
              <a:ext cx="283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183" name="组合 65556"/>
            <p:cNvGrpSpPr/>
            <p:nvPr/>
          </p:nvGrpSpPr>
          <p:grpSpPr>
            <a:xfrm>
              <a:off x="4114800" y="3774960"/>
              <a:ext cx="685800" cy="635040"/>
              <a:chOff x="4114800" y="3774960"/>
              <a:chExt cx="685800" cy="635040"/>
            </a:xfrm>
          </p:grpSpPr>
          <p:sp>
            <p:nvSpPr>
              <p:cNvPr id="184" name="六边形 65557"/>
              <p:cNvSpPr/>
              <p:nvPr/>
            </p:nvSpPr>
            <p:spPr>
              <a:xfrm>
                <a:off x="4120560" y="3785760"/>
                <a:ext cx="680040" cy="624240"/>
              </a:xfrm>
              <a:prstGeom prst="hexagon">
                <a:avLst>
                  <a:gd name="adj" fmla="val 272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85" name="六边形 65558"/>
              <p:cNvSpPr/>
              <p:nvPr/>
            </p:nvSpPr>
            <p:spPr>
              <a:xfrm>
                <a:off x="4114800" y="3774960"/>
                <a:ext cx="680040" cy="624240"/>
              </a:xfrm>
              <a:prstGeom prst="hexagon">
                <a:avLst>
                  <a:gd name="adj" fmla="val 2723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86" name="六边形 65559"/>
              <p:cNvSpPr/>
              <p:nvPr/>
            </p:nvSpPr>
            <p:spPr>
              <a:xfrm>
                <a:off x="4154400" y="3812400"/>
                <a:ext cx="597600" cy="549000"/>
              </a:xfrm>
              <a:prstGeom prst="hexagon">
                <a:avLst>
                  <a:gd name="adj" fmla="val 27213"/>
                  <a:gd name="vf" fmla="val 115470"/>
                </a:avLst>
              </a:prstGeom>
              <a:gradFill rotWithShape="0">
                <a:gsLst>
                  <a:gs pos="0">
                    <a:srgbClr val="1e406f"/>
                  </a:gs>
                  <a:gs pos="100000">
                    <a:srgbClr val="408bf0"/>
                  </a:gs>
                </a:gsLst>
                <a:lin ang="2700000"/>
              </a:gradFill>
              <a:ln w="9360">
                <a:solidFill>
                  <a:srgbClr val="b6d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187" name="文本框 65565"/>
            <p:cNvSpPr/>
            <p:nvPr/>
          </p:nvSpPr>
          <p:spPr>
            <a:xfrm>
              <a:off x="4240080" y="3868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648320" y="4365720"/>
              <a:ext cx="3116160" cy="1440"/>
              <a:chOff x="4648320" y="4365720"/>
              <a:chExt cx="3116160" cy="1440"/>
            </a:xfrm>
          </p:grpSpPr>
          <p:sp>
            <p:nvSpPr>
              <p:cNvPr id="189" name="直接连接符 65593"/>
              <p:cNvSpPr/>
              <p:nvPr/>
            </p:nvSpPr>
            <p:spPr>
              <a:xfrm>
                <a:off x="4648320" y="4365720"/>
                <a:ext cx="311616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4648320" y="4365720"/>
                <a:ext cx="31161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191" name="文本框 65594"/>
            <p:cNvSpPr/>
            <p:nvPr/>
          </p:nvSpPr>
          <p:spPr>
            <a:xfrm>
              <a:off x="4981680" y="3832200"/>
              <a:ext cx="283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6d1f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6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8DE9-29AF-4162-8AF6-C72F9546C572}" type="slidenum">
              <a:rPr b="0" lang="zh-CN" sz="1400" spc="-1" strike="noStrike">
                <a:solidFill>
                  <a:srgbClr val="b6d1f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矩形 83970"/>
          <p:cNvSpPr txBox="1"/>
          <p:nvPr/>
        </p:nvSpPr>
        <p:spPr>
          <a:xfrm>
            <a:off x="457200" y="152388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408bf0"/>
                    </a:gs>
                    <a:gs pos="100000">
                      <a:srgbClr val="35c7b6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408bf0"/>
                  </a:gs>
                  <a:gs pos="100000">
                    <a:srgbClr val="35c7b6"/>
                  </a:gs>
                </a:gsLst>
                <a:lin ang="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62120" y="1371240"/>
            <a:ext cx="769608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408b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408b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408b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408b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组合 67604"/>
          <p:cNvGrpSpPr/>
          <p:nvPr/>
        </p:nvGrpSpPr>
        <p:grpSpPr>
          <a:xfrm>
            <a:off x="5410080" y="2819520"/>
            <a:ext cx="2286000" cy="2666880"/>
            <a:chOff x="5410080" y="2819520"/>
            <a:chExt cx="2286000" cy="2666880"/>
          </a:xfrm>
        </p:grpSpPr>
        <p:sp>
          <p:nvSpPr>
            <p:cNvPr id="196" name="圆角矩形 67586"/>
            <p:cNvSpPr/>
            <p:nvPr/>
          </p:nvSpPr>
          <p:spPr>
            <a:xfrm>
              <a:off x="5410080" y="28195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97" name="文本框 67587"/>
            <p:cNvSpPr/>
            <p:nvPr/>
          </p:nvSpPr>
          <p:spPr>
            <a:xfrm>
              <a:off x="5562720" y="3014640"/>
              <a:ext cx="20574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grpSp>
        <p:nvGrpSpPr>
          <p:cNvPr id="198" name="组合 67603"/>
          <p:cNvGrpSpPr/>
          <p:nvPr/>
        </p:nvGrpSpPr>
        <p:grpSpPr>
          <a:xfrm>
            <a:off x="1295280" y="2819520"/>
            <a:ext cx="2286000" cy="2666880"/>
            <a:chOff x="1295280" y="2819520"/>
            <a:chExt cx="2286000" cy="2666880"/>
          </a:xfrm>
        </p:grpSpPr>
        <p:sp>
          <p:nvSpPr>
            <p:cNvPr id="199" name="圆角矩形 67588"/>
            <p:cNvSpPr/>
            <p:nvPr/>
          </p:nvSpPr>
          <p:spPr>
            <a:xfrm>
              <a:off x="1295280" y="28195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00" name="文本框 67589"/>
            <p:cNvSpPr/>
            <p:nvPr/>
          </p:nvSpPr>
          <p:spPr>
            <a:xfrm>
              <a:off x="1390680" y="30193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sp>
        <p:nvSpPr>
          <p:cNvPr id="201" name="矩形 67590"/>
          <p:cNvSpPr/>
          <p:nvPr/>
        </p:nvSpPr>
        <p:spPr>
          <a:xfrm>
            <a:off x="322272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202" name="任意多边形 67591"/>
          <p:cNvSpPr/>
          <p:nvPr/>
        </p:nvSpPr>
        <p:spPr>
          <a:xfrm>
            <a:off x="3222720" y="27226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46fa8"/>
              </a:gs>
              <a:gs pos="100000">
                <a:srgbClr val="b9d1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203" name="矩形 67592"/>
          <p:cNvSpPr/>
          <p:nvPr/>
        </p:nvSpPr>
        <p:spPr>
          <a:xfrm flipH="1">
            <a:off x="4869000" y="27194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204" name="任意多边形 67593"/>
          <p:cNvSpPr/>
          <p:nvPr/>
        </p:nvSpPr>
        <p:spPr>
          <a:xfrm flipH="1">
            <a:off x="4874400" y="27226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08bf0"/>
              </a:gs>
              <a:gs pos="100000">
                <a:srgbClr val="c2da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grpSp>
        <p:nvGrpSpPr>
          <p:cNvPr id="205" name="组合 67605"/>
          <p:cNvGrpSpPr/>
          <p:nvPr/>
        </p:nvGrpSpPr>
        <p:grpSpPr>
          <a:xfrm>
            <a:off x="3048120" y="1324080"/>
            <a:ext cx="2998440" cy="1600920"/>
            <a:chOff x="3048120" y="1324080"/>
            <a:chExt cx="2998440" cy="1600920"/>
          </a:xfrm>
        </p:grpSpPr>
        <p:grpSp>
          <p:nvGrpSpPr>
            <p:cNvPr id="206" name="组合 67594"/>
            <p:cNvGrpSpPr/>
            <p:nvPr/>
          </p:nvGrpSpPr>
          <p:grpSpPr>
            <a:xfrm>
              <a:off x="3048120" y="1324080"/>
              <a:ext cx="2998440" cy="1600920"/>
              <a:chOff x="3048120" y="1324080"/>
              <a:chExt cx="2998440" cy="1600920"/>
            </a:xfrm>
          </p:grpSpPr>
          <p:grpSp>
            <p:nvGrpSpPr>
              <p:cNvPr id="207" name="组合 67595"/>
              <p:cNvGrpSpPr/>
              <p:nvPr/>
            </p:nvGrpSpPr>
            <p:grpSpPr>
              <a:xfrm>
                <a:off x="3048120" y="1466640"/>
                <a:ext cx="2998440" cy="1458360"/>
                <a:chOff x="3048120" y="1466640"/>
                <a:chExt cx="2998440" cy="1458360"/>
              </a:xfrm>
            </p:grpSpPr>
            <p:sp>
              <p:nvSpPr>
                <p:cNvPr id="208" name="椭圆 67596"/>
                <p:cNvSpPr/>
                <p:nvPr/>
              </p:nvSpPr>
              <p:spPr>
                <a:xfrm>
                  <a:off x="3080880" y="15130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7c4a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67597"/>
                <p:cNvSpPr/>
                <p:nvPr/>
              </p:nvSpPr>
              <p:spPr>
                <a:xfrm>
                  <a:off x="3048120" y="146664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2bb"/>
                    </a:gs>
                    <a:gs pos="100000">
                      <a:srgbClr val="ff99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椭圆 67598"/>
              <p:cNvSpPr/>
              <p:nvPr/>
            </p:nvSpPr>
            <p:spPr>
              <a:xfrm>
                <a:off x="3189600" y="13240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e406f"/>
                  </a:gs>
                  <a:gs pos="100000">
                    <a:srgbClr val="408bf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11" name="椭圆 67599"/>
              <p:cNvSpPr/>
              <p:nvPr/>
            </p:nvSpPr>
            <p:spPr>
              <a:xfrm>
                <a:off x="3224520" y="133164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408bf0">
                      <a:alpha val="0"/>
                    </a:srgbClr>
                  </a:gs>
                  <a:gs pos="100000">
                    <a:srgbClr val="bcd7f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12" name="椭圆 67600"/>
              <p:cNvSpPr/>
              <p:nvPr/>
            </p:nvSpPr>
            <p:spPr>
              <a:xfrm>
                <a:off x="3251520" y="134460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336ebe"/>
                  </a:gs>
                  <a:gs pos="100000">
                    <a:srgbClr val="408bf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13" name="椭圆 67601"/>
              <p:cNvSpPr/>
              <p:nvPr/>
            </p:nvSpPr>
            <p:spPr>
              <a:xfrm>
                <a:off x="3383280" y="137160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08bf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214" name="文本框 67602"/>
            <p:cNvSpPr/>
            <p:nvPr/>
          </p:nvSpPr>
          <p:spPr>
            <a:xfrm>
              <a:off x="3882960" y="15238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组合 68634"/>
          <p:cNvGrpSpPr/>
          <p:nvPr/>
        </p:nvGrpSpPr>
        <p:grpSpPr>
          <a:xfrm>
            <a:off x="914040" y="1229400"/>
            <a:ext cx="7221600" cy="4800960"/>
            <a:chOff x="914040" y="1229400"/>
            <a:chExt cx="7221600" cy="4800960"/>
          </a:xfrm>
        </p:grpSpPr>
        <p:sp>
          <p:nvSpPr>
            <p:cNvPr id="217" name="任意多边形 68610"/>
            <p:cNvSpPr/>
            <p:nvPr/>
          </p:nvSpPr>
          <p:spPr>
            <a:xfrm rot="20241600">
              <a:off x="1493640" y="2363400"/>
              <a:ext cx="6400800" cy="2532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df4fe"/>
                </a:gs>
                <a:gs pos="100000">
                  <a:srgbClr val="408bf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18" name="椭圆 68611"/>
            <p:cNvSpPr/>
            <p:nvPr/>
          </p:nvSpPr>
          <p:spPr>
            <a:xfrm>
              <a:off x="4046400" y="1585800"/>
              <a:ext cx="1198800" cy="1150920"/>
            </a:xfrm>
            <a:prstGeom prst="ellips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583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19" name="椭圆 68612"/>
            <p:cNvSpPr/>
            <p:nvPr/>
          </p:nvSpPr>
          <p:spPr>
            <a:xfrm>
              <a:off x="1697040" y="2962440"/>
              <a:ext cx="1200240" cy="1150920"/>
            </a:xfrm>
            <a:prstGeom prst="ellipse">
              <a:avLst/>
            </a:prstGeom>
            <a:gradFill rotWithShape="0">
              <a:gsLst>
                <a:gs pos="0">
                  <a:srgbClr val="408bf0"/>
                </a:gs>
                <a:gs pos="100000">
                  <a:srgbClr val="142c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0" name="椭圆 68613"/>
            <p:cNvSpPr/>
            <p:nvPr/>
          </p:nvSpPr>
          <p:spPr>
            <a:xfrm>
              <a:off x="2521080" y="4564080"/>
              <a:ext cx="1198440" cy="1150920"/>
            </a:xfrm>
            <a:prstGeom prst="ellipse">
              <a:avLst/>
            </a:prstGeom>
            <a:gradFill rotWithShape="0">
              <a:gsLst>
                <a:gs pos="0">
                  <a:srgbClr val="35c7b6"/>
                </a:gs>
                <a:gs pos="100000">
                  <a:srgbClr val="1347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1" name="椭圆 68614"/>
            <p:cNvSpPr/>
            <p:nvPr/>
          </p:nvSpPr>
          <p:spPr>
            <a:xfrm>
              <a:off x="5113440" y="3925800"/>
              <a:ext cx="1199880" cy="115092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a32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2" name="椭圆 68615"/>
            <p:cNvSpPr/>
            <p:nvPr/>
          </p:nvSpPr>
          <p:spPr>
            <a:xfrm>
              <a:off x="6821640" y="1792440"/>
              <a:ext cx="1131840" cy="1150920"/>
            </a:xfrm>
            <a:prstGeom prst="ellipse">
              <a:avLst/>
            </a:prstGeom>
            <a:gradFill rotWithShape="0">
              <a:gsLst>
                <a:gs pos="0">
                  <a:srgbClr val="7f6fd1"/>
                </a:gs>
                <a:gs pos="100000">
                  <a:srgbClr val="2c26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3" name="文本框 68616"/>
            <p:cNvSpPr/>
            <p:nvPr/>
          </p:nvSpPr>
          <p:spPr>
            <a:xfrm>
              <a:off x="2003400" y="3352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4" name="文本框 68617"/>
            <p:cNvSpPr/>
            <p:nvPr/>
          </p:nvSpPr>
          <p:spPr>
            <a:xfrm>
              <a:off x="4354560" y="19987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5" name="文本框 68618"/>
            <p:cNvSpPr/>
            <p:nvPr/>
          </p:nvSpPr>
          <p:spPr>
            <a:xfrm>
              <a:off x="7094520" y="22496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6" name="文本框 68619"/>
            <p:cNvSpPr/>
            <p:nvPr/>
          </p:nvSpPr>
          <p:spPr>
            <a:xfrm>
              <a:off x="5421240" y="43387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7" name="文本框 68620"/>
            <p:cNvSpPr/>
            <p:nvPr/>
          </p:nvSpPr>
          <p:spPr>
            <a:xfrm>
              <a:off x="2787840" y="4970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8" name="文本框 68621"/>
            <p:cNvSpPr/>
            <p:nvPr/>
          </p:nvSpPr>
          <p:spPr>
            <a:xfrm>
              <a:off x="3689280" y="3379680"/>
              <a:ext cx="2421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797200" y="1844640"/>
              <a:ext cx="1676520" cy="1461960"/>
              <a:chOff x="2797200" y="1844640"/>
              <a:chExt cx="1676520" cy="1461960"/>
            </a:xfrm>
          </p:grpSpPr>
          <p:sp>
            <p:nvSpPr>
              <p:cNvPr id="230" name="直接连接符 68622"/>
              <p:cNvSpPr/>
              <p:nvPr/>
            </p:nvSpPr>
            <p:spPr>
              <a:xfrm>
                <a:off x="2797200" y="1844640"/>
                <a:ext cx="1676520" cy="1461960"/>
              </a:xfrm>
              <a:prstGeom prst="line">
                <a:avLst/>
              </a:prstGeom>
              <a:ln w="9360">
                <a:solidFill>
                  <a:srgbClr val="b6d1f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2797200" y="1844640"/>
                <a:ext cx="1676520" cy="146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cxnSp>
          <p:nvCxnSpPr>
            <p:cNvPr id="232" name="直接箭头连接符 68623"/>
            <p:cNvCxnSpPr/>
            <p:nvPr/>
          </p:nvCxnSpPr>
          <p:spPr>
            <a:xfrm flipH="1">
              <a:off x="914040" y="1844280"/>
              <a:ext cx="1883520" cy="1080"/>
            </a:xfrm>
            <a:prstGeom prst="straightConnector1">
              <a:avLst/>
            </a:prstGeom>
            <a:ln w="9360">
              <a:solidFill>
                <a:srgbClr val="b6d1f6"/>
              </a:solidFill>
              <a:round/>
            </a:ln>
          </p:spPr>
        </p:cxnSp>
        <p:sp>
          <p:nvSpPr>
            <p:cNvPr id="233" name="文本框 68624"/>
            <p:cNvSpPr/>
            <p:nvPr/>
          </p:nvSpPr>
          <p:spPr>
            <a:xfrm>
              <a:off x="989640" y="14479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组合 69652"/>
          <p:cNvGrpSpPr/>
          <p:nvPr/>
        </p:nvGrpSpPr>
        <p:grpSpPr>
          <a:xfrm>
            <a:off x="1219320" y="1447920"/>
            <a:ext cx="6629400" cy="4056840"/>
            <a:chOff x="1219320" y="1447920"/>
            <a:chExt cx="6629400" cy="4056840"/>
          </a:xfrm>
        </p:grpSpPr>
        <p:sp>
          <p:nvSpPr>
            <p:cNvPr id="236" name="圆柱形 69634"/>
            <p:cNvSpPr/>
            <p:nvPr/>
          </p:nvSpPr>
          <p:spPr>
            <a:xfrm>
              <a:off x="3741120" y="371484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361"/>
                </a:gs>
                <a:gs pos="50000">
                  <a:srgbClr val="7f6fd1"/>
                </a:gs>
                <a:gs pos="100000">
                  <a:srgbClr val="3b33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37" name="圆柱形 69635"/>
            <p:cNvSpPr/>
            <p:nvPr/>
          </p:nvSpPr>
          <p:spPr>
            <a:xfrm>
              <a:off x="3741120" y="3218760"/>
              <a:ext cx="1585080" cy="567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361"/>
                </a:gs>
                <a:gs pos="50000">
                  <a:srgbClr val="7f6fd1"/>
                </a:gs>
                <a:gs pos="100000">
                  <a:srgbClr val="3b33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38" name="圆柱形 69636"/>
            <p:cNvSpPr/>
            <p:nvPr/>
          </p:nvSpPr>
          <p:spPr>
            <a:xfrm>
              <a:off x="3741120" y="272304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361"/>
                </a:gs>
                <a:gs pos="50000">
                  <a:srgbClr val="7f6fd1"/>
                </a:gs>
                <a:gs pos="100000">
                  <a:srgbClr val="3b33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39" name="文本框 69637"/>
            <p:cNvSpPr/>
            <p:nvPr/>
          </p:nvSpPr>
          <p:spPr>
            <a:xfrm>
              <a:off x="4236480" y="2936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40" name="文本框 69638"/>
            <p:cNvSpPr/>
            <p:nvPr/>
          </p:nvSpPr>
          <p:spPr>
            <a:xfrm>
              <a:off x="4236480" y="343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41" name="文本框 69639"/>
            <p:cNvSpPr/>
            <p:nvPr/>
          </p:nvSpPr>
          <p:spPr>
            <a:xfrm>
              <a:off x="4236480" y="392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42" name="左箭头 69640"/>
            <p:cNvSpPr/>
            <p:nvPr/>
          </p:nvSpPr>
          <p:spPr>
            <a:xfrm>
              <a:off x="3092760" y="2510640"/>
              <a:ext cx="504360" cy="1912680"/>
            </a:xfrm>
            <a:prstGeom prst="leftArrow">
              <a:avLst>
                <a:gd name="adj1" fmla="val 65583"/>
                <a:gd name="adj2" fmla="val 65171"/>
              </a:avLst>
            </a:prstGeom>
            <a:solidFill>
              <a:srgbClr val="b6d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43" name="圆角矩形 69641"/>
            <p:cNvSpPr/>
            <p:nvPr/>
          </p:nvSpPr>
          <p:spPr>
            <a:xfrm>
              <a:off x="1219320" y="2014560"/>
              <a:ext cx="1729440" cy="290448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480"/>
                <a:gd name="textAreaBottom" fmla="*/ 2820240 h 2904480"/>
              </a:gdLst>
              <a:ahLst/>
              <a:rect l="textAreaLeft" t="textAreaTop" r="textAreaRight" b="textAreaBottom"/>
              <a:pathLst>
                <a:path w="21600" h="36273">
                  <a:moveTo>
                    <a:pt x="3600" y="0"/>
                  </a:moveTo>
                  <a:arcTo wR="3600" hR="3600" stAng="16200000" swAng="-5400000"/>
                  <a:lnTo>
                    <a:pt x="0" y="32673"/>
                  </a:lnTo>
                  <a:arcTo wR="3600" hR="3600" stAng="10800000" swAng="-5400000"/>
                  <a:lnTo>
                    <a:pt x="18000" y="362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408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44" name="文本框 69642"/>
            <p:cNvSpPr/>
            <p:nvPr/>
          </p:nvSpPr>
          <p:spPr>
            <a:xfrm>
              <a:off x="1290960" y="222696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45" name="圆角矩形 69643"/>
            <p:cNvSpPr/>
            <p:nvPr/>
          </p:nvSpPr>
          <p:spPr>
            <a:xfrm>
              <a:off x="6119280" y="2014560"/>
              <a:ext cx="1729440" cy="290448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480"/>
                <a:gd name="textAreaBottom" fmla="*/ 2820240 h 2904480"/>
              </a:gdLst>
              <a:ahLst/>
              <a:rect l="textAreaLeft" t="textAreaTop" r="textAreaRight" b="textAreaBottom"/>
              <a:pathLst>
                <a:path w="21600" h="36273">
                  <a:moveTo>
                    <a:pt x="3600" y="0"/>
                  </a:moveTo>
                  <a:arcTo wR="3600" hR="3600" stAng="16200000" swAng="-5400000"/>
                  <a:lnTo>
                    <a:pt x="0" y="32673"/>
                  </a:lnTo>
                  <a:arcTo wR="3600" hR="3600" stAng="10800000" swAng="-5400000"/>
                  <a:lnTo>
                    <a:pt x="18000" y="362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408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46" name="文本框 69644"/>
            <p:cNvSpPr/>
            <p:nvPr/>
          </p:nvSpPr>
          <p:spPr>
            <a:xfrm>
              <a:off x="6191280" y="222696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47" name="右箭头 69645"/>
            <p:cNvSpPr/>
            <p:nvPr/>
          </p:nvSpPr>
          <p:spPr>
            <a:xfrm>
              <a:off x="5473800" y="2510640"/>
              <a:ext cx="501120" cy="1912680"/>
            </a:xfrm>
            <a:prstGeom prst="rightArrow">
              <a:avLst>
                <a:gd name="adj1" fmla="val 67750"/>
                <a:gd name="adj2" fmla="val 66157"/>
              </a:avLst>
            </a:prstGeom>
            <a:solidFill>
              <a:srgbClr val="b6d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48" name="圆柱形 69646"/>
            <p:cNvSpPr/>
            <p:nvPr/>
          </p:nvSpPr>
          <p:spPr>
            <a:xfrm>
              <a:off x="3020400" y="1447920"/>
              <a:ext cx="2882160" cy="5666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e406f"/>
                </a:gs>
                <a:gs pos="50000">
                  <a:srgbClr val="408bf0"/>
                </a:gs>
                <a:gs pos="100000">
                  <a:srgbClr val="1e406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49" name="上箭头 69647"/>
            <p:cNvSpPr/>
            <p:nvPr/>
          </p:nvSpPr>
          <p:spPr>
            <a:xfrm>
              <a:off x="3709440" y="2156040"/>
              <a:ext cx="1657440" cy="495720"/>
            </a:xfrm>
            <a:prstGeom prst="upArrow">
              <a:avLst>
                <a:gd name="adj1" fmla="val 68380"/>
                <a:gd name="adj2" fmla="val 70824"/>
              </a:avLst>
            </a:prstGeom>
            <a:solidFill>
              <a:srgbClr val="b6d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0" name="文本框 69648"/>
            <p:cNvSpPr/>
            <p:nvPr/>
          </p:nvSpPr>
          <p:spPr>
            <a:xfrm>
              <a:off x="4214160" y="1664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1" name="圆柱形 69649"/>
            <p:cNvSpPr/>
            <p:nvPr/>
          </p:nvSpPr>
          <p:spPr>
            <a:xfrm>
              <a:off x="3092760" y="4919040"/>
              <a:ext cx="2882160" cy="567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2" name="文本框 69650"/>
            <p:cNvSpPr/>
            <p:nvPr/>
          </p:nvSpPr>
          <p:spPr>
            <a:xfrm>
              <a:off x="4214160" y="513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3" name="下箭头 69651"/>
            <p:cNvSpPr/>
            <p:nvPr/>
          </p:nvSpPr>
          <p:spPr>
            <a:xfrm>
              <a:off x="3688560" y="4352400"/>
              <a:ext cx="1660320" cy="488520"/>
            </a:xfrm>
            <a:prstGeom prst="downArrow">
              <a:avLst>
                <a:gd name="adj1" fmla="val 67093"/>
                <a:gd name="adj2" fmla="val 64042"/>
              </a:avLst>
            </a:prstGeom>
            <a:solidFill>
              <a:srgbClr val="b6d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sp>
        <p:nvSpPr>
          <p:cNvPr id="254" name="文本框 8199"/>
          <p:cNvSpPr/>
          <p:nvPr/>
        </p:nvSpPr>
        <p:spPr>
          <a:xfrm>
            <a:off x="2438280" y="1066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6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996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b6d1f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组合 70683"/>
          <p:cNvGrpSpPr/>
          <p:nvPr/>
        </p:nvGrpSpPr>
        <p:grpSpPr>
          <a:xfrm>
            <a:off x="838080" y="1600200"/>
            <a:ext cx="7391520" cy="3581280"/>
            <a:chOff x="838080" y="1600200"/>
            <a:chExt cx="7391520" cy="3581280"/>
          </a:xfrm>
        </p:grpSpPr>
        <p:sp>
          <p:nvSpPr>
            <p:cNvPr id="257" name="圆柱形 70668"/>
            <p:cNvSpPr/>
            <p:nvPr/>
          </p:nvSpPr>
          <p:spPr>
            <a:xfrm>
              <a:off x="838080" y="32004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5c54"/>
                </a:gs>
                <a:gs pos="50000">
                  <a:srgbClr val="35c7b6"/>
                </a:gs>
                <a:gs pos="100000">
                  <a:srgbClr val="195c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8" name="圆柱形 70669"/>
            <p:cNvSpPr/>
            <p:nvPr/>
          </p:nvSpPr>
          <p:spPr>
            <a:xfrm>
              <a:off x="838080" y="26668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5c54"/>
                </a:gs>
                <a:gs pos="50000">
                  <a:srgbClr val="35c7b6"/>
                </a:gs>
                <a:gs pos="100000">
                  <a:srgbClr val="195c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9" name="圆柱形 70670"/>
            <p:cNvSpPr/>
            <p:nvPr/>
          </p:nvSpPr>
          <p:spPr>
            <a:xfrm>
              <a:off x="838080" y="21337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5c54"/>
                </a:gs>
                <a:gs pos="50000">
                  <a:srgbClr val="35c7b6"/>
                </a:gs>
                <a:gs pos="100000">
                  <a:srgbClr val="195c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60" name="圆柱形 70671"/>
            <p:cNvSpPr/>
            <p:nvPr/>
          </p:nvSpPr>
          <p:spPr>
            <a:xfrm>
              <a:off x="6324480" y="32004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06f"/>
                </a:gs>
                <a:gs pos="50000">
                  <a:srgbClr val="408bf0"/>
                </a:gs>
                <a:gs pos="100000">
                  <a:srgbClr val="1e406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61" name="圆柱形 70672"/>
            <p:cNvSpPr/>
            <p:nvPr/>
          </p:nvSpPr>
          <p:spPr>
            <a:xfrm>
              <a:off x="6324480" y="26668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06f"/>
                </a:gs>
                <a:gs pos="50000">
                  <a:srgbClr val="408bf0"/>
                </a:gs>
                <a:gs pos="100000">
                  <a:srgbClr val="1e406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62" name="圆柱形 70673"/>
            <p:cNvSpPr/>
            <p:nvPr/>
          </p:nvSpPr>
          <p:spPr>
            <a:xfrm>
              <a:off x="6324480" y="21337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06f"/>
                </a:gs>
                <a:gs pos="50000">
                  <a:srgbClr val="408bf0"/>
                </a:gs>
                <a:gs pos="100000">
                  <a:srgbClr val="1e406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263" name="组合 70682"/>
            <p:cNvGrpSpPr/>
            <p:nvPr/>
          </p:nvGrpSpPr>
          <p:grpSpPr>
            <a:xfrm>
              <a:off x="2895480" y="1600200"/>
              <a:ext cx="3196800" cy="2841480"/>
              <a:chOff x="2895480" y="1600200"/>
              <a:chExt cx="3196800" cy="2841480"/>
            </a:xfrm>
          </p:grpSpPr>
          <p:sp>
            <p:nvSpPr>
              <p:cNvPr id="264" name="上箭头 70659"/>
              <p:cNvSpPr/>
              <p:nvPr/>
            </p:nvSpPr>
            <p:spPr>
              <a:xfrm flipH="1" rot="16200000">
                <a:off x="2813400" y="271368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08bf0"/>
                  </a:gs>
                  <a:gs pos="100000">
                    <a:srgbClr val="b4d2f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65" name="上箭头 70660"/>
              <p:cNvSpPr/>
              <p:nvPr/>
            </p:nvSpPr>
            <p:spPr>
              <a:xfrm flipH="1" rot="5400000">
                <a:off x="5682960" y="2659320"/>
                <a:ext cx="49068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08bf0"/>
                  </a:gs>
                  <a:gs pos="100000">
                    <a:srgbClr val="b4d2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66" name="上箭头 70661"/>
              <p:cNvSpPr/>
              <p:nvPr/>
            </p:nvSpPr>
            <p:spPr>
              <a:xfrm flipH="1" rot="10800000">
                <a:off x="4252680" y="4114800"/>
                <a:ext cx="4888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08bf0"/>
                  </a:gs>
                  <a:gs pos="100000">
                    <a:srgbClr val="b4d2f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67" name="椭圆 70662"/>
              <p:cNvSpPr/>
              <p:nvPr/>
            </p:nvSpPr>
            <p:spPr>
              <a:xfrm>
                <a:off x="3225600" y="1600200"/>
                <a:ext cx="256356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68" name="椭圆 70663"/>
              <p:cNvSpPr/>
              <p:nvPr/>
            </p:nvSpPr>
            <p:spPr>
              <a:xfrm>
                <a:off x="3371400" y="1744560"/>
                <a:ext cx="2270160" cy="227016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69" name="椭圆 70664"/>
              <p:cNvSpPr/>
              <p:nvPr/>
            </p:nvSpPr>
            <p:spPr>
              <a:xfrm>
                <a:off x="3504960" y="187956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6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70" name="椭圆 70665"/>
              <p:cNvSpPr/>
              <p:nvPr/>
            </p:nvSpPr>
            <p:spPr>
              <a:xfrm>
                <a:off x="3504960" y="187956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71" name="椭圆 70666"/>
              <p:cNvSpPr/>
              <p:nvPr/>
            </p:nvSpPr>
            <p:spPr>
              <a:xfrm>
                <a:off x="3636720" y="201132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8a5337"/>
                  </a:gs>
                  <a:gs pos="50000">
                    <a:srgbClr val="ff9966"/>
                  </a:gs>
                  <a:gs pos="100000">
                    <a:srgbClr val="8a533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72" name="椭圆 70667"/>
              <p:cNvSpPr/>
              <p:nvPr/>
            </p:nvSpPr>
            <p:spPr>
              <a:xfrm>
                <a:off x="3636720" y="201132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73" name="文本框 70674"/>
              <p:cNvSpPr/>
              <p:nvPr/>
            </p:nvSpPr>
            <p:spPr>
              <a:xfrm>
                <a:off x="3815280" y="26668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274" name="圆角矩形 70675"/>
            <p:cNvSpPr/>
            <p:nvPr/>
          </p:nvSpPr>
          <p:spPr>
            <a:xfrm>
              <a:off x="2557440" y="464832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e406f"/>
                </a:gs>
                <a:gs pos="50000">
                  <a:srgbClr val="408bf0"/>
                </a:gs>
                <a:gs pos="100000">
                  <a:srgbClr val="1e406f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75" name="文本框 70676"/>
            <p:cNvSpPr/>
            <p:nvPr/>
          </p:nvSpPr>
          <p:spPr>
            <a:xfrm>
              <a:off x="1373040" y="2290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76" name="文本框 70677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77" name="文本框 70678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78" name="文本框 70679"/>
            <p:cNvSpPr/>
            <p:nvPr/>
          </p:nvSpPr>
          <p:spPr>
            <a:xfrm>
              <a:off x="6992640" y="2290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79" name="文本框 70680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80" name="文本框 70681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组合 71710"/>
          <p:cNvGrpSpPr/>
          <p:nvPr/>
        </p:nvGrpSpPr>
        <p:grpSpPr>
          <a:xfrm>
            <a:off x="990360" y="1674720"/>
            <a:ext cx="7390800" cy="3583080"/>
            <a:chOff x="990360" y="1674720"/>
            <a:chExt cx="7390800" cy="3583080"/>
          </a:xfrm>
        </p:grpSpPr>
        <p:grpSp>
          <p:nvGrpSpPr>
            <p:cNvPr id="283" name=""/>
            <p:cNvGrpSpPr/>
            <p:nvPr/>
          </p:nvGrpSpPr>
          <p:grpSpPr>
            <a:xfrm>
              <a:off x="990360" y="5249880"/>
              <a:ext cx="1485720" cy="7920"/>
              <a:chOff x="990360" y="5249880"/>
              <a:chExt cx="1485720" cy="7920"/>
            </a:xfrm>
          </p:grpSpPr>
          <p:sp>
            <p:nvSpPr>
              <p:cNvPr id="284" name="直接连接符 71689"/>
              <p:cNvSpPr/>
              <p:nvPr/>
            </p:nvSpPr>
            <p:spPr>
              <a:xfrm flipH="1" flipV="1">
                <a:off x="990360" y="5249880"/>
                <a:ext cx="1485720" cy="7920"/>
              </a:xfrm>
              <a:prstGeom prst="line">
                <a:avLst/>
              </a:prstGeom>
              <a:ln w="9360">
                <a:solidFill>
                  <a:srgbClr val="b6d1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 rot="10800000">
                <a:off x="990360" y="5249880"/>
                <a:ext cx="1485720" cy="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990720" y="4350960"/>
              <a:ext cx="2349360" cy="4680"/>
              <a:chOff x="990720" y="4350960"/>
              <a:chExt cx="2349360" cy="4680"/>
            </a:xfrm>
          </p:grpSpPr>
          <p:sp>
            <p:nvSpPr>
              <p:cNvPr id="287" name="直接连接符 71690"/>
              <p:cNvSpPr/>
              <p:nvPr/>
            </p:nvSpPr>
            <p:spPr>
              <a:xfrm flipH="1" flipV="1">
                <a:off x="990720" y="4350960"/>
                <a:ext cx="2349360" cy="4680"/>
              </a:xfrm>
              <a:prstGeom prst="line">
                <a:avLst/>
              </a:prstGeom>
              <a:ln w="9360">
                <a:solidFill>
                  <a:srgbClr val="b6d1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 rot="10800000">
                <a:off x="990720" y="4350960"/>
                <a:ext cx="234936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90720" y="3465720"/>
              <a:ext cx="3149280" cy="360"/>
              <a:chOff x="990720" y="3465720"/>
              <a:chExt cx="3149280" cy="360"/>
            </a:xfrm>
          </p:grpSpPr>
          <p:sp>
            <p:nvSpPr>
              <p:cNvPr id="290" name="直接连接符 71691"/>
              <p:cNvSpPr/>
              <p:nvPr/>
            </p:nvSpPr>
            <p:spPr>
              <a:xfrm flipH="1">
                <a:off x="990720" y="3465720"/>
                <a:ext cx="3149280" cy="0"/>
              </a:xfrm>
              <a:prstGeom prst="line">
                <a:avLst/>
              </a:prstGeom>
              <a:ln w="9360">
                <a:solidFill>
                  <a:srgbClr val="b6d1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990720" y="3465720"/>
                <a:ext cx="314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990720" y="2579760"/>
              <a:ext cx="3984480" cy="360"/>
              <a:chOff x="990720" y="2579760"/>
              <a:chExt cx="3984480" cy="360"/>
            </a:xfrm>
          </p:grpSpPr>
          <p:sp>
            <p:nvSpPr>
              <p:cNvPr id="293" name="直接连接符 71692"/>
              <p:cNvSpPr/>
              <p:nvPr/>
            </p:nvSpPr>
            <p:spPr>
              <a:xfrm flipH="1">
                <a:off x="990720" y="2579760"/>
                <a:ext cx="3984480" cy="0"/>
              </a:xfrm>
              <a:prstGeom prst="line">
                <a:avLst/>
              </a:prstGeom>
              <a:ln w="9360">
                <a:solidFill>
                  <a:srgbClr val="b6d1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990720" y="2579760"/>
                <a:ext cx="398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990720" y="1674720"/>
              <a:ext cx="4800240" cy="6480"/>
              <a:chOff x="990720" y="1674720"/>
              <a:chExt cx="4800240" cy="6480"/>
            </a:xfrm>
          </p:grpSpPr>
          <p:sp>
            <p:nvSpPr>
              <p:cNvPr id="296" name="直接连接符 71693"/>
              <p:cNvSpPr/>
              <p:nvPr/>
            </p:nvSpPr>
            <p:spPr>
              <a:xfrm flipH="1">
                <a:off x="990720" y="1674720"/>
                <a:ext cx="4800240" cy="6480"/>
              </a:xfrm>
              <a:prstGeom prst="line">
                <a:avLst/>
              </a:prstGeom>
              <a:ln w="9360">
                <a:solidFill>
                  <a:srgbClr val="b6d1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990720" y="1674720"/>
                <a:ext cx="4800240" cy="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171440" y="1674720"/>
              <a:ext cx="360" cy="932040"/>
              <a:chOff x="1171440" y="1674720"/>
              <a:chExt cx="360" cy="932040"/>
            </a:xfrm>
          </p:grpSpPr>
          <p:sp>
            <p:nvSpPr>
              <p:cNvPr id="299" name="直接连接符 71694"/>
              <p:cNvSpPr/>
              <p:nvPr/>
            </p:nvSpPr>
            <p:spPr>
              <a:xfrm>
                <a:off x="1171440" y="1674720"/>
                <a:ext cx="0" cy="932040"/>
              </a:xfrm>
              <a:prstGeom prst="line">
                <a:avLst/>
              </a:prstGeom>
              <a:ln w="9360">
                <a:solidFill>
                  <a:srgbClr val="b6d1f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1171440" y="1674720"/>
                <a:ext cx="360" cy="93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171440" y="2606760"/>
              <a:ext cx="360" cy="871560"/>
              <a:chOff x="1171440" y="2606760"/>
              <a:chExt cx="360" cy="871560"/>
            </a:xfrm>
          </p:grpSpPr>
          <p:sp>
            <p:nvSpPr>
              <p:cNvPr id="302" name="直接连接符 71695"/>
              <p:cNvSpPr/>
              <p:nvPr/>
            </p:nvSpPr>
            <p:spPr>
              <a:xfrm>
                <a:off x="1171440" y="2606760"/>
                <a:ext cx="0" cy="871560"/>
              </a:xfrm>
              <a:prstGeom prst="line">
                <a:avLst/>
              </a:prstGeom>
              <a:ln w="9360">
                <a:solidFill>
                  <a:srgbClr val="b6d1f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>
                <a:off x="1171440" y="260676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1171440" y="3478320"/>
              <a:ext cx="360" cy="873000"/>
              <a:chOff x="1171440" y="3478320"/>
              <a:chExt cx="360" cy="873000"/>
            </a:xfrm>
          </p:grpSpPr>
          <p:sp>
            <p:nvSpPr>
              <p:cNvPr id="305" name="直接连接符 71696"/>
              <p:cNvSpPr/>
              <p:nvPr/>
            </p:nvSpPr>
            <p:spPr>
              <a:xfrm>
                <a:off x="1171440" y="3478320"/>
                <a:ext cx="0" cy="873000"/>
              </a:xfrm>
              <a:prstGeom prst="line">
                <a:avLst/>
              </a:prstGeom>
              <a:ln w="9360">
                <a:solidFill>
                  <a:srgbClr val="b6d1f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1171440" y="3478320"/>
                <a:ext cx="360" cy="87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171440" y="4351320"/>
              <a:ext cx="360" cy="873000"/>
              <a:chOff x="1171440" y="4351320"/>
              <a:chExt cx="360" cy="873000"/>
            </a:xfrm>
          </p:grpSpPr>
          <p:sp>
            <p:nvSpPr>
              <p:cNvPr id="308" name="直接连接符 71697"/>
              <p:cNvSpPr/>
              <p:nvPr/>
            </p:nvSpPr>
            <p:spPr>
              <a:xfrm>
                <a:off x="1171440" y="4351320"/>
                <a:ext cx="0" cy="873000"/>
              </a:xfrm>
              <a:prstGeom prst="line">
                <a:avLst/>
              </a:prstGeom>
              <a:ln w="9360">
                <a:solidFill>
                  <a:srgbClr val="b6d1f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1171440" y="4351320"/>
                <a:ext cx="360" cy="87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310" name="组合 71709"/>
            <p:cNvGrpSpPr/>
            <p:nvPr/>
          </p:nvGrpSpPr>
          <p:grpSpPr>
            <a:xfrm>
              <a:off x="2492280" y="1674720"/>
              <a:ext cx="5888880" cy="3581640"/>
              <a:chOff x="2492280" y="1674720"/>
              <a:chExt cx="5888880" cy="3581640"/>
            </a:xfrm>
          </p:grpSpPr>
          <p:sp>
            <p:nvSpPr>
              <p:cNvPr id="311" name="任意多边形 71682"/>
              <p:cNvSpPr/>
              <p:nvPr/>
            </p:nvSpPr>
            <p:spPr>
              <a:xfrm>
                <a:off x="7792560" y="1674720"/>
                <a:ext cx="582120" cy="90504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81d"/>
                  </a:gs>
                  <a:gs pos="50000">
                    <a:srgbClr val="00563f"/>
                  </a:gs>
                  <a:gs pos="100000">
                    <a:srgbClr val="002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2" name="任意多边形 71683"/>
              <p:cNvSpPr/>
              <p:nvPr/>
            </p:nvSpPr>
            <p:spPr>
              <a:xfrm>
                <a:off x="5001840" y="1674720"/>
                <a:ext cx="3379320" cy="57780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3" name="任意多边形 71684"/>
              <p:cNvSpPr/>
              <p:nvPr/>
            </p:nvSpPr>
            <p:spPr>
              <a:xfrm>
                <a:off x="7206840" y="2573280"/>
                <a:ext cx="580680" cy="89856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30744"/>
                  </a:gs>
                  <a:gs pos="50000">
                    <a:srgbClr val="4b1092"/>
                  </a:gs>
                  <a:gs pos="100000">
                    <a:srgbClr val="2307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4" name="任意多边形 71685"/>
              <p:cNvSpPr/>
              <p:nvPr/>
            </p:nvSpPr>
            <p:spPr>
              <a:xfrm>
                <a:off x="4163400" y="2563920"/>
                <a:ext cx="3632040" cy="58572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a7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5" name="任意多边形 71686"/>
              <p:cNvSpPr/>
              <p:nvPr/>
            </p:nvSpPr>
            <p:spPr>
              <a:xfrm>
                <a:off x="6619320" y="3460680"/>
                <a:ext cx="579240" cy="90504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1805"/>
                  </a:gs>
                  <a:gs pos="50000">
                    <a:srgbClr val="90330a"/>
                  </a:gs>
                  <a:gs pos="100000">
                    <a:srgbClr val="43180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6" name="任意多边形 71687"/>
              <p:cNvSpPr/>
              <p:nvPr/>
            </p:nvSpPr>
            <p:spPr>
              <a:xfrm>
                <a:off x="6035040" y="4351320"/>
                <a:ext cx="583920" cy="90504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3206"/>
                  </a:gs>
                  <a:gs pos="50000">
                    <a:srgbClr val="906b0e"/>
                  </a:gs>
                  <a:gs pos="100000">
                    <a:srgbClr val="4332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7" name="任意多边形 71688"/>
              <p:cNvSpPr/>
              <p:nvPr/>
            </p:nvSpPr>
            <p:spPr>
              <a:xfrm>
                <a:off x="2493360" y="4356000"/>
                <a:ext cx="4125600" cy="57780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f2e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8" name="任意多边形 71698"/>
              <p:cNvSpPr/>
              <p:nvPr/>
            </p:nvSpPr>
            <p:spPr>
              <a:xfrm>
                <a:off x="3092040" y="1849320"/>
                <a:ext cx="1856880" cy="29098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9" name="矩形 71699"/>
              <p:cNvSpPr/>
              <p:nvPr/>
            </p:nvSpPr>
            <p:spPr>
              <a:xfrm>
                <a:off x="5007960" y="2252520"/>
                <a:ext cx="2796840" cy="325440"/>
              </a:xfrm>
              <a:prstGeom prst="rect">
                <a:avLst/>
              </a:prstGeom>
              <a:gradFill rotWithShape="0">
                <a:gsLst>
                  <a:gs pos="0">
                    <a:srgbClr val="00684d"/>
                  </a:gs>
                  <a:gs pos="50000">
                    <a:srgbClr val="00906a"/>
                  </a:gs>
                  <a:gs pos="100000">
                    <a:srgbClr val="00684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20" name="矩形 71700"/>
              <p:cNvSpPr/>
              <p:nvPr/>
            </p:nvSpPr>
            <p:spPr>
              <a:xfrm>
                <a:off x="4165200" y="3149640"/>
                <a:ext cx="3047400" cy="318960"/>
              </a:xfrm>
              <a:prstGeom prst="rect">
                <a:avLst/>
              </a:prstGeom>
              <a:gradFill rotWithShape="0">
                <a:gsLst>
                  <a:gs pos="0">
                    <a:srgbClr val="5d2fb9"/>
                  </a:gs>
                  <a:gs pos="50000">
                    <a:srgbClr val="8041ff"/>
                  </a:gs>
                  <a:gs pos="100000">
                    <a:srgbClr val="5d2f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21" name="任意多边形 71701"/>
              <p:cNvSpPr/>
              <p:nvPr/>
            </p:nvSpPr>
            <p:spPr>
              <a:xfrm>
                <a:off x="3330000" y="3460680"/>
                <a:ext cx="3874680" cy="58284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22" name="矩形 71702"/>
              <p:cNvSpPr/>
              <p:nvPr/>
            </p:nvSpPr>
            <p:spPr>
              <a:xfrm>
                <a:off x="3331800" y="4043520"/>
                <a:ext cx="3299760" cy="317520"/>
              </a:xfrm>
              <a:prstGeom prst="rect">
                <a:avLst/>
              </a:prstGeom>
              <a:gradFill rotWithShape="0">
                <a:gsLst>
                  <a:gs pos="0">
                    <a:srgbClr val="a0523a"/>
                  </a:gs>
                  <a:gs pos="50000">
                    <a:srgbClr val="dc7150"/>
                  </a:gs>
                  <a:gs pos="100000">
                    <a:srgbClr val="a0523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23" name="矩形 71703"/>
              <p:cNvSpPr/>
              <p:nvPr/>
            </p:nvSpPr>
            <p:spPr>
              <a:xfrm>
                <a:off x="2492280" y="4935600"/>
                <a:ext cx="3550680" cy="317520"/>
              </a:xfrm>
              <a:prstGeom prst="rect">
                <a:avLst/>
              </a:prstGeom>
              <a:gradFill rotWithShape="0">
                <a:gsLst>
                  <a:gs pos="0">
                    <a:srgbClr val="977514"/>
                  </a:gs>
                  <a:gs pos="50000">
                    <a:srgbClr val="d0a11c"/>
                  </a:gs>
                  <a:gs pos="100000">
                    <a:srgbClr val="977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324" name="文本框 71704"/>
            <p:cNvSpPr/>
            <p:nvPr/>
          </p:nvSpPr>
          <p:spPr>
            <a:xfrm>
              <a:off x="1208520" y="2021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25" name="文本框 71705"/>
            <p:cNvSpPr/>
            <p:nvPr/>
          </p:nvSpPr>
          <p:spPr>
            <a:xfrm>
              <a:off x="1208520" y="2903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26" name="文本框 71706"/>
            <p:cNvSpPr/>
            <p:nvPr/>
          </p:nvSpPr>
          <p:spPr>
            <a:xfrm>
              <a:off x="1208520" y="38275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27" name="文本框 71707"/>
            <p:cNvSpPr/>
            <p:nvPr/>
          </p:nvSpPr>
          <p:spPr>
            <a:xfrm>
              <a:off x="1208520" y="4687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圆角矩形 72707"/>
          <p:cNvSpPr/>
          <p:nvPr/>
        </p:nvSpPr>
        <p:spPr>
          <a:xfrm>
            <a:off x="1066680" y="1670040"/>
            <a:ext cx="373248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f6fd1"/>
              </a:gs>
              <a:gs pos="100000">
                <a:srgbClr val="3b336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330" name="圆角矩形 72708"/>
          <p:cNvSpPr/>
          <p:nvPr/>
        </p:nvSpPr>
        <p:spPr>
          <a:xfrm>
            <a:off x="1066680" y="2735280"/>
            <a:ext cx="373248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08bf0"/>
              </a:gs>
              <a:gs pos="100000">
                <a:srgbClr val="1e406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331" name="圆角矩形 72709"/>
          <p:cNvSpPr/>
          <p:nvPr/>
        </p:nvSpPr>
        <p:spPr>
          <a:xfrm>
            <a:off x="1066680" y="3800520"/>
            <a:ext cx="373248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5c7b6"/>
              </a:gs>
              <a:gs pos="100000">
                <a:srgbClr val="195c54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332" name="燕尾形 72712"/>
          <p:cNvSpPr/>
          <p:nvPr/>
        </p:nvSpPr>
        <p:spPr>
          <a:xfrm>
            <a:off x="4889520" y="2928960"/>
            <a:ext cx="488880" cy="546120"/>
          </a:xfrm>
          <a:custGeom>
            <a:avLst/>
            <a:gdLst>
              <a:gd name="textAreaLeft" fmla="*/ 0 w 488880"/>
              <a:gd name="textAreaRight" fmla="*/ 489240 w 48888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b6d1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grpSp>
        <p:nvGrpSpPr>
          <p:cNvPr id="333" name="组合 72724"/>
          <p:cNvGrpSpPr/>
          <p:nvPr/>
        </p:nvGrpSpPr>
        <p:grpSpPr>
          <a:xfrm>
            <a:off x="5448240" y="2219400"/>
            <a:ext cx="2094120" cy="2047680"/>
            <a:chOff x="5448240" y="2219400"/>
            <a:chExt cx="2094120" cy="2047680"/>
          </a:xfrm>
        </p:grpSpPr>
        <p:sp>
          <p:nvSpPr>
            <p:cNvPr id="334" name="椭圆 72713"/>
            <p:cNvSpPr/>
            <p:nvPr/>
          </p:nvSpPr>
          <p:spPr>
            <a:xfrm>
              <a:off x="5448240" y="2219400"/>
              <a:ext cx="2094120" cy="204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08bf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35" name="椭圆 72714"/>
            <p:cNvSpPr/>
            <p:nvPr/>
          </p:nvSpPr>
          <p:spPr>
            <a:xfrm>
              <a:off x="5448240" y="2219400"/>
              <a:ext cx="2094120" cy="2047680"/>
            </a:xfrm>
            <a:prstGeom prst="ellipse">
              <a:avLst/>
            </a:prstGeom>
            <a:gradFill rotWithShape="0">
              <a:gsLst>
                <a:gs pos="0">
                  <a:srgbClr val="408bf0">
                    <a:alpha val="32156"/>
                  </a:srgbClr>
                </a:gs>
                <a:gs pos="100000">
                  <a:srgbClr val="1e40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36" name="椭圆 72715"/>
            <p:cNvSpPr/>
            <p:nvPr/>
          </p:nvSpPr>
          <p:spPr>
            <a:xfrm>
              <a:off x="5584680" y="2352600"/>
              <a:ext cx="1820880" cy="1781280"/>
            </a:xfrm>
            <a:prstGeom prst="ellipse">
              <a:avLst/>
            </a:prstGeom>
            <a:gradFill rotWithShape="0">
              <a:gsLst>
                <a:gs pos="0">
                  <a:srgbClr val="234b82"/>
                </a:gs>
                <a:gs pos="50000">
                  <a:srgbClr val="408bf0"/>
                </a:gs>
                <a:gs pos="100000">
                  <a:srgbClr val="234b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37" name="椭圆 72716"/>
            <p:cNvSpPr/>
            <p:nvPr/>
          </p:nvSpPr>
          <p:spPr>
            <a:xfrm>
              <a:off x="5586480" y="2355840"/>
              <a:ext cx="1820880" cy="1781280"/>
            </a:xfrm>
            <a:prstGeom prst="ellipse">
              <a:avLst/>
            </a:prstGeom>
            <a:gradFill rotWithShape="0">
              <a:gsLst>
                <a:gs pos="0">
                  <a:srgbClr val="295898"/>
                </a:gs>
                <a:gs pos="100000">
                  <a:srgbClr val="408bf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38" name="椭圆 72717"/>
            <p:cNvSpPr/>
            <p:nvPr/>
          </p:nvSpPr>
          <p:spPr>
            <a:xfrm>
              <a:off x="5675400" y="2441520"/>
              <a:ext cx="1639800" cy="1603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339" name="组合 72718"/>
            <p:cNvGrpSpPr/>
            <p:nvPr/>
          </p:nvGrpSpPr>
          <p:grpSpPr>
            <a:xfrm>
              <a:off x="5702400" y="2459160"/>
              <a:ext cx="1585800" cy="1552320"/>
              <a:chOff x="5702400" y="2459160"/>
              <a:chExt cx="1585800" cy="1552320"/>
            </a:xfrm>
          </p:grpSpPr>
          <p:sp>
            <p:nvSpPr>
              <p:cNvPr id="340" name="椭圆 72719"/>
              <p:cNvSpPr/>
              <p:nvPr/>
            </p:nvSpPr>
            <p:spPr>
              <a:xfrm>
                <a:off x="5702400" y="2459160"/>
                <a:ext cx="1585800" cy="1552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41" name="椭圆 72720"/>
              <p:cNvSpPr/>
              <p:nvPr/>
            </p:nvSpPr>
            <p:spPr>
              <a:xfrm>
                <a:off x="5722200" y="2467800"/>
                <a:ext cx="1547640" cy="1513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42" name="椭圆 72721"/>
              <p:cNvSpPr/>
              <p:nvPr/>
            </p:nvSpPr>
            <p:spPr>
              <a:xfrm>
                <a:off x="5739120" y="2482560"/>
                <a:ext cx="1471680" cy="1414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43" name="椭圆 72722"/>
              <p:cNvSpPr/>
              <p:nvPr/>
            </p:nvSpPr>
            <p:spPr>
              <a:xfrm>
                <a:off x="5825160" y="2522160"/>
                <a:ext cx="1308240" cy="114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344" name="文本框 72723"/>
            <p:cNvSpPr/>
            <p:nvPr/>
          </p:nvSpPr>
          <p:spPr>
            <a:xfrm>
              <a:off x="6117840" y="30481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4:22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40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