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3B6-F6E6-4213-B025-14E89A06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67416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7B3-7B1E-4CF9-9A19-D69C7D0E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71D-12FA-49DA-B81C-23E2F77C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BB4-DA44-4589-AE41-6121A872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C4D0-DD36-4583-BC84-D24B4EF9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478C-314F-43CB-ACE0-7449D248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F406-6B6A-41FF-ACA8-351DF6AF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B2E4-8AB4-4BE7-B76A-85DD06EE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9B03-B39D-459D-8FE9-2F2C3E6B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8D94-6A75-4108-A342-F2809B00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4933-0A70-432A-A943-A717EA13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606-5A39-4F7C-90D3-C47E731E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F5C4-5A2E-4E78-8E5C-844F1FFC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03B5-4BF0-4897-9268-D6C2AAF1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67416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5370-E2DA-4AB2-A5E9-1BE99998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53E1-4253-47F7-9DC1-632DBF24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E595-3B12-40FB-900E-04C5109C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849F1-FBC9-429E-8D53-106399F5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F4D71-BADB-4F71-A782-3EC43025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43F84-79DF-480C-A6C0-0F531F5C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C95AF-E6A4-4864-9C43-4599C706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0218A-8929-40E1-A2F3-81B45EB5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2C2-8E0C-488E-B475-CACADEB3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B8716-0832-4AC6-844D-464B1C8E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4A69-C359-45D0-865B-83554B8C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76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032A-881A-4413-9FFC-566FACE5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5A8E-2685-411A-87C5-8EC3D635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0" y="367416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AC4C-CFA7-4D30-B751-19ECF7B8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76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71C8A-34D3-423A-AF5E-6F8EBBAD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8336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8336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4C67-EEEF-44F0-834B-FBD2FD0B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710-A9A1-456E-AFBB-92FE48EA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8BA-046F-4592-BBD3-4DD80561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0F8-B055-4801-8974-F630C322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C4E-A544-4193-B723-AAB6C8F8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BB3-B07D-4CFD-9C21-83E1AA65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BC63-8078-4B13-88BA-F5E8AD3A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8B4C-9332-49CC-8E15-A3E7BB720E81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18B4-9D65-41F6-9006-4EA921E8392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F42D-BB35-42C6-9752-1ED416CD34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1329-421A-495E-B32D-4278395E43C8}" type="slidenum">
              <a:rPr b="1" lang="en-US" sz="9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6699"/>
                </a:solidFill>
                <a:latin typeface="Impact"/>
              </a:rPr>
              <a:t>Nth Grid</a:t>
            </a:r>
            <a:endParaRPr b="0" lang="en-US" sz="7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r Subtitle Goes 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893880" y="685800"/>
            <a:ext cx="768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蓝色网格企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AD25-6EC5-4709-B975-F510790256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02:5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00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