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D23-CF14-4E18-A540-D970B269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BA8-6897-465D-B5EE-E301387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E02-D4D8-433F-BF44-509C069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C84-7268-4E26-B8CE-96A9FFFA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548-AA60-4C63-A84B-EDA06013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46C9-F123-4BD5-8610-329C08A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1AF-E490-49DB-AF1A-52BFC57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D80-AF6B-46D6-8993-CC75224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953E-A72D-4139-92E5-F07BF71C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7570-6C65-440B-BD4E-C10DF4A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F26B-AB91-452E-9117-C2A96A5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6BD-F2B6-4014-87A3-8168B6C2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496-AAAB-47A5-864D-3B7EAA6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315-69F3-4BCF-AE25-2F4E0F13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DAB3-5127-4014-90B4-67233BE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7EBD-46E4-441D-B0B3-7AB2B23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C9EE-2E02-4C08-9321-3C6E9CC0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3CAA-9D66-4702-857F-5D74E0F5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F468-FDD6-4284-9866-84E8F4D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24F7-137A-4EA8-BBA8-E9CB61B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BEDB-3C00-496E-9C03-170F807F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36EF-93FD-4B2B-9242-DBB0C713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316-F7A0-4F2B-B06D-2A57AEB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B323-E67A-4A7B-8ED4-EE56F9A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8BDC4-2062-42CA-892F-432E38C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2CC7-B824-4240-9497-24A00C0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CE7A-36DB-4027-AD50-319CB2B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8373-58ED-45B3-A2CE-9255D23A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D516-0F1C-4F4B-ABBE-96B0D0A8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BD10-13FC-4B36-9AC8-99ADD6B7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9E227-9810-48EF-B098-66D0E9FF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5CBEA-03AE-4402-A1FB-0EB33957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65AE2-B2E0-44B0-AF6F-F29D8E7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5BC-BEEC-4A79-8B4A-C4ECF7A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E74CF-F973-4479-A453-360BBF4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355F0-9A92-4C5E-8E63-4383B61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F788D-D064-45D1-B453-3D8B1BEF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FA830-0D45-4818-8546-7374245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30F8E0-94E7-4AAB-BFD3-93823A53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DA086-A053-470C-9FD0-85E0DBA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0CD2A-BA9F-41D7-89F6-A963505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45AD0-4FEC-4BEC-9E30-54B30EC7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DDFDB-A433-40D2-A51E-251535F3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9C9-86D2-4A44-802B-2D0EDCC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3B4-8FF8-440B-A6F7-BB9363FB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E34-4392-414E-BBAA-5CEFC4F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641-E666-4BDB-B062-BFD5898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A28-4D54-404B-AD15-2E889C3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B201-033B-4E27-9BA7-16B10CF6B7E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B0A2-D546-41AF-875A-4454EDF369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F76C-8E15-44F6-825F-6882AE7E38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0E80-9142-47FB-86BA-BA3FAE40CD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8" descr=""/>
          <p:cNvPicPr/>
          <p:nvPr/>
        </p:nvPicPr>
        <p:blipFill>
          <a:blip r:embed="rId3"/>
          <a:stretch/>
        </p:blipFill>
        <p:spPr>
          <a:xfrm>
            <a:off x="0" y="2852640"/>
            <a:ext cx="9144000" cy="1513080"/>
          </a:xfrm>
          <a:prstGeom prst="rect">
            <a:avLst/>
          </a:prstGeom>
          <a:ln w="0">
            <a:noFill/>
          </a:ln>
        </p:spPr>
      </p:pic>
      <p:sp>
        <p:nvSpPr>
          <p:cNvPr id="84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0" y="2765520"/>
            <a:ext cx="9144000" cy="109440"/>
          </a:xfrm>
          <a:prstGeom prst="rect">
            <a:avLst/>
          </a:prstGeom>
          <a:solidFill>
            <a:srgbClr val="bae2f8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单角的矩形 10"/>
          <p:cNvSpPr/>
          <p:nvPr/>
        </p:nvSpPr>
        <p:spPr>
          <a:xfrm>
            <a:off x="0" y="2417760"/>
            <a:ext cx="4578480" cy="433440"/>
          </a:xfrm>
          <a:custGeom>
            <a:avLst/>
            <a:gdLst/>
            <a:ahLst/>
            <a:rect l="l" t="t" r="r" b="b"/>
            <a:pathLst>
              <a:path w="4578350" h="433387">
                <a:moveTo>
                  <a:pt x="0" y="0"/>
                </a:moveTo>
                <a:lnTo>
                  <a:pt x="4506117" y="0"/>
                </a:lnTo>
                <a:lnTo>
                  <a:pt x="4578350" y="72232"/>
                </a:lnTo>
                <a:lnTo>
                  <a:pt x="4578350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单角的矩形 13"/>
          <p:cNvSpPr/>
          <p:nvPr/>
        </p:nvSpPr>
        <p:spPr>
          <a:xfrm rot="10800000">
            <a:off x="12240" y="4399920"/>
            <a:ext cx="9131400" cy="144360"/>
          </a:xfrm>
          <a:custGeom>
            <a:avLst/>
            <a:gdLst/>
            <a:ahLst/>
            <a:rect l="l" t="t" r="r" b="b"/>
            <a:pathLst>
              <a:path w="9131300" h="144462">
                <a:moveTo>
                  <a:pt x="0" y="0"/>
                </a:moveTo>
                <a:lnTo>
                  <a:pt x="9107222" y="0"/>
                </a:lnTo>
                <a:lnTo>
                  <a:pt x="9131300" y="24077"/>
                </a:lnTo>
                <a:lnTo>
                  <a:pt x="9131300" y="144462"/>
                </a:lnTo>
                <a:lnTo>
                  <a:pt x="0" y="1444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26B-95CC-4A6B-AF3E-A53BD987E2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69D4-91B7-49E2-9815-44F1A228A3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矩形 6" descr="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981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7"/>
          <p:cNvSpPr/>
          <p:nvPr/>
        </p:nvSpPr>
        <p:spPr>
          <a:xfrm>
            <a:off x="-19080" y="907920"/>
            <a:ext cx="9144000" cy="73080"/>
          </a:xfrm>
          <a:prstGeom prst="rect">
            <a:avLst/>
          </a:prstGeom>
          <a:solidFill>
            <a:srgbClr val="bae2f8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剪去单角的矩形 8"/>
          <p:cNvSpPr/>
          <p:nvPr/>
        </p:nvSpPr>
        <p:spPr>
          <a:xfrm rot="10800000">
            <a:off x="-5040" y="980640"/>
            <a:ext cx="9148680" cy="108000"/>
          </a:xfrm>
          <a:custGeom>
            <a:avLst/>
            <a:gdLst/>
            <a:ahLst/>
            <a:rect l="l" t="t" r="r" b="b"/>
            <a:pathLst>
              <a:path w="9148762" h="107950">
                <a:moveTo>
                  <a:pt x="0" y="0"/>
                </a:moveTo>
                <a:lnTo>
                  <a:pt x="9130770" y="0"/>
                </a:lnTo>
                <a:lnTo>
                  <a:pt x="9148762" y="17992"/>
                </a:lnTo>
                <a:lnTo>
                  <a:pt x="9148762" y="107950"/>
                </a:lnTo>
                <a:lnTo>
                  <a:pt x="0" y="1079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剪去单角的矩形 9"/>
          <p:cNvSpPr/>
          <p:nvPr/>
        </p:nvSpPr>
        <p:spPr>
          <a:xfrm>
            <a:off x="8172360" y="6453360"/>
            <a:ext cx="647640" cy="288720"/>
          </a:xfrm>
          <a:custGeom>
            <a:avLst/>
            <a:gdLst/>
            <a:ahLst/>
            <a:rect l="l" t="t" r="r" b="b"/>
            <a:pathLst>
              <a:path w="647700" h="288925">
                <a:moveTo>
                  <a:pt x="0" y="0"/>
                </a:moveTo>
                <a:lnTo>
                  <a:pt x="599544" y="0"/>
                </a:lnTo>
                <a:lnTo>
                  <a:pt x="647700" y="48155"/>
                </a:lnTo>
                <a:lnTo>
                  <a:pt x="647700" y="288925"/>
                </a:lnTo>
                <a:lnTo>
                  <a:pt x="0" y="2889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剪去单角的矩形 13"/>
          <p:cNvSpPr/>
          <p:nvPr/>
        </p:nvSpPr>
        <p:spPr>
          <a:xfrm>
            <a:off x="0" y="0"/>
            <a:ext cx="108000" cy="404640"/>
          </a:xfrm>
          <a:custGeom>
            <a:avLst/>
            <a:gdLst/>
            <a:ahLst/>
            <a:rect l="l" t="t" r="r" b="b"/>
            <a:pathLst>
              <a:path w="107950" h="404812">
                <a:moveTo>
                  <a:pt x="0" y="0"/>
                </a:moveTo>
                <a:lnTo>
                  <a:pt x="89957" y="0"/>
                </a:lnTo>
                <a:lnTo>
                  <a:pt x="107950" y="17992"/>
                </a:lnTo>
                <a:lnTo>
                  <a:pt x="107950" y="404812"/>
                </a:lnTo>
                <a:lnTo>
                  <a:pt x="0" y="4048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C4C2-1EDA-4836-9F94-FFB67BDCCD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DBB-F76A-4160-B13F-6363D34654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8172000" y="6453360"/>
            <a:ext cx="64764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a10"/>
                </a:solidFill>
                <a:latin typeface="Calibri"/>
                <a:ea typeface="굴림"/>
              </a:rPr>
              <a:t>蓝色学术报告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  <a:ea typeface="굴림"/>
              </a:rPr>
              <a:t>PPT</a:t>
            </a:r>
            <a:r>
              <a:rPr b="0" lang="zh-CN" sz="4000" spc="-1" strike="noStrike">
                <a:solidFill>
                  <a:srgbClr val="0d0a10"/>
                </a:solidFill>
                <a:latin typeface="Calibri"/>
                <a:ea typeface="굴림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78C0-E10A-4BFC-94A3-69981F0B77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5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42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