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4A6-5E47-44EF-A42F-04C5E2B5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885-0AEA-4768-8899-942B04F0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13F-4EC1-4689-B101-5EC82060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FC5-844F-465D-92A6-6A50F0AA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00B7-C0F8-4C76-8275-A279E119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8990-3E66-4776-B757-8AD00A1F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6223-B5B2-4473-953A-320A24FE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86C7-D2A1-4C9E-A923-52A13A37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F548-926E-4851-AA81-D77E26F8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8760" y="115560"/>
            <a:ext cx="506088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8E3B-69B6-4A87-A899-91007946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4276-1703-4E62-9116-E1246065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565-A432-4BFD-B37E-28A09050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B76A-258E-4715-A1A8-0DD98B8F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6D1D-ACAB-4633-8C77-ABE1DB1C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FEFA-EBC1-4B1D-A2D3-0248E856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E27B-307C-4F7D-AE9F-B48381DC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FBD3-7DCF-4D1F-958E-E234B05F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289F-0B47-4ECF-9568-20855CBD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DB61-5024-43ED-A5BB-041639C5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46515-6B72-4F85-AAE7-047D9BDB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04B7-BBB9-4C6D-A513-56A5CF34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53E23-21E4-4DBF-B59F-AFC901C9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1DD-425E-4B23-935F-85ABDB31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8760" y="115560"/>
            <a:ext cx="506088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A6C4-FEF9-4A9B-8443-0964F5EA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CEFF-741E-4E8C-9884-AE0D32D9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4970-A354-4BF0-9C4D-17EC63BC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16E4-18FC-4807-B45D-A268999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6856-F910-4650-9070-C74A444B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F2F8-513B-45B5-B6C8-A4DB841F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89AF-9DB6-4C42-8DC7-F14E9C27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2C3-522C-4A70-A7E1-25048FAE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575-24B5-4B5E-9D0C-7B6235C5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8760" y="115560"/>
            <a:ext cx="506088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431-CD8B-4AAF-B4ED-ED0C8ABE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D5F-A8C7-4708-9948-A6C875F2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D74-E707-4D30-B15A-ABCFD783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7A1-97FF-4F55-BDF7-AD7D70B0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2FD4-6A8B-4EAF-97B8-30D8635F51E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306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7C14-681F-4DDC-BED3-F310893ADEAB}" type="slidenum">
              <a: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1052640"/>
            <a:ext cx="91440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矩形 8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B5F2-F720-43FB-B34C-062E39D4249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103D-B2CC-469C-9133-AACA93FDB9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7"/>
          <p:cNvSpPr/>
          <p:nvPr/>
        </p:nvSpPr>
        <p:spPr>
          <a:xfrm>
            <a:off x="0" y="1052640"/>
            <a:ext cx="91440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6" descr="Blue-Crush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矩形 7"/>
          <p:cNvSpPr/>
          <p:nvPr/>
        </p:nvSpPr>
        <p:spPr>
          <a:xfrm>
            <a:off x="0" y="4797360"/>
            <a:ext cx="9144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0" y="4653000"/>
            <a:ext cx="9144000" cy="1443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12"/>
          <p:cNvSpPr/>
          <p:nvPr/>
        </p:nvSpPr>
        <p:spPr>
          <a:xfrm>
            <a:off x="0" y="4832280"/>
            <a:ext cx="9144000" cy="0"/>
          </a:xfrm>
          <a:prstGeom prst="line">
            <a:avLst/>
          </a:prstGeom>
          <a:ln w="3240">
            <a:solidFill>
              <a:srgbClr val="4a7eb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4"/>
          <p:cNvSpPr/>
          <p:nvPr/>
        </p:nvSpPr>
        <p:spPr>
          <a:xfrm>
            <a:off x="0" y="6485040"/>
            <a:ext cx="9144000" cy="0"/>
          </a:xfrm>
          <a:prstGeom prst="line">
            <a:avLst/>
          </a:prstGeom>
          <a:ln w="3240">
            <a:solidFill>
              <a:srgbClr val="4a7eb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BAFB-B5AE-41FE-81B0-E4DA815ADDC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8306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8938-211C-46B6-93F3-B93749D394CD}" type="slidenum">
              <a: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3200" y="1630440"/>
            <a:ext cx="73947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Calibri"/>
                <a:ea typeface="微软雅黑"/>
              </a:rPr>
              <a:t>蓝色演讲报告</a:t>
            </a:r>
            <a:r>
              <a:rPr b="1" lang="en-US" sz="4000" spc="-1" strike="noStrike">
                <a:solidFill>
                  <a:srgbClr val="ffff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Calibri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74920" y="2708280"/>
            <a:ext cx="5834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4112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『</a:t>
            </a:r>
            <a:r>
              <a:rPr b="1" lang="zh-CN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演讲人</a:t>
            </a:r>
            <a:r>
              <a:rPr b="1" lang="en-US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』</a:t>
            </a:r>
            <a:r>
              <a:rPr b="1" lang="zh-CN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：</a:t>
            </a:r>
            <a:r>
              <a:rPr b="1" lang="en-US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1p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340000" y="5732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『</a:t>
            </a:r>
            <a:r>
              <a:rPr b="1" lang="zh-CN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时   间</a:t>
            </a:r>
            <a:r>
              <a:rPr b="1" lang="en-US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』</a:t>
            </a:r>
            <a:r>
              <a:rPr b="1" lang="zh-CN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：夏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6155"/>
          <p:cNvSpPr/>
          <p:nvPr/>
        </p:nvSpPr>
        <p:spPr>
          <a:xfrm>
            <a:off x="3492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</a:rPr>
              <a:t>目  录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『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contents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』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6831000" y="651996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14FC-CDAD-402E-8229-D3F17647E9AE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组合 12"/>
          <p:cNvGrpSpPr/>
          <p:nvPr/>
        </p:nvGrpSpPr>
        <p:grpSpPr>
          <a:xfrm>
            <a:off x="1347840" y="1989000"/>
            <a:ext cx="6280200" cy="503280"/>
            <a:chOff x="1347840" y="1989000"/>
            <a:chExt cx="6280200" cy="503280"/>
          </a:xfrm>
        </p:grpSpPr>
        <p:sp>
          <p:nvSpPr>
            <p:cNvPr id="142" name="直接连接符 7"/>
            <p:cNvSpPr/>
            <p:nvPr/>
          </p:nvSpPr>
          <p:spPr>
            <a:xfrm>
              <a:off x="1419840" y="2478960"/>
              <a:ext cx="5688720" cy="0"/>
            </a:xfrm>
            <a:prstGeom prst="line">
              <a:avLst/>
            </a:prstGeom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圆角矩形 5"/>
            <p:cNvSpPr/>
            <p:nvPr/>
          </p:nvSpPr>
          <p:spPr>
            <a:xfrm>
              <a:off x="1347840" y="1989000"/>
              <a:ext cx="504000" cy="503280"/>
            </a:xfrm>
            <a:prstGeom prst="roundRect">
              <a:avLst>
                <a:gd name="adj" fmla="val 8241"/>
              </a:avLst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接连接符 8"/>
            <p:cNvSpPr/>
            <p:nvPr/>
          </p:nvSpPr>
          <p:spPr>
            <a:xfrm>
              <a:off x="7108560" y="2451600"/>
              <a:ext cx="504000" cy="0"/>
            </a:xfrm>
            <a:prstGeom prst="line">
              <a:avLst/>
            </a:prstGeom>
            <a:ln w="7632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Box 10"/>
            <p:cNvSpPr/>
            <p:nvPr/>
          </p:nvSpPr>
          <p:spPr>
            <a:xfrm>
              <a:off x="1995840" y="1989000"/>
              <a:ext cx="51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1"/>
            <p:cNvSpPr/>
            <p:nvPr/>
          </p:nvSpPr>
          <p:spPr>
            <a:xfrm>
              <a:off x="7196040" y="1989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DFPYeaSong-B5"/>
                  <a:ea typeface="DFPYeaSong-B5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13"/>
          <p:cNvGrpSpPr/>
          <p:nvPr/>
        </p:nvGrpSpPr>
        <p:grpSpPr>
          <a:xfrm>
            <a:off x="1347840" y="2949480"/>
            <a:ext cx="6280200" cy="503280"/>
            <a:chOff x="1347840" y="2949480"/>
            <a:chExt cx="6280200" cy="503280"/>
          </a:xfrm>
        </p:grpSpPr>
        <p:sp>
          <p:nvSpPr>
            <p:cNvPr id="148" name="直接连接符 14"/>
            <p:cNvSpPr/>
            <p:nvPr/>
          </p:nvSpPr>
          <p:spPr>
            <a:xfrm>
              <a:off x="1419840" y="3439440"/>
              <a:ext cx="5688720" cy="0"/>
            </a:xfrm>
            <a:prstGeom prst="line">
              <a:avLst/>
            </a:prstGeom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圆角矩形 15"/>
            <p:cNvSpPr/>
            <p:nvPr/>
          </p:nvSpPr>
          <p:spPr>
            <a:xfrm>
              <a:off x="1347840" y="2949480"/>
              <a:ext cx="504000" cy="503280"/>
            </a:xfrm>
            <a:prstGeom prst="roundRect">
              <a:avLst>
                <a:gd name="adj" fmla="val 8241"/>
              </a:avLst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直接连接符 16"/>
            <p:cNvSpPr/>
            <p:nvPr/>
          </p:nvSpPr>
          <p:spPr>
            <a:xfrm>
              <a:off x="7108560" y="3412080"/>
              <a:ext cx="504000" cy="0"/>
            </a:xfrm>
            <a:prstGeom prst="line">
              <a:avLst/>
            </a:prstGeom>
            <a:ln w="7632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7"/>
            <p:cNvSpPr/>
            <p:nvPr/>
          </p:nvSpPr>
          <p:spPr>
            <a:xfrm>
              <a:off x="1995840" y="2949480"/>
              <a:ext cx="51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8"/>
            <p:cNvSpPr/>
            <p:nvPr/>
          </p:nvSpPr>
          <p:spPr>
            <a:xfrm>
              <a:off x="7196040" y="29494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DFPYeaSong-B5"/>
                  <a:ea typeface="DFPYeaSong-B5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19"/>
          <p:cNvGrpSpPr/>
          <p:nvPr/>
        </p:nvGrpSpPr>
        <p:grpSpPr>
          <a:xfrm>
            <a:off x="1347840" y="3908520"/>
            <a:ext cx="6319800" cy="504720"/>
            <a:chOff x="1347840" y="3908520"/>
            <a:chExt cx="6319800" cy="504720"/>
          </a:xfrm>
        </p:grpSpPr>
        <p:sp>
          <p:nvSpPr>
            <p:cNvPr id="154" name="直接连接符 20"/>
            <p:cNvSpPr/>
            <p:nvPr/>
          </p:nvSpPr>
          <p:spPr>
            <a:xfrm>
              <a:off x="1419480" y="4399920"/>
              <a:ext cx="5687640" cy="0"/>
            </a:xfrm>
            <a:prstGeom prst="line">
              <a:avLst/>
            </a:prstGeom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圆角矩形 21"/>
            <p:cNvSpPr/>
            <p:nvPr/>
          </p:nvSpPr>
          <p:spPr>
            <a:xfrm>
              <a:off x="1347840" y="3908520"/>
              <a:ext cx="503640" cy="504720"/>
            </a:xfrm>
            <a:custGeom>
              <a:avLst/>
              <a:gdLst>
                <a:gd name="textAreaLeft" fmla="*/ 11880 w 503640"/>
                <a:gd name="textAreaRight" fmla="*/ 491760 w 503640"/>
                <a:gd name="textAreaTop" fmla="*/ 11880 h 504720"/>
                <a:gd name="textAreaBottom" fmla="*/ 492840 h 504720"/>
              </a:gdLst>
              <a:ahLst/>
              <a:rect l="textAreaLeft" t="textAreaTop" r="textAreaRight" b="textAreaBottom"/>
              <a:pathLst>
                <a:path w="21600" h="21646">
                  <a:moveTo>
                    <a:pt x="1780" y="0"/>
                  </a:moveTo>
                  <a:arcTo wR="1780" hR="1780" stAng="16200000" swAng="-5400000"/>
                  <a:lnTo>
                    <a:pt x="0" y="19866"/>
                  </a:lnTo>
                  <a:arcTo wR="1780" hR="1780" stAng="10800000" swAng="-5400000"/>
                  <a:lnTo>
                    <a:pt x="19820" y="21646"/>
                  </a:lnTo>
                  <a:arcTo wR="1780" hR="1780" stAng="5400000" swAng="-5400000"/>
                  <a:lnTo>
                    <a:pt x="21600" y="1780"/>
                  </a:lnTo>
                  <a:arcTo wR="1780" hR="1780" stAng="0" swAng="-5400000"/>
                  <a:close/>
                </a:path>
              </a:pathLst>
            </a:cu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22"/>
            <p:cNvSpPr/>
            <p:nvPr/>
          </p:nvSpPr>
          <p:spPr>
            <a:xfrm>
              <a:off x="7107480" y="4372560"/>
              <a:ext cx="503640" cy="0"/>
            </a:xfrm>
            <a:prstGeom prst="line">
              <a:avLst/>
            </a:prstGeom>
            <a:ln w="7632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23"/>
            <p:cNvSpPr/>
            <p:nvPr/>
          </p:nvSpPr>
          <p:spPr>
            <a:xfrm>
              <a:off x="1995480" y="3908520"/>
              <a:ext cx="51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24"/>
            <p:cNvSpPr/>
            <p:nvPr/>
          </p:nvSpPr>
          <p:spPr>
            <a:xfrm>
              <a:off x="7107480" y="3908520"/>
              <a:ext cx="56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DFPYeaSong-B5"/>
                  <a:ea typeface="DFPYeaSong-B5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组合 25"/>
          <p:cNvGrpSpPr/>
          <p:nvPr/>
        </p:nvGrpSpPr>
        <p:grpSpPr>
          <a:xfrm>
            <a:off x="1347840" y="4869000"/>
            <a:ext cx="6319800" cy="504720"/>
            <a:chOff x="1347840" y="4869000"/>
            <a:chExt cx="6319800" cy="504720"/>
          </a:xfrm>
        </p:grpSpPr>
        <p:sp>
          <p:nvSpPr>
            <p:cNvPr id="160" name="直接连接符 26"/>
            <p:cNvSpPr/>
            <p:nvPr/>
          </p:nvSpPr>
          <p:spPr>
            <a:xfrm>
              <a:off x="1419480" y="5360400"/>
              <a:ext cx="5687640" cy="0"/>
            </a:xfrm>
            <a:prstGeom prst="line">
              <a:avLst/>
            </a:prstGeom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圆角矩形 27"/>
            <p:cNvSpPr/>
            <p:nvPr/>
          </p:nvSpPr>
          <p:spPr>
            <a:xfrm>
              <a:off x="1347840" y="4869000"/>
              <a:ext cx="503640" cy="504720"/>
            </a:xfrm>
            <a:custGeom>
              <a:avLst/>
              <a:gdLst>
                <a:gd name="textAreaLeft" fmla="*/ 11880 w 503640"/>
                <a:gd name="textAreaRight" fmla="*/ 491760 w 503640"/>
                <a:gd name="textAreaTop" fmla="*/ 11880 h 504720"/>
                <a:gd name="textAreaBottom" fmla="*/ 492840 h 504720"/>
              </a:gdLst>
              <a:ahLst/>
              <a:rect l="textAreaLeft" t="textAreaTop" r="textAreaRight" b="textAreaBottom"/>
              <a:pathLst>
                <a:path w="21600" h="21646">
                  <a:moveTo>
                    <a:pt x="1780" y="0"/>
                  </a:moveTo>
                  <a:arcTo wR="1780" hR="1780" stAng="16200000" swAng="-5400000"/>
                  <a:lnTo>
                    <a:pt x="0" y="19866"/>
                  </a:lnTo>
                  <a:arcTo wR="1780" hR="1780" stAng="10800000" swAng="-5400000"/>
                  <a:lnTo>
                    <a:pt x="19820" y="21646"/>
                  </a:lnTo>
                  <a:arcTo wR="1780" hR="1780" stAng="5400000" swAng="-5400000"/>
                  <a:lnTo>
                    <a:pt x="21600" y="1780"/>
                  </a:lnTo>
                  <a:arcTo wR="1780" hR="1780" stAng="0" swAng="-5400000"/>
                  <a:close/>
                </a:path>
              </a:pathLst>
            </a:cu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接连接符 28"/>
            <p:cNvSpPr/>
            <p:nvPr/>
          </p:nvSpPr>
          <p:spPr>
            <a:xfrm>
              <a:off x="7107480" y="5333040"/>
              <a:ext cx="503640" cy="0"/>
            </a:xfrm>
            <a:prstGeom prst="line">
              <a:avLst/>
            </a:prstGeom>
            <a:ln w="7632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29"/>
            <p:cNvSpPr/>
            <p:nvPr/>
          </p:nvSpPr>
          <p:spPr>
            <a:xfrm>
              <a:off x="1995480" y="4869000"/>
              <a:ext cx="51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30"/>
            <p:cNvSpPr/>
            <p:nvPr/>
          </p:nvSpPr>
          <p:spPr>
            <a:xfrm>
              <a:off x="7107480" y="4869000"/>
              <a:ext cx="56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DFPYeaSong-B5"/>
                  <a:ea typeface="DFPYeaSong-B5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矩形 2"/>
          <p:cNvSpPr/>
          <p:nvPr/>
        </p:nvSpPr>
        <p:spPr>
          <a:xfrm>
            <a:off x="2764080" y="6093000"/>
            <a:ext cx="36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1ppt.com/moban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6716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</a:rPr>
              <a:t>目录名称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831000" y="651996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AD26-38F1-43E1-88FE-3EAB79186805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5349-DDA8-46AB-BC3F-E95BAA2704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1"/>
          <p:cNvSpPr/>
          <p:nvPr/>
        </p:nvSpPr>
        <p:spPr>
          <a:xfrm>
            <a:off x="6831000" y="651996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97AB-C555-4ABD-A98B-4DDB26ED465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47280" y="1628280"/>
            <a:ext cx="8101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</a:rPr>
              <a:t>THANKS FOR YOUR LINSTEN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867280" y="2708280"/>
            <a:ext cx="2810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谢谢您的聆听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13:1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59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