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CCE-65C6-4FC7-9DF6-51415D74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FBE-0D55-4FF2-99C8-0C494A5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CB7-7BCD-4149-9550-AB71A3B4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78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638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920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78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638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663-BEC1-4F2D-8254-053B702B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0BC6-598F-495F-8CF7-315E404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5E7F-0B1C-4A85-A61B-8EEAA51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36D-64F1-4347-AA91-AE284097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9CA9-02A7-42B2-93B9-FEE3B884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D12D-9884-412D-B128-2358941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333360"/>
            <a:ext cx="70563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30B3-9D51-4FA3-B946-FA90EC3F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FB73-78F5-4555-A2EE-CF76A0E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712-C01D-44E4-A6EF-89CEC376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17A3-9D4A-471A-8CAB-A2F80BF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70D6-0ACC-426D-83C0-535AB75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A674-2671-4702-A388-E48C7E8D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FD41-B139-4159-BDB2-00ED39D5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78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638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920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78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638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585A-67CD-4754-A36C-B1B20947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8C3E-D345-4739-92C3-034B5EC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88F8-7158-4953-A698-AA0BD5E5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FC8B-5B69-47E8-96A0-B062801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FC2E-1B53-463B-A232-DDE47B9B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5E01-CE59-471A-92CC-277C8AB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FC7-4A77-4609-8583-31F0A5C4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92000" y="333360"/>
            <a:ext cx="70563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6A5C-A09D-4618-879F-EE3DFC4E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62F0-A128-4025-8CF1-CF4947A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4A37-50F3-43B9-9B14-91E48B44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BBE7-A0D9-477F-978A-40483071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AB7E-3A82-4357-A6B2-EDBDCA2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8505-146A-45F8-9DB1-A5C38229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78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638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6920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078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638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99E0-EF0E-46EA-BB8A-7503BF2B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B2C-8766-4B1A-85A7-18ADCB0B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D06-B34F-422E-9205-63373B62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000" y="333360"/>
            <a:ext cx="70563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C23-5C14-4E96-8F63-0F766608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083-7EAE-492C-A41D-959A56B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D0E-0467-4018-90F7-AF4F64C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29D-E8D6-406B-8ACB-463E0CF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668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2228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67CB-12AD-490E-B6C4-8383FE22FC76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828800" y="1219320"/>
            <a:ext cx="6477120" cy="360"/>
            <a:chOff x="1828800" y="1219320"/>
            <a:chExt cx="6477120" cy="360"/>
          </a:xfrm>
        </p:grpSpPr>
        <p:sp>
          <p:nvSpPr>
            <p:cNvPr id="6" name="直接连接符 12320"/>
            <p:cNvSpPr/>
            <p:nvPr/>
          </p:nvSpPr>
          <p:spPr>
            <a:xfrm>
              <a:off x="1828800" y="1219320"/>
              <a:ext cx="6477120" cy="0"/>
            </a:xfrm>
            <a:prstGeom prst="line">
              <a:avLst/>
            </a:prstGeom>
            <a:ln cap="rnd" w="38160">
              <a:solidFill>
                <a:srgbClr val="7790d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1828800" y="121932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79B6-FA36-4281-834F-581421EA326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9C22-009F-489C-84F1-E250D9E1FF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206A-3357-404B-8EFF-68D6A31B6B96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1842840"/>
            <a:ext cx="699444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梦幻钟表企业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PPT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模板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굴림"/>
              </a:rPr>
              <a:t>下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05120" y="3352680"/>
            <a:ext cx="6476760" cy="360"/>
            <a:chOff x="1905120" y="3352680"/>
            <a:chExt cx="6476760" cy="360"/>
          </a:xfrm>
        </p:grpSpPr>
        <p:sp>
          <p:nvSpPr>
            <p:cNvPr id="128" name="直接连接符 33795"/>
            <p:cNvSpPr/>
            <p:nvPr/>
          </p:nvSpPr>
          <p:spPr>
            <a:xfrm>
              <a:off x="1905120" y="3352680"/>
              <a:ext cx="6476760" cy="0"/>
            </a:xfrm>
            <a:prstGeom prst="line">
              <a:avLst/>
            </a:prstGeom>
            <a:ln cap="rnd" w="38160">
              <a:solidFill>
                <a:srgbClr val="7790d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905120" y="3352680"/>
              <a:ext cx="6476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92360" y="3809880"/>
            <a:ext cx="69832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Related Docum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Chart Docum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内容占位符 35843" descr=""/>
          <p:cNvPicPr/>
          <p:nvPr/>
        </p:nvPicPr>
        <p:blipFill>
          <a:blip r:embed="rId1"/>
          <a:stretch/>
        </p:blipFill>
        <p:spPr>
          <a:xfrm>
            <a:off x="1692360" y="1841400"/>
            <a:ext cx="7056360" cy="4013280"/>
          </a:xfrm>
          <a:prstGeom prst="rect">
            <a:avLst/>
          </a:prstGeom>
          <a:ln w="0">
            <a:noFill/>
          </a:ln>
        </p:spPr>
      </p:pic>
      <p:sp>
        <p:nvSpPr>
          <p:cNvPr id="138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ae7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2ae7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5976-E226-4258-8F07-59A6B71F52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Schedule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eview high-level schedule mileston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37891"/>
          <p:cNvGrpSpPr/>
          <p:nvPr/>
        </p:nvGrpSpPr>
        <p:grpSpPr>
          <a:xfrm>
            <a:off x="1909080" y="4578480"/>
            <a:ext cx="6932880" cy="865800"/>
            <a:chOff x="1909080" y="4578480"/>
            <a:chExt cx="6932880" cy="865800"/>
          </a:xfrm>
        </p:grpSpPr>
        <p:sp>
          <p:nvSpPr>
            <p:cNvPr id="147" name="右箭头 37892"/>
            <p:cNvSpPr/>
            <p:nvPr/>
          </p:nvSpPr>
          <p:spPr>
            <a:xfrm>
              <a:off x="1989000" y="4578480"/>
              <a:ext cx="6852960" cy="763560"/>
            </a:xfrm>
            <a:prstGeom prst="rightArrow">
              <a:avLst>
                <a:gd name="adj1" fmla="val 36602"/>
                <a:gd name="adj2" fmla="val 36814"/>
              </a:avLst>
            </a:prstGeom>
            <a:gradFill rotWithShape="0">
              <a:gsLst>
                <a:gs pos="0">
                  <a:srgbClr val="7790d7"/>
                </a:gs>
                <a:gs pos="100000">
                  <a:srgbClr val="3fc5cf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47568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37893"/>
            <p:cNvSpPr/>
            <p:nvPr/>
          </p:nvSpPr>
          <p:spPr>
            <a:xfrm>
              <a:off x="1909080" y="5137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37894"/>
            <p:cNvSpPr/>
            <p:nvPr/>
          </p:nvSpPr>
          <p:spPr>
            <a:xfrm>
              <a:off x="2472840" y="51372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37895"/>
            <p:cNvSpPr/>
            <p:nvPr/>
          </p:nvSpPr>
          <p:spPr>
            <a:xfrm>
              <a:off x="3072600" y="51372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37896"/>
            <p:cNvSpPr/>
            <p:nvPr/>
          </p:nvSpPr>
          <p:spPr>
            <a:xfrm>
              <a:off x="3711240" y="5137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37897"/>
            <p:cNvSpPr/>
            <p:nvPr/>
          </p:nvSpPr>
          <p:spPr>
            <a:xfrm>
              <a:off x="4321800" y="51372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37898"/>
            <p:cNvSpPr/>
            <p:nvPr/>
          </p:nvSpPr>
          <p:spPr>
            <a:xfrm>
              <a:off x="4996440" y="51372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37899"/>
            <p:cNvSpPr/>
            <p:nvPr/>
          </p:nvSpPr>
          <p:spPr>
            <a:xfrm>
              <a:off x="5572080" y="51372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Ju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37900"/>
            <p:cNvSpPr/>
            <p:nvPr/>
          </p:nvSpPr>
          <p:spPr>
            <a:xfrm>
              <a:off x="6211080" y="5137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37901"/>
            <p:cNvSpPr/>
            <p:nvPr/>
          </p:nvSpPr>
          <p:spPr>
            <a:xfrm>
              <a:off x="6809760" y="51372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37902"/>
            <p:cNvSpPr/>
            <p:nvPr/>
          </p:nvSpPr>
          <p:spPr>
            <a:xfrm>
              <a:off x="7398720" y="513720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37903"/>
            <p:cNvSpPr/>
            <p:nvPr/>
          </p:nvSpPr>
          <p:spPr>
            <a:xfrm>
              <a:off x="8048520" y="5137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流程图: 过程 37904"/>
          <p:cNvSpPr/>
          <p:nvPr/>
        </p:nvSpPr>
        <p:spPr>
          <a:xfrm>
            <a:off x="2071800" y="3141720"/>
            <a:ext cx="2609640" cy="239760"/>
          </a:xfrm>
          <a:prstGeom prst="flowChartProcess">
            <a:avLst/>
          </a:prstGeom>
          <a:solidFill>
            <a:srgbClr val="7790d7"/>
          </a:solidFill>
          <a:ln w="0">
            <a:noFill/>
          </a:ln>
          <a:effectLst>
            <a:outerShdw dist="17819" dir="2700000" blurRad="0" rotWithShape="0">
              <a:srgbClr val="4756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h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流程图: 过程 37905"/>
          <p:cNvSpPr/>
          <p:nvPr/>
        </p:nvSpPr>
        <p:spPr>
          <a:xfrm>
            <a:off x="4681440" y="3621240"/>
            <a:ext cx="2040120" cy="239400"/>
          </a:xfrm>
          <a:prstGeom prst="flowChartProcess">
            <a:avLst/>
          </a:prstGeom>
          <a:solidFill>
            <a:srgbClr val="3fc5cf"/>
          </a:solidFill>
          <a:ln w="0">
            <a:noFill/>
          </a:ln>
          <a:effectLst>
            <a:outerShdw dist="17819" dir="2700000" blurRad="0" rotWithShape="0">
              <a:srgbClr val="2676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h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流程图: 过程 37906"/>
          <p:cNvSpPr/>
          <p:nvPr/>
        </p:nvSpPr>
        <p:spPr>
          <a:xfrm>
            <a:off x="6721560" y="4098960"/>
            <a:ext cx="1793880" cy="239760"/>
          </a:xfrm>
          <a:prstGeom prst="flowChartProcess">
            <a:avLst/>
          </a:prstGeom>
          <a:solidFill>
            <a:srgbClr val="c3be00"/>
          </a:solidFill>
          <a:ln w="0">
            <a:noFill/>
          </a:ln>
          <a:effectLst>
            <a:outerShdw dist="17819" dir="2700000" blurRad="0" rotWithShape="0">
              <a:srgbClr val="75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h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21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