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DE6-5F99-4B09-AD81-B48B59C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5D9-229D-43E7-80EF-10DF197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38D-44BE-4465-B7DC-008CB24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C73-0BE4-4914-8958-E973573F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C5B8-65FD-4792-87F1-0ABD811F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C68-ABC4-4CC5-ABB7-DC0EB078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9CF3-D196-489F-B967-E5F26EF4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BDEE-61BB-4CC7-A9D2-2ED27D9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D57-CB3F-455D-A271-509E2F97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4B77-1D74-49B0-88A2-215F8B5A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D719-9864-44FD-BFEE-E5134CB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551-6CA8-4FB2-AF62-323C8AD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C23-968A-4C7A-95E1-4829D65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0DB0-E8CF-49F8-9CE1-9A9A390B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07A-8D5C-47E8-923A-F8830CC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B6C-37EF-4A91-BB40-1DEFCB7F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462A-8244-40BE-A57C-53ECDFC8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169-1136-4536-968B-04D3141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90B-798B-405C-B7AB-FD5D7DEF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2A7-CB1C-4BC0-A2A4-53717ED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07E-9072-45D1-8815-3B7E4FD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9BB-AC10-4B62-A85B-95530B32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E7E-598A-4D96-95DC-8ECEAEC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D42-B1F0-4527-ACCE-76A7A10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C19-DB59-4469-9B5C-98A8E9B6279F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FAB8-1248-43ED-A20F-7C8C01B582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2FB-31BA-4E71-AD62-0A226964E0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11"/>
          <p:cNvSpPr/>
          <p:nvPr/>
        </p:nvSpPr>
        <p:spPr>
          <a:xfrm>
            <a:off x="2556000" y="2997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像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蚂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蚁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一</a:t>
            </a:r>
            <a:r>
              <a:rPr b="1" lang="zh-CN" sz="3600" spc="-1" strike="noStrike">
                <a:solidFill>
                  <a:srgbClr val="e46c0a"/>
                </a:solidFill>
                <a:latin typeface="华文楷体"/>
                <a:ea typeface="华文楷体"/>
              </a:rPr>
              <a:t>样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工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像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  <a:ea typeface="华文楷体"/>
              </a:rPr>
              <a:t>蝴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蝶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华文楷体"/>
              </a:rPr>
              <a:t>一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  <a:ea typeface="华文楷体"/>
              </a:rPr>
              <a:t>样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  <a:ea typeface="华文楷体"/>
              </a:rPr>
              <a:t>生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  <a:ea typeface="华文楷体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3074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84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组合 3080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90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饼形 19"/>
            <p:cNvSpPr/>
            <p:nvPr/>
          </p:nvSpPr>
          <p:spPr>
            <a:xfrm flipH="1" rot="10800000">
              <a:off x="3686760" y="27842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组合 3086"/>
          <p:cNvGrpSpPr/>
          <p:nvPr/>
        </p:nvGrpSpPr>
        <p:grpSpPr>
          <a:xfrm>
            <a:off x="2777760" y="1915560"/>
            <a:ext cx="3522600" cy="3522600"/>
            <a:chOff x="2777760" y="1915560"/>
            <a:chExt cx="3522600" cy="3522600"/>
          </a:xfrm>
        </p:grpSpPr>
        <p:sp>
          <p:nvSpPr>
            <p:cNvPr id="96" name="饼形 24"/>
            <p:cNvSpPr/>
            <p:nvPr/>
          </p:nvSpPr>
          <p:spPr>
            <a:xfrm flipV="1" rot="10800000">
              <a:off x="2777760" y="19152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25"/>
            <p:cNvSpPr/>
            <p:nvPr/>
          </p:nvSpPr>
          <p:spPr>
            <a:xfrm flipV="1" rot="10800000">
              <a:off x="3153960" y="22993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5" y="2770178"/>
                    <a:pt x="1382221" y="2770176"/>
                    <a:pt x="1380810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饼形 26"/>
            <p:cNvSpPr/>
            <p:nvPr/>
          </p:nvSpPr>
          <p:spPr>
            <a:xfrm flipV="1" rot="10800000">
              <a:off x="3404520" y="25596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饼形 27"/>
            <p:cNvSpPr/>
            <p:nvPr/>
          </p:nvSpPr>
          <p:spPr>
            <a:xfrm flipV="1" rot="10800000">
              <a:off x="3647520" y="2811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28"/>
            <p:cNvSpPr/>
            <p:nvPr/>
          </p:nvSpPr>
          <p:spPr>
            <a:xfrm flipV="1" rot="10800000">
              <a:off x="3805200" y="29577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3092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102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饼形 34"/>
            <p:cNvSpPr/>
            <p:nvPr/>
          </p:nvSpPr>
          <p:spPr>
            <a:xfrm flipH="1" flipV="1" rot="10800000">
              <a:off x="368208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35"/>
            <p:cNvSpPr/>
            <p:nvPr/>
          </p:nvSpPr>
          <p:spPr>
            <a:xfrm flipH="1" flipV="1" rot="10800000">
              <a:off x="383688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3098"/>
          <p:cNvGrpSpPr/>
          <p:nvPr/>
        </p:nvGrpSpPr>
        <p:grpSpPr>
          <a:xfrm>
            <a:off x="2777400" y="1922760"/>
            <a:ext cx="3522600" cy="3522600"/>
            <a:chOff x="2777400" y="1922760"/>
            <a:chExt cx="3522600" cy="3522600"/>
          </a:xfrm>
        </p:grpSpPr>
        <p:sp>
          <p:nvSpPr>
            <p:cNvPr id="108" name="饼形 38"/>
            <p:cNvSpPr/>
            <p:nvPr/>
          </p:nvSpPr>
          <p:spPr>
            <a:xfrm flipH="1" flipV="1" rot="5400000">
              <a:off x="2777040" y="19224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39"/>
            <p:cNvSpPr/>
            <p:nvPr/>
          </p:nvSpPr>
          <p:spPr>
            <a:xfrm flipH="1" flipV="1" rot="5400000">
              <a:off x="3161160" y="22986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饼形 40"/>
            <p:cNvSpPr/>
            <p:nvPr/>
          </p:nvSpPr>
          <p:spPr>
            <a:xfrm flipH="1" flipV="1" rot="5400000">
              <a:off x="3421440" y="254952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饼形 41"/>
            <p:cNvSpPr/>
            <p:nvPr/>
          </p:nvSpPr>
          <p:spPr>
            <a:xfrm flipH="1" flipV="1" rot="5400000">
              <a:off x="3673800" y="27921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42"/>
            <p:cNvSpPr/>
            <p:nvPr/>
          </p:nvSpPr>
          <p:spPr>
            <a:xfrm flipH="1" flipV="1" rot="5400000">
              <a:off x="3819600" y="29494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组合 3104"/>
          <p:cNvGrpSpPr/>
          <p:nvPr/>
        </p:nvGrpSpPr>
        <p:grpSpPr>
          <a:xfrm>
            <a:off x="2771640" y="1916280"/>
            <a:ext cx="3522960" cy="3522600"/>
            <a:chOff x="2771640" y="1916280"/>
            <a:chExt cx="3522960" cy="3522600"/>
          </a:xfrm>
        </p:grpSpPr>
        <p:sp>
          <p:nvSpPr>
            <p:cNvPr id="114" name="饼形 45"/>
            <p:cNvSpPr/>
            <p:nvPr/>
          </p:nvSpPr>
          <p:spPr>
            <a:xfrm rot="5400000">
              <a:off x="2771640" y="19159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46"/>
            <p:cNvSpPr/>
            <p:nvPr/>
          </p:nvSpPr>
          <p:spPr>
            <a:xfrm rot="5400000">
              <a:off x="3139920" y="22921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饼形 47"/>
            <p:cNvSpPr/>
            <p:nvPr/>
          </p:nvSpPr>
          <p:spPr>
            <a:xfrm rot="5400000">
              <a:off x="3390840" y="25524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饼形 48"/>
            <p:cNvSpPr/>
            <p:nvPr/>
          </p:nvSpPr>
          <p:spPr>
            <a:xfrm rot="5400000">
              <a:off x="3627000" y="27990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49"/>
            <p:cNvSpPr/>
            <p:nvPr/>
          </p:nvSpPr>
          <p:spPr>
            <a:xfrm rot="5400000">
              <a:off x="3793680" y="29523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组合 3110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120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饼形 55"/>
            <p:cNvSpPr/>
            <p:nvPr/>
          </p:nvSpPr>
          <p:spPr>
            <a:xfrm flipH="1" rot="16200000">
              <a:off x="369432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50203" y="1240261"/>
                  </a:moveTo>
                  <a:cubicBezTo>
                    <a:pt x="1117826" y="1375199"/>
                    <a:pt x="933416" y="1458908"/>
                    <a:pt x="729455" y="1458908"/>
                  </a:cubicBezTo>
                  <a:cubicBezTo>
                    <a:pt x="726086" y="1458908"/>
                    <a:pt x="722722" y="1458885"/>
                    <a:pt x="719414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组合 3116"/>
          <p:cNvGrpSpPr/>
          <p:nvPr/>
        </p:nvGrpSpPr>
        <p:grpSpPr>
          <a:xfrm>
            <a:off x="2777760" y="1922040"/>
            <a:ext cx="3522600" cy="3522600"/>
            <a:chOff x="2777760" y="1922040"/>
            <a:chExt cx="3522600" cy="3522600"/>
          </a:xfrm>
        </p:grpSpPr>
        <p:sp>
          <p:nvSpPr>
            <p:cNvPr id="126" name="饼形 60"/>
            <p:cNvSpPr/>
            <p:nvPr/>
          </p:nvSpPr>
          <p:spPr>
            <a:xfrm flipV="1" rot="16200000">
              <a:off x="2777760" y="192168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61"/>
            <p:cNvSpPr/>
            <p:nvPr/>
          </p:nvSpPr>
          <p:spPr>
            <a:xfrm flipV="1" rot="16200000">
              <a:off x="314604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饼形 62"/>
            <p:cNvSpPr/>
            <p:nvPr/>
          </p:nvSpPr>
          <p:spPr>
            <a:xfrm flipV="1" rot="16200000">
              <a:off x="3396600" y="25484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饼形 63"/>
            <p:cNvSpPr/>
            <p:nvPr/>
          </p:nvSpPr>
          <p:spPr>
            <a:xfrm flipV="1" rot="16200000">
              <a:off x="3633480" y="27914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64"/>
            <p:cNvSpPr/>
            <p:nvPr/>
          </p:nvSpPr>
          <p:spPr>
            <a:xfrm flipV="1" rot="16200000">
              <a:off x="3800520" y="29494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201276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努力工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4097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3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组合 4103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14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4109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14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组合 4115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5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4121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15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组合 4127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16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组合 4133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17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组合 4139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7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Box 50"/>
          <p:cNvSpPr/>
          <p:nvPr/>
        </p:nvSpPr>
        <p:spPr>
          <a:xfrm>
            <a:off x="826920" y="1052640"/>
            <a:ext cx="74995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繁琐拘束的工作与自由自在的生活，是两个相互矛盾的主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因为要自由，我们不愿意受到工作的禁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因为要生存，我们又必须接受工作的禁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个人都喜欢美丽多彩、自由自在的生活，希望得到尽情的娱乐和享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把握好工作和生活，是每个人的必修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像蚂蚁一样工作，像蝴蝶一样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或许是我们协调工作与生活矛盾一个较好的态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4146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83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组合 4152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189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文本框 8200"/>
          <p:cNvSpPr/>
          <p:nvPr/>
        </p:nvSpPr>
        <p:spPr>
          <a:xfrm>
            <a:off x="1692360" y="907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5121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96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组合 5127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02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组合 5133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208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组合 513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214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5145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220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组合 5151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226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组合 5157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232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组合 5163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238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组合 5169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244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58"/>
            <p:cNvSpPr/>
            <p:nvPr/>
          </p:nvSpPr>
          <p:spPr>
            <a:xfrm rot="10800000">
              <a:off x="2278800" y="20602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59"/>
            <p:cNvSpPr/>
            <p:nvPr/>
          </p:nvSpPr>
          <p:spPr>
            <a:xfrm rot="10800000">
              <a:off x="2369160" y="21506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饼形 65"/>
            <p:cNvSpPr/>
            <p:nvPr/>
          </p:nvSpPr>
          <p:spPr>
            <a:xfrm rot="10800000">
              <a:off x="2455920" y="22352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饼形 66"/>
            <p:cNvSpPr/>
            <p:nvPr/>
          </p:nvSpPr>
          <p:spPr>
            <a:xfrm rot="10800000">
              <a:off x="2512080" y="22950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5176"/>
          <p:cNvGrpSpPr/>
          <p:nvPr/>
        </p:nvGrpSpPr>
        <p:grpSpPr>
          <a:xfrm>
            <a:off x="2124000" y="2852280"/>
            <a:ext cx="1279440" cy="1279800"/>
            <a:chOff x="2124000" y="2852280"/>
            <a:chExt cx="1279440" cy="1279800"/>
          </a:xfrm>
        </p:grpSpPr>
        <p:sp>
          <p:nvSpPr>
            <p:cNvPr id="251" name="饼形 82"/>
            <p:cNvSpPr/>
            <p:nvPr/>
          </p:nvSpPr>
          <p:spPr>
            <a:xfrm rot="10800000">
              <a:off x="2124000" y="2852280"/>
              <a:ext cx="1279440" cy="12798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83"/>
            <p:cNvSpPr/>
            <p:nvPr/>
          </p:nvSpPr>
          <p:spPr>
            <a:xfrm rot="10800000">
              <a:off x="2260440" y="2985480"/>
              <a:ext cx="1006560" cy="100692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89" y="2355981"/>
                  </a:moveTo>
                  <a:cubicBezTo>
                    <a:pt x="2122788" y="2612069"/>
                    <a:pt x="1772674" y="2770919"/>
                    <a:pt x="1385459" y="2770919"/>
                  </a:cubicBezTo>
                  <a:cubicBezTo>
                    <a:pt x="1384026" y="2770919"/>
                    <a:pt x="1382594" y="2770917"/>
                    <a:pt x="1381185" y="2770913"/>
                  </a:cubicBezTo>
                  <a:lnTo>
                    <a:pt x="1385460" y="1385460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饼形 84"/>
            <p:cNvSpPr/>
            <p:nvPr/>
          </p:nvSpPr>
          <p:spPr>
            <a:xfrm rot="10800000">
              <a:off x="2344680" y="307800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6">
                  <a:moveTo>
                    <a:pt x="1936049" y="1921201"/>
                  </a:moveTo>
                  <a:cubicBezTo>
                    <a:pt x="1731042" y="2130030"/>
                    <a:pt x="1445539" y="2259565"/>
                    <a:pt x="1129782" y="2259565"/>
                  </a:cubicBezTo>
                  <a:cubicBezTo>
                    <a:pt x="1126657" y="2259565"/>
                    <a:pt x="1123535" y="2259552"/>
                    <a:pt x="1120464" y="2259527"/>
                  </a:cubicBezTo>
                  <a:lnTo>
                    <a:pt x="1129783" y="112978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饼形 85"/>
            <p:cNvSpPr/>
            <p:nvPr/>
          </p:nvSpPr>
          <p:spPr>
            <a:xfrm rot="10800000">
              <a:off x="2433600" y="316368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6">
                  <a:moveTo>
                    <a:pt x="1516634" y="1505003"/>
                  </a:moveTo>
                  <a:cubicBezTo>
                    <a:pt x="1356039" y="1668593"/>
                    <a:pt x="1132386" y="1770066"/>
                    <a:pt x="885033" y="1770066"/>
                  </a:cubicBezTo>
                  <a:cubicBezTo>
                    <a:pt x="880986" y="1770066"/>
                    <a:pt x="876945" y="1770039"/>
                    <a:pt x="872971" y="1769985"/>
                  </a:cubicBezTo>
                  <a:lnTo>
                    <a:pt x="885033" y="885033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饼形 86"/>
            <p:cNvSpPr/>
            <p:nvPr/>
          </p:nvSpPr>
          <p:spPr>
            <a:xfrm rot="10800000">
              <a:off x="2496600" y="322380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14689" y="1377711"/>
                    <a:pt x="931866" y="1459759"/>
                    <a:pt x="729880" y="1459759"/>
                  </a:cubicBezTo>
                  <a:cubicBezTo>
                    <a:pt x="726509" y="1459759"/>
                    <a:pt x="723143" y="1459736"/>
                    <a:pt x="719833" y="1459691"/>
                  </a:cubicBezTo>
                  <a:lnTo>
                    <a:pt x="729879" y="72987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矩形 87"/>
          <p:cNvSpPr/>
          <p:nvPr/>
        </p:nvSpPr>
        <p:spPr>
          <a:xfrm>
            <a:off x="2843280" y="285264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组合 5183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58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饼形 96"/>
            <p:cNvSpPr/>
            <p:nvPr/>
          </p:nvSpPr>
          <p:spPr>
            <a:xfrm rot="10800000">
              <a:off x="2283840" y="392400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1"/>
                  </a:moveTo>
                  <a:cubicBezTo>
                    <a:pt x="2119923" y="2611390"/>
                    <a:pt x="1770087" y="2770531"/>
                    <a:pt x="1383138" y="2770531"/>
                  </a:cubicBezTo>
                  <a:cubicBezTo>
                    <a:pt x="1381703" y="2770531"/>
                    <a:pt x="1380269" y="2770529"/>
                    <a:pt x="1378858" y="2770525"/>
                  </a:cubicBezTo>
                  <a:lnTo>
                    <a:pt x="1383139" y="1385265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饼形 97"/>
            <p:cNvSpPr/>
            <p:nvPr/>
          </p:nvSpPr>
          <p:spPr>
            <a:xfrm rot="10800000">
              <a:off x="2377800" y="401796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28591" y="2127015"/>
                    <a:pt x="1443493" y="2256366"/>
                    <a:pt x="1128183" y="2256366"/>
                  </a:cubicBezTo>
                  <a:cubicBezTo>
                    <a:pt x="1125062" y="2256366"/>
                    <a:pt x="1121945" y="2256353"/>
                    <a:pt x="1118878" y="2256328"/>
                  </a:cubicBezTo>
                  <a:lnTo>
                    <a:pt x="1128183" y="112818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饼形 98"/>
            <p:cNvSpPr/>
            <p:nvPr/>
          </p:nvSpPr>
          <p:spPr>
            <a:xfrm rot="10800000">
              <a:off x="2468160" y="410616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54916" y="1670056"/>
                    <a:pt x="1131254" y="1771951"/>
                    <a:pt x="883850" y="1771951"/>
                  </a:cubicBezTo>
                  <a:cubicBezTo>
                    <a:pt x="879798" y="1771951"/>
                    <a:pt x="875753" y="1771924"/>
                    <a:pt x="871775" y="1771870"/>
                  </a:cubicBezTo>
                  <a:lnTo>
                    <a:pt x="883849" y="88597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饼形 99"/>
            <p:cNvSpPr/>
            <p:nvPr/>
          </p:nvSpPr>
          <p:spPr>
            <a:xfrm rot="10800000">
              <a:off x="2526840" y="416952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12966" y="1375583"/>
                    <a:pt x="930426" y="1457504"/>
                    <a:pt x="728752" y="1457504"/>
                  </a:cubicBezTo>
                  <a:cubicBezTo>
                    <a:pt x="725386" y="1457504"/>
                    <a:pt x="722026" y="1457481"/>
                    <a:pt x="718721" y="1457436"/>
                  </a:cubicBezTo>
                  <a:lnTo>
                    <a:pt x="728751" y="728752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矩形 100"/>
          <p:cNvSpPr/>
          <p:nvPr/>
        </p:nvSpPr>
        <p:spPr>
          <a:xfrm>
            <a:off x="2843280" y="378936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组合 5190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65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组合 5197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72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蚂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工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组合 5204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79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5210"/>
          <p:cNvGrpSpPr/>
          <p:nvPr/>
        </p:nvGrpSpPr>
        <p:grpSpPr>
          <a:xfrm>
            <a:off x="2124000" y="2852280"/>
            <a:ext cx="1279440" cy="1279800"/>
            <a:chOff x="2124000" y="2852280"/>
            <a:chExt cx="1279440" cy="1279800"/>
          </a:xfrm>
        </p:grpSpPr>
        <p:sp>
          <p:nvSpPr>
            <p:cNvPr id="285" name="饼形 82"/>
            <p:cNvSpPr/>
            <p:nvPr/>
          </p:nvSpPr>
          <p:spPr>
            <a:xfrm rot="10800000">
              <a:off x="2124000" y="2852280"/>
              <a:ext cx="1279440" cy="12798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饼形 83"/>
            <p:cNvSpPr/>
            <p:nvPr/>
          </p:nvSpPr>
          <p:spPr>
            <a:xfrm rot="10800000">
              <a:off x="2260440" y="2985480"/>
              <a:ext cx="1006560" cy="100692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89" y="2355981"/>
                  </a:moveTo>
                  <a:cubicBezTo>
                    <a:pt x="2122788" y="2612069"/>
                    <a:pt x="1772674" y="2770919"/>
                    <a:pt x="1385459" y="2770919"/>
                  </a:cubicBezTo>
                  <a:cubicBezTo>
                    <a:pt x="1384026" y="2770919"/>
                    <a:pt x="1382594" y="2770917"/>
                    <a:pt x="1381185" y="2770913"/>
                  </a:cubicBezTo>
                  <a:lnTo>
                    <a:pt x="1385460" y="1385460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84"/>
            <p:cNvSpPr/>
            <p:nvPr/>
          </p:nvSpPr>
          <p:spPr>
            <a:xfrm rot="10800000">
              <a:off x="2344680" y="307800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6">
                  <a:moveTo>
                    <a:pt x="1936049" y="1921201"/>
                  </a:moveTo>
                  <a:cubicBezTo>
                    <a:pt x="1731042" y="2130030"/>
                    <a:pt x="1445539" y="2259565"/>
                    <a:pt x="1129782" y="2259565"/>
                  </a:cubicBezTo>
                  <a:cubicBezTo>
                    <a:pt x="1126657" y="2259565"/>
                    <a:pt x="1123535" y="2259552"/>
                    <a:pt x="1120464" y="2259527"/>
                  </a:cubicBezTo>
                  <a:lnTo>
                    <a:pt x="1129783" y="112978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85"/>
            <p:cNvSpPr/>
            <p:nvPr/>
          </p:nvSpPr>
          <p:spPr>
            <a:xfrm rot="10800000">
              <a:off x="2433600" y="316368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6">
                  <a:moveTo>
                    <a:pt x="1516634" y="1505003"/>
                  </a:moveTo>
                  <a:cubicBezTo>
                    <a:pt x="1356039" y="1668593"/>
                    <a:pt x="1132386" y="1770066"/>
                    <a:pt x="885033" y="1770066"/>
                  </a:cubicBezTo>
                  <a:cubicBezTo>
                    <a:pt x="880986" y="1770066"/>
                    <a:pt x="876945" y="1770039"/>
                    <a:pt x="872971" y="1769985"/>
                  </a:cubicBezTo>
                  <a:lnTo>
                    <a:pt x="885033" y="885033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86"/>
            <p:cNvSpPr/>
            <p:nvPr/>
          </p:nvSpPr>
          <p:spPr>
            <a:xfrm rot="10800000">
              <a:off x="2496600" y="322380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14689" y="1377711"/>
                    <a:pt x="931866" y="1459759"/>
                    <a:pt x="729880" y="1459759"/>
                  </a:cubicBezTo>
                  <a:cubicBezTo>
                    <a:pt x="726509" y="1459759"/>
                    <a:pt x="723143" y="1459736"/>
                    <a:pt x="719833" y="1459691"/>
                  </a:cubicBezTo>
                  <a:lnTo>
                    <a:pt x="729879" y="72987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矩形 87"/>
          <p:cNvSpPr/>
          <p:nvPr/>
        </p:nvSpPr>
        <p:spPr>
          <a:xfrm>
            <a:off x="2843280" y="285264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蝴蝶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组合 5217"/>
          <p:cNvGrpSpPr/>
          <p:nvPr/>
        </p:nvGrpSpPr>
        <p:grpSpPr>
          <a:xfrm>
            <a:off x="2124000" y="3789360"/>
            <a:ext cx="1316160" cy="1316160"/>
            <a:chOff x="2124000" y="3789360"/>
            <a:chExt cx="1316160" cy="1316160"/>
          </a:xfrm>
        </p:grpSpPr>
        <p:sp>
          <p:nvSpPr>
            <p:cNvPr id="292" name="饼形 95"/>
            <p:cNvSpPr/>
            <p:nvPr/>
          </p:nvSpPr>
          <p:spPr>
            <a:xfrm rot="10800000">
              <a:off x="2124000" y="378936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96"/>
            <p:cNvSpPr/>
            <p:nvPr/>
          </p:nvSpPr>
          <p:spPr>
            <a:xfrm rot="10800000">
              <a:off x="2264760" y="392724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1"/>
                  </a:moveTo>
                  <a:cubicBezTo>
                    <a:pt x="2119923" y="2611390"/>
                    <a:pt x="1770087" y="2770531"/>
                    <a:pt x="1383138" y="2770531"/>
                  </a:cubicBezTo>
                  <a:cubicBezTo>
                    <a:pt x="1381703" y="2770531"/>
                    <a:pt x="1380269" y="2770529"/>
                    <a:pt x="1378858" y="2770525"/>
                  </a:cubicBezTo>
                  <a:lnTo>
                    <a:pt x="1383139" y="1385265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97"/>
            <p:cNvSpPr/>
            <p:nvPr/>
          </p:nvSpPr>
          <p:spPr>
            <a:xfrm rot="10800000">
              <a:off x="2358720" y="402120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28591" y="2127015"/>
                    <a:pt x="1443493" y="2256366"/>
                    <a:pt x="1128183" y="2256366"/>
                  </a:cubicBezTo>
                  <a:cubicBezTo>
                    <a:pt x="1125062" y="2256366"/>
                    <a:pt x="1121945" y="2256353"/>
                    <a:pt x="1118878" y="2256328"/>
                  </a:cubicBezTo>
                  <a:lnTo>
                    <a:pt x="1128183" y="112818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98"/>
            <p:cNvSpPr/>
            <p:nvPr/>
          </p:nvSpPr>
          <p:spPr>
            <a:xfrm rot="10800000">
              <a:off x="2449080" y="410940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54916" y="1670056"/>
                    <a:pt x="1131254" y="1771951"/>
                    <a:pt x="883850" y="1771951"/>
                  </a:cubicBezTo>
                  <a:cubicBezTo>
                    <a:pt x="879798" y="1771951"/>
                    <a:pt x="875753" y="1771924"/>
                    <a:pt x="871775" y="1771870"/>
                  </a:cubicBezTo>
                  <a:lnTo>
                    <a:pt x="883849" y="88597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饼形 99"/>
            <p:cNvSpPr/>
            <p:nvPr/>
          </p:nvSpPr>
          <p:spPr>
            <a:xfrm rot="10800000">
              <a:off x="2507760" y="417276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12966" y="1375583"/>
                    <a:pt x="930426" y="1457504"/>
                    <a:pt x="728752" y="1457504"/>
                  </a:cubicBezTo>
                  <a:cubicBezTo>
                    <a:pt x="725386" y="1457504"/>
                    <a:pt x="722026" y="1457481"/>
                    <a:pt x="718721" y="1457436"/>
                  </a:cubicBezTo>
                  <a:lnTo>
                    <a:pt x="728751" y="728752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矩形 100"/>
          <p:cNvSpPr/>
          <p:nvPr/>
        </p:nvSpPr>
        <p:spPr>
          <a:xfrm>
            <a:off x="2843280" y="378936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努力工作，享受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6146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300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组合 615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306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组合 6158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312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组合 6164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318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6170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324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6176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330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组合 6182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336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组合 6188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342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组合 6194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48" name="组合 6195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49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6201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55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6207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61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组合 6214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368" name="组合 6215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369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6221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375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6227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381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组合 6233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387" name="组合 6234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388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6240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394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6246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00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组合 6252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406" name="组合 6253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407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组合 6259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413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6265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419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组合 6271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25" name="组合 6272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26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6278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32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6284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38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组合 6290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44" name="组合 6291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45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组合 6297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51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6303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57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圆角矩形 107"/>
          <p:cNvSpPr/>
          <p:nvPr/>
        </p:nvSpPr>
        <p:spPr>
          <a:xfrm>
            <a:off x="1062000" y="1865160"/>
            <a:ext cx="701208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柔弱的生灵，旺盛的生命力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恶劣的自然现象，变幻的暴风骤雨，残酷的竞争，使得这些弱小的生灵时常会面临灾难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些可爱的生灵，千百年来时刻充满激情，始终斗志昂扬、生生不息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遇敌时全力抗争，遇水时结球过河，遇灾时倾巢搬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的适应能力极强，森林、田野、城市、农村，乃至钢筋水泥的繁华大厦，到处都能见到它们的身影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弱小的身躯不能改变周围的环境，但是它们却能够很快的改变自己适应环境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先学会适应，再学习生存，这是蚂蚁带来的启迪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蚂蚁一样工作， 积极顽强，吃苦耐劳，不断努力，一点点的积累，永不言败，永不气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组合 6310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464" name="组合 6311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465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组合 6317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471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6323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477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组合 6329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83" name="组合 6330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84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6336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90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6342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96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组合 634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502" name="组合 634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50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组合 635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50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组合 636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51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Text Box 250"/>
          <p:cNvSpPr/>
          <p:nvPr/>
        </p:nvSpPr>
        <p:spPr>
          <a:xfrm>
            <a:off x="4114440" y="549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43"/>
                </a:solidFill>
                <a:latin typeface="Arial"/>
              </a:rPr>
              <a:t>蚂 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38" descr="21980615&amp;fm=0&amp;gp=0"/>
          <p:cNvPicPr/>
          <p:nvPr/>
        </p:nvPicPr>
        <p:blipFill>
          <a:blip r:embed="rId2"/>
          <a:stretch/>
        </p:blipFill>
        <p:spPr>
          <a:xfrm>
            <a:off x="5364000" y="260280"/>
            <a:ext cx="133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组合 7170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52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组合 7176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53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组合 7182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53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组合 7188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54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7" name="组合 7194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54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组合 7200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55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9" name="组合 7206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56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5" name="组合 7212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56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组合 7218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572" name="组合 7219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57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组合 7225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57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组合 7231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58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组合 723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592" name="组合 723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59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724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59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725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60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蝴蝶给人的感觉，光鲜亮丽、美丽自由、无拘无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从庄周梦蝶到梁祝化蝶，所追逐与表达的都是一种能够无拘无束、自主自在地把握生活的美好意境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或许我们不能掌控命运，但是我们可以掌控自己的态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蝴蝶一样生活娱乐，在自由翩跹中，悠然自乐，浑然忘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其实蝴蝶的生命远不如表面看到的那么绚丽自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蝴蝶的一生要经过卵、幼虫、蛹和成虫四个发育阶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每一只蝴蝶破茧而出时，都要经过黑暗和痛苦的过程，没有任何外来力量可以帮得上忙，任何加速破茧的企图，都会成为让它死亡的前奏，除了耐心等待，蝴蝶别无选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但是，一旦冲出黑暗、破茧而出，蝴蝶就尽情展示美丽，享受自由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组合 725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612" name="组合 725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61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组合 726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61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组合 727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62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Text Box 116"/>
          <p:cNvSpPr/>
          <p:nvPr/>
        </p:nvSpPr>
        <p:spPr>
          <a:xfrm>
            <a:off x="4108320" y="3999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0000"/>
                </a:solidFill>
                <a:latin typeface="Arial"/>
              </a:rPr>
              <a:t>蝴 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119" descr="2078815_093957005427_2"/>
          <p:cNvPicPr/>
          <p:nvPr/>
        </p:nvPicPr>
        <p:blipFill>
          <a:blip r:embed="rId2"/>
          <a:stretch/>
        </p:blipFill>
        <p:spPr>
          <a:xfrm>
            <a:off x="2195640" y="0"/>
            <a:ext cx="14158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圆角矩形 107"/>
          <p:cNvSpPr/>
          <p:nvPr/>
        </p:nvSpPr>
        <p:spPr>
          <a:xfrm>
            <a:off x="1066680" y="1862280"/>
            <a:ext cx="6797880" cy="413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组合 8194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63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组合 8200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64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组合 8206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64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8212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65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组合 8218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65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3" name="组合 8224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66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组合 8230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67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组合 8236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67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组合 8242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682" name="组合 8243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68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组合 8249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68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8255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69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矩形 69"/>
          <p:cNvSpPr/>
          <p:nvPr/>
        </p:nvSpPr>
        <p:spPr>
          <a:xfrm>
            <a:off x="2147760" y="2641680"/>
            <a:ext cx="2328840" cy="711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像蚂蚁一样工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 flipH="1">
            <a:off x="4458600" y="2641680"/>
            <a:ext cx="2390760" cy="711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像蝴蝶一样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组合 8263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703" name="组合 8264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704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饼形 85"/>
              <p:cNvSpPr/>
              <p:nvPr/>
            </p:nvSpPr>
            <p:spPr>
              <a:xfrm rot="10800000">
                <a:off x="1869480" y="23637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饼形 86"/>
              <p:cNvSpPr/>
              <p:nvPr/>
            </p:nvSpPr>
            <p:spPr>
              <a:xfrm rot="10800000">
                <a:off x="191736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饼形 87"/>
              <p:cNvSpPr/>
              <p:nvPr/>
            </p:nvSpPr>
            <p:spPr>
              <a:xfrm rot="10800000">
                <a:off x="1964880" y="245736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6" h="1774368">
                    <a:moveTo>
                      <a:pt x="1517222" y="1507849"/>
                    </a:moveTo>
                    <a:cubicBezTo>
                      <a:pt x="1356592" y="1672312"/>
                      <a:pt x="1132640" y="1774368"/>
                      <a:pt x="884913" y="1774368"/>
                    </a:cubicBezTo>
                    <a:cubicBezTo>
                      <a:pt x="880856" y="1774368"/>
                      <a:pt x="876805" y="1774341"/>
                      <a:pt x="872822" y="1774287"/>
                    </a:cubicBezTo>
                    <a:lnTo>
                      <a:pt x="884913" y="887184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饼形 88"/>
              <p:cNvSpPr/>
              <p:nvPr/>
            </p:nvSpPr>
            <p:spPr>
              <a:xfrm rot="10800000">
                <a:off x="1995480" y="248940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78" h="1459293">
                    <a:moveTo>
                      <a:pt x="1242903" y="1243801"/>
                    </a:moveTo>
                    <a:cubicBezTo>
                      <a:pt x="1111198" y="1376888"/>
                      <a:pt x="928707" y="1459292"/>
                      <a:pt x="727039" y="1459292"/>
                    </a:cubicBezTo>
                    <a:cubicBezTo>
                      <a:pt x="723669" y="1459292"/>
                      <a:pt x="720305" y="1459269"/>
                      <a:pt x="716996" y="1459224"/>
                    </a:cubicBezTo>
                    <a:lnTo>
                      <a:pt x="727039" y="729646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8270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710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饼形 91"/>
              <p:cNvSpPr/>
              <p:nvPr/>
            </p:nvSpPr>
            <p:spPr>
              <a:xfrm flipH="1" rot="10800000">
                <a:off x="1868760" y="236340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饼形 92"/>
              <p:cNvSpPr/>
              <p:nvPr/>
            </p:nvSpPr>
            <p:spPr>
              <a:xfrm flipH="1" rot="10800000">
                <a:off x="19206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饼形 93"/>
              <p:cNvSpPr/>
              <p:nvPr/>
            </p:nvSpPr>
            <p:spPr>
              <a:xfrm flipH="1" rot="10800000">
                <a:off x="1965600" y="24570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56590" y="1672312"/>
                      <a:pt x="1132638" y="1774368"/>
                      <a:pt x="884911" y="1774368"/>
                    </a:cubicBezTo>
                    <a:cubicBezTo>
                      <a:pt x="880854" y="1774368"/>
                      <a:pt x="876803" y="1774341"/>
                      <a:pt x="872820" y="1774287"/>
                    </a:cubicBezTo>
                    <a:lnTo>
                      <a:pt x="884910" y="887184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饼形 94"/>
              <p:cNvSpPr/>
              <p:nvPr/>
            </p:nvSpPr>
            <p:spPr>
              <a:xfrm flipH="1" rot="10800000">
                <a:off x="1996920" y="248904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6" y="1243802"/>
                    </a:moveTo>
                    <a:cubicBezTo>
                      <a:pt x="1111200" y="1376889"/>
                      <a:pt x="928710" y="1459293"/>
                      <a:pt x="727041" y="1459293"/>
                    </a:cubicBezTo>
                    <a:cubicBezTo>
                      <a:pt x="723671" y="1459293"/>
                      <a:pt x="720307" y="1459270"/>
                      <a:pt x="716998" y="1459225"/>
                    </a:cubicBezTo>
                    <a:lnTo>
                      <a:pt x="727041" y="729646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组合 8276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716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饼形 97"/>
              <p:cNvSpPr/>
              <p:nvPr/>
            </p:nvSpPr>
            <p:spPr>
              <a:xfrm flipV="1" rot="10800000">
                <a:off x="1868760" y="23655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饼形 98"/>
              <p:cNvSpPr/>
              <p:nvPr/>
            </p:nvSpPr>
            <p:spPr>
              <a:xfrm flipV="1" rot="10800000">
                <a:off x="191664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饼形 99"/>
              <p:cNvSpPr/>
              <p:nvPr/>
            </p:nvSpPr>
            <p:spPr>
              <a:xfrm flipV="1" rot="10800000">
                <a:off x="1964160" y="24642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56590" y="1672312"/>
                      <a:pt x="1132638" y="1774368"/>
                      <a:pt x="884911" y="1774368"/>
                    </a:cubicBezTo>
                    <a:cubicBezTo>
                      <a:pt x="880854" y="1774368"/>
                      <a:pt x="876803" y="1774341"/>
                      <a:pt x="872820" y="1774287"/>
                    </a:cubicBezTo>
                    <a:lnTo>
                      <a:pt x="884910" y="887184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饼形 100"/>
              <p:cNvSpPr/>
              <p:nvPr/>
            </p:nvSpPr>
            <p:spPr>
              <a:xfrm flipV="1" rot="10800000">
                <a:off x="1994760" y="249372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6" y="1243802"/>
                    </a:moveTo>
                    <a:cubicBezTo>
                      <a:pt x="1111200" y="1376889"/>
                      <a:pt x="928710" y="1459293"/>
                      <a:pt x="727041" y="1459293"/>
                    </a:cubicBezTo>
                    <a:cubicBezTo>
                      <a:pt x="723671" y="1459293"/>
                      <a:pt x="720307" y="1459270"/>
                      <a:pt x="716998" y="1459225"/>
                    </a:cubicBezTo>
                    <a:lnTo>
                      <a:pt x="727041" y="729646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8282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722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0" y="3002004"/>
                    </a:moveTo>
                    <a:cubicBezTo>
                      <a:pt x="2693632" y="3323764"/>
                      <a:pt x="2251057" y="3523027"/>
                      <a:pt x="1761930" y="3523027"/>
                    </a:cubicBezTo>
                    <a:cubicBezTo>
                      <a:pt x="1759721" y="3523027"/>
                      <a:pt x="1757513" y="3523023"/>
                      <a:pt x="1755341" y="3523015"/>
                    </a:cubicBezTo>
                    <a:lnTo>
                      <a:pt x="1761929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饼形 115"/>
              <p:cNvSpPr/>
              <p:nvPr/>
            </p:nvSpPr>
            <p:spPr>
              <a:xfrm flipH="1" flipV="1" rot="5400000">
                <a:off x="186804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8" y="2360065"/>
                    </a:moveTo>
                    <a:cubicBezTo>
                      <a:pt x="2127538" y="2616297"/>
                      <a:pt x="1776752" y="2775215"/>
                      <a:pt x="1388816" y="2775215"/>
                    </a:cubicBezTo>
                    <a:cubicBezTo>
                      <a:pt x="1387381" y="2775215"/>
                      <a:pt x="1385946" y="2775213"/>
                      <a:pt x="1384535" y="2775209"/>
                    </a:cubicBezTo>
                    <a:lnTo>
                      <a:pt x="1388817" y="138760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饼形 116"/>
              <p:cNvSpPr/>
              <p:nvPr/>
            </p:nvSpPr>
            <p:spPr>
              <a:xfrm flipH="1" flipV="1" rot="5400000">
                <a:off x="1919160" y="242172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3"/>
                    </a:moveTo>
                    <a:cubicBezTo>
                      <a:pt x="1727179" y="2122922"/>
                      <a:pt x="1442475" y="2251750"/>
                      <a:pt x="1127635" y="2251750"/>
                    </a:cubicBezTo>
                    <a:cubicBezTo>
                      <a:pt x="1124521" y="2251750"/>
                      <a:pt x="1121409" y="2251737"/>
                      <a:pt x="1118349" y="2251713"/>
                    </a:cubicBezTo>
                    <a:lnTo>
                      <a:pt x="1127635" y="11258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饼形 117"/>
              <p:cNvSpPr/>
              <p:nvPr/>
            </p:nvSpPr>
            <p:spPr>
              <a:xfrm flipH="1" flipV="1" rot="5400000">
                <a:off x="1966680" y="2467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3" y="1505607"/>
                    </a:moveTo>
                    <a:cubicBezTo>
                      <a:pt x="1358595" y="1668700"/>
                      <a:pt x="1134729" y="1769825"/>
                      <a:pt x="887183" y="1769825"/>
                    </a:cubicBezTo>
                    <a:cubicBezTo>
                      <a:pt x="883136" y="1769825"/>
                      <a:pt x="879096" y="1769798"/>
                      <a:pt x="875123" y="1769745"/>
                    </a:cubicBezTo>
                    <a:lnTo>
                      <a:pt x="887184" y="884913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饼形 118"/>
              <p:cNvSpPr/>
              <p:nvPr/>
            </p:nvSpPr>
            <p:spPr>
              <a:xfrm flipH="1" flipV="1" rot="5400000">
                <a:off x="1995480" y="24966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组合 8288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728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0" y="3002004"/>
                    </a:moveTo>
                    <a:cubicBezTo>
                      <a:pt x="2693632" y="3323764"/>
                      <a:pt x="2251057" y="3523027"/>
                      <a:pt x="1761930" y="3523027"/>
                    </a:cubicBezTo>
                    <a:cubicBezTo>
                      <a:pt x="1759721" y="3523027"/>
                      <a:pt x="1757513" y="3523023"/>
                      <a:pt x="1755341" y="3523015"/>
                    </a:cubicBezTo>
                    <a:lnTo>
                      <a:pt x="1761929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饼形 121"/>
              <p:cNvSpPr/>
              <p:nvPr/>
            </p:nvSpPr>
            <p:spPr>
              <a:xfrm rot="5400000">
                <a:off x="186660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8" y="2360065"/>
                    </a:moveTo>
                    <a:cubicBezTo>
                      <a:pt x="2127538" y="2616297"/>
                      <a:pt x="1776752" y="2775215"/>
                      <a:pt x="1388816" y="2775215"/>
                    </a:cubicBezTo>
                    <a:cubicBezTo>
                      <a:pt x="1387381" y="2775215"/>
                      <a:pt x="1385946" y="2775213"/>
                      <a:pt x="1384535" y="2775209"/>
                    </a:cubicBezTo>
                    <a:lnTo>
                      <a:pt x="1388817" y="138760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饼形 122"/>
              <p:cNvSpPr/>
              <p:nvPr/>
            </p:nvSpPr>
            <p:spPr>
              <a:xfrm rot="5400000">
                <a:off x="1915560" y="24166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3"/>
                    </a:moveTo>
                    <a:cubicBezTo>
                      <a:pt x="1727179" y="2122922"/>
                      <a:pt x="1442475" y="2251750"/>
                      <a:pt x="1127635" y="2251750"/>
                    </a:cubicBezTo>
                    <a:cubicBezTo>
                      <a:pt x="1124521" y="2251750"/>
                      <a:pt x="1121409" y="2251737"/>
                      <a:pt x="1118349" y="2251713"/>
                    </a:cubicBezTo>
                    <a:lnTo>
                      <a:pt x="1127635" y="11258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饼形 123"/>
              <p:cNvSpPr/>
              <p:nvPr/>
            </p:nvSpPr>
            <p:spPr>
              <a:xfrm rot="5400000">
                <a:off x="1960200" y="246276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3" y="1505607"/>
                    </a:moveTo>
                    <a:cubicBezTo>
                      <a:pt x="1358595" y="1668700"/>
                      <a:pt x="1134729" y="1769825"/>
                      <a:pt x="887183" y="1769825"/>
                    </a:cubicBezTo>
                    <a:cubicBezTo>
                      <a:pt x="883136" y="1769825"/>
                      <a:pt x="879096" y="1769798"/>
                      <a:pt x="875123" y="1769745"/>
                    </a:cubicBezTo>
                    <a:lnTo>
                      <a:pt x="887184" y="884913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饼形 124"/>
              <p:cNvSpPr/>
              <p:nvPr/>
            </p:nvSpPr>
            <p:spPr>
              <a:xfrm rot="5400000">
                <a:off x="1992960" y="249228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3" name="组合 8294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734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64" h="3523029">
                    <a:moveTo>
                      <a:pt x="3012874" y="3002005"/>
                    </a:moveTo>
                    <a:cubicBezTo>
                      <a:pt x="2693635" y="3323764"/>
                      <a:pt x="2251060" y="3523027"/>
                      <a:pt x="1761933" y="3523027"/>
                    </a:cubicBezTo>
                    <a:cubicBezTo>
                      <a:pt x="1759724" y="3523027"/>
                      <a:pt x="1757516" y="3523023"/>
                      <a:pt x="1755344" y="3523015"/>
                    </a:cubicBezTo>
                    <a:lnTo>
                      <a:pt x="1761932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饼形 133"/>
              <p:cNvSpPr/>
              <p:nvPr/>
            </p:nvSpPr>
            <p:spPr>
              <a:xfrm flipV="1" rot="16200000">
                <a:off x="1866600" y="236376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29" h="2775216">
                    <a:moveTo>
                      <a:pt x="2379515" y="2360064"/>
                    </a:moveTo>
                    <a:cubicBezTo>
                      <a:pt x="2127535" y="2616297"/>
                      <a:pt x="1776749" y="2775215"/>
                      <a:pt x="1388814" y="2775215"/>
                    </a:cubicBezTo>
                    <a:cubicBezTo>
                      <a:pt x="1387379" y="2775215"/>
                      <a:pt x="1385944" y="2775213"/>
                      <a:pt x="1384533" y="2775209"/>
                    </a:cubicBezTo>
                    <a:lnTo>
                      <a:pt x="1388814" y="1387608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饼形 134"/>
              <p:cNvSpPr/>
              <p:nvPr/>
            </p:nvSpPr>
            <p:spPr>
              <a:xfrm flipV="1" rot="16200000">
                <a:off x="1915560" y="24130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45">
                    <a:moveTo>
                      <a:pt x="1931751" y="1915180"/>
                    </a:moveTo>
                    <a:cubicBezTo>
                      <a:pt x="1727178" y="2122918"/>
                      <a:pt x="1442475" y="2251745"/>
                      <a:pt x="1127635" y="2251745"/>
                    </a:cubicBezTo>
                    <a:cubicBezTo>
                      <a:pt x="1124521" y="2251745"/>
                      <a:pt x="1121409" y="2251732"/>
                      <a:pt x="1118349" y="2251708"/>
                    </a:cubicBezTo>
                    <a:lnTo>
                      <a:pt x="1127635" y="1125872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饼形 135"/>
              <p:cNvSpPr/>
              <p:nvPr/>
            </p:nvSpPr>
            <p:spPr>
              <a:xfrm flipV="1" rot="16200000">
                <a:off x="1960200" y="2458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1">
                    <a:moveTo>
                      <a:pt x="1519522" y="1505604"/>
                    </a:moveTo>
                    <a:cubicBezTo>
                      <a:pt x="1358594" y="1668696"/>
                      <a:pt x="1134728" y="1769820"/>
                      <a:pt x="887183" y="1769820"/>
                    </a:cubicBezTo>
                    <a:cubicBezTo>
                      <a:pt x="883136" y="1769820"/>
                      <a:pt x="879096" y="1769793"/>
                      <a:pt x="875123" y="1769740"/>
                    </a:cubicBezTo>
                    <a:lnTo>
                      <a:pt x="887184" y="884910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饼形 136"/>
              <p:cNvSpPr/>
              <p:nvPr/>
            </p:nvSpPr>
            <p:spPr>
              <a:xfrm flipV="1" rot="16200000">
                <a:off x="199296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组合 8300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740" name="组合 8301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741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2" y="3002414"/>
                    </a:moveTo>
                    <a:cubicBezTo>
                      <a:pt x="2693258" y="3324424"/>
                      <a:pt x="2250667" y="3523857"/>
                      <a:pt x="1761507" y="3523857"/>
                    </a:cubicBezTo>
                    <a:cubicBezTo>
                      <a:pt x="1759297" y="3523857"/>
                      <a:pt x="1757088" y="3523853"/>
                      <a:pt x="1754916" y="3523845"/>
                    </a:cubicBezTo>
                    <a:lnTo>
                      <a:pt x="1761507" y="176192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饼形 171"/>
              <p:cNvSpPr/>
              <p:nvPr/>
            </p:nvSpPr>
            <p:spPr>
              <a:xfrm flipH="1" rot="10800000">
                <a:off x="6608880" y="23637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6"/>
                    </a:moveTo>
                    <a:cubicBezTo>
                      <a:pt x="2125395" y="2618083"/>
                      <a:pt x="1774660" y="2777627"/>
                      <a:pt x="1386717" y="2777627"/>
                    </a:cubicBezTo>
                    <a:cubicBezTo>
                      <a:pt x="1385278" y="2777627"/>
                      <a:pt x="1383840" y="2777625"/>
                      <a:pt x="1382426" y="2777620"/>
                    </a:cubicBezTo>
                    <a:lnTo>
                      <a:pt x="1386716" y="1388814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饼形 172"/>
              <p:cNvSpPr/>
              <p:nvPr/>
            </p:nvSpPr>
            <p:spPr>
              <a:xfrm flipH="1" rot="10800000">
                <a:off x="665784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饼形 173"/>
              <p:cNvSpPr/>
              <p:nvPr/>
            </p:nvSpPr>
            <p:spPr>
              <a:xfrm flipH="1" rot="10800000">
                <a:off x="6705360" y="245736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5"/>
                    </a:moveTo>
                    <a:cubicBezTo>
                      <a:pt x="1359114" y="1672620"/>
                      <a:pt x="1134937" y="1774367"/>
                      <a:pt x="887001" y="1774367"/>
                    </a:cubicBezTo>
                    <a:cubicBezTo>
                      <a:pt x="882944" y="1774367"/>
                      <a:pt x="878893" y="1774340"/>
                      <a:pt x="874910" y="1774286"/>
                    </a:cubicBezTo>
                    <a:lnTo>
                      <a:pt x="887000" y="887184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饼形 174"/>
              <p:cNvSpPr/>
              <p:nvPr/>
            </p:nvSpPr>
            <p:spPr>
              <a:xfrm flipH="1" rot="10800000">
                <a:off x="6734520" y="24894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组合 8307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747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2" y="3002414"/>
                    </a:moveTo>
                    <a:cubicBezTo>
                      <a:pt x="2693258" y="3324424"/>
                      <a:pt x="2250667" y="3523857"/>
                      <a:pt x="1761507" y="3523857"/>
                    </a:cubicBezTo>
                    <a:cubicBezTo>
                      <a:pt x="1759297" y="3523857"/>
                      <a:pt x="1757088" y="3523853"/>
                      <a:pt x="1754916" y="3523845"/>
                    </a:cubicBezTo>
                    <a:lnTo>
                      <a:pt x="1761507" y="17619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饼形 166"/>
              <p:cNvSpPr/>
              <p:nvPr/>
            </p:nvSpPr>
            <p:spPr>
              <a:xfrm rot="10800000">
                <a:off x="6609600" y="236340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6"/>
                    </a:moveTo>
                    <a:cubicBezTo>
                      <a:pt x="2125395" y="2618083"/>
                      <a:pt x="1774660" y="2777627"/>
                      <a:pt x="1386717" y="2777627"/>
                    </a:cubicBezTo>
                    <a:cubicBezTo>
                      <a:pt x="1385278" y="2777627"/>
                      <a:pt x="1383840" y="2777625"/>
                      <a:pt x="1382426" y="2777620"/>
                    </a:cubicBezTo>
                    <a:lnTo>
                      <a:pt x="1386716" y="138881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饼形 167"/>
              <p:cNvSpPr/>
              <p:nvPr/>
            </p:nvSpPr>
            <p:spPr>
              <a:xfrm rot="10800000">
                <a:off x="66564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饼形 168"/>
              <p:cNvSpPr/>
              <p:nvPr/>
            </p:nvSpPr>
            <p:spPr>
              <a:xfrm rot="10800000">
                <a:off x="6702480" y="24570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5"/>
                    </a:moveTo>
                    <a:cubicBezTo>
                      <a:pt x="1359114" y="1672620"/>
                      <a:pt x="1134937" y="1774367"/>
                      <a:pt x="887001" y="1774367"/>
                    </a:cubicBezTo>
                    <a:cubicBezTo>
                      <a:pt x="882944" y="1774367"/>
                      <a:pt x="878893" y="1774340"/>
                      <a:pt x="874910" y="1774286"/>
                    </a:cubicBezTo>
                    <a:lnTo>
                      <a:pt x="887000" y="887184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饼形 169"/>
              <p:cNvSpPr/>
              <p:nvPr/>
            </p:nvSpPr>
            <p:spPr>
              <a:xfrm rot="10800000">
                <a:off x="673272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8313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753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09" h="3523859">
                    <a:moveTo>
                      <a:pt x="3012439" y="3002413"/>
                    </a:moveTo>
                    <a:cubicBezTo>
                      <a:pt x="2693255" y="3324423"/>
                      <a:pt x="2250665" y="3523857"/>
                      <a:pt x="1761505" y="3523857"/>
                    </a:cubicBezTo>
                    <a:cubicBezTo>
                      <a:pt x="1759295" y="3523857"/>
                      <a:pt x="1757086" y="3523853"/>
                      <a:pt x="1754914" y="3523845"/>
                    </a:cubicBezTo>
                    <a:lnTo>
                      <a:pt x="1761504" y="1761929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饼形 161"/>
              <p:cNvSpPr/>
              <p:nvPr/>
            </p:nvSpPr>
            <p:spPr>
              <a:xfrm flipH="1" flipV="1" rot="10800000">
                <a:off x="6609600" y="23655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7" h="2777629">
                    <a:moveTo>
                      <a:pt x="2377079" y="2360937"/>
                    </a:moveTo>
                    <a:cubicBezTo>
                      <a:pt x="2125397" y="2618084"/>
                      <a:pt x="1774661" y="2777628"/>
                      <a:pt x="1386718" y="2777628"/>
                    </a:cubicBezTo>
                    <a:cubicBezTo>
                      <a:pt x="1385279" y="2777628"/>
                      <a:pt x="1383841" y="2777626"/>
                      <a:pt x="1382427" y="2777621"/>
                    </a:cubicBezTo>
                    <a:lnTo>
                      <a:pt x="1386718" y="1388814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饼形 162"/>
              <p:cNvSpPr/>
              <p:nvPr/>
            </p:nvSpPr>
            <p:spPr>
              <a:xfrm flipH="1" flipV="1" rot="10800000">
                <a:off x="665856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饼形 163"/>
              <p:cNvSpPr/>
              <p:nvPr/>
            </p:nvSpPr>
            <p:spPr>
              <a:xfrm flipH="1" flipV="1" rot="10800000">
                <a:off x="6706080" y="24642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3996" h="1774368">
                    <a:moveTo>
                      <a:pt x="1520066" y="1508594"/>
                    </a:moveTo>
                    <a:cubicBezTo>
                      <a:pt x="1359109" y="1672620"/>
                      <a:pt x="1134933" y="1774367"/>
                      <a:pt x="886997" y="1774367"/>
                    </a:cubicBezTo>
                    <a:cubicBezTo>
                      <a:pt x="882940" y="1774367"/>
                      <a:pt x="878889" y="1774340"/>
                      <a:pt x="874906" y="1774286"/>
                    </a:cubicBezTo>
                    <a:lnTo>
                      <a:pt x="886998" y="887184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饼形 164"/>
              <p:cNvSpPr/>
              <p:nvPr/>
            </p:nvSpPr>
            <p:spPr>
              <a:xfrm flipH="1" flipV="1" rot="10800000">
                <a:off x="6735240" y="24937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组合 8319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759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09">
                    <a:moveTo>
                      <a:pt x="3012867" y="3001991"/>
                    </a:moveTo>
                    <a:cubicBezTo>
                      <a:pt x="2693628" y="3323748"/>
                      <a:pt x="2251054" y="3523009"/>
                      <a:pt x="1761929" y="3523009"/>
                    </a:cubicBezTo>
                    <a:cubicBezTo>
                      <a:pt x="1759720" y="3523009"/>
                      <a:pt x="1757512" y="3523005"/>
                      <a:pt x="1755340" y="3522997"/>
                    </a:cubicBezTo>
                    <a:lnTo>
                      <a:pt x="1761929" y="17615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饼形 156"/>
              <p:cNvSpPr/>
              <p:nvPr/>
            </p:nvSpPr>
            <p:spPr>
              <a:xfrm flipV="1" rot="16200000">
                <a:off x="66078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2">
                    <a:moveTo>
                      <a:pt x="2379205" y="2358866"/>
                    </a:moveTo>
                    <a:cubicBezTo>
                      <a:pt x="2127247" y="2614747"/>
                      <a:pt x="1776591" y="2773431"/>
                      <a:pt x="1388816" y="2773431"/>
                    </a:cubicBezTo>
                    <a:cubicBezTo>
                      <a:pt x="1387382" y="2773431"/>
                      <a:pt x="1385948" y="2773429"/>
                      <a:pt x="1384538" y="2773425"/>
                    </a:cubicBezTo>
                    <a:lnTo>
                      <a:pt x="1388817" y="138671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饼形 157"/>
              <p:cNvSpPr/>
              <p:nvPr/>
            </p:nvSpPr>
            <p:spPr>
              <a:xfrm flipV="1" rot="16200000">
                <a:off x="6662520" y="241416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饼形 158"/>
              <p:cNvSpPr/>
              <p:nvPr/>
            </p:nvSpPr>
            <p:spPr>
              <a:xfrm flipV="1" rot="16200000">
                <a:off x="6707880" y="246204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饼形 159"/>
              <p:cNvSpPr/>
              <p:nvPr/>
            </p:nvSpPr>
            <p:spPr>
              <a:xfrm flipV="1" rot="16200000">
                <a:off x="6733440" y="249084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5" y="1243524"/>
                    </a:moveTo>
                    <a:cubicBezTo>
                      <a:pt x="1114042" y="1375721"/>
                      <a:pt x="931407" y="1457513"/>
                      <a:pt x="729646" y="1457513"/>
                    </a:cubicBezTo>
                    <a:cubicBezTo>
                      <a:pt x="726280" y="1457513"/>
                      <a:pt x="722920" y="1457490"/>
                      <a:pt x="719615" y="1457446"/>
                    </a:cubicBezTo>
                    <a:lnTo>
                      <a:pt x="729646" y="72875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4" name="组合 8325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765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14">
                    <a:moveTo>
                      <a:pt x="3012867" y="3001994"/>
                    </a:moveTo>
                    <a:cubicBezTo>
                      <a:pt x="2693628" y="3323752"/>
                      <a:pt x="2251054" y="3523014"/>
                      <a:pt x="1761928" y="3523014"/>
                    </a:cubicBezTo>
                    <a:cubicBezTo>
                      <a:pt x="1759719" y="3523014"/>
                      <a:pt x="1757511" y="3523010"/>
                      <a:pt x="1755339" y="3523002"/>
                    </a:cubicBezTo>
                    <a:lnTo>
                      <a:pt x="1761929" y="17615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饼形 151"/>
              <p:cNvSpPr/>
              <p:nvPr/>
            </p:nvSpPr>
            <p:spPr>
              <a:xfrm flipH="1" rot="16200000">
                <a:off x="66096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7">
                    <a:moveTo>
                      <a:pt x="2379206" y="2358869"/>
                    </a:moveTo>
                    <a:cubicBezTo>
                      <a:pt x="2127249" y="2614752"/>
                      <a:pt x="1776592" y="2773436"/>
                      <a:pt x="1388817" y="2773436"/>
                    </a:cubicBezTo>
                    <a:cubicBezTo>
                      <a:pt x="1387383" y="2773436"/>
                      <a:pt x="1385949" y="2773434"/>
                      <a:pt x="1384539" y="2773430"/>
                    </a:cubicBezTo>
                    <a:lnTo>
                      <a:pt x="1388817" y="138671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饼形 152"/>
              <p:cNvSpPr/>
              <p:nvPr/>
            </p:nvSpPr>
            <p:spPr>
              <a:xfrm flipH="1" rot="16200000">
                <a:off x="6660360" y="24156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饼形 153"/>
              <p:cNvSpPr/>
              <p:nvPr/>
            </p:nvSpPr>
            <p:spPr>
              <a:xfrm flipH="1" rot="16200000">
                <a:off x="6708240" y="246348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饼形 154"/>
              <p:cNvSpPr/>
              <p:nvPr/>
            </p:nvSpPr>
            <p:spPr>
              <a:xfrm flipH="1" rot="16200000">
                <a:off x="6735960" y="249300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08">
                    <a:moveTo>
                      <a:pt x="1246124" y="1243520"/>
                    </a:moveTo>
                    <a:cubicBezTo>
                      <a:pt x="1114041" y="1375716"/>
                      <a:pt x="931407" y="1457507"/>
                      <a:pt x="729646" y="1457507"/>
                    </a:cubicBezTo>
                    <a:cubicBezTo>
                      <a:pt x="726280" y="1457507"/>
                      <a:pt x="722920" y="1457484"/>
                      <a:pt x="719615" y="1457440"/>
                    </a:cubicBezTo>
                    <a:lnTo>
                      <a:pt x="729646" y="728754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组合 8331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771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64" h="3523009">
                    <a:moveTo>
                      <a:pt x="3012870" y="3001992"/>
                    </a:moveTo>
                    <a:cubicBezTo>
                      <a:pt x="2693631" y="3323748"/>
                      <a:pt x="2251056" y="3523009"/>
                      <a:pt x="1761931" y="3523009"/>
                    </a:cubicBezTo>
                    <a:cubicBezTo>
                      <a:pt x="1759722" y="3523009"/>
                      <a:pt x="1757514" y="3523005"/>
                      <a:pt x="1755342" y="3522997"/>
                    </a:cubicBezTo>
                    <a:lnTo>
                      <a:pt x="1761932" y="17615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饼形 146"/>
              <p:cNvSpPr/>
              <p:nvPr/>
            </p:nvSpPr>
            <p:spPr>
              <a:xfrm flipH="1" flipV="1" rot="5400000">
                <a:off x="6609600" y="236448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29" h="2773432">
                    <a:moveTo>
                      <a:pt x="2379202" y="2358865"/>
                    </a:moveTo>
                    <a:cubicBezTo>
                      <a:pt x="2127245" y="2614747"/>
                      <a:pt x="1776589" y="2773431"/>
                      <a:pt x="1388814" y="2773431"/>
                    </a:cubicBezTo>
                    <a:cubicBezTo>
                      <a:pt x="1387380" y="2773431"/>
                      <a:pt x="1385946" y="2773429"/>
                      <a:pt x="1384536" y="2773425"/>
                    </a:cubicBezTo>
                    <a:lnTo>
                      <a:pt x="1388814" y="1386716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饼形 147"/>
              <p:cNvSpPr/>
              <p:nvPr/>
            </p:nvSpPr>
            <p:spPr>
              <a:xfrm flipH="1" flipV="1" rot="5400000">
                <a:off x="6660360" y="24120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饼形 148"/>
              <p:cNvSpPr/>
              <p:nvPr/>
            </p:nvSpPr>
            <p:spPr>
              <a:xfrm flipH="1" flipV="1" rot="5400000">
                <a:off x="6708240" y="245952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饼形 149"/>
              <p:cNvSpPr/>
              <p:nvPr/>
            </p:nvSpPr>
            <p:spPr>
              <a:xfrm flipH="1" flipV="1" rot="5400000">
                <a:off x="6735960" y="248976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5" y="1243524"/>
                    </a:moveTo>
                    <a:cubicBezTo>
                      <a:pt x="1114042" y="1375721"/>
                      <a:pt x="931407" y="1457513"/>
                      <a:pt x="729646" y="1457513"/>
                    </a:cubicBezTo>
                    <a:cubicBezTo>
                      <a:pt x="726280" y="1457513"/>
                      <a:pt x="722920" y="1457490"/>
                      <a:pt x="719615" y="1457446"/>
                    </a:cubicBezTo>
                    <a:lnTo>
                      <a:pt x="729646" y="72875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Text Box 155"/>
          <p:cNvSpPr/>
          <p:nvPr/>
        </p:nvSpPr>
        <p:spPr>
          <a:xfrm>
            <a:off x="1979640" y="3573360"/>
            <a:ext cx="56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生也是如此，一旦进入生活娱乐程序，就该尽情自由放纵，抓住快乐，享受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庄周梦蝶所寓，人如能打破生死、物我的界限，则无往而不快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蚂蚁一样工作，像蝴蝶一样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喜欢这样的态度。全力以赴的努力工作，全力以赴的享受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56"/>
          <p:cNvSpPr/>
          <p:nvPr/>
        </p:nvSpPr>
        <p:spPr>
          <a:xfrm>
            <a:off x="325116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努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工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作，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</a:rPr>
              <a:t>享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受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56"/>
          <p:cNvSpPr/>
          <p:nvPr/>
        </p:nvSpPr>
        <p:spPr>
          <a:xfrm>
            <a:off x="324324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努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工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作，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</a:rPr>
              <a:t>享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受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文本框 8200"/>
          <p:cNvSpPr/>
          <p:nvPr/>
        </p:nvSpPr>
        <p:spPr>
          <a:xfrm>
            <a:off x="2195640" y="198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EA0-2B21-4E76-B591-8A899DEB48A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9217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78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5" y="2770178"/>
                    <a:pt x="1382221" y="2770176"/>
                    <a:pt x="1380810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组合 9223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79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饼形 19"/>
            <p:cNvSpPr/>
            <p:nvPr/>
          </p:nvSpPr>
          <p:spPr>
            <a:xfrm flipH="1" rot="10800000">
              <a:off x="1114920" y="1569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组合 9229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79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饼形 28"/>
            <p:cNvSpPr/>
            <p:nvPr/>
          </p:nvSpPr>
          <p:spPr>
            <a:xfrm flipV="1" rot="10800000">
              <a:off x="1098000" y="211320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9235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80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饼形 34"/>
            <p:cNvSpPr/>
            <p:nvPr/>
          </p:nvSpPr>
          <p:spPr>
            <a:xfrm flipH="1" flipV="1" rot="10800000">
              <a:off x="1110240" y="160992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组合 9241"/>
          <p:cNvGrpSpPr/>
          <p:nvPr/>
        </p:nvGrpSpPr>
        <p:grpSpPr>
          <a:xfrm>
            <a:off x="224640" y="716400"/>
            <a:ext cx="3522600" cy="3522600"/>
            <a:chOff x="224640" y="716400"/>
            <a:chExt cx="3522600" cy="3522600"/>
          </a:xfrm>
        </p:grpSpPr>
        <p:sp>
          <p:nvSpPr>
            <p:cNvPr id="809" name="饼形 38"/>
            <p:cNvSpPr/>
            <p:nvPr/>
          </p:nvSpPr>
          <p:spPr>
            <a:xfrm flipH="1" flipV="1" rot="5400000">
              <a:off x="224280" y="7160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饼形 39"/>
            <p:cNvSpPr/>
            <p:nvPr/>
          </p:nvSpPr>
          <p:spPr>
            <a:xfrm flipH="1" flipV="1" rot="5400000">
              <a:off x="608400" y="10922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饼形 40"/>
            <p:cNvSpPr/>
            <p:nvPr/>
          </p:nvSpPr>
          <p:spPr>
            <a:xfrm flipH="1" flipV="1" rot="5400000">
              <a:off x="868680" y="13431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饼形 41"/>
            <p:cNvSpPr/>
            <p:nvPr/>
          </p:nvSpPr>
          <p:spPr>
            <a:xfrm flipH="1" flipV="1" rot="5400000">
              <a:off x="1121040" y="15858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饼形 42"/>
            <p:cNvSpPr/>
            <p:nvPr/>
          </p:nvSpPr>
          <p:spPr>
            <a:xfrm flipH="1" flipV="1" rot="5400000">
              <a:off x="1266840" y="17431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4" name="组合 9247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81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0" name="组合 9253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82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饼形 55"/>
            <p:cNvSpPr/>
            <p:nvPr/>
          </p:nvSpPr>
          <p:spPr>
            <a:xfrm flipH="1" rot="16200000">
              <a:off x="1467360" y="17398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饼形 56"/>
            <p:cNvSpPr/>
            <p:nvPr/>
          </p:nvSpPr>
          <p:spPr>
            <a:xfrm flipH="1" rot="16200000">
              <a:off x="161316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50201" y="1240261"/>
                  </a:moveTo>
                  <a:cubicBezTo>
                    <a:pt x="1117824" y="1375199"/>
                    <a:pt x="933414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组合 9259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82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5:08:43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20Z</dcterms:modified>
  <cp:revision>3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