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FE7-F74E-4C9F-B514-338629C1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F29-181D-4FA1-8D1B-D78A2C31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836-C402-4500-B81B-27DEF7A3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FB7-08B8-4633-A752-00F8233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7D97-B35F-4737-8AA2-A52A4BD9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C992-5B74-4082-93CE-4D25F03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478C-BF77-4689-B5F6-2083F38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13AB-5083-4DFA-AF3F-C7B109C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DE3F-7A1D-4AEA-A87B-BE4E3BA2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615C-13ED-46FE-9D8B-91E7AEA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F582-CF35-44F2-B702-A78F336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D0C-A009-4015-9FF3-D8238D7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094-D2AE-4404-9272-85DD446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25B-68EE-4C29-A38E-DEBB3DB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BE8C-554C-48F4-88BF-7248A8CD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8AFF-692C-44E4-9612-E19D577D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8C58-BC34-4FC3-8F43-3303ACBA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7903-0E57-4F1E-943D-632F1BCE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2926-2E45-445E-88BF-2E21E7A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7B05-3C91-4CBF-8459-B5BBC17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560C-D1A9-4BD2-9049-51CD37FD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784F-BE1D-4BC6-9A9A-6D24D6E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0C3-109D-498B-95C6-2493412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4B23-B3E2-4CF8-989D-D914F16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A329-C976-4223-BDD8-9CA1266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3363-947B-4B09-B2C4-F7A0A81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48CC-E923-43E8-A1CF-0A02201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2732-AC75-4440-B4FE-F047E32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408F-D34F-452F-B106-F6CBC9C2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3128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40160" y="83628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240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3128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40160" y="3696120"/>
            <a:ext cx="28652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AFDF-B47E-4882-AE7B-4F4A33B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1B9-82BE-4442-889C-18F44EC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A12-0701-4822-823A-E25313D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7480" y="112320"/>
            <a:ext cx="83008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A02-8543-45A9-84BB-FB9BDC7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E14-ADD8-4833-9171-6782DB9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2520" y="369612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56E-FE43-4025-B1EE-6308FD4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40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520" y="836280"/>
            <a:ext cx="4342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2400" y="3696120"/>
            <a:ext cx="88992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EB2-F126-43E7-B2F2-2765916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" name="图片 1027" descr="vineyard"/>
              <p:cNvPicPr/>
              <p:nvPr/>
            </p:nvPicPr>
            <p:blipFill>
              <a:blip r:embed="rId2">
                <a:lum contrast="-12000"/>
              </a:blip>
              <a:srcRect l="0" t="0" r="0" b="10355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圆角矩形 1028"/>
              <p:cNvSpPr/>
              <p:nvPr/>
            </p:nvSpPr>
            <p:spPr>
              <a:xfrm>
                <a:off x="0" y="0"/>
                <a:ext cx="9144000" cy="6858000"/>
              </a:xfrm>
              <a:prstGeom prst="roundRect">
                <a:avLst>
                  <a:gd name="adj" fmla="val 0"/>
                </a:avLst>
              </a:prstGeom>
              <a:solidFill>
                <a:srgbClr val="f5f5f3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1029"/>
              <p:cNvSpPr/>
              <p:nvPr/>
            </p:nvSpPr>
            <p:spPr>
              <a:xfrm>
                <a:off x="0" y="0"/>
                <a:ext cx="9144000" cy="3933720"/>
              </a:xfrm>
              <a:prstGeom prst="rect">
                <a:avLst/>
              </a:prstGeom>
              <a:gradFill rotWithShape="0">
                <a:gsLst>
                  <a:gs pos="0">
                    <a:srgbClr val="f5f5f3">
                      <a:alpha val="43137"/>
                    </a:srgbClr>
                  </a:gs>
                  <a:gs pos="100000">
                    <a:srgbClr val="71717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组合 1030"/>
            <p:cNvGrpSpPr/>
            <p:nvPr/>
          </p:nvGrpSpPr>
          <p:grpSpPr>
            <a:xfrm>
              <a:off x="8632800" y="114480"/>
              <a:ext cx="372960" cy="591840"/>
              <a:chOff x="8632800" y="114480"/>
              <a:chExt cx="372960" cy="591840"/>
            </a:xfrm>
          </p:grpSpPr>
          <p:sp>
            <p:nvSpPr>
              <p:cNvPr id="6" name="未知"/>
              <p:cNvSpPr/>
              <p:nvPr/>
            </p:nvSpPr>
            <p:spPr>
              <a:xfrm>
                <a:off x="8778960" y="373320"/>
                <a:ext cx="226800" cy="333000"/>
              </a:xfrm>
              <a:custGeom>
                <a:avLst/>
                <a:gdLst/>
                <a:ahLst/>
                <a:rect l="l" t="t" r="r" b="b"/>
                <a:pathLst>
                  <a:path w="718" h="1053">
                    <a:moveTo>
                      <a:pt x="464" y="1007"/>
                    </a:moveTo>
                    <a:cubicBezTo>
                      <a:pt x="373" y="998"/>
                      <a:pt x="381" y="952"/>
                      <a:pt x="381" y="952"/>
                    </a:cubicBezTo>
                    <a:cubicBezTo>
                      <a:pt x="381" y="711"/>
                      <a:pt x="381" y="711"/>
                      <a:pt x="381" y="711"/>
                    </a:cubicBezTo>
                    <a:cubicBezTo>
                      <a:pt x="367" y="558"/>
                      <a:pt x="456" y="561"/>
                      <a:pt x="456" y="561"/>
                    </a:cubicBezTo>
                    <a:cubicBezTo>
                      <a:pt x="718" y="437"/>
                      <a:pt x="548" y="0"/>
                      <a:pt x="548" y="0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349" y="0"/>
                      <a:pt x="349" y="0"/>
                      <a:pt x="34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70" y="0"/>
                      <a:pt x="0" y="437"/>
                      <a:pt x="262" y="561"/>
                    </a:cubicBezTo>
                    <a:cubicBezTo>
                      <a:pt x="262" y="561"/>
                      <a:pt x="351" y="558"/>
                      <a:pt x="337" y="711"/>
                    </a:cubicBezTo>
                    <a:cubicBezTo>
                      <a:pt x="337" y="952"/>
                      <a:pt x="337" y="952"/>
                      <a:pt x="337" y="952"/>
                    </a:cubicBezTo>
                    <a:cubicBezTo>
                      <a:pt x="337" y="952"/>
                      <a:pt x="345" y="998"/>
                      <a:pt x="253" y="1007"/>
                    </a:cubicBezTo>
                    <a:cubicBezTo>
                      <a:pt x="253" y="1007"/>
                      <a:pt x="170" y="1021"/>
                      <a:pt x="164" y="1053"/>
                    </a:cubicBezTo>
                    <a:cubicBezTo>
                      <a:pt x="359" y="1052"/>
                      <a:pt x="359" y="1052"/>
                      <a:pt x="359" y="1052"/>
                    </a:cubicBezTo>
                    <a:cubicBezTo>
                      <a:pt x="554" y="1053"/>
                      <a:pt x="554" y="1053"/>
                      <a:pt x="554" y="1053"/>
                    </a:cubicBezTo>
                    <a:cubicBezTo>
                      <a:pt x="548" y="1021"/>
                      <a:pt x="464" y="1007"/>
                      <a:pt x="464" y="10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8632800" y="114480"/>
                <a:ext cx="146160" cy="591840"/>
              </a:xfrm>
              <a:custGeom>
                <a:avLst/>
                <a:gdLst/>
                <a:ahLst/>
                <a:rect l="l" t="t" r="r" b="b"/>
                <a:pathLst>
                  <a:path w="463" h="1872">
                    <a:moveTo>
                      <a:pt x="459" y="812"/>
                    </a:moveTo>
                    <a:cubicBezTo>
                      <a:pt x="463" y="668"/>
                      <a:pt x="417" y="628"/>
                      <a:pt x="417" y="628"/>
                    </a:cubicBezTo>
                    <a:cubicBezTo>
                      <a:pt x="297" y="494"/>
                      <a:pt x="300" y="419"/>
                      <a:pt x="300" y="419"/>
                    </a:cubicBezTo>
                    <a:cubicBezTo>
                      <a:pt x="300" y="129"/>
                      <a:pt x="300" y="129"/>
                      <a:pt x="300" y="129"/>
                    </a:cubicBezTo>
                    <a:cubicBezTo>
                      <a:pt x="308" y="122"/>
                      <a:pt x="314" y="111"/>
                      <a:pt x="314" y="99"/>
                    </a:cubicBezTo>
                    <a:cubicBezTo>
                      <a:pt x="314" y="40"/>
                      <a:pt x="314" y="40"/>
                      <a:pt x="314" y="40"/>
                    </a:cubicBezTo>
                    <a:cubicBezTo>
                      <a:pt x="314" y="18"/>
                      <a:pt x="296" y="0"/>
                      <a:pt x="274" y="0"/>
                    </a:cubicBezTo>
                    <a:cubicBezTo>
                      <a:pt x="274" y="0"/>
                      <a:pt x="274" y="0"/>
                      <a:pt x="274" y="0"/>
                    </a:cubicBezTo>
                    <a:cubicBezTo>
                      <a:pt x="236" y="0"/>
                      <a:pt x="236" y="0"/>
                      <a:pt x="236" y="0"/>
                    </a:cubicBezTo>
                    <a:cubicBezTo>
                      <a:pt x="228" y="0"/>
                      <a:pt x="228" y="0"/>
                      <a:pt x="228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68" y="0"/>
                      <a:pt x="150" y="18"/>
                      <a:pt x="150" y="40"/>
                    </a:cubicBezTo>
                    <a:cubicBezTo>
                      <a:pt x="150" y="99"/>
                      <a:pt x="150" y="99"/>
                      <a:pt x="150" y="99"/>
                    </a:cubicBezTo>
                    <a:cubicBezTo>
                      <a:pt x="150" y="111"/>
                      <a:pt x="155" y="122"/>
                      <a:pt x="164" y="129"/>
                    </a:cubicBezTo>
                    <a:cubicBezTo>
                      <a:pt x="164" y="419"/>
                      <a:pt x="164" y="419"/>
                      <a:pt x="164" y="419"/>
                    </a:cubicBezTo>
                    <a:cubicBezTo>
                      <a:pt x="164" y="419"/>
                      <a:pt x="166" y="494"/>
                      <a:pt x="47" y="628"/>
                    </a:cubicBezTo>
                    <a:cubicBezTo>
                      <a:pt x="47" y="628"/>
                      <a:pt x="0" y="668"/>
                      <a:pt x="5" y="812"/>
                    </a:cubicBezTo>
                    <a:cubicBezTo>
                      <a:pt x="4" y="815"/>
                      <a:pt x="4" y="818"/>
                      <a:pt x="4" y="820"/>
                    </a:cubicBezTo>
                    <a:cubicBezTo>
                      <a:pt x="4" y="1832"/>
                      <a:pt x="4" y="1832"/>
                      <a:pt x="4" y="1832"/>
                    </a:cubicBezTo>
                    <a:cubicBezTo>
                      <a:pt x="4" y="1854"/>
                      <a:pt x="22" y="1872"/>
                      <a:pt x="44" y="1872"/>
                    </a:cubicBezTo>
                    <a:cubicBezTo>
                      <a:pt x="228" y="1872"/>
                      <a:pt x="228" y="1872"/>
                      <a:pt x="228" y="1872"/>
                    </a:cubicBezTo>
                    <a:cubicBezTo>
                      <a:pt x="236" y="1872"/>
                      <a:pt x="236" y="1872"/>
                      <a:pt x="236" y="1872"/>
                    </a:cubicBezTo>
                    <a:cubicBezTo>
                      <a:pt x="420" y="1872"/>
                      <a:pt x="420" y="1872"/>
                      <a:pt x="420" y="1872"/>
                    </a:cubicBezTo>
                    <a:cubicBezTo>
                      <a:pt x="442" y="1872"/>
                      <a:pt x="460" y="1854"/>
                      <a:pt x="460" y="1832"/>
                    </a:cubicBezTo>
                    <a:cubicBezTo>
                      <a:pt x="460" y="820"/>
                      <a:pt x="460" y="820"/>
                      <a:pt x="460" y="820"/>
                    </a:cubicBezTo>
                    <a:cubicBezTo>
                      <a:pt x="460" y="818"/>
                      <a:pt x="459" y="815"/>
                      <a:pt x="459" y="8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12240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2454120" y="6418440"/>
            <a:ext cx="4235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88824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55D-9701-4F83-A6D0-D332AACB0A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EA29-8708-4768-AA52-6302846375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1" name="图片 2050" descr="vineyard darker"/>
            <p:cNvPicPr/>
            <p:nvPr/>
          </p:nvPicPr>
          <p:blipFill>
            <a:blip r:embed="rId2">
              <a:lum contrast="-12000"/>
            </a:blip>
            <a:srcRect l="0" t="0" r="0" b="10372"/>
            <a:stretch/>
          </p:blipFill>
          <p:spPr>
            <a:xfrm>
              <a:off x="0" y="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 2051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0"/>
              </a:avLst>
            </a:prstGeom>
            <a:solidFill>
              <a:srgbClr val="f5f5f3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052"/>
            <p:cNvGrpSpPr/>
            <p:nvPr/>
          </p:nvGrpSpPr>
          <p:grpSpPr>
            <a:xfrm>
              <a:off x="8632800" y="114480"/>
              <a:ext cx="372960" cy="591840"/>
              <a:chOff x="8632800" y="114480"/>
              <a:chExt cx="372960" cy="591840"/>
            </a:xfrm>
          </p:grpSpPr>
          <p:sp>
            <p:nvSpPr>
              <p:cNvPr id="94" name="未知"/>
              <p:cNvSpPr/>
              <p:nvPr/>
            </p:nvSpPr>
            <p:spPr>
              <a:xfrm>
                <a:off x="8778960" y="373320"/>
                <a:ext cx="226800" cy="333000"/>
              </a:xfrm>
              <a:custGeom>
                <a:avLst/>
                <a:gdLst/>
                <a:ahLst/>
                <a:rect l="l" t="t" r="r" b="b"/>
                <a:pathLst>
                  <a:path w="718" h="1053">
                    <a:moveTo>
                      <a:pt x="464" y="1007"/>
                    </a:moveTo>
                    <a:cubicBezTo>
                      <a:pt x="373" y="998"/>
                      <a:pt x="381" y="952"/>
                      <a:pt x="381" y="952"/>
                    </a:cubicBezTo>
                    <a:cubicBezTo>
                      <a:pt x="381" y="711"/>
                      <a:pt x="381" y="711"/>
                      <a:pt x="381" y="711"/>
                    </a:cubicBezTo>
                    <a:cubicBezTo>
                      <a:pt x="367" y="558"/>
                      <a:pt x="456" y="561"/>
                      <a:pt x="456" y="561"/>
                    </a:cubicBezTo>
                    <a:cubicBezTo>
                      <a:pt x="718" y="437"/>
                      <a:pt x="548" y="0"/>
                      <a:pt x="548" y="0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349" y="0"/>
                      <a:pt x="349" y="0"/>
                      <a:pt x="34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70" y="0"/>
                      <a:pt x="0" y="437"/>
                      <a:pt x="262" y="561"/>
                    </a:cubicBezTo>
                    <a:cubicBezTo>
                      <a:pt x="262" y="561"/>
                      <a:pt x="351" y="558"/>
                      <a:pt x="337" y="711"/>
                    </a:cubicBezTo>
                    <a:cubicBezTo>
                      <a:pt x="337" y="952"/>
                      <a:pt x="337" y="952"/>
                      <a:pt x="337" y="952"/>
                    </a:cubicBezTo>
                    <a:cubicBezTo>
                      <a:pt x="337" y="952"/>
                      <a:pt x="345" y="998"/>
                      <a:pt x="253" y="1007"/>
                    </a:cubicBezTo>
                    <a:cubicBezTo>
                      <a:pt x="253" y="1007"/>
                      <a:pt x="170" y="1021"/>
                      <a:pt x="164" y="1053"/>
                    </a:cubicBezTo>
                    <a:cubicBezTo>
                      <a:pt x="359" y="1052"/>
                      <a:pt x="359" y="1052"/>
                      <a:pt x="359" y="1052"/>
                    </a:cubicBezTo>
                    <a:cubicBezTo>
                      <a:pt x="554" y="1053"/>
                      <a:pt x="554" y="1053"/>
                      <a:pt x="554" y="1053"/>
                    </a:cubicBezTo>
                    <a:cubicBezTo>
                      <a:pt x="548" y="1021"/>
                      <a:pt x="464" y="1007"/>
                      <a:pt x="464" y="100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8632800" y="114480"/>
                <a:ext cx="146160" cy="591840"/>
              </a:xfrm>
              <a:custGeom>
                <a:avLst/>
                <a:gdLst/>
                <a:ahLst/>
                <a:rect l="l" t="t" r="r" b="b"/>
                <a:pathLst>
                  <a:path w="463" h="1872">
                    <a:moveTo>
                      <a:pt x="459" y="812"/>
                    </a:moveTo>
                    <a:cubicBezTo>
                      <a:pt x="463" y="668"/>
                      <a:pt x="417" y="628"/>
                      <a:pt x="417" y="628"/>
                    </a:cubicBezTo>
                    <a:cubicBezTo>
                      <a:pt x="297" y="494"/>
                      <a:pt x="300" y="419"/>
                      <a:pt x="300" y="419"/>
                    </a:cubicBezTo>
                    <a:cubicBezTo>
                      <a:pt x="300" y="129"/>
                      <a:pt x="300" y="129"/>
                      <a:pt x="300" y="129"/>
                    </a:cubicBezTo>
                    <a:cubicBezTo>
                      <a:pt x="308" y="122"/>
                      <a:pt x="314" y="111"/>
                      <a:pt x="314" y="99"/>
                    </a:cubicBezTo>
                    <a:cubicBezTo>
                      <a:pt x="314" y="40"/>
                      <a:pt x="314" y="40"/>
                      <a:pt x="314" y="40"/>
                    </a:cubicBezTo>
                    <a:cubicBezTo>
                      <a:pt x="314" y="18"/>
                      <a:pt x="296" y="0"/>
                      <a:pt x="274" y="0"/>
                    </a:cubicBezTo>
                    <a:cubicBezTo>
                      <a:pt x="274" y="0"/>
                      <a:pt x="274" y="0"/>
                      <a:pt x="274" y="0"/>
                    </a:cubicBezTo>
                    <a:cubicBezTo>
                      <a:pt x="236" y="0"/>
                      <a:pt x="236" y="0"/>
                      <a:pt x="236" y="0"/>
                    </a:cubicBezTo>
                    <a:cubicBezTo>
                      <a:pt x="228" y="0"/>
                      <a:pt x="228" y="0"/>
                      <a:pt x="228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90" y="0"/>
                      <a:pt x="190" y="0"/>
                      <a:pt x="190" y="0"/>
                    </a:cubicBezTo>
                    <a:cubicBezTo>
                      <a:pt x="168" y="0"/>
                      <a:pt x="150" y="18"/>
                      <a:pt x="150" y="40"/>
                    </a:cubicBezTo>
                    <a:cubicBezTo>
                      <a:pt x="150" y="99"/>
                      <a:pt x="150" y="99"/>
                      <a:pt x="150" y="99"/>
                    </a:cubicBezTo>
                    <a:cubicBezTo>
                      <a:pt x="150" y="111"/>
                      <a:pt x="155" y="122"/>
                      <a:pt x="164" y="129"/>
                    </a:cubicBezTo>
                    <a:cubicBezTo>
                      <a:pt x="164" y="419"/>
                      <a:pt x="164" y="419"/>
                      <a:pt x="164" y="419"/>
                    </a:cubicBezTo>
                    <a:cubicBezTo>
                      <a:pt x="164" y="419"/>
                      <a:pt x="166" y="494"/>
                      <a:pt x="47" y="628"/>
                    </a:cubicBezTo>
                    <a:cubicBezTo>
                      <a:pt x="47" y="628"/>
                      <a:pt x="0" y="668"/>
                      <a:pt x="5" y="812"/>
                    </a:cubicBezTo>
                    <a:cubicBezTo>
                      <a:pt x="4" y="815"/>
                      <a:pt x="4" y="818"/>
                      <a:pt x="4" y="820"/>
                    </a:cubicBezTo>
                    <a:cubicBezTo>
                      <a:pt x="4" y="1832"/>
                      <a:pt x="4" y="1832"/>
                      <a:pt x="4" y="1832"/>
                    </a:cubicBezTo>
                    <a:cubicBezTo>
                      <a:pt x="4" y="1854"/>
                      <a:pt x="22" y="1872"/>
                      <a:pt x="44" y="1872"/>
                    </a:cubicBezTo>
                    <a:cubicBezTo>
                      <a:pt x="228" y="1872"/>
                      <a:pt x="228" y="1872"/>
                      <a:pt x="228" y="1872"/>
                    </a:cubicBezTo>
                    <a:cubicBezTo>
                      <a:pt x="236" y="1872"/>
                      <a:pt x="236" y="1872"/>
                      <a:pt x="236" y="1872"/>
                    </a:cubicBezTo>
                    <a:cubicBezTo>
                      <a:pt x="420" y="1872"/>
                      <a:pt x="420" y="1872"/>
                      <a:pt x="420" y="1872"/>
                    </a:cubicBezTo>
                    <a:cubicBezTo>
                      <a:pt x="442" y="1872"/>
                      <a:pt x="460" y="1854"/>
                      <a:pt x="460" y="1832"/>
                    </a:cubicBezTo>
                    <a:cubicBezTo>
                      <a:pt x="460" y="820"/>
                      <a:pt x="460" y="820"/>
                      <a:pt x="460" y="820"/>
                    </a:cubicBezTo>
                    <a:cubicBezTo>
                      <a:pt x="460" y="818"/>
                      <a:pt x="459" y="815"/>
                      <a:pt x="459" y="8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51c05"/>
                  </a:gs>
                  <a:gs pos="100000">
                    <a:srgbClr val="422b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2240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454120" y="6418440"/>
            <a:ext cx="4235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888240" y="6418440"/>
            <a:ext cx="21333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c05"/>
                </a:solidFill>
                <a:latin typeface="Arial Narrow"/>
              </a:rPr>
              <a:t>Insert Presentation Title</a:t>
            </a:r>
            <a:endParaRPr b="0" lang="en-US" sz="32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 Narrow"/>
              </a:rPr>
              <a:t>Insert Presenter’s Name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c05"/>
                </a:solidFill>
                <a:latin typeface="Arial Narrow"/>
              </a:rPr>
              <a:t>Insert Presenter’s Title</a:t>
            </a: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1776240" y="83664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农园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AEA0-495C-4534-A4DA-D1397C4A56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2400" y="836280"/>
            <a:ext cx="8899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1c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c05"/>
              </a:solidFill>
              <a:latin typeface="Arial"/>
            </a:endParaRPr>
          </a:p>
        </p:txBody>
      </p:sp>
      <p:grpSp>
        <p:nvGrpSpPr>
          <p:cNvPr id="146" name="组合 6146"/>
          <p:cNvGrpSpPr/>
          <p:nvPr/>
        </p:nvGrpSpPr>
        <p:grpSpPr>
          <a:xfrm>
            <a:off x="-87480" y="103320"/>
            <a:ext cx="8608680" cy="676080"/>
            <a:chOff x="-87480" y="103320"/>
            <a:chExt cx="8608680" cy="676080"/>
          </a:xfrm>
        </p:grpSpPr>
        <p:pic>
          <p:nvPicPr>
            <p:cNvPr id="147" name="图片 6147" descr="bar shadow"/>
            <p:cNvPicPr/>
            <p:nvPr/>
          </p:nvPicPr>
          <p:blipFill>
            <a:blip r:embed="rId1">
              <a:lum bright="36000"/>
            </a:blip>
            <a:srcRect l="6297" t="0" r="0" b="0"/>
            <a:stretch/>
          </p:blipFill>
          <p:spPr>
            <a:xfrm>
              <a:off x="1080" y="103320"/>
              <a:ext cx="85201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圆角矩形 6148"/>
            <p:cNvSpPr/>
            <p:nvPr/>
          </p:nvSpPr>
          <p:spPr>
            <a:xfrm>
              <a:off x="-87480" y="112320"/>
              <a:ext cx="8534520" cy="576000"/>
            </a:xfrm>
            <a:prstGeom prst="roundRect">
              <a:avLst>
                <a:gd name="adj" fmla="val 12120"/>
              </a:avLst>
            </a:prstGeom>
            <a:gradFill rotWithShape="0">
              <a:gsLst>
                <a:gs pos="0">
                  <a:srgbClr val="351c05"/>
                </a:gs>
                <a:gs pos="100000">
                  <a:srgbClr val="190d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6149"/>
            <p:cNvSpPr/>
            <p:nvPr/>
          </p:nvSpPr>
          <p:spPr>
            <a:xfrm>
              <a:off x="-65160" y="126720"/>
              <a:ext cx="8496360" cy="28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f5f3">
                    <a:alpha val="22352"/>
                  </a:srgbClr>
                </a:gs>
                <a:gs pos="100000">
                  <a:srgbClr val="71717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6150"/>
            <p:cNvSpPr/>
            <p:nvPr/>
          </p:nvSpPr>
          <p:spPr>
            <a:xfrm rot="5400000">
              <a:off x="8010720" y="251280"/>
              <a:ext cx="545760" cy="286920"/>
            </a:xfrm>
            <a:prstGeom prst="roundRect">
              <a:avLst>
                <a:gd name="adj" fmla="val 16829"/>
              </a:avLst>
            </a:prstGeom>
            <a:gradFill rotWithShape="0">
              <a:gsLst>
                <a:gs pos="0">
                  <a:srgbClr val="f5f5f3">
                    <a:alpha val="16078"/>
                  </a:srgbClr>
                </a:gs>
                <a:gs pos="100000">
                  <a:srgbClr val="71717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112320"/>
            <a:ext cx="83008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f5f3"/>
                </a:solidFill>
                <a:latin typeface="Arial"/>
              </a:rPr>
              <a:t>Insert Title Text</a:t>
            </a:r>
            <a:endParaRPr b="0" lang="en-US" sz="2400" spc="-1" strike="noStrike">
              <a:solidFill>
                <a:srgbClr val="f5f5f3"/>
              </a:solidFill>
              <a:latin typeface="Arial"/>
            </a:endParaRPr>
          </a:p>
        </p:txBody>
      </p:sp>
      <p:sp>
        <p:nvSpPr>
          <p:cNvPr id="15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4b534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5:19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