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B4F-6566-44AA-9C30-00D48A71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DBD-1017-44E2-A449-198395D5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782-814D-4E97-AA7F-9D2ABB32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889-80DD-45C1-9ADA-DF9268AE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B29A-124D-4597-9AA7-51BF3D5E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E6B0-B9EE-47A9-A7DF-B851358A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A73A-8BC8-4685-B97B-B3CCB64A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2BB0-C51B-4C24-BF6D-61C45DF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AF04-A762-4678-A36C-B78CF8ED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6E1F-6FC2-4894-838B-320148FE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7ABB-B8F7-4092-83A7-D39DFE79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134-E5C7-46A3-998D-2CBB25E7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F845-E863-4082-AC16-658EBFD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97C7-8900-47CB-B998-A8B20837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7D7D-96F4-49CF-9C93-942556E6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B6AD-8173-4B68-90B7-521D8B0E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64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77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64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77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CBF6-4B4F-41AE-97FC-02A6F24F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94D8-B298-4756-BE22-10503833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E3CF-0338-4C84-8F80-FF8797AE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3799-B0E4-4466-86D9-DB321536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82E9-72CC-45C2-B5DE-F4EDCE2B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F918C-0A34-41DE-9D04-931D7028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A00-362D-479D-AC5B-A1698C23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0865-B6EF-4782-8E21-95E21F42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C63F-CE91-4A03-BA4C-AF79AD6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899A-7496-4705-A73A-C0FEA0E1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DA00-8E5B-4097-992D-EE7E26D7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3545-6ED0-4689-8883-8FD19FC1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6A2FD-BF7E-48CD-9C4B-9CE563D4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64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77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64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77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DAA6-B790-462C-B7DF-C21DDD3A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B0E-7A5E-4187-86E6-782145B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810-7C0C-4C16-8FB1-48208E59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C46-7EA5-401C-8E77-C7B7577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BF4-065E-480C-823A-32C64B28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2E8-5E2C-41BC-B523-AFB6C3BC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A31-1162-4EEA-A6BC-90D6026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45ED-0B9D-4418-933C-B64A1FAAF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C967-9E2E-4DD1-A570-D6756932B45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752A-841A-46EF-883B-5BFD29DF8D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F9F1-59D4-4D73-A210-73515452B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051"/>
          <p:cNvSpPr/>
          <p:nvPr/>
        </p:nvSpPr>
        <p:spPr>
          <a:xfrm>
            <a:off x="0" y="1905120"/>
            <a:ext cx="91440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矩形 2052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solidFill>
            <a:srgbClr val="cab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800" y="1268280"/>
            <a:ext cx="875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Heavy"/>
              </a:rPr>
              <a:t>能源基础设施企业</a:t>
            </a:r>
            <a:r>
              <a:rPr b="0" lang="en-US" sz="4000" spc="-1" strike="noStrike">
                <a:solidFill>
                  <a:srgbClr val="ffffff"/>
                </a:solidFill>
                <a:latin typeface="Franklin Gothic Heavy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Franklin Gothic Heavy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Franklin Gothic Heavy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072" descr="Z:\newtek\_backgrounds_1.02\Tim\_powerpoint templates\infrastructure of power\generator.jpg"/>
          <p:cNvPicPr/>
          <p:nvPr/>
        </p:nvPicPr>
        <p:blipFill>
          <a:blip r:embed="rId1"/>
          <a:stretch/>
        </p:blipFill>
        <p:spPr>
          <a:xfrm>
            <a:off x="758196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073" descr="Z:\newtek\_backgrounds_1.02\Tim\_powerpoint templates\infrastructure of power\lines.jpg"/>
          <p:cNvPicPr/>
          <p:nvPr/>
        </p:nvPicPr>
        <p:blipFill>
          <a:blip r:embed="rId2"/>
          <a:stretch/>
        </p:blipFill>
        <p:spPr>
          <a:xfrm>
            <a:off x="624852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074" descr="Z:\newtek\_backgrounds_1.02\Tim\_powerpoint templates\infrastructure of power\meter.jpg"/>
          <p:cNvPicPr/>
          <p:nvPr/>
        </p:nvPicPr>
        <p:blipFill>
          <a:blip r:embed="rId3"/>
          <a:stretch/>
        </p:blipFill>
        <p:spPr>
          <a:xfrm>
            <a:off x="487692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075" descr="Z:\newtek\_backgrounds_1.02\Tim\_powerpoint templates\infrastructure of power\nukes.jpg"/>
          <p:cNvPicPr/>
          <p:nvPr/>
        </p:nvPicPr>
        <p:blipFill>
          <a:blip r:embed="rId4"/>
          <a:stretch/>
        </p:blipFill>
        <p:spPr>
          <a:xfrm>
            <a:off x="342900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076" descr="Z:\newtek\_backgrounds_1.02\Tim\_powerpoint templates\infrastructure of power\stacks.jpg"/>
          <p:cNvPicPr/>
          <p:nvPr/>
        </p:nvPicPr>
        <p:blipFill>
          <a:blip r:embed="rId5"/>
          <a:stretch/>
        </p:blipFill>
        <p:spPr>
          <a:xfrm>
            <a:off x="1981080" y="2590920"/>
            <a:ext cx="1105200" cy="11048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077" descr="Z:\newtek\_backgrounds_1.02\Tim\_powerpoint templates\infrastructure of power\towers.jpg"/>
          <p:cNvPicPr/>
          <p:nvPr/>
        </p:nvPicPr>
        <p:blipFill>
          <a:blip r:embed="rId6"/>
          <a:stretch/>
        </p:blipFill>
        <p:spPr>
          <a:xfrm>
            <a:off x="609480" y="2590920"/>
            <a:ext cx="1105200" cy="110484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099"/>
          <p:cNvSpPr/>
          <p:nvPr/>
        </p:nvSpPr>
        <p:spPr>
          <a:xfrm>
            <a:off x="0" y="45720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410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cab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4112" descr="Z:\newtek\_backgrounds_1.02\Tim\_powerpoint templates\infrastructure of power\generator.jpg"/>
          <p:cNvPicPr/>
          <p:nvPr/>
        </p:nvPicPr>
        <p:blipFill>
          <a:blip r:embed="rId1"/>
          <a:stretch/>
        </p:blipFill>
        <p:spPr>
          <a:xfrm>
            <a:off x="461016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113" descr="Z:\newtek\_backgrounds_1.02\Tim\_powerpoint templates\infrastructure of power\lines.jpg"/>
          <p:cNvPicPr/>
          <p:nvPr/>
        </p:nvPicPr>
        <p:blipFill>
          <a:blip r:embed="rId2"/>
          <a:stretch/>
        </p:blipFill>
        <p:spPr>
          <a:xfrm>
            <a:off x="377208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114" descr="Z:\newtek\_backgrounds_1.02\Tim\_powerpoint templates\infrastructure of power\meter.jpg"/>
          <p:cNvPicPr/>
          <p:nvPr/>
        </p:nvPicPr>
        <p:blipFill>
          <a:blip r:embed="rId3"/>
          <a:stretch/>
        </p:blipFill>
        <p:spPr>
          <a:xfrm>
            <a:off x="285768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115" descr="Z:\newtek\_backgrounds_1.02\Tim\_powerpoint templates\infrastructure of power\nukes.jpg"/>
          <p:cNvPicPr/>
          <p:nvPr/>
        </p:nvPicPr>
        <p:blipFill>
          <a:blip r:embed="rId4"/>
          <a:stretch/>
        </p:blipFill>
        <p:spPr>
          <a:xfrm>
            <a:off x="2019240" y="6095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116" descr="Z:\newtek\_backgrounds_1.02\Tim\_powerpoint templates\infrastructure of power\stacks.jpg"/>
          <p:cNvPicPr/>
          <p:nvPr/>
        </p:nvPicPr>
        <p:blipFill>
          <a:blip r:embed="rId5"/>
          <a:stretch/>
        </p:blipFill>
        <p:spPr>
          <a:xfrm>
            <a:off x="1104840" y="6095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117" descr="Z:\newtek\_backgrounds_1.02\Tim\_powerpoint templates\infrastructure of power\towers.jpg"/>
          <p:cNvPicPr/>
          <p:nvPr/>
        </p:nvPicPr>
        <p:blipFill>
          <a:blip r:embed="rId6"/>
          <a:stretch/>
        </p:blipFill>
        <p:spPr>
          <a:xfrm>
            <a:off x="190440" y="60958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Heavy"/>
              </a:rPr>
              <a:t>Transitional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0" y="176760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46" name="图片 5136" descr="Z:\newtek\_backgrounds_1.02\Tim\_powerpoint templates\infrastructure of power\generator.jpg"/>
          <p:cNvPicPr/>
          <p:nvPr/>
        </p:nvPicPr>
        <p:blipFill>
          <a:blip r:embed="rId2"/>
          <a:stretch/>
        </p:blipFill>
        <p:spPr>
          <a:xfrm>
            <a:off x="758196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137" descr="Z:\newtek\_backgrounds_1.02\Tim\_powerpoint templates\infrastructure of power\lines.jpg"/>
          <p:cNvPicPr/>
          <p:nvPr/>
        </p:nvPicPr>
        <p:blipFill>
          <a:blip r:embed="rId3"/>
          <a:stretch/>
        </p:blipFill>
        <p:spPr>
          <a:xfrm>
            <a:off x="624852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138" descr="Z:\newtek\_backgrounds_1.02\Tim\_powerpoint templates\infrastructure of power\meter.jpg"/>
          <p:cNvPicPr/>
          <p:nvPr/>
        </p:nvPicPr>
        <p:blipFill>
          <a:blip r:embed="rId4"/>
          <a:stretch/>
        </p:blipFill>
        <p:spPr>
          <a:xfrm>
            <a:off x="487692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139" descr="Z:\newtek\_backgrounds_1.02\Tim\_powerpoint templates\infrastructure of power\nukes.jpg"/>
          <p:cNvPicPr/>
          <p:nvPr/>
        </p:nvPicPr>
        <p:blipFill>
          <a:blip r:embed="rId5"/>
          <a:stretch/>
        </p:blipFill>
        <p:spPr>
          <a:xfrm>
            <a:off x="3429000" y="25909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140" descr="Z:\newtek\_backgrounds_1.02\Tim\_powerpoint templates\infrastructure of power\stacks.jpg"/>
          <p:cNvPicPr/>
          <p:nvPr/>
        </p:nvPicPr>
        <p:blipFill>
          <a:blip r:embed="rId6"/>
          <a:stretch/>
        </p:blipFill>
        <p:spPr>
          <a:xfrm>
            <a:off x="1981080" y="2590920"/>
            <a:ext cx="1105200" cy="11048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5141" descr="Z:\newtek\_backgrounds_1.02\Tim\_powerpoint templates\infrastructure of power\towers.jpg"/>
          <p:cNvPicPr/>
          <p:nvPr/>
        </p:nvPicPr>
        <p:blipFill>
          <a:blip r:embed="rId7"/>
          <a:stretch/>
        </p:blipFill>
        <p:spPr>
          <a:xfrm>
            <a:off x="609480" y="2590920"/>
            <a:ext cx="1105200" cy="11048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8199"/>
          <p:cNvSpPr/>
          <p:nvPr/>
        </p:nvSpPr>
        <p:spPr>
          <a:xfrm>
            <a:off x="971640" y="63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6147"/>
          <p:cNvSpPr/>
          <p:nvPr/>
        </p:nvSpPr>
        <p:spPr>
          <a:xfrm>
            <a:off x="0" y="45720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矩形 614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cab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6160" descr="Z:\newtek\_backgrounds_1.02\Tim\_powerpoint templates\infrastructure of power\generator.jpg"/>
          <p:cNvPicPr/>
          <p:nvPr/>
        </p:nvPicPr>
        <p:blipFill>
          <a:blip r:embed="rId2"/>
          <a:stretch/>
        </p:blipFill>
        <p:spPr>
          <a:xfrm>
            <a:off x="461016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6161" descr="Z:\newtek\_backgrounds_1.02\Tim\_powerpoint templates\infrastructure of power\lines.jpg"/>
          <p:cNvPicPr/>
          <p:nvPr/>
        </p:nvPicPr>
        <p:blipFill>
          <a:blip r:embed="rId3"/>
          <a:stretch/>
        </p:blipFill>
        <p:spPr>
          <a:xfrm>
            <a:off x="377208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6162" descr="Z:\newtek\_backgrounds_1.02\Tim\_powerpoint templates\infrastructure of power\meter.jpg"/>
          <p:cNvPicPr/>
          <p:nvPr/>
        </p:nvPicPr>
        <p:blipFill>
          <a:blip r:embed="rId4"/>
          <a:stretch/>
        </p:blipFill>
        <p:spPr>
          <a:xfrm>
            <a:off x="2857680" y="60958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6163" descr="Z:\newtek\_backgrounds_1.02\Tim\_powerpoint templates\infrastructure of power\nukes.jpg"/>
          <p:cNvPicPr/>
          <p:nvPr/>
        </p:nvPicPr>
        <p:blipFill>
          <a:blip r:embed="rId5"/>
          <a:stretch/>
        </p:blipFill>
        <p:spPr>
          <a:xfrm>
            <a:off x="2019240" y="6095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6164" descr="Z:\newtek\_backgrounds_1.02\Tim\_powerpoint templates\infrastructure of power\stacks.jpg"/>
          <p:cNvPicPr/>
          <p:nvPr/>
        </p:nvPicPr>
        <p:blipFill>
          <a:blip r:embed="rId6"/>
          <a:stretch/>
        </p:blipFill>
        <p:spPr>
          <a:xfrm>
            <a:off x="1104840" y="6095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6165" descr="Z:\newtek\_backgrounds_1.02\Tim\_powerpoint templates\infrastructure of power\towers.jpg"/>
          <p:cNvPicPr/>
          <p:nvPr/>
        </p:nvPicPr>
        <p:blipFill>
          <a:blip r:embed="rId7"/>
          <a:stretch/>
        </p:blipFill>
        <p:spPr>
          <a:xfrm>
            <a:off x="190440" y="60958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612E-04D8-461B-B168-03ADE8C78B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Heavy"/>
              </a:rPr>
              <a:t>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图片 7194" descr="Z:\newtek\_backgrounds_1.02\Tim\_powerpoint templates\infrastructure of power\iop_cover.jpg"/>
          <p:cNvPicPr/>
          <p:nvPr/>
        </p:nvPicPr>
        <p:blipFill>
          <a:blip r:embed="rId1"/>
          <a:stretch/>
        </p:blipFill>
        <p:spPr>
          <a:xfrm>
            <a:off x="838080" y="2971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195" descr="Z:\newtek\_backgrounds_1.02\Tim\_powerpoint templates\infrastructure of power\iop_printslide.jpg"/>
          <p:cNvPicPr/>
          <p:nvPr/>
        </p:nvPicPr>
        <p:blipFill>
          <a:blip r:embed="rId2"/>
          <a:stretch/>
        </p:blipFill>
        <p:spPr>
          <a:xfrm>
            <a:off x="5715000" y="2971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7196" descr="Z:\newtek\_backgrounds_1.02\Tim\_powerpoint templates\infrastructure of power\iop_slide.jpg"/>
          <p:cNvPicPr/>
          <p:nvPr/>
        </p:nvPicPr>
        <p:blipFill>
          <a:blip r:embed="rId3"/>
          <a:stretch/>
        </p:blipFill>
        <p:spPr>
          <a:xfrm>
            <a:off x="3276720" y="2971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7197" descr="Z:\newtek\_backgrounds_1.02\Tim\_powerpoint templates\infrastructure of power\generator.jpg"/>
          <p:cNvPicPr/>
          <p:nvPr/>
        </p:nvPicPr>
        <p:blipFill>
          <a:blip r:embed="rId4"/>
          <a:stretch/>
        </p:blipFill>
        <p:spPr>
          <a:xfrm>
            <a:off x="754380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198" descr="Z:\newtek\_backgrounds_1.02\Tim\_powerpoint templates\infrastructure of power\lines.jpg"/>
          <p:cNvPicPr/>
          <p:nvPr/>
        </p:nvPicPr>
        <p:blipFill>
          <a:blip r:embed="rId5"/>
          <a:stretch/>
        </p:blipFill>
        <p:spPr>
          <a:xfrm>
            <a:off x="621036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7199" descr="Z:\newtek\_backgrounds_1.02\Tim\_powerpoint templates\infrastructure of power\meter.jpg"/>
          <p:cNvPicPr/>
          <p:nvPr/>
        </p:nvPicPr>
        <p:blipFill>
          <a:blip r:embed="rId6"/>
          <a:stretch/>
        </p:blipFill>
        <p:spPr>
          <a:xfrm>
            <a:off x="483876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7200" descr="Z:\newtek\_backgrounds_1.02\Tim\_powerpoint templates\infrastructure of power\nukes.jpg"/>
          <p:cNvPicPr/>
          <p:nvPr/>
        </p:nvPicPr>
        <p:blipFill>
          <a:blip r:embed="rId7"/>
          <a:stretch/>
        </p:blipFill>
        <p:spPr>
          <a:xfrm>
            <a:off x="339084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201" descr="Z:\newtek\_backgrounds_1.02\Tim\_powerpoint templates\infrastructure of power\stacks.jpg"/>
          <p:cNvPicPr/>
          <p:nvPr/>
        </p:nvPicPr>
        <p:blipFill>
          <a:blip r:embed="rId8"/>
          <a:stretch/>
        </p:blipFill>
        <p:spPr>
          <a:xfrm>
            <a:off x="1943280" y="53352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202" descr="Z:\newtek\_backgrounds_1.02\Tim\_powerpoint templates\infrastructure of power\towers.jpg"/>
          <p:cNvPicPr/>
          <p:nvPr/>
        </p:nvPicPr>
        <p:blipFill>
          <a:blip r:embed="rId9"/>
          <a:stretch/>
        </p:blipFill>
        <p:spPr>
          <a:xfrm>
            <a:off x="571680" y="5335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1:24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09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