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0E5-3679-482F-A47A-C57060EF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78F-DB38-4797-A871-F0F9851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D2E-BF1C-4208-8B07-1C6B889B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F21-D34D-4B48-8267-23D6D220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6930-8AEC-4CDA-B6B0-55099E0A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73C-4B73-466D-B69B-F331F01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84F9-BAF6-4843-990E-7B9C6325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35A3-3030-42A8-B1FB-7390921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E4C-7C34-4F04-A62F-CE0AFF9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660-B8F5-476F-8476-8FB7E03E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B13-4DB9-47B1-B65D-91CFA47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830-5468-43CE-9AC2-3F55EBDA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9976-ABF2-483E-A54D-5C2BBD5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187-3ABC-44BC-A54F-BAF605D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8042-10D0-4CCA-9FAB-F50A273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7CA4-125E-4EE4-8E77-2ECA7088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F0EA-016C-423A-AEAF-47460F0F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D730-175F-48D5-ADB8-D81155FC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B1B6-6389-4A17-BA64-3CCB797A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9056-A371-43FE-A446-43F13708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33DC-5049-4F47-98AA-F9ED39B7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CA99-0FC1-4F58-9D84-F1F4A6E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F09-204F-4E2F-A468-5A5D45E1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E797-082F-4909-858C-BB0D659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9416-9922-4611-88C2-6A53D7D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92FA-02EB-4A23-8589-11C5509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84B6-EA0F-4547-8723-B8864E2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6EB9-6BA0-4F33-AB8C-AB0BB30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6F69-6360-4E10-9F40-37093983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0456-4A56-48B1-BB1D-2AB695AE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244-A7A6-40D2-B352-4E7AFB89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910-A5A8-4A7F-8FC7-86ABC37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4F5-48C5-4CA4-A1A6-8F300DC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4C4-3512-4D35-A282-0636B7E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E35-88FC-4FDD-A4B3-3815725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231-F37D-4214-86D5-A072615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67E-0E19-4114-BF66-78987D52FB3C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244-D3CE-400D-8C60-90520076195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5A53-D0F1-4701-A3CF-FD95AAD26FF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7C77-00FA-440B-BF6A-09006D17F7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cover_wave"/>
          <p:cNvPicPr/>
          <p:nvPr/>
        </p:nvPicPr>
        <p:blipFill>
          <a:blip r:embed="rId2"/>
          <a:stretch/>
        </p:blipFill>
        <p:spPr>
          <a:xfrm>
            <a:off x="0" y="0"/>
            <a:ext cx="9145440" cy="5572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41B5-5D55-418C-9411-9957CAD416A3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A1AA-DA19-44AB-981A-E1A87ACFE1D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</a:rPr>
              <a:t>年终工作汇报幻灯片下载</a:t>
            </a:r>
            <a:r>
              <a:rPr b="1" lang="en-US" sz="4800" spc="-1" strike="noStrike">
                <a:solidFill>
                  <a:srgbClr val="f2f2f2"/>
                </a:solidFill>
                <a:latin typeface="微软雅黑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微软雅黑"/>
              </a:rPr>
              <a:t>汇报人：</a:t>
            </a:r>
            <a:r>
              <a:rPr b="0" lang="en-US" sz="2800" spc="-1" strike="noStrike">
                <a:solidFill>
                  <a:srgbClr val="898989"/>
                </a:solidFill>
                <a:latin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微软雅黑"/>
              </a:rPr>
              <a:t>2011-12-30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a1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d0a1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6"/>
          <p:cNvGrpSpPr/>
          <p:nvPr/>
        </p:nvGrpSpPr>
        <p:grpSpPr>
          <a:xfrm>
            <a:off x="0" y="0"/>
            <a:ext cx="9144000" cy="6929280"/>
            <a:chOff x="0" y="0"/>
            <a:chExt cx="9144000" cy="6929280"/>
          </a:xfrm>
        </p:grpSpPr>
        <p:pic>
          <p:nvPicPr>
            <p:cNvPr id="180" name="Picture 2" descr="E:\素材库\maps-world-map-02 拷贝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" descr="E:\素材库\maps-world-map-02 拷贝.jpg"/>
            <p:cNvPicPr/>
            <p:nvPr/>
          </p:nvPicPr>
          <p:blipFill>
            <a:blip r:embed="rId2"/>
            <a:stretch/>
          </p:blipFill>
          <p:spPr>
            <a:xfrm>
              <a:off x="586080" y="2428920"/>
              <a:ext cx="7971840" cy="45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2.1  Enhance your website 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2848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84" name="Picture 2" descr="E:\素材库\pin.png"/>
          <p:cNvPicPr/>
          <p:nvPr/>
        </p:nvPicPr>
        <p:blipFill>
          <a:blip r:embed="rId3"/>
          <a:stretch/>
        </p:blipFill>
        <p:spPr>
          <a:xfrm>
            <a:off x="5357880" y="4572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E:\素材库\pin.png"/>
          <p:cNvPicPr/>
          <p:nvPr/>
        </p:nvPicPr>
        <p:blipFill>
          <a:blip r:embed="rId4"/>
          <a:stretch/>
        </p:blipFill>
        <p:spPr>
          <a:xfrm>
            <a:off x="5143680" y="4643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E:\素材库\pin.png"/>
          <p:cNvPicPr/>
          <p:nvPr/>
        </p:nvPicPr>
        <p:blipFill>
          <a:blip r:embed="rId5"/>
          <a:stretch/>
        </p:blipFill>
        <p:spPr>
          <a:xfrm>
            <a:off x="5214960" y="4429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剪影,手,掐,太阳"/>
          <p:cNvPicPr/>
          <p:nvPr/>
        </p:nvPicPr>
        <p:blipFill>
          <a:blip r:embed="rId1"/>
          <a:srcRect l="0" t="0" r="13215" b="3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1643040" y="4071960"/>
            <a:ext cx="7358040" cy="273348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1857240" y="4195800"/>
            <a:ext cx="7072560" cy="251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se free online tracking tools to optimize your site Use free online tracking tools to optimize your s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 rot="16200000">
            <a:off x="8298720" y="3370680"/>
            <a:ext cx="144360" cy="12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1357200" y="4071960"/>
            <a:ext cx="7786800" cy="2214720"/>
          </a:xfrm>
          <a:prstGeom prst="rect">
            <a:avLst/>
          </a:prstGeom>
          <a:solidFill>
            <a:srgbClr val="948a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00120" y="4285800"/>
            <a:ext cx="75009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矩形 5"/>
          <p:cNvSpPr/>
          <p:nvPr/>
        </p:nvSpPr>
        <p:spPr>
          <a:xfrm rot="16200000">
            <a:off x="8441640" y="3370680"/>
            <a:ext cx="144360" cy="1260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6A53-4E82-4012-8868-BAD1D93A4B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0" y="0"/>
            <a:ext cx="9144000" cy="3714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1581840" y="183024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</a:t>
            </a:r>
            <a:r>
              <a:rPr b="1" lang="zh-CN" sz="8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聆听</a:t>
            </a:r>
            <a:r>
              <a:rPr b="1" lang="zh-CN" sz="8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0" y="3714840"/>
            <a:ext cx="9144000" cy="31431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FB31-DBA0-4B74-A74A-88EA6B4E98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单圆角矩形 3"/>
          <p:cNvSpPr/>
          <p:nvPr/>
        </p:nvSpPr>
        <p:spPr>
          <a:xfrm flipV="1">
            <a:off x="4610160" y="226800"/>
            <a:ext cx="4357800" cy="6416640"/>
          </a:xfrm>
          <a:custGeom>
            <a:avLst/>
            <a:gdLst/>
            <a:ahLst/>
            <a:rect l="l" t="t" r="r" b="b"/>
            <a:pathLst>
              <a:path w="4357687" h="6416675">
                <a:moveTo>
                  <a:pt x="0" y="0"/>
                </a:moveTo>
                <a:lnTo>
                  <a:pt x="3934861" y="0"/>
                </a:lnTo>
                <a:cubicBezTo>
                  <a:pt x="4168381" y="0"/>
                  <a:pt x="4357687" y="189306"/>
                  <a:pt x="4357687" y="422826"/>
                </a:cubicBezTo>
                <a:lnTo>
                  <a:pt x="4357687" y="6416675"/>
                </a:lnTo>
                <a:lnTo>
                  <a:pt x="0" y="6416675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单圆角矩形 4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7280" y="27338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一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1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697280" y="38480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二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blake.co.za/wp-content/uploads/2011/11/economic-growth.jpg"/>
          <p:cNvPicPr/>
          <p:nvPr/>
        </p:nvPicPr>
        <p:blipFill>
          <a:blip r:embed="rId1"/>
          <a:stretch/>
        </p:blipFill>
        <p:spPr>
          <a:xfrm>
            <a:off x="4286160" y="2500200"/>
            <a:ext cx="48578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6840" y="1599840"/>
            <a:ext cx="8472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年，业绩有了较大提升。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销售收入从去年的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，增长到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， 增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XX%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1.1  </a:t>
            </a:r>
            <a:r>
              <a:rPr b="1" lang="zh-CN" sz="3800" spc="-1" strike="noStrike">
                <a:solidFill>
                  <a:srgbClr val="000000"/>
                </a:solidFill>
                <a:latin typeface="微软雅黑"/>
              </a:rPr>
              <a:t>跨上</a:t>
            </a: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XX</a:t>
            </a:r>
            <a:r>
              <a:rPr b="1" lang="zh-CN" sz="3800" spc="-1" strike="noStrike">
                <a:solidFill>
                  <a:srgbClr val="000000"/>
                </a:solidFill>
                <a:latin typeface="微软雅黑"/>
              </a:rPr>
              <a:t>新台阶</a:t>
            </a: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   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36" name="TextBox 29" descr=""/>
          <p:cNvPicPr/>
          <p:nvPr/>
        </p:nvPicPr>
        <p:blipFill>
          <a:blip r:embed="rId2"/>
          <a:stretch/>
        </p:blipFill>
        <p:spPr>
          <a:xfrm>
            <a:off x="5813280" y="3668760"/>
            <a:ext cx="1305000" cy="103824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太阳天空现代建筑"/>
          <p:cNvPicPr/>
          <p:nvPr/>
        </p:nvPicPr>
        <p:blipFill>
          <a:blip r:embed="rId1"/>
          <a:srcRect l="0" t="0" r="110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</a:rPr>
              <a:t>1.2  Enhance your website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2643120" y="3071880"/>
            <a:ext cx="6500880" cy="3000240"/>
          </a:xfrm>
          <a:prstGeom prst="rect">
            <a:avLst/>
          </a:prstGeom>
          <a:solidFill>
            <a:srgbClr val="93cddd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2857680" y="3214800"/>
            <a:ext cx="621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3"/>
          <p:cNvSpPr/>
          <p:nvPr/>
        </p:nvSpPr>
        <p:spPr>
          <a:xfrm rot="16200000">
            <a:off x="8748000" y="2676960"/>
            <a:ext cx="144360" cy="64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3220200" y="542916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3lian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Technicians holding blueprints talking near large solar panels"/>
          <p:cNvPicPr/>
          <p:nvPr/>
        </p:nvPicPr>
        <p:blipFill>
          <a:blip r:embed="rId1"/>
          <a:srcRect l="0" t="0" r="110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矩形 8"/>
          <p:cNvSpPr/>
          <p:nvPr/>
        </p:nvSpPr>
        <p:spPr>
          <a:xfrm>
            <a:off x="0" y="3929040"/>
            <a:ext cx="8643960" cy="192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</a:rPr>
              <a:t>1.2  Enhance your website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0920" y="4214880"/>
            <a:ext cx="8501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矩形 9"/>
          <p:cNvSpPr/>
          <p:nvPr/>
        </p:nvSpPr>
        <p:spPr>
          <a:xfrm rot="16200000">
            <a:off x="251640" y="3534120"/>
            <a:ext cx="144360" cy="64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特写,球体,箭头"/>
          <p:cNvPicPr/>
          <p:nvPr/>
        </p:nvPicPr>
        <p:blipFill>
          <a:blip r:embed="rId1"/>
          <a:srcRect l="12318" t="4392" r="26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对角圆角矩形 9"/>
          <p:cNvSpPr/>
          <p:nvPr/>
        </p:nvSpPr>
        <p:spPr>
          <a:xfrm>
            <a:off x="0" y="3786120"/>
            <a:ext cx="9144000" cy="2857680"/>
          </a:xfrm>
          <a:custGeom>
            <a:avLst/>
            <a:gdLst/>
            <a:ahLst/>
            <a:rect l="l" t="t" r="r" b="b"/>
            <a:pathLst>
              <a:path w="9144000" h="2857500">
                <a:moveTo>
                  <a:pt x="476259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2381240"/>
                </a:lnTo>
                <a:cubicBezTo>
                  <a:pt x="9144000" y="2644271"/>
                  <a:pt x="8930772" y="2857499"/>
                  <a:pt x="8667741" y="2857499"/>
                </a:cubicBezTo>
                <a:lnTo>
                  <a:pt x="0" y="2857500"/>
                </a:lnTo>
                <a:lnTo>
                  <a:pt x="0" y="2857500"/>
                </a:lnTo>
                <a:lnTo>
                  <a:pt x="0" y="476259"/>
                </a:lnTo>
                <a:cubicBezTo>
                  <a:pt x="0" y="213228"/>
                  <a:pt x="213228" y="0"/>
                  <a:pt x="476259" y="0"/>
                </a:cubicBezTo>
                <a:close/>
              </a:path>
            </a:pathLst>
          </a:cu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1.2  Enhance your website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7120" y="400032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3" name="Picture 2" descr="C:\Documents and Settings\Administrator\桌面\1324869145_Gnome-Document-Send-48.png"/>
          <p:cNvPicPr/>
          <p:nvPr/>
        </p:nvPicPr>
        <p:blipFill>
          <a:blip r:embed="rId2"/>
          <a:stretch/>
        </p:blipFill>
        <p:spPr>
          <a:xfrm flipH="1" rot="20490600">
            <a:off x="7157520" y="33364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1"/>
          <p:cNvSpPr/>
          <p:nvPr/>
        </p:nvSpPr>
        <p:spPr>
          <a:xfrm rot="16200000">
            <a:off x="8441280" y="3085200"/>
            <a:ext cx="144720" cy="12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2817720" y="6488280"/>
            <a:ext cx="57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3lian.com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3lian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AD49-5387-4130-9A0E-540217CC61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单圆角矩形 3"/>
          <p:cNvSpPr/>
          <p:nvPr/>
        </p:nvSpPr>
        <p:spPr>
          <a:xfrm flipV="1">
            <a:off x="4610160" y="226800"/>
            <a:ext cx="4357800" cy="6416640"/>
          </a:xfrm>
          <a:custGeom>
            <a:avLst/>
            <a:gdLst/>
            <a:ahLst/>
            <a:rect l="l" t="t" r="r" b="b"/>
            <a:pathLst>
              <a:path w="4357687" h="6416675">
                <a:moveTo>
                  <a:pt x="0" y="0"/>
                </a:moveTo>
                <a:lnTo>
                  <a:pt x="3934861" y="0"/>
                </a:lnTo>
                <a:cubicBezTo>
                  <a:pt x="4168381" y="0"/>
                  <a:pt x="4357687" y="189306"/>
                  <a:pt x="4357687" y="422826"/>
                </a:cubicBezTo>
                <a:lnTo>
                  <a:pt x="4357687" y="6416675"/>
                </a:lnTo>
                <a:lnTo>
                  <a:pt x="0" y="6416675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单圆角矩形 4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697280" y="27338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一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1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697280" y="38480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二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椭圆 18" descr=""/>
          <p:cNvPicPr/>
          <p:nvPr/>
        </p:nvPicPr>
        <p:blipFill>
          <a:blip r:embed="rId1"/>
          <a:stretch/>
        </p:blipFill>
        <p:spPr>
          <a:xfrm>
            <a:off x="2303640" y="17640"/>
            <a:ext cx="6840360" cy="6840360"/>
          </a:xfrm>
          <a:prstGeom prst="rect">
            <a:avLst/>
          </a:prstGeom>
          <a:ln w="0">
            <a:noFill/>
          </a:ln>
        </p:spPr>
      </p:pic>
      <p:pic>
        <p:nvPicPr>
          <p:cNvPr id="163" name="椭圆 16" descr=""/>
          <p:cNvPicPr/>
          <p:nvPr/>
        </p:nvPicPr>
        <p:blipFill>
          <a:blip r:embed="rId2"/>
          <a:stretch/>
        </p:blipFill>
        <p:spPr>
          <a:xfrm>
            <a:off x="3946680" y="1214280"/>
            <a:ext cx="5040000" cy="5040360"/>
          </a:xfrm>
          <a:prstGeom prst="rect">
            <a:avLst/>
          </a:prstGeom>
          <a:ln w="0">
            <a:noFill/>
          </a:ln>
        </p:spPr>
      </p:pic>
      <p:pic>
        <p:nvPicPr>
          <p:cNvPr id="164" name="椭圆 14" descr=""/>
          <p:cNvPicPr/>
          <p:nvPr/>
        </p:nvPicPr>
        <p:blipFill>
          <a:blip r:embed="rId3"/>
          <a:stretch/>
        </p:blipFill>
        <p:spPr>
          <a:xfrm>
            <a:off x="5303880" y="185724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198160" y="3332160"/>
            <a:ext cx="14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访问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9"/>
          <p:cNvGrpSpPr/>
          <p:nvPr/>
        </p:nvGrpSpPr>
        <p:grpSpPr>
          <a:xfrm>
            <a:off x="6485040" y="2214720"/>
            <a:ext cx="2520720" cy="2519280"/>
            <a:chOff x="6485040" y="2214720"/>
            <a:chExt cx="2520720" cy="2519280"/>
          </a:xfrm>
        </p:grpSpPr>
        <p:pic>
          <p:nvPicPr>
            <p:cNvPr id="168" name="椭圆 10" descr=""/>
            <p:cNvPicPr/>
            <p:nvPr/>
          </p:nvPicPr>
          <p:blipFill>
            <a:blip r:embed="rId4"/>
            <a:stretch/>
          </p:blipFill>
          <p:spPr>
            <a:xfrm>
              <a:off x="6485040" y="2214720"/>
              <a:ext cx="2520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6858000" y="2857320"/>
              <a:ext cx="20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核心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Rectangle 6"/>
          <p:cNvSpPr/>
          <p:nvPr/>
        </p:nvSpPr>
        <p:spPr>
          <a:xfrm>
            <a:off x="5126040" y="31320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伙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7"/>
          <p:cNvSpPr/>
          <p:nvPr/>
        </p:nvSpPr>
        <p:spPr>
          <a:xfrm>
            <a:off x="4000680" y="31320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单圆角矩形 26"/>
          <p:cNvSpPr/>
          <p:nvPr/>
        </p:nvSpPr>
        <p:spPr>
          <a:xfrm flipV="1">
            <a:off x="0" y="5643720"/>
            <a:ext cx="357120" cy="1000080"/>
          </a:xfrm>
          <a:custGeom>
            <a:avLst/>
            <a:gdLst/>
            <a:ahLst/>
            <a:rect l="l" t="t" r="r" b="b"/>
            <a:pathLst>
              <a:path w="357187" h="1000125">
                <a:moveTo>
                  <a:pt x="0" y="0"/>
                </a:moveTo>
                <a:lnTo>
                  <a:pt x="297655" y="0"/>
                </a:lnTo>
                <a:cubicBezTo>
                  <a:pt x="330534" y="0"/>
                  <a:pt x="357187" y="26653"/>
                  <a:pt x="357187" y="59532"/>
                </a:cubicBezTo>
                <a:lnTo>
                  <a:pt x="357187" y="1000125"/>
                </a:lnTo>
                <a:lnTo>
                  <a:pt x="0" y="1000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单圆角矩形 27"/>
          <p:cNvSpPr/>
          <p:nvPr/>
        </p:nvSpPr>
        <p:spPr>
          <a:xfrm>
            <a:off x="0" y="214200"/>
            <a:ext cx="357120" cy="5429520"/>
          </a:xfrm>
          <a:custGeom>
            <a:avLst/>
            <a:gdLst/>
            <a:ahLst/>
            <a:rect l="l" t="t" r="r" b="b"/>
            <a:pathLst>
              <a:path w="357187" h="5429250">
                <a:moveTo>
                  <a:pt x="0" y="0"/>
                </a:moveTo>
                <a:lnTo>
                  <a:pt x="297655" y="0"/>
                </a:lnTo>
                <a:cubicBezTo>
                  <a:pt x="330534" y="0"/>
                  <a:pt x="357187" y="26653"/>
                  <a:pt x="357187" y="59532"/>
                </a:cubicBezTo>
                <a:lnTo>
                  <a:pt x="357187" y="5429250"/>
                </a:lnTo>
                <a:lnTo>
                  <a:pt x="0" y="542925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8"/>
          <p:cNvSpPr/>
          <p:nvPr/>
        </p:nvSpPr>
        <p:spPr>
          <a:xfrm>
            <a:off x="-25920" y="500040"/>
            <a:ext cx="4546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hance your websi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特写,箭头标志"/>
          <p:cNvPicPr/>
          <p:nvPr/>
        </p:nvPicPr>
        <p:blipFill>
          <a:blip r:embed="rId1"/>
          <a:srcRect l="0" t="0" r="110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图示 21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6643800" cy="4429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3:1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2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