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191-5330-432C-A5D3-24FF0BC4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D03-CF49-42E7-8C43-F60FE9A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7D5-F88E-49CD-8774-FE5B823E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818-48E2-4042-B13F-6EAF8BC9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DBEB-0D04-48EE-9122-23A741B5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76D7-BAC6-4498-A38B-4286ED9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1C38-6CCB-4B18-98E4-FD01515A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FCDE-E95D-418C-A327-98A3C1A4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74C-D290-48AC-AF91-84459CC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DEF8-8CEE-46B6-AFFC-66C8855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C22-C909-40F9-9F3B-2F18C82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7B0-5644-42AE-A88A-E3C8CB6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281-CD17-407C-B269-B51E4CD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C1B-7718-4A5D-9BE6-1EA49F0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94E-A5DD-43E5-B80A-60ABD7B9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1D1B-263C-462B-B66A-5D4D53B6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E32-C901-4C93-ACF2-39D1604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3B7-2C44-42C3-A380-51A4EFA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1E0-1489-4BA3-BF9E-8855BFF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EF2-4570-4A82-967A-F64E0FC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940-5156-4133-B0A3-9AA4A8E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204-3DD7-47CC-B2F5-BB9910D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401-735A-414B-9F3C-184466C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9C7-2469-4ADA-8AB9-CE67FBA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9C2-90FF-4452-81FB-E77F3E4DEA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045E-D3E8-4520-9292-6C4F342902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FB2-C112-4E5D-B037-1825FED4B3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934920"/>
            <a:ext cx="6858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002040"/>
            <a:ext cx="68580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372680" y="1273320"/>
            <a:ext cx="6773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201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097000" y="379404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年终总结报告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87" name="Halo Remember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5342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92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宋体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64000" y="4441680"/>
            <a:ext cx="4824360" cy="360"/>
            <a:chOff x="3564000" y="4441680"/>
            <a:chExt cx="4824360" cy="360"/>
          </a:xfrm>
        </p:grpSpPr>
        <p:sp>
          <p:nvSpPr>
            <p:cNvPr id="295" name="直接连接符 15"/>
            <p:cNvSpPr/>
            <p:nvPr/>
          </p:nvSpPr>
          <p:spPr>
            <a:xfrm>
              <a:off x="3564000" y="4441680"/>
              <a:ext cx="482436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564000" y="444168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564000" y="4865760"/>
            <a:ext cx="4824360" cy="1440"/>
            <a:chOff x="3564000" y="4865760"/>
            <a:chExt cx="4824360" cy="1440"/>
          </a:xfrm>
        </p:grpSpPr>
        <p:sp>
          <p:nvSpPr>
            <p:cNvPr id="298" name="直接连接符 16"/>
            <p:cNvSpPr/>
            <p:nvPr/>
          </p:nvSpPr>
          <p:spPr>
            <a:xfrm>
              <a:off x="3564000" y="4865760"/>
              <a:ext cx="482436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564000" y="4865760"/>
              <a:ext cx="482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564000" y="5289480"/>
            <a:ext cx="4824360" cy="1800"/>
            <a:chOff x="3564000" y="5289480"/>
            <a:chExt cx="4824360" cy="1800"/>
          </a:xfrm>
        </p:grpSpPr>
        <p:sp>
          <p:nvSpPr>
            <p:cNvPr id="301" name="直接连接符 17"/>
            <p:cNvSpPr/>
            <p:nvPr/>
          </p:nvSpPr>
          <p:spPr>
            <a:xfrm>
              <a:off x="3564000" y="5289480"/>
              <a:ext cx="482436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564000" y="5289480"/>
              <a:ext cx="4824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30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409E-A477-44BA-B5E2-6D42D9623E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6"/>
          <p:cNvSpPr/>
          <p:nvPr/>
        </p:nvSpPr>
        <p:spPr>
          <a:xfrm>
            <a:off x="291636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4103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96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5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106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99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4109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02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2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4113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106" name="椭圆 10"/>
            <p:cNvSpPr/>
            <p:nvPr/>
          </p:nvSpPr>
          <p:spPr>
            <a:xfrm>
              <a:off x="7093080" y="1712880"/>
              <a:ext cx="50328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200000">
                                      <p:cBhvr>
                                        <p:cTn id="67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55640" y="2184480"/>
            <a:ext cx="5400720" cy="360"/>
            <a:chOff x="755640" y="2184480"/>
            <a:chExt cx="5400720" cy="360"/>
          </a:xfrm>
        </p:grpSpPr>
        <p:sp>
          <p:nvSpPr>
            <p:cNvPr id="116" name="直接连接符 11"/>
            <p:cNvSpPr/>
            <p:nvPr/>
          </p:nvSpPr>
          <p:spPr>
            <a:xfrm>
              <a:off x="755640" y="218448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55640" y="218448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55640" y="2608200"/>
            <a:ext cx="5400720" cy="1800"/>
            <a:chOff x="755640" y="2608200"/>
            <a:chExt cx="5400720" cy="1800"/>
          </a:xfrm>
        </p:grpSpPr>
        <p:sp>
          <p:nvSpPr>
            <p:cNvPr id="119" name="直接连接符 15"/>
            <p:cNvSpPr/>
            <p:nvPr/>
          </p:nvSpPr>
          <p:spPr>
            <a:xfrm>
              <a:off x="755640" y="2608200"/>
              <a:ext cx="540072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55640" y="2608200"/>
              <a:ext cx="540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55640" y="3032280"/>
            <a:ext cx="5400720" cy="1440"/>
            <a:chOff x="755640" y="3032280"/>
            <a:chExt cx="5400720" cy="1440"/>
          </a:xfrm>
        </p:grpSpPr>
        <p:sp>
          <p:nvSpPr>
            <p:cNvPr id="122" name="直接连接符 16"/>
            <p:cNvSpPr/>
            <p:nvPr/>
          </p:nvSpPr>
          <p:spPr>
            <a:xfrm>
              <a:off x="755640" y="3032280"/>
              <a:ext cx="540072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55640" y="3032280"/>
              <a:ext cx="540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55640" y="3457440"/>
            <a:ext cx="5400720" cy="360"/>
            <a:chOff x="755640" y="3457440"/>
            <a:chExt cx="5400720" cy="360"/>
          </a:xfrm>
        </p:grpSpPr>
        <p:sp>
          <p:nvSpPr>
            <p:cNvPr id="125" name="直接连接符 17"/>
            <p:cNvSpPr/>
            <p:nvPr/>
          </p:nvSpPr>
          <p:spPr>
            <a:xfrm>
              <a:off x="755640" y="345744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755640" y="345744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55640" y="3881520"/>
            <a:ext cx="5400720" cy="360"/>
            <a:chOff x="755640" y="3881520"/>
            <a:chExt cx="5400720" cy="360"/>
          </a:xfrm>
        </p:grpSpPr>
        <p:sp>
          <p:nvSpPr>
            <p:cNvPr id="128" name="直接连接符 18"/>
            <p:cNvSpPr/>
            <p:nvPr/>
          </p:nvSpPr>
          <p:spPr>
            <a:xfrm>
              <a:off x="755640" y="388152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55640" y="388152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55640" y="4305240"/>
            <a:ext cx="5400720" cy="360"/>
            <a:chOff x="755640" y="4305240"/>
            <a:chExt cx="5400720" cy="360"/>
          </a:xfrm>
        </p:grpSpPr>
        <p:sp>
          <p:nvSpPr>
            <p:cNvPr id="131" name="直接连接符 19"/>
            <p:cNvSpPr/>
            <p:nvPr/>
          </p:nvSpPr>
          <p:spPr>
            <a:xfrm>
              <a:off x="755640" y="430524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755640" y="430524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5640" y="4729320"/>
            <a:ext cx="5400720" cy="1440"/>
            <a:chOff x="755640" y="4729320"/>
            <a:chExt cx="5400720" cy="1440"/>
          </a:xfrm>
        </p:grpSpPr>
        <p:sp>
          <p:nvSpPr>
            <p:cNvPr id="134" name="直接连接符 20"/>
            <p:cNvSpPr/>
            <p:nvPr/>
          </p:nvSpPr>
          <p:spPr>
            <a:xfrm>
              <a:off x="755640" y="4729320"/>
              <a:ext cx="540072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755640" y="4729320"/>
              <a:ext cx="540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 rot="5400000">
            <a:off x="266760" y="1878840"/>
            <a:ext cx="266220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148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03640" y="2184480"/>
            <a:ext cx="4879800" cy="360"/>
            <a:chOff x="3203640" y="2184480"/>
            <a:chExt cx="4879800" cy="360"/>
          </a:xfrm>
        </p:grpSpPr>
        <p:sp>
          <p:nvSpPr>
            <p:cNvPr id="151" name="直接连接符 9"/>
            <p:cNvSpPr/>
            <p:nvPr/>
          </p:nvSpPr>
          <p:spPr>
            <a:xfrm>
              <a:off x="3203640" y="218448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203640" y="218448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03640" y="2608200"/>
            <a:ext cx="4879800" cy="1800"/>
            <a:chOff x="3203640" y="2608200"/>
            <a:chExt cx="4879800" cy="1800"/>
          </a:xfrm>
        </p:grpSpPr>
        <p:sp>
          <p:nvSpPr>
            <p:cNvPr id="154" name="直接连接符 10"/>
            <p:cNvSpPr/>
            <p:nvPr/>
          </p:nvSpPr>
          <p:spPr>
            <a:xfrm>
              <a:off x="3203640" y="2608200"/>
              <a:ext cx="487980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203640" y="2608200"/>
              <a:ext cx="4879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03640" y="3032280"/>
            <a:ext cx="4879800" cy="1440"/>
            <a:chOff x="3203640" y="3032280"/>
            <a:chExt cx="4879800" cy="1440"/>
          </a:xfrm>
        </p:grpSpPr>
        <p:sp>
          <p:nvSpPr>
            <p:cNvPr id="157" name="直接连接符 11"/>
            <p:cNvSpPr/>
            <p:nvPr/>
          </p:nvSpPr>
          <p:spPr>
            <a:xfrm>
              <a:off x="3203640" y="3032280"/>
              <a:ext cx="487980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03640" y="3032280"/>
              <a:ext cx="487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203640" y="3457440"/>
            <a:ext cx="4879800" cy="360"/>
            <a:chOff x="3203640" y="3457440"/>
            <a:chExt cx="4879800" cy="360"/>
          </a:xfrm>
        </p:grpSpPr>
        <p:sp>
          <p:nvSpPr>
            <p:cNvPr id="160" name="直接连接符 12"/>
            <p:cNvSpPr/>
            <p:nvPr/>
          </p:nvSpPr>
          <p:spPr>
            <a:xfrm>
              <a:off x="3203640" y="345744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203640" y="345744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03640" y="3881520"/>
            <a:ext cx="4879800" cy="360"/>
            <a:chOff x="3203640" y="3881520"/>
            <a:chExt cx="4879800" cy="360"/>
          </a:xfrm>
        </p:grpSpPr>
        <p:sp>
          <p:nvSpPr>
            <p:cNvPr id="163" name="直接连接符 13"/>
            <p:cNvSpPr/>
            <p:nvPr/>
          </p:nvSpPr>
          <p:spPr>
            <a:xfrm>
              <a:off x="3203640" y="388152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203640" y="388152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203640" y="4305240"/>
            <a:ext cx="4879800" cy="360"/>
            <a:chOff x="3203640" y="4305240"/>
            <a:chExt cx="4879800" cy="360"/>
          </a:xfrm>
        </p:grpSpPr>
        <p:sp>
          <p:nvSpPr>
            <p:cNvPr id="166" name="直接连接符 14"/>
            <p:cNvSpPr/>
            <p:nvPr/>
          </p:nvSpPr>
          <p:spPr>
            <a:xfrm>
              <a:off x="3203640" y="430524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203640" y="430524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203640" y="4729320"/>
            <a:ext cx="4879800" cy="1440"/>
            <a:chOff x="3203640" y="4729320"/>
            <a:chExt cx="4879800" cy="1440"/>
          </a:xfrm>
        </p:grpSpPr>
        <p:sp>
          <p:nvSpPr>
            <p:cNvPr id="169" name="直接连接符 15"/>
            <p:cNvSpPr/>
            <p:nvPr/>
          </p:nvSpPr>
          <p:spPr>
            <a:xfrm>
              <a:off x="3203640" y="4729320"/>
              <a:ext cx="487980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203640" y="4729320"/>
              <a:ext cx="487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F52-BF2F-444E-BE8C-D9C47738D9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7174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85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1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717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88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718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91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718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95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27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8194"/>
          <p:cNvSpPr/>
          <p:nvPr/>
        </p:nvSpPr>
        <p:spPr>
          <a:xfrm>
            <a:off x="1871640" y="4657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200000">
                                      <p:cBhvr>
                                        <p:cTn id="141" dur="1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7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2000" y="3936960"/>
            <a:ext cx="6191280" cy="1800"/>
            <a:chOff x="1332000" y="3936960"/>
            <a:chExt cx="6191280" cy="1800"/>
          </a:xfrm>
        </p:grpSpPr>
        <p:sp>
          <p:nvSpPr>
            <p:cNvPr id="202" name="直接连接符 30"/>
            <p:cNvSpPr/>
            <p:nvPr/>
          </p:nvSpPr>
          <p:spPr>
            <a:xfrm>
              <a:off x="1332000" y="3936960"/>
              <a:ext cx="6191280" cy="180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332000" y="3936960"/>
              <a:ext cx="6191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17600" y="3073320"/>
            <a:ext cx="6192720" cy="360"/>
            <a:chOff x="1317600" y="3073320"/>
            <a:chExt cx="6192720" cy="360"/>
          </a:xfrm>
        </p:grpSpPr>
        <p:sp>
          <p:nvSpPr>
            <p:cNvPr id="205" name="直接连接符 29"/>
            <p:cNvSpPr/>
            <p:nvPr/>
          </p:nvSpPr>
          <p:spPr>
            <a:xfrm>
              <a:off x="1317600" y="3073320"/>
              <a:ext cx="6192720" cy="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1317600" y="3073320"/>
              <a:ext cx="619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60360" y="2235240"/>
            <a:ext cx="6191280" cy="360"/>
            <a:chOff x="1260360" y="2235240"/>
            <a:chExt cx="6191280" cy="360"/>
          </a:xfrm>
        </p:grpSpPr>
        <p:sp>
          <p:nvSpPr>
            <p:cNvPr id="208" name="直接连接符 28"/>
            <p:cNvSpPr/>
            <p:nvPr/>
          </p:nvSpPr>
          <p:spPr>
            <a:xfrm>
              <a:off x="1260360" y="2235240"/>
              <a:ext cx="6191280" cy="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260360" y="2235240"/>
              <a:ext cx="619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16000" y="4873320"/>
            <a:ext cx="6789960" cy="720"/>
            <a:chOff x="1116000" y="4873320"/>
            <a:chExt cx="6789960" cy="720"/>
          </a:xfrm>
        </p:grpSpPr>
        <p:cxnSp>
          <p:nvCxnSpPr>
            <p:cNvPr id="220" name="直接箭头连接符 7"/>
            <p:cNvCxnSpPr/>
            <p:nvPr/>
          </p:nvCxnSpPr>
          <p:spPr>
            <a:xfrm>
              <a:off x="1116000" y="4873320"/>
              <a:ext cx="67903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</p:cxnSp>
        <p:sp>
          <p:nvSpPr>
            <p:cNvPr id="221" name=""/>
            <p:cNvSpPr txBox="1"/>
            <p:nvPr/>
          </p:nvSpPr>
          <p:spPr>
            <a:xfrm>
              <a:off x="1116000" y="487332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267560" y="1416960"/>
            <a:ext cx="1080" cy="3608640"/>
            <a:chOff x="1267560" y="1416960"/>
            <a:chExt cx="1080" cy="3608640"/>
          </a:xfrm>
        </p:grpSpPr>
        <p:cxnSp>
          <p:nvCxnSpPr>
            <p:cNvPr id="223" name="直接箭头连接符 8"/>
            <p:cNvCxnSpPr/>
            <p:nvPr/>
          </p:nvCxnSpPr>
          <p:spPr>
            <a:xfrm flipV="1">
              <a:off x="1267920" y="1416960"/>
              <a:ext cx="1080" cy="36090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</p:cxnSp>
        <p:sp>
          <p:nvSpPr>
            <p:cNvPr id="224" name=""/>
            <p:cNvSpPr txBox="1"/>
            <p:nvPr/>
          </p:nvSpPr>
          <p:spPr>
            <a:xfrm rot="10800000">
              <a:off x="1267560" y="1416960"/>
              <a:ext cx="360" cy="36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41652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9222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243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9225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46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9229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50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9235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56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灯片编号占位符 1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510-AF55-40DB-BF93-3142B5ED54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200000">
                                      <p:cBhvr>
                                        <p:cTn id="188" dur="17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2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64" name="TextBox 4"/>
          <p:cNvSpPr/>
          <p:nvPr/>
        </p:nvSpPr>
        <p:spPr>
          <a:xfrm>
            <a:off x="708372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1270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272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127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76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80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128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82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矩形 27"/>
          <p:cNvSpPr/>
          <p:nvPr/>
        </p:nvSpPr>
        <p:spPr>
          <a:xfrm>
            <a:off x="431136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128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86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8194"/>
          <p:cNvSpPr/>
          <p:nvPr/>
        </p:nvSpPr>
        <p:spPr>
          <a:xfrm>
            <a:off x="1692360" y="113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200000">
                                      <p:cBhvr>
                                        <p:cTn id="253" dur="1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7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