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8A93-11B4-4657-A440-513966A8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EBB-BA29-4FB2-AA49-F61E2ABF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509-5980-480D-8C37-F63834BC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B85-4767-4BFD-B077-42FC2802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2928-033A-44C9-B2BA-1E2189DD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C86F-357D-4804-B551-31018429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A4EA-65F4-47C9-A02C-C64EC717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81F5-A2E8-4DB3-9A0D-862B34EB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AF2D-72A4-4FC0-832A-717AB9D9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1335-531B-4182-84CE-16A29369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1CE9-4FD9-4EFB-8BD6-50871030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ACD-1796-4D98-9507-8D8E0A8C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091D-3DFB-40DA-8098-3AF7B4C1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5AD0-B858-49E7-98E7-37EBC90D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4F0B-1032-47BC-A935-59BBC468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DD8C-A8E5-408D-A71F-ECAB3BB5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9B16-0B45-4541-8A92-2A42FB18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5E426-5FD7-4664-BE49-0779B869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8F417-ECCF-4EC4-8ABC-D0A978EE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83255-A2B6-4C4A-A5E4-BFA86313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FFA41-1D21-4CCA-BB1B-32E8FDFD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F7FC0-D770-4554-AB14-FCE7D58A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9961-E081-4F04-AEDF-C92D5F40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8FA1F-8AB5-443B-810C-1C547427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017C7-399E-4168-B732-9FE97ABA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08B19-6C6A-48D2-9915-FE3C21B7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6E353-15EE-4425-9827-C2E4C496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6B45C-C7A6-40F9-8BBC-926F64D4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A7AA6-D58F-4EDF-A335-E75CB9B3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AD060-88F2-4C12-9CA8-2848E1FE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200-5F68-4F21-9EB0-102F1415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57A-1F3B-42C7-8F1E-506DE969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2E90-B285-446B-8F08-13C3879A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9FC-C6F3-4213-B8F8-C354FADC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D48-D99F-441C-AE1D-C0236190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1DC-515A-4C90-8CDD-496D531D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8585-7F07-4799-8602-468FB9331547}" type="slidenum">
              <a:rPr b="1" lang="zh-CN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CAE6-8DB0-4044-BF8A-88DB90F9141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03CF-FDC1-4352-A47D-5EAC30892D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544F-8796-48F8-ACD8-46632A35E27A}" type="slidenum">
              <a:rPr b="1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4097" descr="1yeartext"/>
          <p:cNvPicPr/>
          <p:nvPr/>
        </p:nvPicPr>
        <p:blipFill>
          <a:blip r:embed="rId1"/>
          <a:stretch/>
        </p:blipFill>
        <p:spPr>
          <a:xfrm>
            <a:off x="1066680" y="333360"/>
            <a:ext cx="7000920" cy="141912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409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84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1625400" y="1844640"/>
            <a:ext cx="55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年终总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会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6145"/>
          <p:cNvSpPr/>
          <p:nvPr/>
        </p:nvSpPr>
        <p:spPr>
          <a:xfrm>
            <a:off x="3048120" y="1522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tyle Bold Extended ATT"/>
                <a:ea typeface="宋体"/>
              </a:rPr>
              <a:t>TRANS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6146"/>
          <p:cNvSpPr/>
          <p:nvPr/>
        </p:nvSpPr>
        <p:spPr>
          <a:xfrm>
            <a:off x="755640" y="24940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B9FC-9280-4514-A87F-C3845174965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5120" y="533160"/>
            <a:ext cx="4876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icrostyle Bold Extended AT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Microstyle Bold Extended AT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2:25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1:15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