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3851A-3F4E-47D8-B642-E272C072F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3822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04040"/>
            <a:ext cx="83822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39FE9-0266-4CA1-8DBD-1AC041B71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604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6F96C-A925-41FA-AB02-D98398299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15160" y="83808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49440" y="83808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0404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15160" y="370404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49440" y="370404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5CE4C-A53C-41DB-A4D3-A8FA87DF8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2D6C0-753A-4FFE-B84B-B58DCEF31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80880" y="83808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CC965-2B77-4CFD-9DEC-B06B33C82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766B4-4078-487F-9029-5CC5FC673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4061B-A787-45AD-9252-B98294891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7832C-F7E4-420E-B43C-30E3F6AA6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80880" y="380880"/>
            <a:ext cx="838224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72495-7C8B-4035-A347-2189D2478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8088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8BBEB-5776-4344-99B2-4139F04D2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83808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05EEC-C239-418E-8768-0C066C395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04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290B5-6B1A-4F4F-B933-0A2B0D38A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880" y="3704040"/>
            <a:ext cx="83822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0C574-BD57-4AD4-AB13-A608DC6EA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3822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80880" y="3704040"/>
            <a:ext cx="83822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2BF50-F681-4FA6-84F8-FF13D1766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8088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04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74416-6BDE-47C1-B57E-F2D9A8DDB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15160" y="83808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49440" y="83808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80880" y="370404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15160" y="370404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49440" y="370404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3C6D1-64B8-4F1C-8354-E5969B783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01382D-4645-4F84-AC74-F64B40527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80880" y="83808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648BDD-6B47-4CD1-B7AB-0C9F80B60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88CC7E-FF0E-4F57-B96B-8D8736300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3ECC30-517A-4ED5-9FF3-51BE493DE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252A22-E13A-4A9F-BA80-67CA55C7D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33BD3-F742-4EF2-A7E6-231A61DB3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380880" y="380880"/>
            <a:ext cx="838224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74678C-AA15-4CD2-BF49-F5271C032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38088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F733F1-3EEC-4ED2-8E00-7A8C8CC3B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604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12793F-4455-4E87-AD7A-A3873699A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380880" y="3704040"/>
            <a:ext cx="83822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0ACE34-600E-49FB-A2CA-7EF392873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3822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80880" y="3704040"/>
            <a:ext cx="83822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552EC8-3CE7-4615-99AB-FC166BB91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38088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604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1FEF23-76F9-4ECA-B94E-A324789BC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15160" y="83808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49440" y="83808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380880" y="370404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15160" y="370404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49440" y="370404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090681-6D06-4E48-926C-0D2386C1E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CCEAD-8ABE-4561-A192-720AD8246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02518-3BB4-4223-B2FD-C6AA31205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380880"/>
            <a:ext cx="838224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8145B-D8DD-4666-ABB4-7E8AB3057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BCCE3-0715-4A6C-ACD7-2B9E94F60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604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A5C7D-BE43-4B4E-B745-692CB68F3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04040"/>
            <a:ext cx="83822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9A460-BB84-4B80-8762-2BC8F978F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382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83808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360" y="6660720"/>
            <a:ext cx="213372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09920" y="6689520"/>
            <a:ext cx="2133720" cy="1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800" spc="-1" strike="noStrike">
                <a:solidFill>
                  <a:srgbClr val="ffffff"/>
                </a:solidFill>
                <a:latin typeface="Tahom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0F485-4ED8-4930-AA9A-107FD829ABB3}" type="slidenum">
              <a:rPr b="1" lang="zh-CN" sz="800" spc="-1" strike="noStrike">
                <a:solidFill>
                  <a:srgbClr val="ffffff"/>
                </a:solidFill>
                <a:latin typeface="Tahoma"/>
                <a:ea typeface="宋体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4571C-0D0E-4F32-B972-8E45916BE9D0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1A343-669F-4BE9-8A90-28C2AFD90278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382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380880" y="83808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-360" y="668952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7009920" y="668952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800" spc="-1" strike="noStrike">
                <a:solidFill>
                  <a:srgbClr val="ffffff"/>
                </a:solidFill>
                <a:latin typeface="Arial Black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0D444-84FD-43FB-96C4-BF7F82CBA4DD}" type="slidenum">
              <a:rPr b="1" lang="zh-CN" sz="800" spc="-1" strike="noStrike">
                <a:solidFill>
                  <a:srgbClr val="ffffff"/>
                </a:solidFill>
                <a:latin typeface="Arial Black"/>
                <a:ea typeface="宋体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4360" y="407664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Impact"/>
              <a:ea typeface="宋体"/>
            </a:endParaRPr>
          </a:p>
        </p:txBody>
      </p:sp>
      <p:pic>
        <p:nvPicPr>
          <p:cNvPr id="124" name="图片 2059" descr="1yeartext"/>
          <p:cNvPicPr/>
          <p:nvPr/>
        </p:nvPicPr>
        <p:blipFill>
          <a:blip r:embed="rId1"/>
          <a:stretch/>
        </p:blipFill>
        <p:spPr>
          <a:xfrm>
            <a:off x="1066680" y="333360"/>
            <a:ext cx="7000920" cy="1419120"/>
          </a:xfrm>
          <a:prstGeom prst="rect">
            <a:avLst/>
          </a:prstGeom>
          <a:ln w="0">
            <a:noFill/>
          </a:ln>
        </p:spPr>
      </p:pic>
      <p:sp>
        <p:nvSpPr>
          <p:cNvPr id="125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文本框 1"/>
          <p:cNvSpPr/>
          <p:nvPr/>
        </p:nvSpPr>
        <p:spPr>
          <a:xfrm>
            <a:off x="1260360" y="1701720"/>
            <a:ext cx="687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Arial"/>
              </a:rPr>
              <a:t>年终总结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Arial"/>
              </a:rPr>
              <a:t>模板完整版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905120" y="609480"/>
            <a:ext cx="487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Microstyle Bold Extended ATT"/>
                <a:ea typeface="宋体"/>
              </a:rPr>
              <a:t>YOUR TOPIC GOES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762120" y="1066680"/>
            <a:ext cx="76960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Microstyle Bold Extended ATT"/>
                <a:ea typeface="宋体"/>
              </a:rPr>
              <a:t>Your subtopic goes he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矩形 63496"/>
          <p:cNvSpPr/>
          <p:nvPr/>
        </p:nvSpPr>
        <p:spPr>
          <a:xfrm>
            <a:off x="3048120" y="15228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Microstyle Bold Extended ATT"/>
                <a:ea typeface="宋体"/>
              </a:rPr>
              <a:t>TRANSIT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文本框 8194"/>
          <p:cNvSpPr/>
          <p:nvPr/>
        </p:nvSpPr>
        <p:spPr>
          <a:xfrm>
            <a:off x="1763640" y="558972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2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52A1C-B657-40C5-8FBC-2256E8E90725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905120" y="533160"/>
            <a:ext cx="48765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Microstyle Bold Extended ATT"/>
                <a:ea typeface="宋体"/>
              </a:rPr>
              <a:t>YOUR TOPIC GOES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762120" y="1066680"/>
            <a:ext cx="76960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Microstyle Bold Extended ATT"/>
                <a:ea typeface="宋体"/>
              </a:rPr>
              <a:t>Your subtopic goes he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0T12:25:29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2-12T07:11:14Z</dcterms:modified>
  <cp:revision>5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00</vt:lpwstr>
  </property>
</Properties>
</file>