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8D69-2BDF-46E0-9013-401B120CE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816720"/>
            <a:ext cx="838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F8E0-D5C8-4567-99D3-B8289577B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816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816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AF54A-DCF6-4584-98E3-26551B49B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990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990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816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816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816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6195-3A34-4A48-ADA4-7EFC394A2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6769B-6C0F-47EE-9D48-197D288C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B0BE2-9A77-42A6-BC03-01EA460F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88CBB-D1F5-4A42-ADC5-0576D518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7B844-870A-4EF1-815E-0668BA93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F6419-DE5D-47BF-AFF2-9B5EDDD7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15228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90478-42B7-48B6-A2F8-3AFFBFDB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6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A9ECE-5BF3-433C-ADFD-2C63F649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FDB8-22D5-4FA3-B75C-AF3A108BC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816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9DD60-EEC1-4752-8113-85849727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6720"/>
            <a:ext cx="838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33808-156D-4C5F-9848-8BBBAA67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6720"/>
            <a:ext cx="838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E5739-0480-482D-85C6-73B77755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6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816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C3B4C-FECD-4BCA-9FFA-0C367B4F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990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990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6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816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816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1C94F-4CCE-4D68-B554-4D5C065E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7E09-81DE-424C-8896-D4796DCAD1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828440" y="15228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816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2000" y="3816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816720"/>
            <a:ext cx="838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6840" y="3816720"/>
            <a:ext cx="838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816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2000" y="3816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0760" y="990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24680" y="990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6840" y="3816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0760" y="3816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24680" y="381672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524E-04F7-4776-B50E-591A380AA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9F6E-7A2C-42A2-BB0D-C0EE8F5F3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440" y="15228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EDBC0-87C8-4F4E-A2EE-D677A7068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816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8A92-2058-40E3-A5C0-447980871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816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8AC4E-418F-4F5A-8CA2-6634B3D39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99072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816720"/>
            <a:ext cx="838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1F67-ABF6-4BEA-959D-2488B5250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90"/>
          <p:cNvSpPr/>
          <p:nvPr/>
        </p:nvSpPr>
        <p:spPr>
          <a:xfrm>
            <a:off x="1676520" y="0"/>
            <a:ext cx="7468920" cy="851040"/>
          </a:xfrm>
          <a:prstGeom prst="rect">
            <a:avLst/>
          </a:prstGeom>
          <a:solidFill>
            <a:srgbClr val="3c6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矩形 1092"/>
          <p:cNvSpPr/>
          <p:nvPr/>
        </p:nvSpPr>
        <p:spPr>
          <a:xfrm>
            <a:off x="0" y="0"/>
            <a:ext cx="185760" cy="853920"/>
          </a:xfrm>
          <a:prstGeom prst="rect">
            <a:avLst/>
          </a:prstGeom>
          <a:solidFill>
            <a:srgbClr val="8a9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a9e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96da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248520" y="6477120"/>
            <a:ext cx="274320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75960" y="6477120"/>
            <a:ext cx="609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80C9-40D4-436F-9398-AB452F62F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93" descr=""/>
          <p:cNvPicPr/>
          <p:nvPr/>
        </p:nvPicPr>
        <p:blipFill>
          <a:blip r:embed="rId2"/>
          <a:stretch/>
        </p:blipFill>
        <p:spPr>
          <a:xfrm>
            <a:off x="181080" y="0"/>
            <a:ext cx="1520640" cy="84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7B81-3F75-49D1-A84B-191C4A8C7AF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B0BC-F95B-48E0-B0A2-7F1D56A107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3150" descr=""/>
          <p:cNvPicPr/>
          <p:nvPr/>
        </p:nvPicPr>
        <p:blipFill>
          <a:blip r:embed="rId2"/>
          <a:stretch/>
        </p:blipFill>
        <p:spPr>
          <a:xfrm>
            <a:off x="2162160" y="1398600"/>
            <a:ext cx="6981840" cy="3311640"/>
          </a:xfrm>
          <a:prstGeom prst="rect">
            <a:avLst/>
          </a:prstGeom>
          <a:ln w="0">
            <a:noFill/>
          </a:ln>
        </p:spPr>
      </p:pic>
      <p:sp>
        <p:nvSpPr>
          <p:cNvPr id="85" name="矩形 3147"/>
          <p:cNvSpPr/>
          <p:nvPr/>
        </p:nvSpPr>
        <p:spPr>
          <a:xfrm>
            <a:off x="0" y="1413000"/>
            <a:ext cx="468360" cy="3298680"/>
          </a:xfrm>
          <a:prstGeom prst="rect">
            <a:avLst/>
          </a:prstGeom>
          <a:solidFill>
            <a:srgbClr val="8a9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矩形 3148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c68f4"/>
              </a:gs>
              <a:gs pos="100000">
                <a:srgbClr val="1c30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矩形 3149"/>
          <p:cNvSpPr/>
          <p:nvPr/>
        </p:nvSpPr>
        <p:spPr>
          <a:xfrm>
            <a:off x="438120" y="0"/>
            <a:ext cx="1739880" cy="4724280"/>
          </a:xfrm>
          <a:prstGeom prst="rect">
            <a:avLst/>
          </a:prstGeom>
          <a:gradFill rotWithShape="0">
            <a:gsLst>
              <a:gs pos="0">
                <a:srgbClr val="3c68f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文本框 3135"/>
          <p:cNvSpPr/>
          <p:nvPr/>
        </p:nvSpPr>
        <p:spPr>
          <a:xfrm>
            <a:off x="609480" y="4572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LO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9" name="对象 3152" descr=""/>
          <p:cNvPicPr/>
          <p:nvPr/>
        </p:nvPicPr>
        <p:blipFill>
          <a:blip r:embed="rId3"/>
          <a:stretch/>
        </p:blipFill>
        <p:spPr>
          <a:xfrm>
            <a:off x="442800" y="3151080"/>
            <a:ext cx="1711440" cy="7844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155" descr=""/>
          <p:cNvPicPr/>
          <p:nvPr/>
        </p:nvPicPr>
        <p:blipFill>
          <a:blip r:embed="rId4"/>
          <a:stretch/>
        </p:blipFill>
        <p:spPr>
          <a:xfrm>
            <a:off x="439560" y="1413000"/>
            <a:ext cx="1711440" cy="8204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156" descr=""/>
          <p:cNvPicPr/>
          <p:nvPr/>
        </p:nvPicPr>
        <p:blipFill>
          <a:blip r:embed="rId5"/>
          <a:stretch/>
        </p:blipFill>
        <p:spPr>
          <a:xfrm>
            <a:off x="438120" y="3976560"/>
            <a:ext cx="1711440" cy="7286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157" descr=""/>
          <p:cNvPicPr/>
          <p:nvPr/>
        </p:nvPicPr>
        <p:blipFill>
          <a:blip r:embed="rId6"/>
          <a:stretch/>
        </p:blipFill>
        <p:spPr>
          <a:xfrm>
            <a:off x="439560" y="2262240"/>
            <a:ext cx="169884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a9e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96da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560" y="4876560"/>
            <a:ext cx="8805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欧美风格商务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报告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PT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模板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完整版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209320" y="561564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组合 70696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36" name="圆角矩形 70657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圆角矩形 70658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圆角矩形 70659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燕尾形 70661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96d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燕尾形 70662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8a9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椭圆 70663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9e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椭圆 70664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8a9eb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椭圆 70665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b5660"/>
                </a:gs>
                <a:gs pos="50000">
                  <a:srgbClr val="8a9eb2"/>
                </a:gs>
                <a:gs pos="100000">
                  <a:srgbClr val="4b56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椭圆 70666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86471"/>
                </a:gs>
                <a:gs pos="100000">
                  <a:srgbClr val="8a9eb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椭圆 70667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椭圆 70668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c45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椭圆 70669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afc45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椭圆 70670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f6a2f"/>
                </a:gs>
                <a:gs pos="50000">
                  <a:srgbClr val="afc456"/>
                </a:gs>
                <a:gs pos="100000">
                  <a:srgbClr val="5f6a2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椭圆 70671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f7d37"/>
                </a:gs>
                <a:gs pos="100000">
                  <a:srgbClr val="afc45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椭圆 70672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51" name="组合 70673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52" name="椭圆 70674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3" name="椭圆 70675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4" name="椭圆 70676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5" name="椭圆 70677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56" name="椭圆 70678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da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椭圆 70679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6daf2">
                    <a:alpha val="32156"/>
                  </a:srgbClr>
                </a:gs>
                <a:gs pos="100000">
                  <a:srgbClr val="456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椭圆 70680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17683"/>
                </a:gs>
                <a:gs pos="50000">
                  <a:srgbClr val="96daf2"/>
                </a:gs>
                <a:gs pos="100000">
                  <a:srgbClr val="51768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椭圆 70681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f8a9a"/>
                </a:gs>
                <a:gs pos="100000">
                  <a:srgbClr val="96daf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椭圆 70682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61" name="组合 70683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362" name="椭圆 70684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3" name="椭圆 70685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4" name="椭圆 70686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椭圆 70687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66" name="组合 70688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67" name="椭圆 70689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8" name="椭圆 70690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9" name="椭圆 70691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0" name="椭圆 70692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71" name="文本框 70693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文本框 70694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文本框 70695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组合 71710"/>
          <p:cNvGrpSpPr/>
          <p:nvPr/>
        </p:nvGrpSpPr>
        <p:grpSpPr>
          <a:xfrm>
            <a:off x="1371600" y="1374840"/>
            <a:ext cx="5715000" cy="5330880"/>
            <a:chOff x="1371600" y="1374840"/>
            <a:chExt cx="5715000" cy="5330880"/>
          </a:xfrm>
        </p:grpSpPr>
        <p:sp>
          <p:nvSpPr>
            <p:cNvPr id="376" name="矩形 71683"/>
            <p:cNvSpPr/>
            <p:nvPr/>
          </p:nvSpPr>
          <p:spPr>
            <a:xfrm rot="13770000">
              <a:off x="4707000" y="396216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矩形 71684"/>
            <p:cNvSpPr/>
            <p:nvPr/>
          </p:nvSpPr>
          <p:spPr>
            <a:xfrm rot="20856000">
              <a:off x="2679480" y="347940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矩形 71685"/>
            <p:cNvSpPr/>
            <p:nvPr/>
          </p:nvSpPr>
          <p:spPr>
            <a:xfrm rot="18394200">
              <a:off x="4842000" y="232380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9" name="组合 71686"/>
            <p:cNvGrpSpPr/>
            <p:nvPr/>
          </p:nvGrpSpPr>
          <p:grpSpPr>
            <a:xfrm>
              <a:off x="3643200" y="2357280"/>
              <a:ext cx="1652760" cy="1684440"/>
              <a:chOff x="3643200" y="2357280"/>
              <a:chExt cx="1652760" cy="1684440"/>
            </a:xfrm>
          </p:grpSpPr>
          <p:grpSp>
            <p:nvGrpSpPr>
              <p:cNvPr id="380" name="组合 71687"/>
              <p:cNvGrpSpPr/>
              <p:nvPr/>
            </p:nvGrpSpPr>
            <p:grpSpPr>
              <a:xfrm>
                <a:off x="3643200" y="2357280"/>
                <a:ext cx="1652760" cy="1684440"/>
                <a:chOff x="3643200" y="2357280"/>
                <a:chExt cx="1652760" cy="1684440"/>
              </a:xfrm>
            </p:grpSpPr>
            <p:sp>
              <p:nvSpPr>
                <p:cNvPr id="381" name="椭圆 71688"/>
                <p:cNvSpPr/>
                <p:nvPr/>
              </p:nvSpPr>
              <p:spPr>
                <a:xfrm>
                  <a:off x="3643200" y="2357280"/>
                  <a:ext cx="1652760" cy="168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c456"/>
                    </a:gs>
                    <a:gs pos="100000">
                      <a:srgbClr val="2b30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2" name="任意多边形 71689"/>
                <p:cNvSpPr/>
                <p:nvPr/>
              </p:nvSpPr>
              <p:spPr>
                <a:xfrm>
                  <a:off x="3831840" y="2385000"/>
                  <a:ext cx="1275120" cy="635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fc45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文本框 71690"/>
              <p:cNvSpPr/>
              <p:nvPr/>
            </p:nvSpPr>
            <p:spPr>
              <a:xfrm>
                <a:off x="3750120" y="30895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71691"/>
            <p:cNvGrpSpPr/>
            <p:nvPr/>
          </p:nvGrpSpPr>
          <p:grpSpPr>
            <a:xfrm>
              <a:off x="5089680" y="1374840"/>
              <a:ext cx="925200" cy="912600"/>
              <a:chOff x="5089680" y="1374840"/>
              <a:chExt cx="925200" cy="912600"/>
            </a:xfrm>
          </p:grpSpPr>
          <p:grpSp>
            <p:nvGrpSpPr>
              <p:cNvPr id="385" name="组合 71692"/>
              <p:cNvGrpSpPr/>
              <p:nvPr/>
            </p:nvGrpSpPr>
            <p:grpSpPr>
              <a:xfrm>
                <a:off x="5089680" y="1374840"/>
                <a:ext cx="894600" cy="912600"/>
                <a:chOff x="5089680" y="1374840"/>
                <a:chExt cx="894600" cy="912600"/>
              </a:xfrm>
            </p:grpSpPr>
            <p:sp>
              <p:nvSpPr>
                <p:cNvPr id="386" name="椭圆 71693"/>
                <p:cNvSpPr/>
                <p:nvPr/>
              </p:nvSpPr>
              <p:spPr>
                <a:xfrm>
                  <a:off x="5089680" y="1374840"/>
                  <a:ext cx="894600" cy="91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daf2"/>
                    </a:gs>
                    <a:gs pos="100000">
                      <a:srgbClr val="2435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7" name="任意多边形 71694"/>
                <p:cNvSpPr/>
                <p:nvPr/>
              </p:nvSpPr>
              <p:spPr>
                <a:xfrm>
                  <a:off x="5191920" y="138996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daf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文本框 71695"/>
              <p:cNvSpPr/>
              <p:nvPr/>
            </p:nvSpPr>
            <p:spPr>
              <a:xfrm>
                <a:off x="5105520" y="17258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9" name="组合 71696"/>
            <p:cNvGrpSpPr/>
            <p:nvPr/>
          </p:nvGrpSpPr>
          <p:grpSpPr>
            <a:xfrm>
              <a:off x="1371600" y="2708280"/>
              <a:ext cx="1790640" cy="1895400"/>
              <a:chOff x="1371600" y="2708280"/>
              <a:chExt cx="1790640" cy="1895400"/>
            </a:xfrm>
          </p:grpSpPr>
          <p:grpSp>
            <p:nvGrpSpPr>
              <p:cNvPr id="390" name="组合 71697"/>
              <p:cNvGrpSpPr/>
              <p:nvPr/>
            </p:nvGrpSpPr>
            <p:grpSpPr>
              <a:xfrm>
                <a:off x="1371600" y="2708280"/>
                <a:ext cx="1790640" cy="1895400"/>
                <a:chOff x="1371600" y="2708280"/>
                <a:chExt cx="1790640" cy="1895400"/>
              </a:xfrm>
            </p:grpSpPr>
            <p:sp>
              <p:nvSpPr>
                <p:cNvPr id="391" name="椭圆 71698"/>
                <p:cNvSpPr/>
                <p:nvPr/>
              </p:nvSpPr>
              <p:spPr>
                <a:xfrm>
                  <a:off x="1371600" y="270828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c50e4"/>
                    </a:gs>
                    <a:gs pos="100000">
                      <a:srgbClr val="5933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2" name="任意多边形 71699"/>
                <p:cNvSpPr/>
                <p:nvPr/>
              </p:nvSpPr>
              <p:spPr>
                <a:xfrm>
                  <a:off x="1576080" y="273960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c50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文本框 71700"/>
              <p:cNvSpPr/>
              <p:nvPr/>
            </p:nvSpPr>
            <p:spPr>
              <a:xfrm>
                <a:off x="1487880" y="35506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4" name="组合 71701"/>
            <p:cNvGrpSpPr/>
            <p:nvPr/>
          </p:nvGrpSpPr>
          <p:grpSpPr>
            <a:xfrm>
              <a:off x="5021280" y="4111560"/>
              <a:ext cx="2065320" cy="2104920"/>
              <a:chOff x="5021280" y="4111560"/>
              <a:chExt cx="2065320" cy="2104920"/>
            </a:xfrm>
          </p:grpSpPr>
          <p:grpSp>
            <p:nvGrpSpPr>
              <p:cNvPr id="395" name="组合 71702"/>
              <p:cNvGrpSpPr/>
              <p:nvPr/>
            </p:nvGrpSpPr>
            <p:grpSpPr>
              <a:xfrm>
                <a:off x="5021280" y="4111560"/>
                <a:ext cx="2065320" cy="2104920"/>
                <a:chOff x="5021280" y="4111560"/>
                <a:chExt cx="2065320" cy="2104920"/>
              </a:xfrm>
            </p:grpSpPr>
            <p:sp>
              <p:nvSpPr>
                <p:cNvPr id="396" name="椭圆 71703"/>
                <p:cNvSpPr/>
                <p:nvPr/>
              </p:nvSpPr>
              <p:spPr>
                <a:xfrm>
                  <a:off x="5021280" y="4111560"/>
                  <a:ext cx="2065320" cy="21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9eb2"/>
                    </a:gs>
                    <a:gs pos="100000">
                      <a:srgbClr val="475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7" name="任意多边形 71704"/>
                <p:cNvSpPr/>
                <p:nvPr/>
              </p:nvSpPr>
              <p:spPr>
                <a:xfrm>
                  <a:off x="5257080" y="4146480"/>
                  <a:ext cx="1593360" cy="79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9e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文本框 71705"/>
              <p:cNvSpPr/>
              <p:nvPr/>
            </p:nvSpPr>
            <p:spPr>
              <a:xfrm>
                <a:off x="5336280" y="50238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9" name="椭圆 71706"/>
            <p:cNvSpPr/>
            <p:nvPr/>
          </p:nvSpPr>
          <p:spPr>
            <a:xfrm>
              <a:off x="1577880" y="467352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椭圆 71707"/>
            <p:cNvSpPr/>
            <p:nvPr/>
          </p:nvSpPr>
          <p:spPr>
            <a:xfrm>
              <a:off x="3781440" y="404496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椭圆 71708"/>
            <p:cNvSpPr/>
            <p:nvPr/>
          </p:nvSpPr>
          <p:spPr>
            <a:xfrm>
              <a:off x="5365800" y="6216480"/>
              <a:ext cx="1454040" cy="489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椭圆 71709"/>
            <p:cNvSpPr/>
            <p:nvPr/>
          </p:nvSpPr>
          <p:spPr>
            <a:xfrm>
              <a:off x="5227560" y="2357280"/>
              <a:ext cx="666720" cy="2448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组合 84000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405" name="右箭头 83970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96daf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右箭头 83971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96daf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右箭头 83972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96daf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右箭头 83973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96daf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右箭头 83974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96daf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右箭头 83975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96daf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椭圆 83976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文本框 83977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文本框 83978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文本框 83979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文本框 83980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文本框 83981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文本框 83982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椭圆 83983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7aaf2"/>
                </a:gs>
                <a:gs pos="100000">
                  <a:srgbClr val="8c50e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椭圆 83984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7aaf2"/>
                </a:gs>
                <a:gs pos="100000">
                  <a:srgbClr val="8c50e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椭圆 83985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aaf2"/>
                </a:gs>
                <a:gs pos="100000">
                  <a:srgbClr val="8c50e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椭圆 83986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aaf2"/>
                </a:gs>
                <a:gs pos="100000">
                  <a:srgbClr val="8c50e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椭圆 83987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aaf2"/>
                </a:gs>
                <a:gs pos="100000">
                  <a:srgbClr val="8c50e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椭圆 83988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aaf2"/>
                </a:gs>
                <a:gs pos="100000">
                  <a:srgbClr val="8c50e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椭圆 83989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9e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椭圆 83990"/>
            <p:cNvSpPr/>
            <p:nvPr/>
          </p:nvSpPr>
          <p:spPr>
            <a:xfrm>
              <a:off x="354960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a9eb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椭圆 83991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b5660"/>
                </a:gs>
                <a:gs pos="50000">
                  <a:srgbClr val="8a9eb2"/>
                </a:gs>
                <a:gs pos="100000">
                  <a:srgbClr val="4b56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椭圆 83992"/>
            <p:cNvSpPr/>
            <p:nvPr/>
          </p:nvSpPr>
          <p:spPr>
            <a:xfrm>
              <a:off x="365292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86471"/>
                </a:gs>
                <a:gs pos="100000">
                  <a:srgbClr val="8a9eb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椭圆 83993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29" name="组合 83994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30" name="椭圆 83995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1" name="椭圆 83996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2" name="椭圆 83997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3" name="椭圆 83998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34" name="文本框 83999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组合 73819"/>
          <p:cNvGrpSpPr/>
          <p:nvPr/>
        </p:nvGrpSpPr>
        <p:grpSpPr>
          <a:xfrm>
            <a:off x="1143000" y="2060640"/>
            <a:ext cx="2170080" cy="4034880"/>
            <a:chOff x="1143000" y="2060640"/>
            <a:chExt cx="2170080" cy="4034880"/>
          </a:xfrm>
        </p:grpSpPr>
        <p:sp>
          <p:nvSpPr>
            <p:cNvPr id="437" name="圆角矩形 73820"/>
            <p:cNvSpPr/>
            <p:nvPr/>
          </p:nvSpPr>
          <p:spPr>
            <a:xfrm>
              <a:off x="11430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圆角矩形 73821"/>
            <p:cNvSpPr/>
            <p:nvPr/>
          </p:nvSpPr>
          <p:spPr>
            <a:xfrm>
              <a:off x="11764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圆角矩形 73822"/>
            <p:cNvSpPr/>
            <p:nvPr/>
          </p:nvSpPr>
          <p:spPr>
            <a:xfrm>
              <a:off x="11937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圆角矩形 73823"/>
            <p:cNvSpPr/>
            <p:nvPr/>
          </p:nvSpPr>
          <p:spPr>
            <a:xfrm>
              <a:off x="11937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圆角矩形 73824"/>
            <p:cNvSpPr/>
            <p:nvPr/>
          </p:nvSpPr>
          <p:spPr>
            <a:xfrm>
              <a:off x="11494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圆角矩形 73825"/>
            <p:cNvSpPr/>
            <p:nvPr/>
          </p:nvSpPr>
          <p:spPr>
            <a:xfrm>
              <a:off x="11937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43" name="组合 73826"/>
            <p:cNvGrpSpPr/>
            <p:nvPr/>
          </p:nvGrpSpPr>
          <p:grpSpPr>
            <a:xfrm>
              <a:off x="1887480" y="2060640"/>
              <a:ext cx="642960" cy="642600"/>
              <a:chOff x="1887480" y="2060640"/>
              <a:chExt cx="642960" cy="642600"/>
            </a:xfrm>
          </p:grpSpPr>
          <p:sp>
            <p:nvSpPr>
              <p:cNvPr id="444" name="椭圆 73827"/>
              <p:cNvSpPr/>
              <p:nvPr/>
            </p:nvSpPr>
            <p:spPr>
              <a:xfrm>
                <a:off x="18874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5" name="椭圆 73828"/>
              <p:cNvSpPr/>
              <p:nvPr/>
            </p:nvSpPr>
            <p:spPr>
              <a:xfrm>
                <a:off x="18939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6" name="椭圆 73829"/>
              <p:cNvSpPr/>
              <p:nvPr/>
            </p:nvSpPr>
            <p:spPr>
              <a:xfrm>
                <a:off x="19018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7" name="椭圆 73830"/>
              <p:cNvSpPr/>
              <p:nvPr/>
            </p:nvSpPr>
            <p:spPr>
              <a:xfrm>
                <a:off x="19083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8" name="椭圆 73831"/>
              <p:cNvSpPr/>
              <p:nvPr/>
            </p:nvSpPr>
            <p:spPr>
              <a:xfrm>
                <a:off x="19422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49" name="文本框 73832"/>
            <p:cNvSpPr/>
            <p:nvPr/>
          </p:nvSpPr>
          <p:spPr>
            <a:xfrm>
              <a:off x="20275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文本框 73833"/>
            <p:cNvSpPr/>
            <p:nvPr/>
          </p:nvSpPr>
          <p:spPr>
            <a:xfrm>
              <a:off x="12193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1" name="组合 73834"/>
          <p:cNvGrpSpPr/>
          <p:nvPr/>
        </p:nvGrpSpPr>
        <p:grpSpPr>
          <a:xfrm>
            <a:off x="3505320" y="2060640"/>
            <a:ext cx="2166840" cy="4034880"/>
            <a:chOff x="3505320" y="2060640"/>
            <a:chExt cx="2166840" cy="4034880"/>
          </a:xfrm>
        </p:grpSpPr>
        <p:sp>
          <p:nvSpPr>
            <p:cNvPr id="452" name="圆角矩形 73835"/>
            <p:cNvSpPr/>
            <p:nvPr/>
          </p:nvSpPr>
          <p:spPr>
            <a:xfrm>
              <a:off x="3505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圆角矩形 73836"/>
            <p:cNvSpPr/>
            <p:nvPr/>
          </p:nvSpPr>
          <p:spPr>
            <a:xfrm>
              <a:off x="353844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圆角矩形 73837"/>
            <p:cNvSpPr/>
            <p:nvPr/>
          </p:nvSpPr>
          <p:spPr>
            <a:xfrm>
              <a:off x="3556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圆角矩形 73838"/>
            <p:cNvSpPr/>
            <p:nvPr/>
          </p:nvSpPr>
          <p:spPr>
            <a:xfrm>
              <a:off x="3556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椭圆 73839"/>
            <p:cNvSpPr/>
            <p:nvPr/>
          </p:nvSpPr>
          <p:spPr>
            <a:xfrm>
              <a:off x="424980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椭圆 73840"/>
            <p:cNvSpPr/>
            <p:nvPr/>
          </p:nvSpPr>
          <p:spPr>
            <a:xfrm>
              <a:off x="425592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椭圆 73841"/>
            <p:cNvSpPr/>
            <p:nvPr/>
          </p:nvSpPr>
          <p:spPr>
            <a:xfrm>
              <a:off x="426420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椭圆 73842"/>
            <p:cNvSpPr/>
            <p:nvPr/>
          </p:nvSpPr>
          <p:spPr>
            <a:xfrm>
              <a:off x="427032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椭圆 73843"/>
            <p:cNvSpPr/>
            <p:nvPr/>
          </p:nvSpPr>
          <p:spPr>
            <a:xfrm>
              <a:off x="430524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文本框 73844"/>
            <p:cNvSpPr/>
            <p:nvPr/>
          </p:nvSpPr>
          <p:spPr>
            <a:xfrm>
              <a:off x="4389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文本框 73845"/>
            <p:cNvSpPr/>
            <p:nvPr/>
          </p:nvSpPr>
          <p:spPr>
            <a:xfrm>
              <a:off x="358128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圆角矩形 73846"/>
            <p:cNvSpPr/>
            <p:nvPr/>
          </p:nvSpPr>
          <p:spPr>
            <a:xfrm>
              <a:off x="350820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圆角矩形 73847"/>
            <p:cNvSpPr/>
            <p:nvPr/>
          </p:nvSpPr>
          <p:spPr>
            <a:xfrm>
              <a:off x="35528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65" name="组合 73848"/>
          <p:cNvGrpSpPr/>
          <p:nvPr/>
        </p:nvGrpSpPr>
        <p:grpSpPr>
          <a:xfrm>
            <a:off x="5861160" y="2060640"/>
            <a:ext cx="2170080" cy="4034880"/>
            <a:chOff x="5861160" y="2060640"/>
            <a:chExt cx="2170080" cy="4034880"/>
          </a:xfrm>
        </p:grpSpPr>
        <p:sp>
          <p:nvSpPr>
            <p:cNvPr id="466" name="圆角矩形 73849"/>
            <p:cNvSpPr/>
            <p:nvPr/>
          </p:nvSpPr>
          <p:spPr>
            <a:xfrm>
              <a:off x="586728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圆角矩形 73850"/>
            <p:cNvSpPr/>
            <p:nvPr/>
          </p:nvSpPr>
          <p:spPr>
            <a:xfrm>
              <a:off x="590076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圆角矩形 73851"/>
            <p:cNvSpPr/>
            <p:nvPr/>
          </p:nvSpPr>
          <p:spPr>
            <a:xfrm>
              <a:off x="591804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圆角矩形 73852"/>
            <p:cNvSpPr/>
            <p:nvPr/>
          </p:nvSpPr>
          <p:spPr>
            <a:xfrm>
              <a:off x="591804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70" name="组合 73853"/>
            <p:cNvGrpSpPr/>
            <p:nvPr/>
          </p:nvGrpSpPr>
          <p:grpSpPr>
            <a:xfrm>
              <a:off x="6611760" y="2060640"/>
              <a:ext cx="642960" cy="642600"/>
              <a:chOff x="6611760" y="2060640"/>
              <a:chExt cx="642960" cy="642600"/>
            </a:xfrm>
          </p:grpSpPr>
          <p:sp>
            <p:nvSpPr>
              <p:cNvPr id="471" name="椭圆 73854"/>
              <p:cNvSpPr/>
              <p:nvPr/>
            </p:nvSpPr>
            <p:spPr>
              <a:xfrm>
                <a:off x="661176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2" name="椭圆 73855"/>
              <p:cNvSpPr/>
              <p:nvPr/>
            </p:nvSpPr>
            <p:spPr>
              <a:xfrm>
                <a:off x="661824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3" name="椭圆 73856"/>
              <p:cNvSpPr/>
              <p:nvPr/>
            </p:nvSpPr>
            <p:spPr>
              <a:xfrm>
                <a:off x="662616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4" name="椭圆 73857"/>
              <p:cNvSpPr/>
              <p:nvPr/>
            </p:nvSpPr>
            <p:spPr>
              <a:xfrm>
                <a:off x="663264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5" name="椭圆 73858"/>
              <p:cNvSpPr/>
              <p:nvPr/>
            </p:nvSpPr>
            <p:spPr>
              <a:xfrm>
                <a:off x="666648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76" name="文本框 73859"/>
            <p:cNvSpPr/>
            <p:nvPr/>
          </p:nvSpPr>
          <p:spPr>
            <a:xfrm>
              <a:off x="675216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文本框 73860"/>
            <p:cNvSpPr/>
            <p:nvPr/>
          </p:nvSpPr>
          <p:spPr>
            <a:xfrm>
              <a:off x="5943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圆角矩形 73861"/>
            <p:cNvSpPr/>
            <p:nvPr/>
          </p:nvSpPr>
          <p:spPr>
            <a:xfrm>
              <a:off x="586116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圆角矩形 73862"/>
            <p:cNvSpPr/>
            <p:nvPr/>
          </p:nvSpPr>
          <p:spPr>
            <a:xfrm>
              <a:off x="59054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组合 74848"/>
          <p:cNvGrpSpPr/>
          <p:nvPr/>
        </p:nvGrpSpPr>
        <p:grpSpPr>
          <a:xfrm>
            <a:off x="241200" y="2031840"/>
            <a:ext cx="8664840" cy="3985920"/>
            <a:chOff x="241200" y="2031840"/>
            <a:chExt cx="8664840" cy="3985920"/>
          </a:xfrm>
        </p:grpSpPr>
        <p:grpSp>
          <p:nvGrpSpPr>
            <p:cNvPr id="482" name="组合 74754"/>
            <p:cNvGrpSpPr/>
            <p:nvPr/>
          </p:nvGrpSpPr>
          <p:grpSpPr>
            <a:xfrm>
              <a:off x="241200" y="3238560"/>
              <a:ext cx="8664840" cy="142560"/>
              <a:chOff x="241200" y="3238560"/>
              <a:chExt cx="8664840" cy="142560"/>
            </a:xfrm>
          </p:grpSpPr>
          <p:sp>
            <p:nvSpPr>
              <p:cNvPr id="483" name="矩形 74755"/>
              <p:cNvSpPr/>
              <p:nvPr/>
            </p:nvSpPr>
            <p:spPr>
              <a:xfrm>
                <a:off x="241200" y="3238560"/>
                <a:ext cx="866484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4" name="矩形 74756"/>
              <p:cNvSpPr/>
              <p:nvPr/>
            </p:nvSpPr>
            <p:spPr>
              <a:xfrm>
                <a:off x="241200" y="3293280"/>
                <a:ext cx="866484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85" name="组合 74844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86" name="组合 74810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87" name="组合 74811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488" name="任意多边形 74812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任意多边形 74813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组合 74814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91" name="任意多边形 74815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任意多边形 74816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3" name="组合 74817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94" name="椭圆 74818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74819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74820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7" name="椭圆 74821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8" name="椭圆 74822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99" name="组合 74823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500" name="椭圆 74824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椭圆 74825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椭圆 74826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椭圆 74827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4" name="文本框 74828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5" name="文本框 74829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6" name="组合 74845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07" name="组合 74792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508" name="组合 74793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09" name="任意多边形 74794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任意多边形 74795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组合 74796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12" name="任意多边形 74797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任意多边形 74798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4" name="组合 74799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15" name="椭圆 74800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74801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74802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74803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74804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组合 74805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21" name="椭圆 74806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椭圆 74807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74808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椭圆 74809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5" name="文本框 74830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6" name="文本框 74831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27" name="组合 74846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28" name="组合 74757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29" name="组合 74758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30" name="任意多边形 74759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任意多边形 74760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组合 74761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33" name="任意多边形 74762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任意多边形 74763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组合 7476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6" name="椭圆 7476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7476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74767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74768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74769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541" name="组合 74770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42" name="椭圆 74771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椭圆 74772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74773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椭圆 74774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6" name="文本框 74832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7" name="文本框 74833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48" name="组合 74847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49" name="组合 74775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50" name="组合 74776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51" name="任意多边形 74777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任意多边形 74778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组合 74779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54" name="任意多边形 74780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任意多边形 74781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6" name="椭圆 74782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7" name="椭圆 74783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8" name="椭圆 74784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9" name="椭圆 74785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0" name="椭圆 74786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561" name="组合 74787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62" name="椭圆 74788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3" name="椭圆 74789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4" name="椭圆 74790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5" name="椭圆 74791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文本框 74834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7" name="文本框 74835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68" name="组合 74836"/>
            <p:cNvGrpSpPr/>
            <p:nvPr/>
          </p:nvGrpSpPr>
          <p:grpSpPr>
            <a:xfrm>
              <a:off x="1098360" y="2031840"/>
              <a:ext cx="6057000" cy="407880"/>
              <a:chOff x="1098360" y="2031840"/>
              <a:chExt cx="6057000" cy="407880"/>
            </a:xfrm>
          </p:grpSpPr>
          <p:sp>
            <p:nvSpPr>
              <p:cNvPr id="569" name="文本框 74837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0" name="文本框 74838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1" name="文本框 74839"/>
              <p:cNvSpPr/>
              <p:nvPr/>
            </p:nvSpPr>
            <p:spPr>
              <a:xfrm>
                <a:off x="459900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2" name="文本框 74840"/>
              <p:cNvSpPr/>
              <p:nvPr/>
            </p:nvSpPr>
            <p:spPr>
              <a:xfrm>
                <a:off x="638928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573" name="直接箭头连接符 74841"/>
              <p:cNvCxnSpPr>
                <a:stCxn id="569" idx="3"/>
                <a:endCxn id="570" idx="1"/>
              </p:cNvCxnSpPr>
              <p:nvPr/>
            </p:nvCxnSpPr>
            <p:spPr>
              <a:xfrm>
                <a:off x="1835280" y="225540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</p:cxnSp>
          <p:cxnSp>
            <p:nvCxnSpPr>
              <p:cNvPr id="574" name="直接箭头连接符 74842"/>
              <p:cNvCxnSpPr>
                <a:stCxn id="570" idx="3"/>
                <a:endCxn id="571" idx="1"/>
              </p:cNvCxnSpPr>
              <p:nvPr/>
            </p:nvCxnSpPr>
            <p:spPr>
              <a:xfrm>
                <a:off x="3588840" y="225540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</p:cxnSp>
          <p:cxnSp>
            <p:nvCxnSpPr>
              <p:cNvPr id="575" name="直接箭头连接符 74843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76" name="文本框 8194"/>
          <p:cNvSpPr/>
          <p:nvPr/>
        </p:nvSpPr>
        <p:spPr>
          <a:xfrm>
            <a:off x="838080" y="1523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9eb2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组合 75778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79" name="圆角矩形 75779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80" name="组合 75780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81" name="圆角矩形 75781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daf2"/>
                  </a:gs>
                  <a:gs pos="100000">
                    <a:srgbClr val="6998a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2" name="任意多边形 75782"/>
              <p:cNvSpPr/>
              <p:nvPr/>
            </p:nvSpPr>
            <p:spPr>
              <a:xfrm>
                <a:off x="1874880" y="17118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ebf8"/>
                  </a:gs>
                  <a:gs pos="50000">
                    <a:srgbClr val="96daf2">
                      <a:alpha val="0"/>
                    </a:srgbClr>
                  </a:gs>
                  <a:gs pos="100000">
                    <a:srgbClr val="c6ebf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3" name="文本框 75783"/>
              <p:cNvSpPr/>
              <p:nvPr/>
            </p:nvSpPr>
            <p:spPr>
              <a:xfrm>
                <a:off x="1931040" y="1933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4" name="文本框 75784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85" name="组合 75785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86" name="圆角矩形 75786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87" name="组合 75787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88" name="圆角矩形 75788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ab9c7"/>
                  </a:gs>
                  <a:gs pos="100000">
                    <a:srgbClr val="8a9eb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9" name="任意多边形 75789"/>
              <p:cNvSpPr/>
              <p:nvPr/>
            </p:nvSpPr>
            <p:spPr>
              <a:xfrm>
                <a:off x="1874880" y="324216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6de"/>
                  </a:gs>
                  <a:gs pos="100000">
                    <a:srgbClr val="8a9eb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0" name="文本框 75790"/>
              <p:cNvSpPr/>
              <p:nvPr/>
            </p:nvSpPr>
            <p:spPr>
              <a:xfrm>
                <a:off x="193104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91" name="文本框 75791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2" name="组合 75792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93" name="圆角矩形 75793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94" name="组合 75794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95" name="圆角矩形 75795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cda94"/>
                  </a:gs>
                  <a:gs pos="100000">
                    <a:srgbClr val="afc45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6" name="任意多边形 75796"/>
              <p:cNvSpPr/>
              <p:nvPr/>
            </p:nvSpPr>
            <p:spPr>
              <a:xfrm>
                <a:off x="1874880" y="478224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e2ad"/>
                  </a:gs>
                  <a:gs pos="100000">
                    <a:srgbClr val="afc45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7" name="文本框 75797"/>
              <p:cNvSpPr/>
              <p:nvPr/>
            </p:nvSpPr>
            <p:spPr>
              <a:xfrm>
                <a:off x="193104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98" name="文本框 75798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圆角矩形 76802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圆角矩形 76803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圆角矩形 76804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圆角矩形 76805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04" name="组合 76806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605" name="矩形 76807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8a9eb2"/>
                </a:gs>
                <a:gs pos="100000">
                  <a:srgbClr val="40495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06" name="组合 76808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607" name="椭圆 76809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8" name="矩形 76810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9" name="椭圆 76811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0" name="椭圆 76812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11" name="矩形 76813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96d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12" name="组合 76814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13" name="椭圆 76815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4" name="矩形 76816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5" name="椭圆 76817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6" name="椭圆 76818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17" name="矩形 76819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8a9eb2"/>
                </a:gs>
                <a:gs pos="100000">
                  <a:srgbClr val="40495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18" name="组合 76820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19" name="椭圆 76821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0" name="矩形 76822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1" name="椭圆 76823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2" name="椭圆 76824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23" name="矩形 76825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96d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4" name="矩形 76826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矩形 76827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矩形 76828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矩形 76829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矩形 76830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矩形 76831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矩形 76832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矩形 76833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844560" y="2111400"/>
          <a:ext cx="7607160" cy="2946240"/>
        </p:xfrm>
        <a:graphic>
          <a:graphicData uri="http://schemas.openxmlformats.org/drawingml/2006/table">
            <a:tbl>
              <a:tblPr/>
              <a:tblGrid>
                <a:gridCol w="1716120"/>
                <a:gridCol w="1197000"/>
                <a:gridCol w="1173240"/>
                <a:gridCol w="1171440"/>
                <a:gridCol w="1177920"/>
                <a:gridCol w="1171440"/>
              </a:tblGrid>
              <a:tr h="420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3c68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3c68f4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3c68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3c68f4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3c68f4"/>
                    </a:solidFill>
                  </a:tcPr>
                </a:tc>
              </a:tr>
              <a:tr h="420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20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22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20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20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20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68f4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组合 78850"/>
          <p:cNvGrpSpPr/>
          <p:nvPr/>
        </p:nvGrpSpPr>
        <p:grpSpPr>
          <a:xfrm>
            <a:off x="1349280" y="1509120"/>
            <a:ext cx="6575400" cy="4666320"/>
            <a:chOff x="1349280" y="1509120"/>
            <a:chExt cx="6575400" cy="4666320"/>
          </a:xfrm>
        </p:grpSpPr>
        <p:sp>
          <p:nvSpPr>
            <p:cNvPr id="635" name="椭圆 78851"/>
            <p:cNvSpPr/>
            <p:nvPr/>
          </p:nvSpPr>
          <p:spPr>
            <a:xfrm>
              <a:off x="2362320" y="45194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椭圆 78852"/>
            <p:cNvSpPr/>
            <p:nvPr/>
          </p:nvSpPr>
          <p:spPr>
            <a:xfrm rot="20601600">
              <a:off x="1672920" y="24084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椭圆 78853"/>
            <p:cNvSpPr/>
            <p:nvPr/>
          </p:nvSpPr>
          <p:spPr>
            <a:xfrm rot="20601600">
              <a:off x="1692000" y="22446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任意多边形 78854"/>
            <p:cNvSpPr/>
            <p:nvPr/>
          </p:nvSpPr>
          <p:spPr>
            <a:xfrm rot="20601600">
              <a:off x="4349880" y="2133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8a9eb2"/>
                </a:gs>
                <a:gs pos="100000">
                  <a:srgbClr val="b1be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任意多边形 78855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96daf2"/>
                </a:gs>
                <a:gs pos="100000">
                  <a:srgbClr val="5b859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任意多边形 78856"/>
            <p:cNvSpPr/>
            <p:nvPr/>
          </p:nvSpPr>
          <p:spPr>
            <a:xfrm rot="20601600">
              <a:off x="2874600" y="22161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3c68f4"/>
                </a:gs>
                <a:gs pos="100000">
                  <a:srgbClr val="20378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任意多边形 78857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8c50e4"/>
                </a:gs>
                <a:gs pos="100000">
                  <a:srgbClr val="4c2c7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椭圆 78858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文本框 78859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文本框 78860"/>
            <p:cNvSpPr/>
            <p:nvPr/>
          </p:nvSpPr>
          <p:spPr>
            <a:xfrm>
              <a:off x="4050360" y="2419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文本框 78861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6" name="组合 78862"/>
            <p:cNvGrpSpPr/>
            <p:nvPr/>
          </p:nvGrpSpPr>
          <p:grpSpPr>
            <a:xfrm>
              <a:off x="4514400" y="2694960"/>
              <a:ext cx="3164760" cy="2769120"/>
              <a:chOff x="4514400" y="2694960"/>
              <a:chExt cx="3164760" cy="2769120"/>
            </a:xfrm>
          </p:grpSpPr>
          <p:sp>
            <p:nvSpPr>
              <p:cNvPr id="647" name="任意多边形 78863"/>
              <p:cNvSpPr/>
              <p:nvPr/>
            </p:nvSpPr>
            <p:spPr>
              <a:xfrm>
                <a:off x="5668920" y="36766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a7734"/>
                  </a:gs>
                  <a:gs pos="100000">
                    <a:srgbClr val="afc45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8" name="任意多边形 78864"/>
              <p:cNvSpPr/>
              <p:nvPr/>
            </p:nvSpPr>
            <p:spPr>
              <a:xfrm rot="20539200">
                <a:off x="4732200" y="30650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c456"/>
                  </a:gs>
                  <a:gs pos="100000">
                    <a:srgbClr val="515b28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9" name="任意多边形 78865"/>
              <p:cNvSpPr/>
              <p:nvPr/>
            </p:nvSpPr>
            <p:spPr>
              <a:xfrm>
                <a:off x="4803840" y="41529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c456"/>
                  </a:gs>
                  <a:gs pos="100000">
                    <a:srgbClr val="515b2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0" name="文本框 78866"/>
              <p:cNvSpPr/>
              <p:nvPr/>
            </p:nvSpPr>
            <p:spPr>
              <a:xfrm>
                <a:off x="5574240" y="39434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51" name="文本框 78867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任意多边形 78868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a9eb2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椭圆 78869"/>
            <p:cNvSpPr/>
            <p:nvPr/>
          </p:nvSpPr>
          <p:spPr>
            <a:xfrm rot="20601600">
              <a:off x="3257640" y="32097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文本框 8194"/>
          <p:cNvSpPr/>
          <p:nvPr/>
        </p:nvSpPr>
        <p:spPr>
          <a:xfrm>
            <a:off x="76320" y="1828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9eb2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组合 79903"/>
          <p:cNvGrpSpPr/>
          <p:nvPr/>
        </p:nvGrpSpPr>
        <p:grpSpPr>
          <a:xfrm>
            <a:off x="914400" y="1752480"/>
            <a:ext cx="7391520" cy="4724280"/>
            <a:chOff x="914400" y="1752480"/>
            <a:chExt cx="7391520" cy="4724280"/>
          </a:xfrm>
        </p:grpSpPr>
        <p:sp>
          <p:nvSpPr>
            <p:cNvPr id="658" name="上箭头 79874"/>
            <p:cNvSpPr/>
            <p:nvPr/>
          </p:nvSpPr>
          <p:spPr>
            <a:xfrm>
              <a:off x="1905120" y="2514600"/>
              <a:ext cx="5530680" cy="274320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9" name="圆角矩形 79875"/>
            <p:cNvSpPr/>
            <p:nvPr/>
          </p:nvSpPr>
          <p:spPr>
            <a:xfrm>
              <a:off x="1676520" y="1752480"/>
              <a:ext cx="5790960" cy="57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f357d"/>
                </a:gs>
                <a:gs pos="50000">
                  <a:srgbClr val="3c68f4"/>
                </a:gs>
                <a:gs pos="100000">
                  <a:srgbClr val="1f357d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文本框 79876"/>
            <p:cNvSpPr/>
            <p:nvPr/>
          </p:nvSpPr>
          <p:spPr>
            <a:xfrm>
              <a:off x="3656160" y="31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61" name="组合 79877"/>
            <p:cNvGrpSpPr/>
            <p:nvPr/>
          </p:nvGrpSpPr>
          <p:grpSpPr>
            <a:xfrm>
              <a:off x="914400" y="4387680"/>
              <a:ext cx="1485720" cy="1989000"/>
              <a:chOff x="914400" y="4387680"/>
              <a:chExt cx="1485720" cy="1989000"/>
            </a:xfrm>
          </p:grpSpPr>
          <p:grpSp>
            <p:nvGrpSpPr>
              <p:cNvPr id="662" name="组合 79878"/>
              <p:cNvGrpSpPr/>
              <p:nvPr/>
            </p:nvGrpSpPr>
            <p:grpSpPr>
              <a:xfrm>
                <a:off x="914400" y="4387680"/>
                <a:ext cx="1485720" cy="1514520"/>
                <a:chOff x="914400" y="4387680"/>
                <a:chExt cx="1485720" cy="1514520"/>
              </a:xfrm>
            </p:grpSpPr>
            <p:grpSp>
              <p:nvGrpSpPr>
                <p:cNvPr id="663" name="组合 79879"/>
                <p:cNvGrpSpPr/>
                <p:nvPr/>
              </p:nvGrpSpPr>
              <p:grpSpPr>
                <a:xfrm>
                  <a:off x="914400" y="4387680"/>
                  <a:ext cx="1485720" cy="1514520"/>
                  <a:chOff x="914400" y="4387680"/>
                  <a:chExt cx="1485720" cy="1514520"/>
                </a:xfrm>
              </p:grpSpPr>
              <p:sp>
                <p:nvSpPr>
                  <p:cNvPr id="664" name="椭圆 79880"/>
                  <p:cNvSpPr/>
                  <p:nvPr/>
                </p:nvSpPr>
                <p:spPr>
                  <a:xfrm>
                    <a:off x="914400" y="4387680"/>
                    <a:ext cx="148572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c50e4"/>
                      </a:gs>
                      <a:gs pos="100000">
                        <a:srgbClr val="59339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任意多边形 79881"/>
                  <p:cNvSpPr/>
                  <p:nvPr/>
                </p:nvSpPr>
                <p:spPr>
                  <a:xfrm>
                    <a:off x="1083960" y="441252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c50e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6" name="文本框 79882"/>
                <p:cNvSpPr/>
                <p:nvPr/>
              </p:nvSpPr>
              <p:spPr>
                <a:xfrm>
                  <a:off x="1072080" y="515880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椭圆 79883"/>
              <p:cNvSpPr/>
              <p:nvPr/>
            </p:nvSpPr>
            <p:spPr>
              <a:xfrm>
                <a:off x="1066680" y="5987880"/>
                <a:ext cx="1206360" cy="3888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68" name="组合 79884"/>
            <p:cNvGrpSpPr/>
            <p:nvPr/>
          </p:nvGrpSpPr>
          <p:grpSpPr>
            <a:xfrm>
              <a:off x="6781680" y="4343400"/>
              <a:ext cx="1524240" cy="2066760"/>
              <a:chOff x="6781680" y="4343400"/>
              <a:chExt cx="1524240" cy="2066760"/>
            </a:xfrm>
          </p:grpSpPr>
          <p:grpSp>
            <p:nvGrpSpPr>
              <p:cNvPr id="669" name="组合 79885"/>
              <p:cNvGrpSpPr/>
              <p:nvPr/>
            </p:nvGrpSpPr>
            <p:grpSpPr>
              <a:xfrm>
                <a:off x="6781680" y="4343400"/>
                <a:ext cx="1524240" cy="1531800"/>
                <a:chOff x="6781680" y="4343400"/>
                <a:chExt cx="1524240" cy="1531800"/>
              </a:xfrm>
            </p:grpSpPr>
            <p:grpSp>
              <p:nvGrpSpPr>
                <p:cNvPr id="670" name="组合 79886"/>
                <p:cNvGrpSpPr/>
                <p:nvPr/>
              </p:nvGrpSpPr>
              <p:grpSpPr>
                <a:xfrm>
                  <a:off x="6781680" y="4343400"/>
                  <a:ext cx="1524240" cy="1531800"/>
                  <a:chOff x="6781680" y="4343400"/>
                  <a:chExt cx="1524240" cy="1531800"/>
                </a:xfrm>
              </p:grpSpPr>
              <p:sp>
                <p:nvSpPr>
                  <p:cNvPr id="671" name="椭圆 79887"/>
                  <p:cNvSpPr/>
                  <p:nvPr/>
                </p:nvSpPr>
                <p:spPr>
                  <a:xfrm>
                    <a:off x="6781680" y="4343400"/>
                    <a:ext cx="152424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c456"/>
                      </a:gs>
                      <a:gs pos="100000">
                        <a:srgbClr val="2b301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任意多边形 79888"/>
                  <p:cNvSpPr/>
                  <p:nvPr/>
                </p:nvSpPr>
                <p:spPr>
                  <a:xfrm>
                    <a:off x="6955920" y="4368600"/>
                    <a:ext cx="117576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fc45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3" name="文本框 79889"/>
                <p:cNvSpPr/>
                <p:nvPr/>
              </p:nvSpPr>
              <p:spPr>
                <a:xfrm>
                  <a:off x="6924960" y="505728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椭圆 79890"/>
              <p:cNvSpPr/>
              <p:nvPr/>
            </p:nvSpPr>
            <p:spPr>
              <a:xfrm>
                <a:off x="6824520" y="5922720"/>
                <a:ext cx="1455840" cy="4874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75" name="组合 79891"/>
            <p:cNvGrpSpPr/>
            <p:nvPr/>
          </p:nvGrpSpPr>
          <p:grpSpPr>
            <a:xfrm>
              <a:off x="2819520" y="4387680"/>
              <a:ext cx="1523880" cy="2089080"/>
              <a:chOff x="2819520" y="4387680"/>
              <a:chExt cx="1523880" cy="2089080"/>
            </a:xfrm>
          </p:grpSpPr>
          <p:grpSp>
            <p:nvGrpSpPr>
              <p:cNvPr id="676" name="组合 79892"/>
              <p:cNvGrpSpPr/>
              <p:nvPr/>
            </p:nvGrpSpPr>
            <p:grpSpPr>
              <a:xfrm>
                <a:off x="2819520" y="4387680"/>
                <a:ext cx="1523880" cy="1520640"/>
                <a:chOff x="2819520" y="4387680"/>
                <a:chExt cx="1523880" cy="1520640"/>
              </a:xfrm>
            </p:grpSpPr>
            <p:sp>
              <p:nvSpPr>
                <p:cNvPr id="677" name="椭圆 79893"/>
                <p:cNvSpPr/>
                <p:nvPr/>
              </p:nvSpPr>
              <p:spPr>
                <a:xfrm>
                  <a:off x="2819520" y="438768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9eb2"/>
                    </a:gs>
                    <a:gs pos="100000">
                      <a:srgbClr val="475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78" name="任意多边形 79894"/>
                <p:cNvSpPr/>
                <p:nvPr/>
              </p:nvSpPr>
              <p:spPr>
                <a:xfrm>
                  <a:off x="2993760" y="44128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9e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文本框 79895"/>
              <p:cNvSpPr/>
              <p:nvPr/>
            </p:nvSpPr>
            <p:spPr>
              <a:xfrm>
                <a:off x="2895480" y="511776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0" name="椭圆 79896"/>
              <p:cNvSpPr/>
              <p:nvPr/>
            </p:nvSpPr>
            <p:spPr>
              <a:xfrm>
                <a:off x="2819520" y="598788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81" name="组合 79897"/>
            <p:cNvGrpSpPr/>
            <p:nvPr/>
          </p:nvGrpSpPr>
          <p:grpSpPr>
            <a:xfrm>
              <a:off x="4876920" y="4343400"/>
              <a:ext cx="1523880" cy="2089080"/>
              <a:chOff x="4876920" y="4343400"/>
              <a:chExt cx="1523880" cy="2089080"/>
            </a:xfrm>
          </p:grpSpPr>
          <p:grpSp>
            <p:nvGrpSpPr>
              <p:cNvPr id="682" name="组合 79898"/>
              <p:cNvGrpSpPr/>
              <p:nvPr/>
            </p:nvGrpSpPr>
            <p:grpSpPr>
              <a:xfrm>
                <a:off x="4876920" y="4343400"/>
                <a:ext cx="1523880" cy="1520640"/>
                <a:chOff x="4876920" y="4343400"/>
                <a:chExt cx="1523880" cy="1520640"/>
              </a:xfrm>
            </p:grpSpPr>
            <p:sp>
              <p:nvSpPr>
                <p:cNvPr id="683" name="椭圆 79899"/>
                <p:cNvSpPr/>
                <p:nvPr/>
              </p:nvSpPr>
              <p:spPr>
                <a:xfrm>
                  <a:off x="4876920" y="434340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daf2"/>
                    </a:gs>
                    <a:gs pos="100000">
                      <a:srgbClr val="4d70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4" name="任意多边形 79900"/>
                <p:cNvSpPr/>
                <p:nvPr/>
              </p:nvSpPr>
              <p:spPr>
                <a:xfrm>
                  <a:off x="5051160" y="43686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daf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文本框 79901"/>
              <p:cNvSpPr/>
              <p:nvPr/>
            </p:nvSpPr>
            <p:spPr>
              <a:xfrm>
                <a:off x="4952880" y="507348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6" name="椭圆 79902"/>
              <p:cNvSpPr/>
              <p:nvPr/>
            </p:nvSpPr>
            <p:spPr>
              <a:xfrm>
                <a:off x="4876920" y="594360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文本框 82974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6" name="组合 83003"/>
          <p:cNvGrpSpPr/>
          <p:nvPr/>
        </p:nvGrpSpPr>
        <p:grpSpPr>
          <a:xfrm>
            <a:off x="1981080" y="2176560"/>
            <a:ext cx="5410440" cy="664920"/>
            <a:chOff x="1981080" y="2176560"/>
            <a:chExt cx="5410440" cy="664920"/>
          </a:xfrm>
        </p:grpSpPr>
        <p:grpSp>
          <p:nvGrpSpPr>
            <p:cNvPr id="137" name="组合 82975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38" name="六边形 82976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" name="六边形 82977"/>
              <p:cNvSpPr/>
              <p:nvPr/>
            </p:nvSpPr>
            <p:spPr>
              <a:xfrm>
                <a:off x="1981080" y="21765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" name="六边形 82978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04952"/>
                  </a:gs>
                  <a:gs pos="100000">
                    <a:srgbClr val="8a9eb2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590920" y="2786040"/>
              <a:ext cx="4800600" cy="360"/>
              <a:chOff x="2590920" y="2786040"/>
              <a:chExt cx="4800600" cy="360"/>
            </a:xfrm>
          </p:grpSpPr>
          <p:sp>
            <p:nvSpPr>
              <p:cNvPr id="142" name="直接连接符 82983"/>
              <p:cNvSpPr/>
              <p:nvPr/>
            </p:nvSpPr>
            <p:spPr>
              <a:xfrm>
                <a:off x="2590920" y="2786040"/>
                <a:ext cx="4800600" cy="0"/>
              </a:xfrm>
              <a:prstGeom prst="line">
                <a:avLst/>
              </a:prstGeom>
              <a:ln w="25560">
                <a:solidFill>
                  <a:srgbClr val="afc45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2590920" y="27860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4" name="文本框 82984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文本框 82985"/>
            <p:cNvSpPr/>
            <p:nvPr/>
          </p:nvSpPr>
          <p:spPr>
            <a:xfrm>
              <a:off x="2180160" y="2274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6" name="组合 83004"/>
          <p:cNvGrpSpPr/>
          <p:nvPr/>
        </p:nvGrpSpPr>
        <p:grpSpPr>
          <a:xfrm>
            <a:off x="1981080" y="3090960"/>
            <a:ext cx="5410440" cy="664920"/>
            <a:chOff x="1981080" y="3090960"/>
            <a:chExt cx="5410440" cy="664920"/>
          </a:xfrm>
        </p:grpSpPr>
        <p:grpSp>
          <p:nvGrpSpPr>
            <p:cNvPr id="147" name="组合 82979"/>
            <p:cNvGrpSpPr/>
            <p:nvPr/>
          </p:nvGrpSpPr>
          <p:grpSpPr>
            <a:xfrm>
              <a:off x="1981080" y="3090960"/>
              <a:ext cx="761760" cy="664920"/>
              <a:chOff x="1981080" y="3090960"/>
              <a:chExt cx="761760" cy="664920"/>
            </a:xfrm>
          </p:grpSpPr>
          <p:sp>
            <p:nvSpPr>
              <p:cNvPr id="148" name="六边形 82980"/>
              <p:cNvSpPr/>
              <p:nvPr/>
            </p:nvSpPr>
            <p:spPr>
              <a:xfrm>
                <a:off x="1987200" y="31021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" name="六边形 82981"/>
              <p:cNvSpPr/>
              <p:nvPr/>
            </p:nvSpPr>
            <p:spPr>
              <a:xfrm>
                <a:off x="1981080" y="3090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" name="六边形 82982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56570"/>
                  </a:gs>
                  <a:gs pos="100000">
                    <a:srgbClr val="96daf2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90920" y="3700440"/>
              <a:ext cx="4800600" cy="360"/>
              <a:chOff x="2590920" y="3700440"/>
              <a:chExt cx="4800600" cy="360"/>
            </a:xfrm>
          </p:grpSpPr>
          <p:sp>
            <p:nvSpPr>
              <p:cNvPr id="152" name="直接连接符 82986"/>
              <p:cNvSpPr/>
              <p:nvPr/>
            </p:nvSpPr>
            <p:spPr>
              <a:xfrm>
                <a:off x="2590920" y="3700440"/>
                <a:ext cx="4800600" cy="0"/>
              </a:xfrm>
              <a:prstGeom prst="line">
                <a:avLst/>
              </a:prstGeom>
              <a:ln w="25560">
                <a:solidFill>
                  <a:srgbClr val="afc45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2590920" y="37004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4" name="文本框 82987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文本框 82988"/>
            <p:cNvSpPr/>
            <p:nvPr/>
          </p:nvSpPr>
          <p:spPr>
            <a:xfrm>
              <a:off x="2180160" y="318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6" name="组合 83005"/>
          <p:cNvGrpSpPr/>
          <p:nvPr/>
        </p:nvGrpSpPr>
        <p:grpSpPr>
          <a:xfrm>
            <a:off x="1981080" y="3983040"/>
            <a:ext cx="5410440" cy="665280"/>
            <a:chOff x="1981080" y="3983040"/>
            <a:chExt cx="5410440" cy="665280"/>
          </a:xfrm>
        </p:grpSpPr>
        <p:grpSp>
          <p:nvGrpSpPr>
            <p:cNvPr id="157" name="组合 82989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58" name="六边形 82990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" name="六边形 82991"/>
              <p:cNvSpPr/>
              <p:nvPr/>
            </p:nvSpPr>
            <p:spPr>
              <a:xfrm>
                <a:off x="1981080" y="3983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" name="六边形 82992"/>
              <p:cNvSpPr/>
              <p:nvPr/>
            </p:nvSpPr>
            <p:spPr>
              <a:xfrm>
                <a:off x="2025360" y="4022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4952"/>
                  </a:gs>
                  <a:gs pos="100000">
                    <a:srgbClr val="8a9eb2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590920" y="4592520"/>
              <a:ext cx="4800600" cy="360"/>
              <a:chOff x="2590920" y="4592520"/>
              <a:chExt cx="4800600" cy="360"/>
            </a:xfrm>
          </p:grpSpPr>
          <p:sp>
            <p:nvSpPr>
              <p:cNvPr id="162" name="直接连接符 82997"/>
              <p:cNvSpPr/>
              <p:nvPr/>
            </p:nvSpPr>
            <p:spPr>
              <a:xfrm>
                <a:off x="2590920" y="4592520"/>
                <a:ext cx="4800600" cy="0"/>
              </a:xfrm>
              <a:prstGeom prst="line">
                <a:avLst/>
              </a:prstGeom>
              <a:ln w="25560">
                <a:solidFill>
                  <a:srgbClr val="afc45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2590920" y="45925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4" name="文本框 82998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文本框 82999"/>
            <p:cNvSpPr/>
            <p:nvPr/>
          </p:nvSpPr>
          <p:spPr>
            <a:xfrm>
              <a:off x="218016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6" name="组合 83006"/>
          <p:cNvGrpSpPr/>
          <p:nvPr/>
        </p:nvGrpSpPr>
        <p:grpSpPr>
          <a:xfrm>
            <a:off x="1981080" y="4897440"/>
            <a:ext cx="5410440" cy="665280"/>
            <a:chOff x="1981080" y="4897440"/>
            <a:chExt cx="5410440" cy="665280"/>
          </a:xfrm>
        </p:grpSpPr>
        <p:grpSp>
          <p:nvGrpSpPr>
            <p:cNvPr id="167" name="组合 82993"/>
            <p:cNvGrpSpPr/>
            <p:nvPr/>
          </p:nvGrpSpPr>
          <p:grpSpPr>
            <a:xfrm>
              <a:off x="1981080" y="4897440"/>
              <a:ext cx="761760" cy="665280"/>
              <a:chOff x="1981080" y="4897440"/>
              <a:chExt cx="761760" cy="665280"/>
            </a:xfrm>
          </p:grpSpPr>
          <p:sp>
            <p:nvSpPr>
              <p:cNvPr id="168" name="六边形 82994"/>
              <p:cNvSpPr/>
              <p:nvPr/>
            </p:nvSpPr>
            <p:spPr>
              <a:xfrm>
                <a:off x="1987200" y="4908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" name="六边形 82995"/>
              <p:cNvSpPr/>
              <p:nvPr/>
            </p:nvSpPr>
            <p:spPr>
              <a:xfrm>
                <a:off x="1981080" y="4897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0" name="六边形 82996"/>
              <p:cNvSpPr/>
              <p:nvPr/>
            </p:nvSpPr>
            <p:spPr>
              <a:xfrm>
                <a:off x="2025360" y="49366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56570"/>
                  </a:gs>
                  <a:gs pos="100000">
                    <a:srgbClr val="96daf2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590920" y="5506920"/>
              <a:ext cx="4800600" cy="360"/>
              <a:chOff x="2590920" y="5506920"/>
              <a:chExt cx="4800600" cy="360"/>
            </a:xfrm>
          </p:grpSpPr>
          <p:sp>
            <p:nvSpPr>
              <p:cNvPr id="172" name="直接连接符 83000"/>
              <p:cNvSpPr/>
              <p:nvPr/>
            </p:nvSpPr>
            <p:spPr>
              <a:xfrm>
                <a:off x="2590920" y="5506920"/>
                <a:ext cx="4800600" cy="0"/>
              </a:xfrm>
              <a:prstGeom prst="line">
                <a:avLst/>
              </a:prstGeom>
              <a:ln w="25560">
                <a:solidFill>
                  <a:srgbClr val="afc45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2590920" y="55069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74" name="文本框 83001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文本框 83002"/>
            <p:cNvSpPr/>
            <p:nvPr/>
          </p:nvSpPr>
          <p:spPr>
            <a:xfrm>
              <a:off x="218016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B578-CEEF-4308-B600-A42995FD8C2C}" type="slidenum">
              <a:rPr b="0" lang="zh-CN" sz="14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80897"/>
          <p:cNvSpPr txBox="1"/>
          <p:nvPr/>
        </p:nvSpPr>
        <p:spPr>
          <a:xfrm>
            <a:off x="2743200" y="289548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8a9eb2"/>
                    </a:gs>
                    <a:gs pos="100000">
                      <a:srgbClr val="afc456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8a9eb2"/>
                  </a:gs>
                  <a:gs pos="100000">
                    <a:srgbClr val="afc456"/>
                  </a:gs>
                </a:gsLst>
                <a:lin ang="0"/>
              </a:gradFill>
              <a:effectLst>
                <a:outerShdw dist="53966" dir="2700000" blurRad="0" rotWithShape="0">
                  <a:srgbClr val="0000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4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8a9e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How do I incorporate my logo to a slide that will apply to all the other slides? </a:t>
            </a:r>
            <a:endParaRPr b="1" lang="en-US" sz="3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8a9e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96da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3c68f4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3c68f4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3c68f4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c68f4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96da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组合 6453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80" name="圆角矩形 64515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文本框 64516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2" name="任意多边形 6451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c50e4"/>
              </a:gs>
              <a:gs pos="100000">
                <a:srgbClr val="b690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矩形 6451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4" name="组合 64532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85" name="组合 64520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86" name="组合 64521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87" name="椭圆 64522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9eb2"/>
                    </a:gs>
                    <a:gs pos="100000">
                      <a:srgbClr val="434d5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64523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4dd"/>
                    </a:gs>
                    <a:gs pos="100000">
                      <a:srgbClr val="8a9eb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椭圆 64524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56570"/>
                  </a:gs>
                  <a:gs pos="100000">
                    <a:srgbClr val="96da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0" name="椭圆 64525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96daf2">
                      <a:alpha val="0"/>
                    </a:srgbClr>
                  </a:gs>
                  <a:gs pos="100000">
                    <a:srgbClr val="daf2f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1" name="椭圆 64526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77adc0"/>
                  </a:gs>
                  <a:gs pos="100000">
                    <a:srgbClr val="96daf2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" name="椭圆 64527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daf2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3" name="文本框 64528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94" name="组合 64531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95" name="圆角矩形 64514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文本框 64529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7" name="任意多边形 6451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9eb2"/>
              </a:gs>
              <a:gs pos="100000">
                <a:srgbClr val="dae0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组合 65538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200" name="任意多边形 65539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椭圆 6554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a9eb2"/>
                </a:gs>
                <a:gs pos="100000">
                  <a:srgbClr val="3037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椭圆 6554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6daf2"/>
                </a:gs>
                <a:gs pos="100000">
                  <a:srgbClr val="2f44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椭圆 6554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c50e4"/>
                </a:gs>
                <a:gs pos="100000">
                  <a:srgbClr val="321d5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椭圆 6554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椭圆 6554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fc456"/>
                </a:gs>
                <a:gs pos="100000">
                  <a:srgbClr val="3c44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文本框 65545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文本框 65546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文本框 65547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文本框 65548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文本框 65549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文本框 6555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13" name="直接连接符 65551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cxnSp>
          <p:nvCxnSpPr>
            <p:cNvPr id="215" name="直接箭头连接符 6555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round/>
            </a:ln>
          </p:spPr>
        </p:cxnSp>
        <p:sp>
          <p:nvSpPr>
            <p:cNvPr id="216" name="文本框 6555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组合 66562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19" name="圆柱形 66563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5b28"/>
                </a:gs>
                <a:gs pos="50000">
                  <a:srgbClr val="afc456"/>
                </a:gs>
                <a:gs pos="100000">
                  <a:srgbClr val="515b2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圆柱形 66564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5b28"/>
                </a:gs>
                <a:gs pos="50000">
                  <a:srgbClr val="afc456"/>
                </a:gs>
                <a:gs pos="100000">
                  <a:srgbClr val="515b2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圆柱形 66565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5b28"/>
                </a:gs>
                <a:gs pos="50000">
                  <a:srgbClr val="afc456"/>
                </a:gs>
                <a:gs pos="100000">
                  <a:srgbClr val="515b2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文本框 66566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文本框 66567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文本框 66568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左箭头 66569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圆角矩形 66570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文本框 66571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圆角矩形 66572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文本框 66573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右箭头 66574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圆柱形 66575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56570"/>
                </a:gs>
                <a:gs pos="50000">
                  <a:srgbClr val="96daf2"/>
                </a:gs>
                <a:gs pos="100000">
                  <a:srgbClr val="456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上箭头 66576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文本框 66577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圆柱形 66578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04952"/>
                </a:gs>
                <a:gs pos="50000">
                  <a:srgbClr val="8a9eb2"/>
                </a:gs>
                <a:gs pos="100000">
                  <a:srgbClr val="4049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文本框 66579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下箭头 66580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67586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9" name="组合 67587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40" name="上箭头 67588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c68f4"/>
                  </a:gs>
                  <a:gs pos="100000">
                    <a:srgbClr val="b3c4f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1" name="上箭头 67589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c68f4"/>
                  </a:gs>
                  <a:gs pos="100000">
                    <a:srgbClr val="b3c4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上箭头 67590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c68f4"/>
                  </a:gs>
                  <a:gs pos="100000">
                    <a:srgbClr val="b3c4f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3" name="椭圆 67591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4" name="椭圆 67592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5" name="椭圆 67593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a9eb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6" name="椭圆 67594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7" name="椭圆 67595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4b5660"/>
                  </a:gs>
                  <a:gs pos="50000">
                    <a:srgbClr val="8a9eb2"/>
                  </a:gs>
                  <a:gs pos="100000">
                    <a:srgbClr val="4b566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8" name="椭圆 67596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9" name="圆柱形 67597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5b28"/>
                </a:gs>
                <a:gs pos="50000">
                  <a:srgbClr val="afc456"/>
                </a:gs>
                <a:gs pos="100000">
                  <a:srgbClr val="515b2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圆柱形 67598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5b28"/>
                </a:gs>
                <a:gs pos="50000">
                  <a:srgbClr val="afc456"/>
                </a:gs>
                <a:gs pos="100000">
                  <a:srgbClr val="515b2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圆柱形 67599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5b28"/>
                </a:gs>
                <a:gs pos="50000">
                  <a:srgbClr val="afc456"/>
                </a:gs>
                <a:gs pos="100000">
                  <a:srgbClr val="515b2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圆柱形 67600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6570"/>
                </a:gs>
                <a:gs pos="50000">
                  <a:srgbClr val="96daf2"/>
                </a:gs>
                <a:gs pos="100000">
                  <a:srgbClr val="456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圆柱形 67601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6570"/>
                </a:gs>
                <a:gs pos="50000">
                  <a:srgbClr val="96daf2"/>
                </a:gs>
                <a:gs pos="100000">
                  <a:srgbClr val="456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圆柱形 67602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6570"/>
                </a:gs>
                <a:gs pos="50000">
                  <a:srgbClr val="96daf2"/>
                </a:gs>
                <a:gs pos="100000">
                  <a:srgbClr val="456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文本框 67603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圆角矩形 67604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文本框 67605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文本框 67606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文本框 67607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文本框 67608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文本框 67609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文本框 67610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组合 68637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65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66" name="直接连接符 68610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69" name="直接连接符 68611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72" name="直接连接符 68612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75" name="直接连接符 68613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78" name="直接连接符 68614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81" name="直接连接符 68615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84" name="直接连接符 68616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87" name="直接连接符 68617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290" name="直接连接符 68618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2" name="文本框 6861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文本框 68620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文本框 68621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文本框 68622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96" name="组合 68623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97" name="任意多边形 68624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256a"/>
                  </a:gs>
                  <a:gs pos="50000">
                    <a:srgbClr val="8c50e4"/>
                  </a:gs>
                  <a:gs pos="100000">
                    <a:srgbClr val="41256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8" name="任意多边形 68625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8c5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9" name="任意多边形 68626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952"/>
                  </a:gs>
                  <a:gs pos="50000">
                    <a:srgbClr val="8a9eb2"/>
                  </a:gs>
                  <a:gs pos="100000">
                    <a:srgbClr val="4049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0" name="任意多边形 68627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8a9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1" name="任意多边形 68628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b28"/>
                  </a:gs>
                  <a:gs pos="50000">
                    <a:srgbClr val="afc456"/>
                  </a:gs>
                  <a:gs pos="100000">
                    <a:srgbClr val="515b2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2" name="任意多边形 68629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6570"/>
                  </a:gs>
                  <a:gs pos="50000">
                    <a:srgbClr val="96daf2"/>
                  </a:gs>
                  <a:gs pos="100000">
                    <a:srgbClr val="45657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3" name="任意多边形 68630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96da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4" name="任意多边形 68631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5" name="矩形 68632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663aa5"/>
                  </a:gs>
                  <a:gs pos="50000">
                    <a:srgbClr val="8c50e4"/>
                  </a:gs>
                  <a:gs pos="100000">
                    <a:srgbClr val="663aa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6" name="矩形 68633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47381"/>
                  </a:gs>
                  <a:gs pos="50000">
                    <a:srgbClr val="8a9eb2"/>
                  </a:gs>
                  <a:gs pos="100000">
                    <a:srgbClr val="64738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7" name="任意多边形 68634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afc4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8" name="矩形 68635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7f8e3e"/>
                  </a:gs>
                  <a:gs pos="50000">
                    <a:srgbClr val="afc456"/>
                  </a:gs>
                  <a:gs pos="100000">
                    <a:srgbClr val="7f8e3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9" name="矩形 68636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6d9eb0"/>
                  </a:gs>
                  <a:gs pos="50000">
                    <a:srgbClr val="96daf2"/>
                  </a:gs>
                  <a:gs pos="100000">
                    <a:srgbClr val="6d9eb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文本框 8194"/>
          <p:cNvSpPr/>
          <p:nvPr/>
        </p:nvSpPr>
        <p:spPr>
          <a:xfrm>
            <a:off x="1066680" y="1447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9eb2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组合 69655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313" name="任意多边形 69634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5a7b9">
                    <a:alpha val="32156"/>
                  </a:srgbClr>
                </a:gs>
                <a:gs pos="100000">
                  <a:srgbClr val="8a9e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圆角矩形 69635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c5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圆角矩形 69636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1256a"/>
                </a:gs>
                <a:gs pos="50000">
                  <a:srgbClr val="8c50e4"/>
                </a:gs>
                <a:gs pos="100000">
                  <a:srgbClr val="4125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八边形 69637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八边形 69638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圆角矩形 69639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a9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圆角矩形 69640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04952"/>
                </a:gs>
                <a:gs pos="50000">
                  <a:srgbClr val="8a9eb2"/>
                </a:gs>
                <a:gs pos="100000">
                  <a:srgbClr val="4049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八边形 69641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八边形 69642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任意多边形 69643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d1dd9e">
                    <a:alpha val="32156"/>
                  </a:srgbClr>
                </a:gs>
                <a:gs pos="100000">
                  <a:srgbClr val="afc45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文本框 69644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文本框 69645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25" name="组合 69646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326" name="圆角矩形 69647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afc45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7" name="圆角矩形 69648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4c21"/>
                  </a:gs>
                  <a:gs pos="50000">
                    <a:srgbClr val="afc456"/>
                  </a:gs>
                  <a:gs pos="100000">
                    <a:srgbClr val="444c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8" name="八边形 69649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9" name="八边形 69650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0" name="文本框 6965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1" name="文本框 69652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32" name="文本框 69653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文本框 6965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34Z</dcterms:modified>
  <cp:revision>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